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A42-B195-4426-B44A-6B8AE31A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B3A-FABB-4623-BFA5-DCAE5CE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D0F-2EF1-4D97-A3C0-90689737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A67-0415-4B6F-9EC5-BF87033B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3CE-DB54-4B39-8BF6-3E11C23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EF0-0273-4A73-B96A-B7546A11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AEF-6B84-4B9A-8DDE-041FEDF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06F-BD68-45C4-A531-202B6BB2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80B-5164-4428-AB00-42313B1C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EC7-06E9-4946-B3FA-16A6816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F60-2A4B-4038-ACFC-16451F8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366-11B8-4DB4-9F0F-84FA2600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D5D-AC11-4796-99D6-B401D58B3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Calibri"/>
              </a:rPr>
              <a:t>Gateway Initiated Dual-Stack lite</a:t>
            </a:r>
            <a:br>
              <a:rPr sz="3600"/>
            </a:br>
            <a:r>
              <a:rPr b="0" lang="de-DE" sz="2800" spc="-1" strike="noStrike">
                <a:solidFill>
                  <a:srgbClr val="a6a6a6"/>
                </a:solidFill>
                <a:latin typeface="Calibri"/>
              </a:rPr>
              <a:t>(draft-ietf-softwire-gateway-init-ds-lite-05)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Calibri"/>
              </a:rPr>
              <a:t>Statu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hors:</a:t>
            </a:r>
            <a:br>
              <a:rPr sz="14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rank Brockners (fbrockne@cisco.com)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ri Gundavelli (sgundave@cisco.com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bastian Speicher (sebastian.speicher@telekom.de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vid Ward (dward@juniper.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IETF 81, Quebec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Calibri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since IETF 80 (changes from -03 to -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rified the use of MPLS VPN encaps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ligned with 3GPP 23.9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ed plain IPv4/IPv6-in-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for the softwire between Gateway and AFTR to be established at any point in time (not just at start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 is in WG LC (finishes Augus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9am E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52:02Z</dcterms:created>
  <dc:creator/>
  <dc:description/>
  <cp:keywords/>
  <dc:language>en-US</dc:language>
  <cp:lastModifiedBy>Frank Brockners 2, Cisco</cp:lastModifiedBy>
  <dcterms:modified xsi:type="dcterms:W3CDTF">2011-07-26T15:27:57Z</dcterms:modified>
  <cp:revision>149</cp:revision>
  <dc:subject/>
  <dc:title>Gateway Initiated Dual-Stack lite (draft-gundavelli-softwire-gateway-init-ds-lite-01)</dc:title>
</cp:coreProperties>
</file>