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06F-5B3C-4DE9-8328-C2D348B4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19A-4F55-405C-8DE3-7A617EF1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FF9-7ACC-424C-9335-299EF33C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B6B-1755-4FE3-A67A-4181BFFA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6F7-83A7-4715-99DE-B6853C49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F4B-7E52-46B7-9904-C761C4CB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F48-7C63-462D-AF0A-AB4727CE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400-E1E3-44FC-ADF8-B96F5615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086-B8CD-41F5-B367-B3C937C7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8BD-0755-4FB3-8408-5B40D676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0D4-DF1F-493C-BCD8-5567C16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012-D926-42F2-BEEF-2EC79C61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C100-1E0B-48A4-9451-8A99D60C6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Calibri"/>
              </a:rPr>
              <a:t>Gateway Initiated Dual-Stack lite</a:t>
            </a:r>
            <a:br>
              <a:rPr sz="3600"/>
            </a:br>
            <a:r>
              <a:rPr b="0" lang="de-DE" sz="2800" spc="-1" strike="noStrike">
                <a:solidFill>
                  <a:srgbClr val="a6a6a6"/>
                </a:solidFill>
                <a:latin typeface="Calibri"/>
              </a:rPr>
              <a:t>(draft-ietf-softwire-gateway-init-ds-lite-05)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Calibri"/>
              </a:rPr>
              <a:t>Status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thors:</a:t>
            </a:r>
            <a:br>
              <a:rPr sz="14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rank Brockners (fbrockne@cisco.com),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ri Gundavelli (sgundave@cisco.com)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ebastian Speicher (sebastian.speicher@telekom.de)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vid Ward (dward@juniper.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IETF 81, Quebec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Calibri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s since IETF 80 (changes from -03 to -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rified the use of MPLS VPN encapsu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ligned with 3GPP 23.9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ed plain IPv4/IPv6-in-M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for the softwire between Gateway and AFTR to be established at any point in time (not just at start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ument is in WG LC (finishes August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9am E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3:52:02Z</dcterms:created>
  <dc:creator/>
  <dc:description/>
  <cp:keywords/>
  <dc:language>en-US</dc:language>
  <cp:lastModifiedBy>Frank Brockners 2, Cisco</cp:lastModifiedBy>
  <dcterms:modified xsi:type="dcterms:W3CDTF">2011-07-26T15:27:57Z</dcterms:modified>
  <cp:revision>149</cp:revision>
  <dc:subject/>
  <dc:title>Gateway Initiated Dual-Stack lite (draft-gundavelli-softwire-gateway-init-ds-lite-01)</dc:title>
</cp:coreProperties>
</file>