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81E6-4B10-4FCC-83FF-2C9B6CA05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4824-2E98-4889-BBE8-ED7E3548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09B2-905D-4625-93DF-FBAD3413F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9B96-6C97-4DA4-8A2D-2B755CF5F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8534-A38F-4779-A2B0-C0B3BAD4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E4E0-E3EF-4922-81CD-DA7ABEC1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3923-855E-4423-B5F8-038000A9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7905-6F4A-46C7-91DE-A208BA1A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13A7-61A6-4B27-9FDB-2A84F04D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4EAF-4FB2-49A3-81AD-248FC01A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71DF-1F25-43D8-8557-B6B373E8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C349-E29A-4F7E-BB4E-BDB818FE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AA75-4259-4082-90F4-5FE714149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A+P implem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X.De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. Boucadair T.Zheng L.W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rance Tele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3886200"/>
            <a:ext cx="3429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X.Huang Q.Zhao Yan.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U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Implem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Top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PE Parame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2925720" cy="4138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55960" y="4191120"/>
            <a:ext cx="5288040" cy="898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553080" y="3429000"/>
            <a:ext cx="182088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Two flavor of implem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ort Range A+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ttered Port Sets A+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6934320" cy="1133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7162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Scattered ports provisi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hat's the benefits of provisioning scattered por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or incoming po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cattered ports allocation is more likely to satisfy the random incoming port requests from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uch as eMule, uTorrent,sharez, using UPnP 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istribute bulks of non-continuous ports among subscriber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takes port randomization into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How to provision scattered por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Only two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ubscribers ID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ubscribers I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71600" y="2867040"/>
            <a:ext cx="4800600" cy="1704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447920" y="5105520"/>
            <a:ext cx="4572000" cy="1527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057400" y="54100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54100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76920" y="54100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61722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61722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ubscribers ID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ubscribers I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ndom ephemeral port selection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for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attered Port Se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N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9480" y="3560760"/>
            <a:ext cx="7772400" cy="2459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143000" y="3962520"/>
            <a:ext cx="7315200" cy="838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9920" y="2787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nly one line code needs to be chang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An Implementation of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attered Port Se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(A demo in DS-Lite case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43"/>
          <p:cNvSpPr/>
          <p:nvPr/>
        </p:nvSpPr>
        <p:spPr>
          <a:xfrm>
            <a:off x="3433680" y="1709640"/>
            <a:ext cx="3943440" cy="2384640"/>
          </a:xfrm>
          <a:custGeom>
            <a:avLst/>
            <a:gdLst>
              <a:gd name="textAreaLeft" fmla="*/ 0 w 3943440"/>
              <a:gd name="textAreaRight" fmla="*/ 3943800 w 3943440"/>
              <a:gd name="textAreaTop" fmla="*/ 0 h 2384640"/>
              <a:gd name="textAreaBottom" fmla="*/ 2385000 h 2384640"/>
            </a:gdLst>
            <a:ahLst/>
            <a:rect l="textAreaLeft" t="textAreaTop" r="textAreaRight" b="textAreaBottom"/>
            <a:pathLst>
              <a:path w="3311" h="1015">
                <a:moveTo>
                  <a:pt x="527" y="240"/>
                </a:moveTo>
                <a:lnTo>
                  <a:pt x="555" y="212"/>
                </a:lnTo>
                <a:lnTo>
                  <a:pt x="596" y="183"/>
                </a:lnTo>
                <a:lnTo>
                  <a:pt x="662" y="163"/>
                </a:lnTo>
                <a:lnTo>
                  <a:pt x="742" y="142"/>
                </a:lnTo>
                <a:lnTo>
                  <a:pt x="810" y="131"/>
                </a:lnTo>
                <a:lnTo>
                  <a:pt x="897" y="121"/>
                </a:lnTo>
                <a:lnTo>
                  <a:pt x="1025" y="117"/>
                </a:lnTo>
                <a:lnTo>
                  <a:pt x="1148" y="121"/>
                </a:lnTo>
                <a:lnTo>
                  <a:pt x="1265" y="131"/>
                </a:lnTo>
                <a:lnTo>
                  <a:pt x="1347" y="146"/>
                </a:lnTo>
                <a:lnTo>
                  <a:pt x="1395" y="102"/>
                </a:lnTo>
                <a:lnTo>
                  <a:pt x="1465" y="65"/>
                </a:lnTo>
                <a:lnTo>
                  <a:pt x="1552" y="39"/>
                </a:lnTo>
                <a:lnTo>
                  <a:pt x="1666" y="18"/>
                </a:lnTo>
                <a:lnTo>
                  <a:pt x="1806" y="4"/>
                </a:lnTo>
                <a:lnTo>
                  <a:pt x="1945" y="0"/>
                </a:lnTo>
                <a:lnTo>
                  <a:pt x="2068" y="11"/>
                </a:lnTo>
                <a:lnTo>
                  <a:pt x="2207" y="26"/>
                </a:lnTo>
                <a:lnTo>
                  <a:pt x="2312" y="58"/>
                </a:lnTo>
                <a:lnTo>
                  <a:pt x="2383" y="90"/>
                </a:lnTo>
                <a:lnTo>
                  <a:pt x="2433" y="119"/>
                </a:lnTo>
                <a:lnTo>
                  <a:pt x="2445" y="156"/>
                </a:lnTo>
                <a:lnTo>
                  <a:pt x="2540" y="146"/>
                </a:lnTo>
                <a:lnTo>
                  <a:pt x="2655" y="149"/>
                </a:lnTo>
                <a:lnTo>
                  <a:pt x="2753" y="163"/>
                </a:lnTo>
                <a:lnTo>
                  <a:pt x="2835" y="188"/>
                </a:lnTo>
                <a:lnTo>
                  <a:pt x="2894" y="225"/>
                </a:lnTo>
                <a:lnTo>
                  <a:pt x="2915" y="264"/>
                </a:lnTo>
                <a:lnTo>
                  <a:pt x="2913" y="290"/>
                </a:lnTo>
                <a:lnTo>
                  <a:pt x="2967" y="289"/>
                </a:lnTo>
                <a:lnTo>
                  <a:pt x="3036" y="293"/>
                </a:lnTo>
                <a:lnTo>
                  <a:pt x="3107" y="310"/>
                </a:lnTo>
                <a:lnTo>
                  <a:pt x="3159" y="324"/>
                </a:lnTo>
                <a:lnTo>
                  <a:pt x="3198" y="338"/>
                </a:lnTo>
                <a:lnTo>
                  <a:pt x="3230" y="355"/>
                </a:lnTo>
                <a:lnTo>
                  <a:pt x="3264" y="377"/>
                </a:lnTo>
                <a:lnTo>
                  <a:pt x="3282" y="405"/>
                </a:lnTo>
                <a:lnTo>
                  <a:pt x="3289" y="425"/>
                </a:lnTo>
                <a:lnTo>
                  <a:pt x="3278" y="447"/>
                </a:lnTo>
                <a:lnTo>
                  <a:pt x="3255" y="476"/>
                </a:lnTo>
                <a:lnTo>
                  <a:pt x="3282" y="500"/>
                </a:lnTo>
                <a:lnTo>
                  <a:pt x="3298" y="528"/>
                </a:lnTo>
                <a:lnTo>
                  <a:pt x="3305" y="556"/>
                </a:lnTo>
                <a:lnTo>
                  <a:pt x="3289" y="591"/>
                </a:lnTo>
                <a:lnTo>
                  <a:pt x="3273" y="612"/>
                </a:lnTo>
                <a:lnTo>
                  <a:pt x="3239" y="635"/>
                </a:lnTo>
                <a:lnTo>
                  <a:pt x="3289" y="668"/>
                </a:lnTo>
                <a:lnTo>
                  <a:pt x="3305" y="692"/>
                </a:lnTo>
                <a:lnTo>
                  <a:pt x="3310" y="723"/>
                </a:lnTo>
                <a:lnTo>
                  <a:pt x="3298" y="752"/>
                </a:lnTo>
                <a:lnTo>
                  <a:pt x="3266" y="790"/>
                </a:lnTo>
                <a:lnTo>
                  <a:pt x="3230" y="814"/>
                </a:lnTo>
                <a:lnTo>
                  <a:pt x="3170" y="835"/>
                </a:lnTo>
                <a:lnTo>
                  <a:pt x="3070" y="860"/>
                </a:lnTo>
                <a:lnTo>
                  <a:pt x="2967" y="867"/>
                </a:lnTo>
                <a:lnTo>
                  <a:pt x="2871" y="860"/>
                </a:lnTo>
                <a:lnTo>
                  <a:pt x="2810" y="851"/>
                </a:lnTo>
                <a:lnTo>
                  <a:pt x="2769" y="872"/>
                </a:lnTo>
                <a:lnTo>
                  <a:pt x="2721" y="892"/>
                </a:lnTo>
                <a:lnTo>
                  <a:pt x="2682" y="904"/>
                </a:lnTo>
                <a:lnTo>
                  <a:pt x="2609" y="920"/>
                </a:lnTo>
                <a:lnTo>
                  <a:pt x="2540" y="931"/>
                </a:lnTo>
                <a:lnTo>
                  <a:pt x="2445" y="942"/>
                </a:lnTo>
                <a:lnTo>
                  <a:pt x="2349" y="940"/>
                </a:lnTo>
                <a:lnTo>
                  <a:pt x="2253" y="930"/>
                </a:lnTo>
                <a:lnTo>
                  <a:pt x="2171" y="907"/>
                </a:lnTo>
                <a:lnTo>
                  <a:pt x="2123" y="942"/>
                </a:lnTo>
                <a:lnTo>
                  <a:pt x="2077" y="962"/>
                </a:lnTo>
                <a:lnTo>
                  <a:pt x="2018" y="977"/>
                </a:lnTo>
                <a:lnTo>
                  <a:pt x="1949" y="991"/>
                </a:lnTo>
                <a:lnTo>
                  <a:pt x="1872" y="998"/>
                </a:lnTo>
                <a:lnTo>
                  <a:pt x="1801" y="998"/>
                </a:lnTo>
                <a:lnTo>
                  <a:pt x="1728" y="991"/>
                </a:lnTo>
                <a:lnTo>
                  <a:pt x="1646" y="976"/>
                </a:lnTo>
                <a:lnTo>
                  <a:pt x="1598" y="958"/>
                </a:lnTo>
                <a:lnTo>
                  <a:pt x="1552" y="977"/>
                </a:lnTo>
                <a:lnTo>
                  <a:pt x="1502" y="991"/>
                </a:lnTo>
                <a:lnTo>
                  <a:pt x="1445" y="1002"/>
                </a:lnTo>
                <a:lnTo>
                  <a:pt x="1358" y="1014"/>
                </a:lnTo>
                <a:lnTo>
                  <a:pt x="1269" y="1009"/>
                </a:lnTo>
                <a:lnTo>
                  <a:pt x="1178" y="998"/>
                </a:lnTo>
                <a:lnTo>
                  <a:pt x="1109" y="983"/>
                </a:lnTo>
                <a:lnTo>
                  <a:pt x="1043" y="956"/>
                </a:lnTo>
                <a:lnTo>
                  <a:pt x="1004" y="930"/>
                </a:lnTo>
                <a:lnTo>
                  <a:pt x="936" y="938"/>
                </a:lnTo>
                <a:lnTo>
                  <a:pt x="858" y="945"/>
                </a:lnTo>
                <a:lnTo>
                  <a:pt x="762" y="942"/>
                </a:lnTo>
                <a:lnTo>
                  <a:pt x="680" y="930"/>
                </a:lnTo>
                <a:lnTo>
                  <a:pt x="619" y="913"/>
                </a:lnTo>
                <a:lnTo>
                  <a:pt x="568" y="892"/>
                </a:lnTo>
                <a:lnTo>
                  <a:pt x="523" y="867"/>
                </a:lnTo>
                <a:lnTo>
                  <a:pt x="514" y="835"/>
                </a:lnTo>
                <a:lnTo>
                  <a:pt x="468" y="843"/>
                </a:lnTo>
                <a:lnTo>
                  <a:pt x="393" y="843"/>
                </a:lnTo>
                <a:lnTo>
                  <a:pt x="308" y="835"/>
                </a:lnTo>
                <a:lnTo>
                  <a:pt x="224" y="817"/>
                </a:lnTo>
                <a:lnTo>
                  <a:pt x="164" y="794"/>
                </a:lnTo>
                <a:lnTo>
                  <a:pt x="116" y="758"/>
                </a:lnTo>
                <a:lnTo>
                  <a:pt x="87" y="723"/>
                </a:lnTo>
                <a:lnTo>
                  <a:pt x="75" y="674"/>
                </a:lnTo>
                <a:lnTo>
                  <a:pt x="78" y="644"/>
                </a:lnTo>
                <a:lnTo>
                  <a:pt x="105" y="595"/>
                </a:lnTo>
                <a:lnTo>
                  <a:pt x="46" y="567"/>
                </a:lnTo>
                <a:lnTo>
                  <a:pt x="16" y="534"/>
                </a:lnTo>
                <a:lnTo>
                  <a:pt x="0" y="493"/>
                </a:lnTo>
                <a:lnTo>
                  <a:pt x="0" y="453"/>
                </a:lnTo>
                <a:lnTo>
                  <a:pt x="21" y="414"/>
                </a:lnTo>
                <a:lnTo>
                  <a:pt x="57" y="380"/>
                </a:lnTo>
                <a:lnTo>
                  <a:pt x="126" y="344"/>
                </a:lnTo>
                <a:lnTo>
                  <a:pt x="192" y="319"/>
                </a:lnTo>
                <a:lnTo>
                  <a:pt x="276" y="293"/>
                </a:lnTo>
                <a:lnTo>
                  <a:pt x="379" y="279"/>
                </a:lnTo>
                <a:lnTo>
                  <a:pt x="475" y="272"/>
                </a:lnTo>
                <a:lnTo>
                  <a:pt x="523" y="265"/>
                </a:lnTo>
                <a:lnTo>
                  <a:pt x="527" y="240"/>
                </a:lnTo>
              </a:path>
            </a:pathLst>
          </a:custGeom>
          <a:solidFill>
            <a:srgbClr val="72bfc5"/>
          </a:solidFill>
          <a:ln cap="rnd" w="3240">
            <a:solidFill>
              <a:srgbClr val="80808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264240" rIns="264240" tIns="132120" bIns="13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287360" y="2619360"/>
            <a:ext cx="887400" cy="647640"/>
          </a:xfrm>
          <a:prstGeom prst="ellipse">
            <a:avLst/>
          </a:prstGeom>
          <a:solidFill>
            <a:srgbClr val="f9e499"/>
          </a:solidFill>
          <a:ln w="9360">
            <a:solidFill>
              <a:srgbClr val="94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64600" rIns="264600" tIns="132120" bIns="132120" anchor="ctr">
            <a:noAutofit/>
          </a:bodyPr>
          <a:p>
            <a:pPr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6"/>
          <p:cNvSpPr/>
          <p:nvPr/>
        </p:nvSpPr>
        <p:spPr>
          <a:xfrm>
            <a:off x="304920" y="2190600"/>
            <a:ext cx="884160" cy="652680"/>
          </a:xfrm>
          <a:prstGeom prst="ellipse">
            <a:avLst/>
          </a:prstGeom>
          <a:solidFill>
            <a:srgbClr val="f9e499"/>
          </a:solidFill>
          <a:ln w="9360">
            <a:solidFill>
              <a:srgbClr val="94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64600" rIns="264600" tIns="132120" bIns="132120" anchor="ctr">
            <a:noAutofit/>
          </a:bodyPr>
          <a:p>
            <a:pPr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8"/>
          <p:cNvSpPr/>
          <p:nvPr/>
        </p:nvSpPr>
        <p:spPr>
          <a:xfrm>
            <a:off x="357120" y="3087720"/>
            <a:ext cx="984240" cy="652320"/>
          </a:xfrm>
          <a:prstGeom prst="ellipse">
            <a:avLst/>
          </a:prstGeom>
          <a:solidFill>
            <a:srgbClr val="f9e499"/>
          </a:solidFill>
          <a:ln w="9360">
            <a:solidFill>
              <a:srgbClr val="94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64600" rIns="264600" tIns="132120" bIns="132120" anchor="ctr">
            <a:noAutofit/>
          </a:bodyPr>
          <a:p>
            <a:pPr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2"/>
          <p:cNvSpPr/>
          <p:nvPr/>
        </p:nvSpPr>
        <p:spPr>
          <a:xfrm>
            <a:off x="995400" y="2516040"/>
            <a:ext cx="52848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XP icon my computer"/>
          <p:cNvPicPr/>
          <p:nvPr/>
        </p:nvPicPr>
        <p:blipFill>
          <a:blip r:embed="rId1"/>
          <a:stretch/>
        </p:blipFill>
        <p:spPr>
          <a:xfrm>
            <a:off x="606600" y="3184560"/>
            <a:ext cx="506160" cy="477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1"/>
          <p:cNvSpPr/>
          <p:nvPr/>
        </p:nvSpPr>
        <p:spPr>
          <a:xfrm>
            <a:off x="3432240" y="2822400"/>
            <a:ext cx="25621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4600" rIns="264600" tIns="132120" bIns="13212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SP’s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XP icon my computer"/>
          <p:cNvPicPr/>
          <p:nvPr/>
        </p:nvPicPr>
        <p:blipFill>
          <a:blip r:embed="rId2"/>
          <a:stretch/>
        </p:blipFill>
        <p:spPr>
          <a:xfrm>
            <a:off x="600120" y="2209680"/>
            <a:ext cx="506520" cy="482760"/>
          </a:xfrm>
          <a:prstGeom prst="rect">
            <a:avLst/>
          </a:prstGeom>
          <a:ln w="0">
            <a:noFill/>
          </a:ln>
        </p:spPr>
      </p:pic>
      <p:sp>
        <p:nvSpPr>
          <p:cNvPr id="78" name="Line 44"/>
          <p:cNvSpPr/>
          <p:nvPr/>
        </p:nvSpPr>
        <p:spPr>
          <a:xfrm flipV="1">
            <a:off x="1092240" y="2966760"/>
            <a:ext cx="431640" cy="29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2"/>
          <p:cNvSpPr/>
          <p:nvPr/>
        </p:nvSpPr>
        <p:spPr>
          <a:xfrm>
            <a:off x="2244600" y="2711520"/>
            <a:ext cx="33433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1"/>
          <p:cNvSpPr/>
          <p:nvPr/>
        </p:nvSpPr>
        <p:spPr>
          <a:xfrm>
            <a:off x="5396040" y="1676520"/>
            <a:ext cx="1703160" cy="8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4600" rIns="264600" tIns="132120" bIns="1321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CGN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PCP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8"/>
          <p:cNvSpPr/>
          <p:nvPr/>
        </p:nvSpPr>
        <p:spPr>
          <a:xfrm>
            <a:off x="1851120" y="3044880"/>
            <a:ext cx="0" cy="27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2"/>
          <p:cNvSpPr/>
          <p:nvPr/>
        </p:nvSpPr>
        <p:spPr>
          <a:xfrm>
            <a:off x="6093000" y="3267000"/>
            <a:ext cx="1440" cy="255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56"/>
          <p:cNvGrpSpPr/>
          <p:nvPr/>
        </p:nvGrpSpPr>
        <p:grpSpPr>
          <a:xfrm>
            <a:off x="7186680" y="2349360"/>
            <a:ext cx="1957320" cy="1298880"/>
            <a:chOff x="7186680" y="2349360"/>
            <a:chExt cx="1957320" cy="1298880"/>
          </a:xfrm>
        </p:grpSpPr>
        <p:pic>
          <p:nvPicPr>
            <p:cNvPr id="84" name="Picture 57" descr="Network Cloud 1.png"/>
            <p:cNvPicPr/>
            <p:nvPr/>
          </p:nvPicPr>
          <p:blipFill>
            <a:blip r:embed="rId3"/>
            <a:stretch/>
          </p:blipFill>
          <p:spPr>
            <a:xfrm>
              <a:off x="7186680" y="2349360"/>
              <a:ext cx="1957320" cy="12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Box 58"/>
            <p:cNvSpPr/>
            <p:nvPr/>
          </p:nvSpPr>
          <p:spPr>
            <a:xfrm>
              <a:off x="7781760" y="2836800"/>
              <a:ext cx="10206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4600" rIns="264600" tIns="132120" bIns="132120" anchor="t">
              <a:spAutoFit/>
            </a:bodyPr>
            <a:p>
              <a:pPr>
                <a:tabLst>
                  <a:tab algn="l" pos="0"/>
                  <a:tab algn="l" pos="2644920"/>
                  <a:tab algn="l" pos="5289480"/>
                  <a:tab algn="l" pos="7934400"/>
                  <a:tab algn="l" pos="1057896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Pv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 Box 31"/>
          <p:cNvSpPr/>
          <p:nvPr/>
        </p:nvSpPr>
        <p:spPr>
          <a:xfrm>
            <a:off x="768240" y="2138400"/>
            <a:ext cx="22924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4600" rIns="264600" tIns="132120" bIns="1321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PCP 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1"/>
          <p:cNvSpPr/>
          <p:nvPr/>
        </p:nvSpPr>
        <p:spPr>
          <a:xfrm>
            <a:off x="5151600" y="3367080"/>
            <a:ext cx="2293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4600" rIns="264600" tIns="132120" bIns="1321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NE40E-X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9"/>
          <p:cNvGraphicFramePr/>
          <p:nvPr/>
        </p:nvGraphicFramePr>
        <p:xfrm>
          <a:off x="1492200" y="2674800"/>
          <a:ext cx="682560" cy="424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9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92200" y="2674800"/>
                    <a:ext cx="68256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" name="Picture 44" descr=""/>
          <p:cNvPicPr/>
          <p:nvPr/>
        </p:nvPicPr>
        <p:blipFill>
          <a:blip r:embed="rId6"/>
          <a:stretch/>
        </p:blipFill>
        <p:spPr>
          <a:xfrm>
            <a:off x="5587920" y="2368440"/>
            <a:ext cx="1198800" cy="9097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1"/>
          <p:cNvSpPr/>
          <p:nvPr/>
        </p:nvSpPr>
        <p:spPr>
          <a:xfrm>
            <a:off x="1309680" y="3267000"/>
            <a:ext cx="1346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4600" rIns="264600" tIns="132120" bIns="1321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5"/>
          <p:cNvSpPr/>
          <p:nvPr/>
        </p:nvSpPr>
        <p:spPr>
          <a:xfrm>
            <a:off x="2209680" y="3533760"/>
            <a:ext cx="32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PCP message: I need a bunch of 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6"/>
          <p:cNvSpPr/>
          <p:nvPr/>
        </p:nvSpPr>
        <p:spPr>
          <a:xfrm>
            <a:off x="1763640" y="4371840"/>
            <a:ext cx="439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PCP message: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MS PGothic"/>
              </a:rPr>
              <a:t>I give you a set of scattered por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Straight Arrow Connector 50"/>
          <p:cNvCxnSpPr/>
          <p:nvPr/>
        </p:nvCxnSpPr>
        <p:spPr>
          <a:xfrm>
            <a:off x="1898640" y="4114440"/>
            <a:ext cx="4145760" cy="1080"/>
          </a:xfrm>
          <a:prstGeom prst="straightConnector1">
            <a:avLst/>
          </a:prstGeom>
          <a:ln w="12600">
            <a:solidFill>
              <a:srgbClr val="006fb0"/>
            </a:solidFill>
            <a:miter/>
            <a:tailEnd len="lg" type="stealth" w="lg"/>
          </a:ln>
        </p:spPr>
      </p:cxnSp>
      <p:cxnSp>
        <p:nvCxnSpPr>
          <p:cNvPr id="95" name="Straight Arrow Connector 50"/>
          <p:cNvCxnSpPr/>
          <p:nvPr/>
        </p:nvCxnSpPr>
        <p:spPr>
          <a:xfrm>
            <a:off x="1898640" y="4927320"/>
            <a:ext cx="4145760" cy="1080"/>
          </a:xfrm>
          <a:prstGeom prst="straightConnector1">
            <a:avLst/>
          </a:prstGeom>
          <a:ln w="12600">
            <a:solidFill>
              <a:srgbClr val="006fb0"/>
            </a:solidFill>
            <a:miter/>
            <a:headEnd len="lg" type="stealth" w="lg"/>
          </a:ln>
        </p:spPr>
      </p:cxnSp>
      <p:sp>
        <p:nvSpPr>
          <p:cNvPr id="96" name="直接连接符 50"/>
          <p:cNvSpPr/>
          <p:nvPr/>
        </p:nvSpPr>
        <p:spPr>
          <a:xfrm>
            <a:off x="884160" y="4807080"/>
            <a:ext cx="5902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1523880" y="2484360"/>
            <a:ext cx="650880" cy="208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76520" y="6019920"/>
            <a:ext cx="685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out website for this demo: http://130.129.48.23:35328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.._..,_,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~,"-.-~~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=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[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]: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[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'=])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[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' 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~----~~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Though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1-07-24T17:10:14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