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8371-690F-46A7-A22A-CACD1D9888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45A-3AA2-4CFD-9D57-C963CB11E3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D6DA-F6D9-4E36-9715-BB53BCA64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999F116C-3D9E-474E-9033-F00D80E04D47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14972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MS PMincho"/>
                <a:ea typeface="MS PMincho"/>
              </a:rPr>
              <a:t>Yu  Fu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utigerNext LT Medium"/>
                <a:ea typeface="宋体"/>
              </a:rPr>
              <a:t>DS-Lite Management Information Base (MIB)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FrutigerNext LT Medium"/>
              </a:rPr>
              <a:t> draft-fu-softwire-dslite-mib-01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952040" cy="695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Why we </a:t>
            </a: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need</a:t>
            </a:r>
            <a:r>
              <a:rPr b="1" lang="en-US" sz="4400" spc="-1" strike="noStrike">
                <a:solidFill>
                  <a:srgbClr val="000000"/>
                </a:solidFill>
                <a:latin typeface="FrutigerNext LT Medium"/>
              </a:rPr>
              <a:t> DS-Lite MIB</a:t>
            </a:r>
            <a:endParaRPr b="0" lang="en-US" sz="4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55640" y="1197000"/>
            <a:ext cx="813744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NAT-MIB [RFC4008] is designed to carry translation from any address family to any address family, therefore supports IPv4 to IPv4 translation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e tunnel MIB [RFC4087] is designed for managing tunnels of any type over IPv4 and IPv6 networks, therefore supports IP in IP tunnels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o why we need DS-Lite MIB?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owever, </a:t>
            </a:r>
            <a:r>
              <a:rPr b="0" lang="en-GB" sz="2000" spc="-1" strike="noStrike">
                <a:solidFill>
                  <a:srgbClr val="000000"/>
                </a:solidFill>
                <a:latin typeface="FrutigerNext LT Regular"/>
              </a:rPr>
              <a:t>In DS-Lite scenario, the AFTR is not only the tunnel end concentrator, but also a 4-4 translator. </a:t>
            </a:r>
            <a:r>
              <a:rPr b="0" lang="en-GB" sz="2000" spc="-1" strike="noStrike">
                <a:solidFill>
                  <a:srgbClr val="ff0000"/>
                </a:solidFill>
                <a:latin typeface="FrutigerNext LT Regular"/>
              </a:rPr>
              <a:t>Within the AFTR, tunnel information and translation information MUST be mapped each other.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Subtree of DS-Lite MIB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341000"/>
            <a:ext cx="7929360" cy="23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9000"/>
          </a:bodyPr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Position of DS-Lite MIB: 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dsliteMIB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::= {transmission xxx}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unnel: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rmation about Tunn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NAT: Information aboute N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Info: </a:t>
            </a: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statistical information in the DS-Lite inst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Traps: the alarm inform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liteConforman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6760" indent="-266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62" name="组合 16"/>
          <p:cNvGrpSpPr/>
          <p:nvPr/>
        </p:nvGrpSpPr>
        <p:grpSpPr>
          <a:xfrm>
            <a:off x="468360" y="4365720"/>
            <a:ext cx="8315280" cy="1872000"/>
            <a:chOff x="468360" y="4365720"/>
            <a:chExt cx="8315280" cy="1872000"/>
          </a:xfrm>
        </p:grpSpPr>
        <p:sp>
          <p:nvSpPr>
            <p:cNvPr id="163" name="TextBox 5"/>
            <p:cNvSpPr/>
            <p:nvPr/>
          </p:nvSpPr>
          <p:spPr>
            <a:xfrm>
              <a:off x="3276360" y="436572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dsliteMIB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>
              <a:off x="4284360" y="4725720"/>
              <a:ext cx="0" cy="115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5" name="直接连接符 10"/>
            <p:cNvSpPr/>
            <p:nvPr/>
          </p:nvSpPr>
          <p:spPr>
            <a:xfrm flipV="1">
              <a:off x="1116360" y="5085720"/>
              <a:ext cx="6480360" cy="7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6" name="直接连接符 12"/>
            <p:cNvSpPr/>
            <p:nvPr/>
          </p:nvSpPr>
          <p:spPr>
            <a:xfrm>
              <a:off x="1116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7" name="直接连接符 15"/>
            <p:cNvSpPr/>
            <p:nvPr/>
          </p:nvSpPr>
          <p:spPr>
            <a:xfrm>
              <a:off x="2628360" y="5157720"/>
              <a:ext cx="0" cy="72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8" name="直接连接符 17"/>
            <p:cNvSpPr/>
            <p:nvPr/>
          </p:nvSpPr>
          <p:spPr>
            <a:xfrm>
              <a:off x="6012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9" name="直接连接符 19"/>
            <p:cNvSpPr/>
            <p:nvPr/>
          </p:nvSpPr>
          <p:spPr>
            <a:xfrm>
              <a:off x="7596720" y="508572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0" name="TextBox 23"/>
            <p:cNvSpPr/>
            <p:nvPr/>
          </p:nvSpPr>
          <p:spPr>
            <a:xfrm>
              <a:off x="468360" y="587772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1" name="TextBox 24"/>
            <p:cNvSpPr/>
            <p:nvPr/>
          </p:nvSpPr>
          <p:spPr>
            <a:xfrm>
              <a:off x="1980360" y="5875560"/>
              <a:ext cx="12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2" name="TextBox 25"/>
            <p:cNvSpPr/>
            <p:nvPr/>
          </p:nvSpPr>
          <p:spPr>
            <a:xfrm>
              <a:off x="3708360" y="587772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3" name="TextBox 26"/>
            <p:cNvSpPr/>
            <p:nvPr/>
          </p:nvSpPr>
          <p:spPr>
            <a:xfrm>
              <a:off x="5072400" y="5899320"/>
              <a:ext cx="172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4" name="TextBox 27"/>
            <p:cNvSpPr/>
            <p:nvPr/>
          </p:nvSpPr>
          <p:spPr>
            <a:xfrm>
              <a:off x="6767640" y="59004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dsliteConformance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429840"/>
            <a:ext cx="84963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Tunnel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1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360" y="1483920"/>
            <a:ext cx="8238960" cy="193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7000"/>
          </a:bodyPr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 Tunnel 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Tunnel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fIndex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: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ID, dsliteTunnelStartAddress, dsliteTunnelStartAddPreLen, dsliteTunnelEndAddress  (Since these objects defined in Tunnel MIB is not access, we define these new objects in our MIB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0640" indent="-260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77" name="组合 24"/>
          <p:cNvGrpSpPr/>
          <p:nvPr/>
        </p:nvGrpSpPr>
        <p:grpSpPr>
          <a:xfrm>
            <a:off x="1116000" y="4149720"/>
            <a:ext cx="6624720" cy="2300760"/>
            <a:chOff x="1116000" y="4149720"/>
            <a:chExt cx="6624720" cy="2300760"/>
          </a:xfrm>
        </p:grpSpPr>
        <p:sp>
          <p:nvSpPr>
            <p:cNvPr id="178" name="直接连接符 19"/>
            <p:cNvSpPr/>
            <p:nvPr/>
          </p:nvSpPr>
          <p:spPr>
            <a:xfrm>
              <a:off x="4428360" y="544536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9" name="直接连接符 29"/>
            <p:cNvSpPr/>
            <p:nvPr/>
          </p:nvSpPr>
          <p:spPr>
            <a:xfrm>
              <a:off x="2124000" y="5661360"/>
              <a:ext cx="496872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0" name="直接连接符 31"/>
            <p:cNvSpPr/>
            <p:nvPr/>
          </p:nvSpPr>
          <p:spPr>
            <a:xfrm>
              <a:off x="2124000" y="5655240"/>
              <a:ext cx="0" cy="29412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1" name="直接连接符 33"/>
            <p:cNvSpPr/>
            <p:nvPr/>
          </p:nvSpPr>
          <p:spPr>
            <a:xfrm>
              <a:off x="709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2" name="TextBox 35"/>
            <p:cNvSpPr/>
            <p:nvPr/>
          </p:nvSpPr>
          <p:spPr>
            <a:xfrm>
              <a:off x="1116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3" name="直接连接符 37"/>
            <p:cNvSpPr/>
            <p:nvPr/>
          </p:nvSpPr>
          <p:spPr>
            <a:xfrm>
              <a:off x="3132000" y="5661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4" name="TextBox 38"/>
            <p:cNvSpPr/>
            <p:nvPr/>
          </p:nvSpPr>
          <p:spPr>
            <a:xfrm>
              <a:off x="2412000" y="5930280"/>
              <a:ext cx="136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StartAddPreLen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5" name="TextBox 49"/>
            <p:cNvSpPr/>
            <p:nvPr/>
          </p:nvSpPr>
          <p:spPr>
            <a:xfrm>
              <a:off x="3780360" y="5930280"/>
              <a:ext cx="122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EndAddres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6" name="直接连接符 51"/>
            <p:cNvSpPr/>
            <p:nvPr/>
          </p:nvSpPr>
          <p:spPr>
            <a:xfrm>
              <a:off x="5652720" y="5661360"/>
              <a:ext cx="0" cy="288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7" name="TextBox 54"/>
            <p:cNvSpPr/>
            <p:nvPr/>
          </p:nvSpPr>
          <p:spPr>
            <a:xfrm>
              <a:off x="5076360" y="5930280"/>
              <a:ext cx="108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D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8" name="TextBox 55"/>
            <p:cNvSpPr/>
            <p:nvPr/>
          </p:nvSpPr>
          <p:spPr>
            <a:xfrm>
              <a:off x="6444720" y="5930280"/>
              <a:ext cx="129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unnelIfIndex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3636360" y="414972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0" name="直接连接符 20"/>
            <p:cNvSpPr/>
            <p:nvPr/>
          </p:nvSpPr>
          <p:spPr>
            <a:xfrm>
              <a:off x="4428360" y="4447080"/>
              <a:ext cx="0" cy="2682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1" name="TextBox 21"/>
            <p:cNvSpPr/>
            <p:nvPr/>
          </p:nvSpPr>
          <p:spPr>
            <a:xfrm>
              <a:off x="3564360" y="45975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2" name="TextBox 22"/>
            <p:cNvSpPr/>
            <p:nvPr/>
          </p:nvSpPr>
          <p:spPr>
            <a:xfrm>
              <a:off x="3564360" y="5137920"/>
              <a:ext cx="172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3" name="直接连接符 23"/>
            <p:cNvSpPr/>
            <p:nvPr/>
          </p:nvSpPr>
          <p:spPr>
            <a:xfrm>
              <a:off x="4428360" y="4869360"/>
              <a:ext cx="0" cy="360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utigerNext LT Medium"/>
              </a:rPr>
              <a:t>dsliteNAT</a:t>
            </a:r>
            <a:r>
              <a:rPr b="1" lang="en-GB" sz="3600" spc="-1" strike="noStrike">
                <a:solidFill>
                  <a:srgbClr val="000000"/>
                </a:solidFill>
                <a:latin typeface="FrutigerNext LT Medium"/>
              </a:rPr>
              <a:t>::={dsliteMIB 2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980640"/>
            <a:ext cx="7929360" cy="30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DS-Lite NAT parameters are defined in this objec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bjects imported from NAT MIB: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19 objects are imported from NAT MIB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New objects defined in our MIB</a:t>
            </a:r>
            <a:r>
              <a:rPr b="1" lang="en-US" sz="1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r>
              <a:rPr b="1" lang="en-GB" sz="12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FrutigerNext LT Regular"/>
              </a:rPr>
              <a:t>dsliteNATBindLocalAddr, dsliteNATBindLocalPort (Since these objects defined in NAT MIB is not access, we define this new objects in our MIB), dsliteB4Addr, dsliteB4PreLen</a:t>
            </a:r>
            <a:endParaRPr b="1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96" name="组合 18"/>
          <p:cNvGrpSpPr/>
          <p:nvPr/>
        </p:nvGrpSpPr>
        <p:grpSpPr>
          <a:xfrm>
            <a:off x="1692360" y="3716280"/>
            <a:ext cx="5616360" cy="2342160"/>
            <a:chOff x="1692360" y="3716280"/>
            <a:chExt cx="5616360" cy="2342160"/>
          </a:xfrm>
        </p:grpSpPr>
        <p:sp>
          <p:nvSpPr>
            <p:cNvPr id="197" name="TextBox 5"/>
            <p:cNvSpPr/>
            <p:nvPr/>
          </p:nvSpPr>
          <p:spPr>
            <a:xfrm>
              <a:off x="3780360" y="3716280"/>
              <a:ext cx="158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8" name="直接连接符 6"/>
            <p:cNvSpPr/>
            <p:nvPr/>
          </p:nvSpPr>
          <p:spPr>
            <a:xfrm>
              <a:off x="4572720" y="4003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9" name="TextBox 7"/>
            <p:cNvSpPr/>
            <p:nvPr/>
          </p:nvSpPr>
          <p:spPr>
            <a:xfrm>
              <a:off x="176436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0" name="TextBox 8"/>
            <p:cNvSpPr/>
            <p:nvPr/>
          </p:nvSpPr>
          <p:spPr>
            <a:xfrm>
              <a:off x="1692360" y="491796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Map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1" name="直接连接符 9"/>
            <p:cNvSpPr/>
            <p:nvPr/>
          </p:nvSpPr>
          <p:spPr>
            <a:xfrm>
              <a:off x="2700360" y="5155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2" name="TextBox 16"/>
            <p:cNvSpPr/>
            <p:nvPr/>
          </p:nvSpPr>
          <p:spPr>
            <a:xfrm>
              <a:off x="212436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3" name="直接连接符 28"/>
            <p:cNvSpPr/>
            <p:nvPr/>
          </p:nvSpPr>
          <p:spPr>
            <a:xfrm>
              <a:off x="2700360" y="463320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4" name="TextBox 31"/>
            <p:cNvSpPr/>
            <p:nvPr/>
          </p:nvSpPr>
          <p:spPr>
            <a:xfrm>
              <a:off x="5364720" y="43639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5" name="直接连接符 32"/>
            <p:cNvSpPr/>
            <p:nvPr/>
          </p:nvSpPr>
          <p:spPr>
            <a:xfrm>
              <a:off x="6300720" y="4651920"/>
              <a:ext cx="0" cy="359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6" name="直接连接符 34"/>
            <p:cNvSpPr/>
            <p:nvPr/>
          </p:nvSpPr>
          <p:spPr>
            <a:xfrm>
              <a:off x="2700360" y="4219920"/>
              <a:ext cx="360036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7" name="直接连接符 38"/>
            <p:cNvSpPr/>
            <p:nvPr/>
          </p:nvSpPr>
          <p:spPr>
            <a:xfrm>
              <a:off x="2700360" y="4219920"/>
              <a:ext cx="0" cy="287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8" name="直接连接符 40"/>
            <p:cNvSpPr/>
            <p:nvPr/>
          </p:nvSpPr>
          <p:spPr>
            <a:xfrm>
              <a:off x="6300720" y="4219920"/>
              <a:ext cx="0" cy="215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9" name="TextBox 42"/>
            <p:cNvSpPr/>
            <p:nvPr/>
          </p:nvSpPr>
          <p:spPr>
            <a:xfrm>
              <a:off x="5364720" y="4939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0" name="直接连接符 48"/>
            <p:cNvSpPr/>
            <p:nvPr/>
          </p:nvSpPr>
          <p:spPr>
            <a:xfrm>
              <a:off x="6300720" y="5227920"/>
              <a:ext cx="0" cy="50364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1" name="TextBox 49"/>
            <p:cNvSpPr/>
            <p:nvPr/>
          </p:nvSpPr>
          <p:spPr>
            <a:xfrm>
              <a:off x="5724720" y="56595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utigerNext LT Regular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24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Medium"/>
              </a:rPr>
              <a:t>Mapping information for Tunnel and NAT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12500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We define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dsliteTunnelStartAddress, dsliteTunnelStartAddPreLen  in dsliteTunnel  subtree to present the Ipv6 address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and prefix </a:t>
            </a:r>
            <a:r>
              <a:rPr b="1" lang="en-GB" sz="1800" spc="-1" strike="noStrike">
                <a:solidFill>
                  <a:srgbClr val="000000"/>
                </a:solidFill>
                <a:latin typeface="FrutigerNext LT Regular"/>
              </a:rPr>
              <a:t>for B4. These two objects can be used to identify the tunnel entry. So the dsliteB4Addr, dsliteB4PreLen  in dsliteNATBindTable entry are equalled to the these two objects to map the 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dsliteTunnelTable entr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6372360" y="3789360"/>
            <a:ext cx="259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nother method to create mapping information for Bind Enry is to use the 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RowPointer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to point to the Tunnel entry, does that method better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215" name="组合 32"/>
          <p:cNvGrpSpPr/>
          <p:nvPr/>
        </p:nvGrpSpPr>
        <p:grpSpPr>
          <a:xfrm>
            <a:off x="900000" y="3213000"/>
            <a:ext cx="5265720" cy="3337200"/>
            <a:chOff x="900000" y="3213000"/>
            <a:chExt cx="5265720" cy="3337200"/>
          </a:xfrm>
        </p:grpSpPr>
        <p:sp>
          <p:nvSpPr>
            <p:cNvPr id="216" name="矩形 4"/>
            <p:cNvSpPr/>
            <p:nvPr/>
          </p:nvSpPr>
          <p:spPr>
            <a:xfrm>
              <a:off x="900000" y="3860640"/>
              <a:ext cx="2016000" cy="42948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</a:t>
              </a: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2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7" name="TextBox 5"/>
            <p:cNvSpPr/>
            <p:nvPr/>
          </p:nvSpPr>
          <p:spPr>
            <a:xfrm>
              <a:off x="912600" y="32158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NATBind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900000" y="427968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9" name="矩形 7"/>
            <p:cNvSpPr/>
            <p:nvPr/>
          </p:nvSpPr>
          <p:spPr>
            <a:xfrm>
              <a:off x="900000" y="470052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0" name="矩形 8"/>
            <p:cNvSpPr/>
            <p:nvPr/>
          </p:nvSpPr>
          <p:spPr>
            <a:xfrm>
              <a:off x="900000" y="5122800"/>
              <a:ext cx="2016000" cy="4143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4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dsliteB4Addr, dsliteB4PreLe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1" name="矩形 9"/>
            <p:cNvSpPr/>
            <p:nvPr/>
          </p:nvSpPr>
          <p:spPr>
            <a:xfrm>
              <a:off x="900000" y="5538960"/>
              <a:ext cx="2016000" cy="56700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3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2" name="矩形 10"/>
            <p:cNvSpPr/>
            <p:nvPr/>
          </p:nvSpPr>
          <p:spPr>
            <a:xfrm>
              <a:off x="3995640" y="3781080"/>
              <a:ext cx="2160720" cy="73404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</a:t>
              </a:r>
              <a:r>
                <a:rPr b="0" lang="en-US" sz="12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3" name="矩形 11"/>
            <p:cNvSpPr/>
            <p:nvPr/>
          </p:nvSpPr>
          <p:spPr>
            <a:xfrm>
              <a:off x="3995640" y="5967720"/>
              <a:ext cx="2160720" cy="50616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rutigerNext LT Regular"/>
                </a:rPr>
                <a:t>........</a:t>
              </a:r>
              <a:endParaRPr b="0" lang="en-US" sz="28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4" name="矩形 12"/>
            <p:cNvSpPr/>
            <p:nvPr/>
          </p:nvSpPr>
          <p:spPr>
            <a:xfrm>
              <a:off x="4066920" y="6235920"/>
              <a:ext cx="64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5" name="矩形 13"/>
            <p:cNvSpPr/>
            <p:nvPr/>
          </p:nvSpPr>
          <p:spPr>
            <a:xfrm>
              <a:off x="3995640" y="450216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2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6" name="矩形 14"/>
            <p:cNvSpPr/>
            <p:nvPr/>
          </p:nvSpPr>
          <p:spPr>
            <a:xfrm>
              <a:off x="4005000" y="5237280"/>
              <a:ext cx="2160720" cy="718920"/>
            </a:xfrm>
            <a:prstGeom prst="rect">
              <a:avLst/>
            </a:prstGeom>
            <a:noFill/>
            <a:ln w="12600">
              <a:solidFill>
                <a:srgbClr val="3162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3 </a:t>
              </a:r>
              <a:r>
                <a:rPr b="0" lang="en-US" sz="1100" spc="-1" strike="noStrike">
                  <a:solidFill>
                    <a:srgbClr val="000000"/>
                  </a:solidFill>
                  <a:latin typeface="FrutigerNext LT Regular"/>
                </a:rPr>
                <a:t>......</a:t>
              </a: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dsliteTunnelStartAddress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Next LT Regular"/>
                </a:rPr>
                <a:t>, dsliteTunnelStartAddPreLen</a:t>
              </a:r>
              <a:endParaRPr b="0" lang="en-US" sz="1000" spc="-1" strike="noStrike">
                <a:solidFill>
                  <a:srgbClr val="ffffff"/>
                </a:solidFill>
                <a:latin typeface="FrutigerNext LT Regular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27" name="直接箭头连接符 15"/>
            <p:cNvCxnSpPr/>
            <p:nvPr/>
          </p:nvCxnSpPr>
          <p:spPr>
            <a:xfrm>
              <a:off x="2685960" y="4016160"/>
              <a:ext cx="1597680" cy="73440"/>
            </a:xfrm>
            <a:prstGeom prst="straightConnector1">
              <a:avLst/>
            </a:prstGeom>
            <a:ln w="1260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8" name="直接箭头连接符 16"/>
            <p:cNvCxnSpPr/>
            <p:nvPr/>
          </p:nvCxnSpPr>
          <p:spPr>
            <a:xfrm>
              <a:off x="2916000" y="4581000"/>
              <a:ext cx="1080000" cy="980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直接箭头连接符 17"/>
            <p:cNvCxnSpPr/>
            <p:nvPr/>
          </p:nvCxnSpPr>
          <p:spPr>
            <a:xfrm flipV="1">
              <a:off x="2916000" y="5012640"/>
              <a:ext cx="1080000" cy="4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TextBox 18"/>
            <p:cNvSpPr/>
            <p:nvPr/>
          </p:nvSpPr>
          <p:spPr>
            <a:xfrm>
              <a:off x="3210120" y="537228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1" name="TextBox 19"/>
            <p:cNvSpPr/>
            <p:nvPr/>
          </p:nvSpPr>
          <p:spPr>
            <a:xfrm>
              <a:off x="1625760" y="551664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2" name="TextBox 20"/>
            <p:cNvSpPr/>
            <p:nvPr/>
          </p:nvSpPr>
          <p:spPr>
            <a:xfrm>
              <a:off x="4847040" y="590256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Next LT Regular"/>
                </a:rPr>
                <a:t>...…</a:t>
              </a:r>
              <a:endParaRPr b="0" lang="en-US" sz="2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3" name="TextBox 21"/>
            <p:cNvSpPr/>
            <p:nvPr/>
          </p:nvSpPr>
          <p:spPr>
            <a:xfrm>
              <a:off x="4140000" y="3213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dsliteTunnel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4" name="矩形 22"/>
            <p:cNvSpPr/>
            <p:nvPr/>
          </p:nvSpPr>
          <p:spPr>
            <a:xfrm>
              <a:off x="900000" y="5867640"/>
              <a:ext cx="647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n 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5" name="TextBox 23"/>
            <p:cNvSpPr/>
            <p:nvPr/>
          </p:nvSpPr>
          <p:spPr>
            <a:xfrm>
              <a:off x="2267640" y="3645000"/>
              <a:ext cx="201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FrutigerNext LT Regular"/>
                </a:rPr>
                <a:t>Entry 1 mapping to Entry 1</a:t>
              </a:r>
              <a:endParaRPr b="0" lang="en-US" sz="11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6" name="矩形 26"/>
            <p:cNvSpPr/>
            <p:nvPr/>
          </p:nvSpPr>
          <p:spPr>
            <a:xfrm>
              <a:off x="1822320" y="3919320"/>
              <a:ext cx="865080" cy="1443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7" name="矩形 27"/>
            <p:cNvSpPr/>
            <p:nvPr/>
          </p:nvSpPr>
          <p:spPr>
            <a:xfrm>
              <a:off x="4284720" y="3992400"/>
              <a:ext cx="1582560" cy="1425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402920" y="4089240"/>
              <a:ext cx="1008000" cy="1425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9" name="矩形 31"/>
            <p:cNvSpPr/>
            <p:nvPr/>
          </p:nvSpPr>
          <p:spPr>
            <a:xfrm>
              <a:off x="4271760" y="4160880"/>
              <a:ext cx="1655640" cy="144360"/>
            </a:xfrm>
            <a:prstGeom prst="rect">
              <a:avLst/>
            </a:prstGeom>
            <a:noFill/>
            <a:ln w="12600">
              <a:solidFill>
                <a:srgbClr val="d398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0" name="直接箭头连接符 33"/>
            <p:cNvCxnSpPr>
              <a:stCxn id="238" idx="3"/>
            </p:cNvCxnSpPr>
            <p:nvPr/>
          </p:nvCxnSpPr>
          <p:spPr>
            <a:xfrm>
              <a:off x="2411280" y="4160520"/>
              <a:ext cx="1800720" cy="60840"/>
            </a:xfrm>
            <a:prstGeom prst="straightConnector1">
              <a:avLst/>
            </a:prstGeom>
            <a:ln w="12600">
              <a:solidFill>
                <a:srgbClr val="d3981f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41" name="TextBox 40"/>
            <p:cNvSpPr/>
            <p:nvPr/>
          </p:nvSpPr>
          <p:spPr>
            <a:xfrm>
              <a:off x="3058920" y="38383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2" name="TextBox 41"/>
            <p:cNvSpPr/>
            <p:nvPr/>
          </p:nvSpPr>
          <p:spPr>
            <a:xfrm>
              <a:off x="3058920" y="414972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FrutigerNext LT Regular"/>
                </a:rPr>
                <a:t>equal to</a:t>
              </a:r>
              <a:endParaRPr b="0" lang="en-US" sz="1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cxnSp>
          <p:nvCxnSpPr>
            <p:cNvPr id="243" name="直接箭头连接符 43"/>
            <p:cNvCxnSpPr/>
            <p:nvPr/>
          </p:nvCxnSpPr>
          <p:spPr>
            <a:xfrm>
              <a:off x="2915640" y="3933360"/>
              <a:ext cx="1151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eInfo :: =  { dsliteMIB 3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196640"/>
            <a:ext cx="7929360" cy="2879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Next LT Regular"/>
              </a:rPr>
              <a:t>The statistical information for DS-lite scenario are describ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session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number and type of  port limit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Some alarm scalars of AFTR are defined in this object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Next LT Regular"/>
              </a:rPr>
              <a:t>The statistical parameters for packets and session are defined in this object.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46" name="组合 27"/>
          <p:cNvGrpSpPr/>
          <p:nvPr/>
        </p:nvGrpSpPr>
        <p:grpSpPr>
          <a:xfrm>
            <a:off x="179280" y="4005360"/>
            <a:ext cx="8785440" cy="2332800"/>
            <a:chOff x="179280" y="4005360"/>
            <a:chExt cx="8785440" cy="2332800"/>
          </a:xfrm>
        </p:grpSpPr>
        <p:sp>
          <p:nvSpPr>
            <p:cNvPr id="247" name="TextBox 5"/>
            <p:cNvSpPr/>
            <p:nvPr/>
          </p:nvSpPr>
          <p:spPr>
            <a:xfrm>
              <a:off x="3852000" y="400536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Info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8" name="直接连接符 12"/>
            <p:cNvSpPr/>
            <p:nvPr/>
          </p:nvSpPr>
          <p:spPr>
            <a:xfrm>
              <a:off x="4428000" y="4293360"/>
              <a:ext cx="0" cy="21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9" name="直接连接符 14"/>
            <p:cNvSpPr/>
            <p:nvPr/>
          </p:nvSpPr>
          <p:spPr>
            <a:xfrm>
              <a:off x="1403280" y="4509360"/>
              <a:ext cx="6481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0" name="直接连接符 19"/>
            <p:cNvSpPr/>
            <p:nvPr/>
          </p:nvSpPr>
          <p:spPr>
            <a:xfrm>
              <a:off x="327564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1" name="直接连接符 21"/>
            <p:cNvSpPr/>
            <p:nvPr/>
          </p:nvSpPr>
          <p:spPr>
            <a:xfrm>
              <a:off x="586836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2" name="直接连接符 23"/>
            <p:cNvSpPr/>
            <p:nvPr/>
          </p:nvSpPr>
          <p:spPr>
            <a:xfrm>
              <a:off x="7884720" y="4509360"/>
              <a:ext cx="0" cy="43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3" name="TextBox 24"/>
            <p:cNvSpPr/>
            <p:nvPr/>
          </p:nvSpPr>
          <p:spPr>
            <a:xfrm>
              <a:off x="7164360" y="50133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4" name="TextBox 25"/>
            <p:cNvSpPr/>
            <p:nvPr/>
          </p:nvSpPr>
          <p:spPr>
            <a:xfrm>
              <a:off x="4932000" y="5013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AFTR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AlarmScalar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5" name="TextBox 26"/>
            <p:cNvSpPr/>
            <p:nvPr/>
          </p:nvSpPr>
          <p:spPr>
            <a:xfrm>
              <a:off x="2555640" y="5013360"/>
              <a:ext cx="18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Port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6" name="TextBox 28"/>
            <p:cNvSpPr/>
            <p:nvPr/>
          </p:nvSpPr>
          <p:spPr>
            <a:xfrm>
              <a:off x="179280" y="5013360"/>
              <a:ext cx="23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FrutigerNext LT Regular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Table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7" name="直接连接符 30"/>
            <p:cNvSpPr/>
            <p:nvPr/>
          </p:nvSpPr>
          <p:spPr>
            <a:xfrm>
              <a:off x="1403280" y="4509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8" name="直接连接符 32"/>
            <p:cNvSpPr/>
            <p:nvPr/>
          </p:nvSpPr>
          <p:spPr>
            <a:xfrm>
              <a:off x="140328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9" name="TextBox 36"/>
            <p:cNvSpPr/>
            <p:nvPr/>
          </p:nvSpPr>
          <p:spPr>
            <a:xfrm>
              <a:off x="251280" y="5805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Session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0" name="直接连接符 38"/>
            <p:cNvSpPr/>
            <p:nvPr/>
          </p:nvSpPr>
          <p:spPr>
            <a:xfrm>
              <a:off x="327564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1" name="TextBox 40"/>
            <p:cNvSpPr/>
            <p:nvPr/>
          </p:nvSpPr>
          <p:spPr>
            <a:xfrm>
              <a:off x="2555640" y="581796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PortLimit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2" name="直接连接符 42"/>
            <p:cNvSpPr/>
            <p:nvPr/>
          </p:nvSpPr>
          <p:spPr>
            <a:xfrm>
              <a:off x="5868360" y="5301360"/>
              <a:ext cx="0" cy="576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3" name="直接连接符 47"/>
            <p:cNvSpPr/>
            <p:nvPr/>
          </p:nvSpPr>
          <p:spPr>
            <a:xfrm>
              <a:off x="7884720" y="5301360"/>
              <a:ext cx="0" cy="504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4" name="TextBox 48"/>
            <p:cNvSpPr/>
            <p:nvPr/>
          </p:nvSpPr>
          <p:spPr>
            <a:xfrm>
              <a:off x="7092360" y="57855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StatisticEntry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5" name="TextBox 65"/>
            <p:cNvSpPr/>
            <p:nvPr/>
          </p:nvSpPr>
          <p:spPr>
            <a:xfrm>
              <a:off x="4644000" y="58053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..….</a:t>
              </a:r>
              <a:endParaRPr b="0" lang="en-US" sz="16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66" name="Text Box 25"/>
          <p:cNvSpPr/>
          <p:nvPr/>
        </p:nvSpPr>
        <p:spPr>
          <a:xfrm>
            <a:off x="755640" y="6308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Do we need to describe the statistical information in our mib? 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dslit</a:t>
            </a:r>
            <a:r>
              <a:rPr b="0" lang="en-US" sz="3600" spc="-1" strike="noStrike">
                <a:solidFill>
                  <a:srgbClr val="000000"/>
                </a:solidFill>
                <a:latin typeface="FrutigerNext LT Medium"/>
              </a:rPr>
              <a:t>eTraps</a:t>
            </a:r>
            <a:r>
              <a:rPr b="0" lang="en-GB" sz="3600" spc="-1" strike="noStrike">
                <a:solidFill>
                  <a:srgbClr val="000000"/>
                </a:solidFill>
                <a:latin typeface="FrutigerNext LT Medium"/>
              </a:rPr>
              <a:t> :: =  { dsliteMIB 4 }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1960" y="1641240"/>
            <a:ext cx="7929720" cy="995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Alarm information for the DS-Lite scenario is defined in this object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69" name="组合 15"/>
          <p:cNvGrpSpPr/>
          <p:nvPr/>
        </p:nvGrpSpPr>
        <p:grpSpPr>
          <a:xfrm>
            <a:off x="539640" y="2637000"/>
            <a:ext cx="8124840" cy="2176560"/>
            <a:chOff x="539640" y="2637000"/>
            <a:chExt cx="8124840" cy="2176560"/>
          </a:xfrm>
        </p:grpSpPr>
        <p:sp>
          <p:nvSpPr>
            <p:cNvPr id="270" name="TextBox 4"/>
            <p:cNvSpPr/>
            <p:nvPr/>
          </p:nvSpPr>
          <p:spPr>
            <a:xfrm>
              <a:off x="3479760" y="26370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eTraps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1" name="TextBox 5"/>
            <p:cNvSpPr/>
            <p:nvPr/>
          </p:nvSpPr>
          <p:spPr>
            <a:xfrm>
              <a:off x="539640" y="42213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Tunnel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4487760" y="2944800"/>
              <a:ext cx="0" cy="113256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3" name="直接连接符 9"/>
            <p:cNvSpPr/>
            <p:nvPr/>
          </p:nvSpPr>
          <p:spPr>
            <a:xfrm>
              <a:off x="1247040" y="3357000"/>
              <a:ext cx="6409080" cy="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4" name="TextBox 11"/>
            <p:cNvSpPr/>
            <p:nvPr/>
          </p:nvSpPr>
          <p:spPr>
            <a:xfrm>
              <a:off x="3335400" y="4293360"/>
              <a:ext cx="208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UserSessionNum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5" name="TextBox 12"/>
            <p:cNvSpPr/>
            <p:nvPr/>
          </p:nvSpPr>
          <p:spPr>
            <a:xfrm>
              <a:off x="6504120" y="4293360"/>
              <a:ext cx="21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utigerNext LT Regular"/>
                </a:rPr>
                <a:t>dslit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eAFTRPortUsageOfSpecificIpAlarm</a:t>
              </a: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6" name="直接连接符 18"/>
            <p:cNvSpPr/>
            <p:nvPr/>
          </p:nvSpPr>
          <p:spPr>
            <a:xfrm>
              <a:off x="124704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7" name="直接连接符 20"/>
            <p:cNvSpPr/>
            <p:nvPr/>
          </p:nvSpPr>
          <p:spPr>
            <a:xfrm>
              <a:off x="7656480" y="3357000"/>
              <a:ext cx="0" cy="792000"/>
            </a:xfrm>
            <a:prstGeom prst="line">
              <a:avLst/>
            </a:prstGeom>
            <a:ln w="19080">
              <a:solidFill>
                <a:srgbClr val="316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sp>
        <p:nvSpPr>
          <p:cNvPr id="278" name="Text Box 14"/>
          <p:cNvSpPr/>
          <p:nvPr/>
        </p:nvSpPr>
        <p:spPr>
          <a:xfrm>
            <a:off x="900000" y="5445000"/>
            <a:ext cx="73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</a:rPr>
              <a:t>Open Question: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Do  we need the alarm information in our mib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re there any other alarm objects need to define?</a:t>
            </a:r>
            <a:endParaRPr b="0" lang="en-US" sz="16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26560" y="11970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ments and suggestions are  welcome!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ffae0d"/>
                </a:solidFill>
                <a:latin typeface="FrutigerNext LT Regular"/>
              </a:rPr>
              <a:t>Thank you !</a:t>
            </a:r>
            <a:endParaRPr b="1" lang="en-US" sz="3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Yong Cui</cp:lastModifiedBy>
  <dcterms:modified xsi:type="dcterms:W3CDTF">2011-07-26T22:15:15Z</dcterms:modified>
  <cp:revision>3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322917</vt:lpwstr>
  </property>
</Properties>
</file>