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F855-72E2-4676-A8C8-8A7824B4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EC6-73B6-41E5-93D5-D0B53CD7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照抄上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E57-E21B-42EA-817E-063F36C5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1EE-318A-436B-9CDB-8319B141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页是基本需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迁移：用户位置，通信可中断，但识别同一个身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漫游：位置移动，通信不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5E2A-1C71-406F-AFB4-C0CB78AA9459}" type="slidenum">
              <a:rPr b="0" lang="en-US" sz="1200" spc="-1" strike="noStrike">
                <a:solidFill>
                  <a:srgbClr val="000000"/>
                </a:solidFill>
                <a:latin typeface="Segoe U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5F3-3132-4F81-81E7-146CDE78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A94-F12E-4868-A77A-F7FD04CD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陈文龙师兄以前的建议对上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的图进行了修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71B-ADA4-4592-B050-16B84088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039-B945-4A9F-BF3C-4434DA4E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 RFC60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AC1-E8A3-48AC-8894-5AFBC4DF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2E0C-CC61-4B0E-B35D-88F5CB14D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draft-boucadair-behave-64-multicast-address-format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3AE-5FDD-49EC-A294-C383AE0F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F72-1B02-446D-AD77-A73A259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659-C1BC-4486-9A86-B496FFB7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409-8D80-4A20-A096-533514B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A0D-4FBC-4A7D-8E25-681CE44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1BB-02F2-479F-A7B2-BB9E77C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2FE-2D85-4447-877B-F5962A05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714-0232-4F28-9A58-9485FA9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8D0-1EFC-4F3A-8982-A44A66D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179-70A8-4244-BC8C-81F7769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FE4-EE9B-44FA-BEEF-76684DE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E35-5002-441B-963B-C1CEDF7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2D1-F502-4139-A124-BABDB8A5D0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213048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oftwire Mesh Multica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ft-xu-softwire-mesh-multicast-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14360" y="3860640"/>
            <a:ext cx="6400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gwei Xu, Yong Cui, Shu Ya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singhua Univer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ris Metz, Greg Sheph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ETF81 Meeting, Queb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400800" cy="3157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ire Deployment in CERNET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5"/>
          <p:cNvSpPr/>
          <p:nvPr/>
        </p:nvSpPr>
        <p:spPr>
          <a:xfrm>
            <a:off x="7391520" y="64008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AC3-3F8A-4B92-9A8F-86FFD6F131AA}" type="slidenum">
              <a:rPr b="0" lang="en-US" sz="1400" spc="-1" strike="noStrike">
                <a:solidFill>
                  <a:srgbClr val="000000"/>
                </a:solidFill>
                <a:latin typeface="Constanti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内容占位符 16"/>
          <p:cNvSpPr/>
          <p:nvPr/>
        </p:nvSpPr>
        <p:spPr>
          <a:xfrm>
            <a:off x="228600" y="14479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ire gateways will be deployed i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 networks in September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: Implement multicast modules in softwire gat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from Version 0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description for SSM and 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source address mapping instead of RPF vector in 4over6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source address mapping instead of AFBR signaling in 6over4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20"/>
          <p:cNvGraphicFramePr/>
          <p:nvPr/>
        </p:nvGraphicFramePr>
        <p:xfrm>
          <a:off x="914400" y="1523880"/>
          <a:ext cx="745488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5488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enario of Softwire Mesh 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6934320" y="4800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701028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 or (S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4191120" y="48006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41911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’,G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685800" y="48006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2"/>
          <p:cNvSpPr/>
          <p:nvPr/>
        </p:nvSpPr>
        <p:spPr>
          <a:xfrm>
            <a:off x="6858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 or (S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3"/>
          <p:cNvSpPr/>
          <p:nvPr/>
        </p:nvSpPr>
        <p:spPr>
          <a:xfrm>
            <a:off x="5334120" y="487692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bb6a11"/>
          </a:solidFill>
          <a:ln w="9360">
            <a:solidFill>
              <a:srgbClr val="bb6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2514600" y="487692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bb6a11"/>
          </a:solidFill>
          <a:ln w="9360">
            <a:solidFill>
              <a:srgbClr val="bb6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0"/>
          <p:cNvSpPr/>
          <p:nvPr/>
        </p:nvSpPr>
        <p:spPr>
          <a:xfrm>
            <a:off x="6934320" y="20574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144">
                <a:moveTo>
                  <a:pt x="384" y="0"/>
                </a:moveTo>
                <a:lnTo>
                  <a:pt x="318" y="46"/>
                </a:lnTo>
                <a:lnTo>
                  <a:pt x="168" y="38"/>
                </a:lnTo>
                <a:lnTo>
                  <a:pt x="97" y="10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1"/>
          <p:cNvSpPr/>
          <p:nvPr/>
        </p:nvSpPr>
        <p:spPr>
          <a:xfrm>
            <a:off x="6934320" y="2492280"/>
            <a:ext cx="685800" cy="250920"/>
          </a:xfrm>
          <a:custGeom>
            <a:avLst/>
            <a:gdLst>
              <a:gd name="textAreaLeft" fmla="*/ 0 w 685800"/>
              <a:gd name="textAreaRight" fmla="*/ 686160 w 6858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384" h="158">
                <a:moveTo>
                  <a:pt x="384" y="158"/>
                </a:moveTo>
                <a:lnTo>
                  <a:pt x="286" y="47"/>
                </a:lnTo>
                <a:lnTo>
                  <a:pt x="191" y="94"/>
                </a:lnTo>
                <a:lnTo>
                  <a:pt x="152" y="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2"/>
          <p:cNvSpPr/>
          <p:nvPr/>
        </p:nvSpPr>
        <p:spPr>
          <a:xfrm>
            <a:off x="6934320" y="3505320"/>
            <a:ext cx="609480" cy="304560"/>
          </a:xfrm>
          <a:custGeom>
            <a:avLst/>
            <a:gdLst>
              <a:gd name="textAreaLeft" fmla="*/ 0 w 609480"/>
              <a:gd name="textAreaRight" fmla="*/ 609840 w 6094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32" h="144">
                <a:moveTo>
                  <a:pt x="432" y="0"/>
                </a:moveTo>
                <a:lnTo>
                  <a:pt x="326" y="64"/>
                </a:lnTo>
                <a:lnTo>
                  <a:pt x="160" y="64"/>
                </a:lnTo>
                <a:lnTo>
                  <a:pt x="89" y="135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3"/>
          <p:cNvSpPr/>
          <p:nvPr/>
        </p:nvSpPr>
        <p:spPr>
          <a:xfrm>
            <a:off x="6934320" y="380988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0" h="192">
                <a:moveTo>
                  <a:pt x="480" y="192"/>
                </a:moveTo>
                <a:lnTo>
                  <a:pt x="397" y="116"/>
                </a:lnTo>
                <a:lnTo>
                  <a:pt x="255" y="124"/>
                </a:lnTo>
                <a:lnTo>
                  <a:pt x="176" y="3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6"/>
          <p:cNvSpPr/>
          <p:nvPr/>
        </p:nvSpPr>
        <p:spPr>
          <a:xfrm>
            <a:off x="1523880" y="3124080"/>
            <a:ext cx="1219320" cy="76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72" h="47">
                <a:moveTo>
                  <a:pt x="672" y="36"/>
                </a:moveTo>
                <a:lnTo>
                  <a:pt x="458" y="0"/>
                </a:lnTo>
                <a:lnTo>
                  <a:pt x="261" y="47"/>
                </a:lnTo>
                <a:lnTo>
                  <a:pt x="0" y="37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9"/>
          <p:cNvSpPr/>
          <p:nvPr/>
        </p:nvSpPr>
        <p:spPr>
          <a:xfrm>
            <a:off x="3276720" y="2514600"/>
            <a:ext cx="3047760" cy="6094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920" h="384">
                <a:moveTo>
                  <a:pt x="1920" y="0"/>
                </a:moveTo>
                <a:lnTo>
                  <a:pt x="1320" y="128"/>
                </a:lnTo>
                <a:lnTo>
                  <a:pt x="625" y="191"/>
                </a:lnTo>
                <a:lnTo>
                  <a:pt x="0" y="384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0"/>
          <p:cNvSpPr/>
          <p:nvPr/>
        </p:nvSpPr>
        <p:spPr>
          <a:xfrm>
            <a:off x="4724280" y="281952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920" h="288">
                <a:moveTo>
                  <a:pt x="1920" y="288"/>
                </a:moveTo>
                <a:lnTo>
                  <a:pt x="1454" y="279"/>
                </a:lnTo>
                <a:lnTo>
                  <a:pt x="744" y="10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b6a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2"/>
          <p:cNvSpPr/>
          <p:nvPr/>
        </p:nvSpPr>
        <p:spPr>
          <a:xfrm>
            <a:off x="68580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simplify the process, stateless one-to-one source address and group address mapping i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 Detailed Scen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SSM, I-IP supports S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should be embedded in S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’ must lead the message to the upstream AF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SSM, I-IP supports 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ame as the first scena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ASM, I-IP supports S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* should be embedded in S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’ must lead the message to the corresponding upstream AFBR (RP’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IP supports ASM, I-IP supports 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ame as the third scena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urce Address Mapping (4over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: a “well-known“ prefix or a ISP-defined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xisting “well-known" prefix is 64:ff9b, which is defined in RFC60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4: the IPv4 address of the E-IP interface of upstream AF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: must be set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: reserved for future extensions and should be set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ddress: original S or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86840" cy="685800"/>
        </p:xfrm>
        <a:graphic>
          <a:graphicData uri="http://schemas.openxmlformats.org/drawingml/2006/table">
            <a:tbl>
              <a:tblPr/>
              <a:tblGrid>
                <a:gridCol w="1676520"/>
                <a:gridCol w="2209680"/>
                <a:gridCol w="609480"/>
                <a:gridCol w="1828800"/>
                <a:gridCol w="19623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8"/>
          <p:cNvSpPr/>
          <p:nvPr/>
        </p:nvSpPr>
        <p:spPr>
          <a:xfrm>
            <a:off x="3049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205740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480060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629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urce Address Mapping (6over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: a “well-known“ prefix or a ISP-defined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xisting “well-known" prefix is 64:ff9b, which is defined in RFC60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4: the mapped I-IPv4 address of S or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381880" cy="685800"/>
        </p:xfrm>
        <a:graphic>
          <a:graphicData uri="http://schemas.openxmlformats.org/drawingml/2006/table">
            <a:tbl>
              <a:tblPr/>
              <a:tblGrid>
                <a:gridCol w="640080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19"/>
          <p:cNvSpPr/>
          <p:nvPr/>
        </p:nvSpPr>
        <p:spPr>
          <a:xfrm>
            <a:off x="3049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6629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oup Address Mapp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oucadair-behave-64-multicast-address-format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 &amp; flag: Defined in [RFC4291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IX: When "M-bit" is set to 1, it indicates that an multicast IPv4 address is embedded in the “v4 address” field.  All the remaining bits MUST be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group-id: The default value is al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4 address: include an IPv4 multicast address when the M-bit is set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819520"/>
          <a:ext cx="8534160" cy="639720"/>
        </p:xfrm>
        <a:graphic>
          <a:graphicData uri="http://schemas.openxmlformats.org/drawingml/2006/table">
            <a:tbl>
              <a:tblPr/>
              <a:tblGrid>
                <a:gridCol w="1117440"/>
                <a:gridCol w="690480"/>
                <a:gridCol w="728640"/>
                <a:gridCol w="1489320"/>
                <a:gridCol w="747720"/>
                <a:gridCol w="2409840"/>
                <a:gridCol w="135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…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-group-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4"/>
          <p:cNvSpPr/>
          <p:nvPr/>
        </p:nvSpPr>
        <p:spPr>
          <a:xfrm flipH="1" flipV="1">
            <a:off x="532800" y="53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522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5053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48769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7391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8381880" y="1447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2"/>
          <p:cNvSpPr/>
          <p:nvPr/>
        </p:nvSpPr>
        <p:spPr>
          <a:xfrm>
            <a:off x="1219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1905120" y="1447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828800"/>
          <a:ext cx="8534160" cy="639720"/>
        </p:xfrm>
        <a:graphic>
          <a:graphicData uri="http://schemas.openxmlformats.org/drawingml/2006/table">
            <a:tbl>
              <a:tblPr/>
              <a:tblGrid>
                <a:gridCol w="1143000"/>
                <a:gridCol w="685800"/>
                <a:gridCol w="761760"/>
                <a:gridCol w="762120"/>
                <a:gridCol w="3809880"/>
                <a:gridCol w="137160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-group-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4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102"/>
          <p:cNvSpPr/>
          <p:nvPr/>
        </p:nvSpPr>
        <p:spPr>
          <a:xfrm>
            <a:off x="2819520" y="1447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2"/>
          <p:cNvSpPr/>
          <p:nvPr/>
        </p:nvSpPr>
        <p:spPr>
          <a:xfrm>
            <a:off x="3809880" y="2438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3"/>
          <p:cNvSpPr/>
          <p:nvPr/>
        </p:nvSpPr>
        <p:spPr>
          <a:xfrm>
            <a:off x="3809880" y="3505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391520" y="3657600"/>
          <a:ext cx="1143000" cy="365040"/>
        </p:xfrm>
        <a:graphic>
          <a:graphicData uri="http://schemas.openxmlformats.org/drawingml/2006/table">
            <a:tbl>
              <a:tblPr/>
              <a:tblGrid>
                <a:gridCol w="285480"/>
                <a:gridCol w="285840"/>
                <a:gridCol w="285840"/>
                <a:gridCol w="28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7e0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76"/>
          <p:cNvSpPr/>
          <p:nvPr/>
        </p:nvSpPr>
        <p:spPr>
          <a:xfrm>
            <a:off x="6553080" y="36576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 document ado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4:09:09Z</dcterms:created>
  <dc:creator>CX</dc:creator>
  <dc:description/>
  <dc:language>en-US</dc:language>
  <cp:lastModifiedBy>user</cp:lastModifiedBy>
  <dcterms:modified xsi:type="dcterms:W3CDTF">2011-07-27T02:34:0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