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815-CB41-49BA-BAED-2161DFC8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7B5-A7DD-444C-8F8B-3FE0374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B4F-B589-448A-A3E1-1F188860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D28-6F07-4479-B933-6EA8B789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822-11FB-498F-AC07-43CBD53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F79-BC55-40A6-AF08-32DE3FE4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198-81F4-4B6D-88C3-41170E7A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363-EC07-4349-A8F5-2FC3C5BD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FDE-E4B7-4D3B-A9C1-469FBDFD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32B-F7D8-464B-B93D-FA2C330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14B-F3F3-4AB6-A61D-EFD3F2A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66A-5224-4C92-8A49-D120E82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105160" y="5105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78C-D9E3-449D-BE7C-4BE635CF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ietflogo2e"/>
          <p:cNvPicPr/>
          <p:nvPr/>
        </p:nvPicPr>
        <p:blipFill>
          <a:blip r:embed="rId2"/>
          <a:stretch/>
        </p:blipFill>
        <p:spPr>
          <a:xfrm>
            <a:off x="304920" y="228600"/>
            <a:ext cx="1676160" cy="8380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DIUS extensions for DS-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ft-ietf-softwire-dslite-radius-ext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Maglione – Telecom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 Durand – 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Pj03988310000[1]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27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05320" y="54864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Chang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 -04 contains the changes to address the comments received fro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 directorate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Jouni Korh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1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ction 5 shows that the Access-Request message may contain the DS-Lite-Tunnel-Name attribute. What is the purpose of this? What is put into the attribute when sent in the Access-Request? What happens if the NAS includes the attribute but the AAA server does not recognize the attrib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s attribute MAY be used in Access-Accept packets as a hi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US server; for example if the NAS is pre-configured with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ault tunnel name, this name MAY be inserted in the attribute. 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US server MAY ignore the hint sent by the NAS and it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gn a different AFTR tunnel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the NAS does not receive DS-Lite-Tunnel-Name attribute in the Access-Accept? How does a NAS behave in that case? Does it fallback to some possibly pre-configured default? Does the NAS terminate the session towards the B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S does not receive DS-Lite-Tunnel-Name attribute in the Access-Accept it MAY fallback to a pre-configured default tunnel name, if any.  If the NAS does not have any pre-configured default tunnel name or if the NAS receives an Access-Reject, the tunnel cannot be established and NAS MUST terminate the session towards the B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3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NAS have a pre-provisioned default AFTR name? Would the AFTR name received in Access-Accept then overwrite the defaul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S is pre-provisioned with a default AFTR tunnel name and the AFTR tunnel name received in Access-Accept is different from the configured default, then the AFTR tunnel name received from the A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er MUST overwrite the pre-configured default on the 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4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case the B4 refreshes the DHCPv6 binding, would the NAS initiate a new Access-Request towards the AAA server? Would DS-Lite-Tunnel-Name attribute be included in the Access-Request in this case? What if the Access-Accept does not contain the DS-Lite-Tunnel-Name attribute? What happens if the NAS receives Access-Reject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different c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v6 Re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v6 Re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4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 DHCPv6 Re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receiving the DS-Lite-Tunnel-Name in the initial Access-Accept the NAS MUST store the received AFTR Tunnel Name locally. When the B4 sends a DHCPv6 Renew message to request an extension of the lifetimes for the assigned address or prefix, the NAS does not have to initiate a new Access-Request towards the AAA server to request the AFTR tunnel name. The NAS retrieves the previously stored AFTR tunnel name and uses it in its re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 DHCPv6 Reb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S receiving the DHCPv6 rebind message MUST initiate a new Access-Request towards the AAA server. The NAS MAY include the DS-Lite-Tunnel-Name attribute in its Access-Request. If the NAS does not receive the DS-Lite-Tunnel-Name attribute in the Access-Accept it MAY fallback to a pre-configured default tunnel name, if any.  If the NAS does not have any pre-configured default tunnel name or if the NAS receives an Access-Reject, the tunnel cannot be established and NAS MUST terminate the session towards th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comment 5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FC5176 CoA operation possible? If so, it would make sense to document that also. That would map to a Reconfigure message sent by the NAS to th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sed re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-of-Authorization (CoA) message [RFC5176] can be us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current established DS-Lite tunnel.  When the NAS rece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A message containing the DS-Lite-Tunnel-Name attribute, the 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end a Reconfigure message to a B4 to inform the B4 that the 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ew or updated configuration parameters.  Upon rece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AFTR tunnel name the B4 MUST terminate the current DS-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and the B4 MUST establish a new DS-LITE tunnel with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from the 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draft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-radext-ipv6-acce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Normative to Info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d the data type of the DS-Lite-Tunnel-Name as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1:34Z</dcterms:created>
  <dc:creator>Roberta Maglione</dc:creator>
  <dc:description/>
  <dc:language>en-US</dc:language>
  <cp:lastModifiedBy>Roberta Maglione</cp:lastModifiedBy>
  <dcterms:modified xsi:type="dcterms:W3CDTF">2011-07-27T11:20:50Z</dcterms:modified>
  <cp:revision>64</cp:revision>
  <dc:subject/>
  <dc:title>Slide 1</dc:title>
</cp:coreProperties>
</file>