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6480" y="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842364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97E4-341C-4DC3-8158-8B8EE79C1987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ations for Stateless IPv4 over IPv6 Migration Solution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operators-softwire-stateless-4v6-motivation-0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1-Quebec,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. Boucadair (Ed.), S. Matsushima, Y. Lee, O. Bonness, I. Borges and G.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#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 requested an I-D elaborating on the motivations for the need to specify stateless IPv4/IPv6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 promised to update the charter by including a milestone for the motivation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IETF#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oup of operators worked together and edited -00 and -01 version of draft-operators-softwire-stateless-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nce Telecom, Softbank Telecom, Comcast, Deutsche Telekom and Portugal Tele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b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oined the operators group leading to the release of -02 of draft-operators-softwire-stateless-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ocument has been largely reviewed: X. Deng, W. Dec, D. Wing, A. Baudot, E. Burgey, L. Cittadini, R. Despres, J. Zorz, M. Townsley, L. Meillarec, R. Maglione, J. Queiroz, C. Xie, X. Li, O. Troan, J. Qin and B. Sarika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rter of Sofwire WG has been updated with a dedicated milestone for the motivation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of draft-operators-softwire-stateless-* ask the WG to adopt this document as WG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#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イマコ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e are now 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s much as possible biase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s are sketched from an operator standpoint, with a focus on the following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Architecture &amp;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Operations &amp;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&amp; Service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EX Optimization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&amp;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ceived comments have been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this document as a WG I-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sushima Satoru</cp:lastModifiedBy>
  <dcterms:modified xsi:type="dcterms:W3CDTF">2011-07-24T16:28:19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349806474</vt:r8>
  </property>
  <property fmtid="{D5CDD505-2E9C-101B-9397-08002B2CF9AE}" pid="4" name="_AuthorEmail">
    <vt:lpwstr>mohamed.boucadair@orange-ftgroup.com</vt:lpwstr>
  </property>
  <property fmtid="{D5CDD505-2E9C-101B-9397-08002B2CF9AE}" pid="5" name="_AuthorEmailDisplayName">
    <vt:lpwstr>BOUCADAIR Mohamed OLNC/NAD/TIP</vt:lpwstr>
  </property>
  <property fmtid="{D5CDD505-2E9C-101B-9397-08002B2CF9AE}" pid="6" name="_EmailSubject">
    <vt:lpwstr>Slides for IETF81</vt:lpwstr>
  </property>
  <property fmtid="{D5CDD505-2E9C-101B-9397-08002B2CF9AE}" pid="7" name="_NewReviewCycle">
    <vt:lpwstr/>
  </property>
</Properties>
</file>