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2784-6DFF-434C-ABB2-61BB5E7A7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1189-E2AB-40A1-A0CB-CAD067347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15B5-FF67-422D-8337-19A3E0998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6CF-E990-417A-A25D-2AFDF9A6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F0D-E1AE-4989-B770-A979884E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540-ADC4-4235-88BE-6B03D522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574-F161-4A8A-9BA8-034E95E1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C9D-573F-4FC8-8072-01CD88A7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9B2-8A99-4E9D-A227-2A6A2F6D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EA2-D12A-401C-9012-9CDB0C23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AFA-F5AC-456E-92B6-4A832039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02F-B527-4D49-82C2-0E2EE3A8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889-D070-4E2D-BDEE-247B47FF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4DA-BFAA-4788-9FD7-EA0C5DB0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3BF-B2EF-404B-8190-93F0C32E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2473-1622-44C2-A22D-2C5C89D87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via6 Stateless Translation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-murakami-softwire-4v6-translation-00.tx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1-Quebec,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Murakami(Ed.), G. Chen, H. Deng, W. Dec and S. Matsush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52360"/>
            <a:ext cx="82296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operators worked together on draft-operators-softwire-stateless-4v6-motivation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 Telecom, Softbank Telecom, Comcast, Deutsche Telekom, Portugal Telecom and China Mo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via6 stateless manner could work on both translation and tunnelin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 solution, draft-murakami-softwire-4v6-translation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solution, draft-murakami-softwire-4rd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clearly explain why 4via6 stateless translation solution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dec-stateless-4v6-02 has been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via6 Stateless Trans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ses IPv6/IPv4 protocol translation in order to transport IPv4 packets across IPv6-only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suitable to be deployed in mobile environments in which CPEs with wireless modem use 3GPP access as up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天线"/>
          <p:cNvPicPr/>
          <p:nvPr/>
        </p:nvPicPr>
        <p:blipFill>
          <a:blip r:embed="rId1"/>
          <a:stretch/>
        </p:blipFill>
        <p:spPr>
          <a:xfrm>
            <a:off x="3532320" y="4518000"/>
            <a:ext cx="51912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Line 5"/>
          <p:cNvSpPr/>
          <p:nvPr/>
        </p:nvSpPr>
        <p:spPr>
          <a:xfrm>
            <a:off x="3967200" y="5119560"/>
            <a:ext cx="305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"/>
          <p:cNvSpPr/>
          <p:nvPr/>
        </p:nvSpPr>
        <p:spPr>
          <a:xfrm>
            <a:off x="4255920" y="4241880"/>
            <a:ext cx="2229120" cy="1492200"/>
          </a:xfrm>
          <a:custGeom>
            <a:avLst/>
            <a:gdLst>
              <a:gd name="textAreaLeft" fmla="*/ 307080 w 2229120"/>
              <a:gd name="textAreaRight" fmla="*/ 1763640 w 2229120"/>
              <a:gd name="textAreaTop" fmla="*/ 225360 h 1492200"/>
              <a:gd name="textAreaBottom" fmla="*/ 1197720 h 14922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-1" y="8613"/>
                  <a:pt x="-1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4" y="13940"/>
                  <a:pt x="474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-1"/>
                  <a:pt x="16758" y="-1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-1"/>
                  <a:pt x="13174" y="-1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49"/>
                  <a:pt x="9358" y="649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1"/>
                  <a:pt x="5288" y="1971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"/>
          <p:cNvSpPr/>
          <p:nvPr/>
        </p:nvSpPr>
        <p:spPr>
          <a:xfrm>
            <a:off x="6742080" y="4546440"/>
            <a:ext cx="1398600" cy="936720"/>
          </a:xfrm>
          <a:custGeom>
            <a:avLst/>
            <a:gdLst>
              <a:gd name="textAreaLeft" fmla="*/ 192600 w 1398600"/>
              <a:gd name="textAreaRight" fmla="*/ 1106640 w 1398600"/>
              <a:gd name="textAreaTop" fmla="*/ 141480 h 936720"/>
              <a:gd name="textAreaBottom" fmla="*/ 752040 h 936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-1" y="8613"/>
                  <a:pt x="-1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4" y="13940"/>
                  <a:pt x="474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-1"/>
                  <a:pt x="16758" y="-1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-1"/>
                  <a:pt x="13174" y="-1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49"/>
                  <a:pt x="9358" y="649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1"/>
                  <a:pt x="5288" y="1971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4684680" y="468000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cor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6961320" y="483228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4"/>
          <p:cNvGrpSpPr/>
          <p:nvPr/>
        </p:nvGrpSpPr>
        <p:grpSpPr>
          <a:xfrm>
            <a:off x="1273320" y="5510160"/>
            <a:ext cx="222120" cy="436320"/>
            <a:chOff x="1273320" y="5510160"/>
            <a:chExt cx="222120" cy="436320"/>
          </a:xfrm>
        </p:grpSpPr>
        <p:sp>
          <p:nvSpPr>
            <p:cNvPr id="61" name="Rectangle 25"/>
            <p:cNvSpPr/>
            <p:nvPr/>
          </p:nvSpPr>
          <p:spPr>
            <a:xfrm>
              <a:off x="1273320" y="5641920"/>
              <a:ext cx="2221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>
              <a:off x="1338120" y="5510160"/>
              <a:ext cx="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7"/>
          <p:cNvGrpSpPr/>
          <p:nvPr/>
        </p:nvGrpSpPr>
        <p:grpSpPr>
          <a:xfrm>
            <a:off x="1805040" y="5816520"/>
            <a:ext cx="222120" cy="436320"/>
            <a:chOff x="1805040" y="5816520"/>
            <a:chExt cx="222120" cy="436320"/>
          </a:xfrm>
        </p:grpSpPr>
        <p:sp>
          <p:nvSpPr>
            <p:cNvPr id="64" name="Rectangle 28"/>
            <p:cNvSpPr/>
            <p:nvPr/>
          </p:nvSpPr>
          <p:spPr>
            <a:xfrm>
              <a:off x="1805040" y="5948280"/>
              <a:ext cx="2221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9"/>
            <p:cNvSpPr/>
            <p:nvPr/>
          </p:nvSpPr>
          <p:spPr>
            <a:xfrm>
              <a:off x="1869840" y="5816520"/>
              <a:ext cx="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30"/>
          <p:cNvGrpSpPr/>
          <p:nvPr/>
        </p:nvGrpSpPr>
        <p:grpSpPr>
          <a:xfrm>
            <a:off x="1565280" y="4844880"/>
            <a:ext cx="222120" cy="436320"/>
            <a:chOff x="1565280" y="4844880"/>
            <a:chExt cx="222120" cy="436320"/>
          </a:xfrm>
        </p:grpSpPr>
        <p:sp>
          <p:nvSpPr>
            <p:cNvPr id="67" name="Rectangle 31"/>
            <p:cNvSpPr/>
            <p:nvPr/>
          </p:nvSpPr>
          <p:spPr>
            <a:xfrm>
              <a:off x="1565280" y="4976640"/>
              <a:ext cx="2221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2"/>
            <p:cNvSpPr/>
            <p:nvPr/>
          </p:nvSpPr>
          <p:spPr>
            <a:xfrm>
              <a:off x="1630080" y="4844880"/>
              <a:ext cx="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3"/>
          <p:cNvGrpSpPr/>
          <p:nvPr/>
        </p:nvGrpSpPr>
        <p:grpSpPr>
          <a:xfrm>
            <a:off x="2222640" y="5143320"/>
            <a:ext cx="625320" cy="331920"/>
            <a:chOff x="2222640" y="5143320"/>
            <a:chExt cx="625320" cy="331920"/>
          </a:xfrm>
        </p:grpSpPr>
        <p:sp>
          <p:nvSpPr>
            <p:cNvPr id="70" name="AutoShape 34"/>
            <p:cNvSpPr/>
            <p:nvPr/>
          </p:nvSpPr>
          <p:spPr>
            <a:xfrm>
              <a:off x="2222640" y="5208480"/>
              <a:ext cx="625320" cy="266760"/>
            </a:xfrm>
            <a:prstGeom prst="cube">
              <a:avLst>
                <a:gd name="adj" fmla="val 55555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35"/>
            <p:cNvSpPr/>
            <p:nvPr/>
          </p:nvSpPr>
          <p:spPr>
            <a:xfrm>
              <a:off x="2291760" y="5386320"/>
              <a:ext cx="277920" cy="72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6"/>
            <p:cNvSpPr/>
            <p:nvPr/>
          </p:nvSpPr>
          <p:spPr>
            <a:xfrm>
              <a:off x="2474280" y="5392080"/>
              <a:ext cx="69480" cy="59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7"/>
            <p:cNvSpPr/>
            <p:nvPr/>
          </p:nvSpPr>
          <p:spPr>
            <a:xfrm>
              <a:off x="2304720" y="5415840"/>
              <a:ext cx="34560" cy="29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38"/>
            <p:cNvSpPr/>
            <p:nvPr/>
          </p:nvSpPr>
          <p:spPr>
            <a:xfrm>
              <a:off x="2291760" y="5267520"/>
              <a:ext cx="451800" cy="59400"/>
            </a:xfrm>
            <a:prstGeom prst="parallelogram">
              <a:avLst>
                <a:gd name="adj" fmla="val 120676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39"/>
            <p:cNvSpPr/>
            <p:nvPr/>
          </p:nvSpPr>
          <p:spPr>
            <a:xfrm flipV="1">
              <a:off x="2604600" y="5148360"/>
              <a:ext cx="34560" cy="296280"/>
            </a:xfrm>
            <a:custGeom>
              <a:avLst/>
              <a:gdLst>
                <a:gd name="textAreaLeft" fmla="*/ 6480 w 34560"/>
                <a:gd name="textAreaRight" fmla="*/ 28800 w 34560"/>
                <a:gd name="textAreaTop" fmla="*/ 52200 h 296280"/>
                <a:gd name="textAreaBottom" fmla="*/ 244080 h 29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049" y="21600"/>
                  </a:lnTo>
                  <a:lnTo>
                    <a:pt x="1755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0"/>
            <p:cNvSpPr/>
            <p:nvPr/>
          </p:nvSpPr>
          <p:spPr>
            <a:xfrm flipV="1">
              <a:off x="2683800" y="5278320"/>
              <a:ext cx="16344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1"/>
            <p:cNvSpPr/>
            <p:nvPr/>
          </p:nvSpPr>
          <p:spPr>
            <a:xfrm flipH="1">
              <a:off x="2569320" y="5415840"/>
              <a:ext cx="10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42"/>
            <p:cNvSpPr/>
            <p:nvPr/>
          </p:nvSpPr>
          <p:spPr>
            <a:xfrm>
              <a:off x="2222640" y="5430960"/>
              <a:ext cx="6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43"/>
            <p:cNvSpPr/>
            <p:nvPr/>
          </p:nvSpPr>
          <p:spPr>
            <a:xfrm flipV="1">
              <a:off x="2242080" y="5142960"/>
              <a:ext cx="34560" cy="296280"/>
            </a:xfrm>
            <a:custGeom>
              <a:avLst/>
              <a:gdLst>
                <a:gd name="textAreaLeft" fmla="*/ 6480 w 34560"/>
                <a:gd name="textAreaRight" fmla="*/ 28800 w 34560"/>
                <a:gd name="textAreaTop" fmla="*/ 52200 h 296280"/>
                <a:gd name="textAreaBottom" fmla="*/ 244080 h 29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049" y="21600"/>
                  </a:lnTo>
                  <a:lnTo>
                    <a:pt x="1755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Freeform 45"/>
          <p:cNvSpPr/>
          <p:nvPr/>
        </p:nvSpPr>
        <p:spPr>
          <a:xfrm>
            <a:off x="2025720" y="5654520"/>
            <a:ext cx="253800" cy="169920"/>
          </a:xfrm>
          <a:custGeom>
            <a:avLst/>
            <a:gdLst/>
            <a:ahLst/>
            <a:rect l="l" t="t" r="r" b="b"/>
            <a:pathLst>
              <a:path w="160" h="107">
                <a:moveTo>
                  <a:pt x="0" y="89"/>
                </a:moveTo>
                <a:lnTo>
                  <a:pt x="80" y="0"/>
                </a:lnTo>
                <a:lnTo>
                  <a:pt x="71" y="107"/>
                </a:lnTo>
                <a:lnTo>
                  <a:pt x="160" y="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6"/>
          <p:cNvSpPr/>
          <p:nvPr/>
        </p:nvSpPr>
        <p:spPr>
          <a:xfrm>
            <a:off x="3021120" y="5018040"/>
            <a:ext cx="436320" cy="128520"/>
          </a:xfrm>
          <a:custGeom>
            <a:avLst/>
            <a:gdLst/>
            <a:ahLst/>
            <a:rect l="l" t="t" r="r" b="b"/>
            <a:pathLst>
              <a:path w="160" h="107">
                <a:moveTo>
                  <a:pt x="0" y="89"/>
                </a:moveTo>
                <a:lnTo>
                  <a:pt x="80" y="0"/>
                </a:lnTo>
                <a:lnTo>
                  <a:pt x="71" y="107"/>
                </a:lnTo>
                <a:lnTo>
                  <a:pt x="160" y="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8"/>
          <p:cNvSpPr/>
          <p:nvPr/>
        </p:nvSpPr>
        <p:spPr>
          <a:xfrm>
            <a:off x="1843200" y="4979880"/>
            <a:ext cx="252360" cy="182520"/>
          </a:xfrm>
          <a:custGeom>
            <a:avLst/>
            <a:gdLst/>
            <a:ahLst/>
            <a:rect l="l" t="t" r="r" b="b"/>
            <a:pathLst>
              <a:path w="159" h="115">
                <a:moveTo>
                  <a:pt x="18" y="0"/>
                </a:moveTo>
                <a:lnTo>
                  <a:pt x="159" y="53"/>
                </a:lnTo>
                <a:lnTo>
                  <a:pt x="0" y="53"/>
                </a:lnTo>
                <a:lnTo>
                  <a:pt x="142" y="11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9"/>
          <p:cNvSpPr/>
          <p:nvPr/>
        </p:nvSpPr>
        <p:spPr>
          <a:xfrm>
            <a:off x="6093000" y="4937040"/>
            <a:ext cx="280800" cy="37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0"/>
          <p:cNvSpPr/>
          <p:nvPr/>
        </p:nvSpPr>
        <p:spPr>
          <a:xfrm>
            <a:off x="2445120" y="5454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1"/>
          <p:cNvSpPr/>
          <p:nvPr/>
        </p:nvSpPr>
        <p:spPr>
          <a:xfrm>
            <a:off x="965520" y="6083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2"/>
          <p:cNvSpPr/>
          <p:nvPr/>
        </p:nvSpPr>
        <p:spPr>
          <a:xfrm>
            <a:off x="6124680" y="5307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700200" y="3689280"/>
            <a:ext cx="4647960" cy="2997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haviors of 4via6 Stateless Trans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546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via6 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an IPv4 address or an shared IPv4 address and port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 an IPv4 packet from/to an IPv6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633920" y="1341360"/>
            <a:ext cx="44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via6 CE—&gt;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urce address: 4rd mapping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tination address: RFC60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via6 CE —&gt; 4via6 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urce and destination address: 4rd mapping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633920" y="3573360"/>
            <a:ext cx="44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behavior is conforming to best current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nslate the port number into the port-set generated in a given 4via6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324000" y="2824200"/>
            <a:ext cx="45352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via6 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ateless translation at edge of 4via6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via6 translation is suitable to the mobile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lation solution in a mobile provider context requires less system changes (No impacts on core network el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via6 translated traffic can be handled using existing native IPv6 functionality defined by the core 3GPP specifications. It keeps the operator's service model inta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orm of deployment has no noticeable impact on th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スライド番号プレースホルダ 1"/>
          <p:cNvSpPr/>
          <p:nvPr/>
        </p:nvSpPr>
        <p:spPr>
          <a:xfrm>
            <a:off x="43434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839C-EB34-4784-B9D9-626CA87CEF44}" type="slidenum">
              <a:rPr b="1" lang="en-US" sz="11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57120" y="914400"/>
          <a:ext cx="8229600" cy="6492960"/>
        </p:xfrm>
        <a:graphic>
          <a:graphicData uri="http://schemas.openxmlformats.org/drawingml/2006/table">
            <a:tbl>
              <a:tblPr/>
              <a:tblGrid>
                <a:gridCol w="3376800"/>
                <a:gridCol w="1218960"/>
                <a:gridCol w="3633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l (POP, IMAP, SMT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MP Echo Request/Re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u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GoogleMa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You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Other si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P can be passed if using AL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Sec/U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P encapsulation is requir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N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to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h/telnet/f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97" name="Rectangle 2"/>
          <p:cNvSpPr/>
          <p:nvPr/>
        </p:nvSpPr>
        <p:spPr>
          <a:xfrm>
            <a:off x="179280" y="189000"/>
            <a:ext cx="865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rmed Application based on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727200" y="1933560"/>
            <a:ext cx="804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pt 4via6 stateless translation as working group dra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224160" y="4478400"/>
            <a:ext cx="27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hank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ng Cui</cp:lastModifiedBy>
  <dcterms:modified xsi:type="dcterms:W3CDTF">2011-07-26T19:03:21Z</dcterms:modified>
  <cp:revision>75</cp:revision>
  <dc:subject/>
  <dc:title>4via6 stateless solutions</dc:title>
</cp:coreProperties>
</file>