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91E9A-88F9-4542-BB69-0CD162082E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15671-C066-4390-A0DA-D3ED37969E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14D78-FA03-4608-B9A0-E05419F9AE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20E2-CF57-4B6B-A69F-AE4E4DC4C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51B5-530B-4B07-8E67-C97054E6E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5DAD-F47C-4E2B-A8B7-75B7B2EBC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8A01-2907-4A19-89F9-2DFE99F58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1006-3DE9-4FB7-A389-77E7FD3D8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3B36-02E2-4B04-9AAB-937901945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2773-A2E8-47EC-B23E-A821D6996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4B2D-05AF-4B93-98C4-3A707403D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F9FC-A7CF-43C7-8472-705FA1D76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3F29-E1A1-490A-B2D6-52CECAEFE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A3FD-2199-4532-8430-290DAA023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48FD-A16C-4C19-9C3A-9BEBE0235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009CC-6BA6-44C9-879A-640173A5D5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via6 Stateless Translation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aft-murakami-softwire-4v6-translation-00.tx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ETF 81-Quebec, July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. Murakami(Ed.), G. Chen, H. Deng, W. Dec and S. Matsush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1152360"/>
            <a:ext cx="822960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group of operators worked together on draft-operators-softwire-stateless-4v6-motivation-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nce Telecom, Softbank Telecom, Comcast, Deutsche Telekom, Portugal Telecom and China Mob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via6 stateless manner could work on both translation and tunneling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lation solution, draft-murakami-softwire-4v6-translation-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nneling solution, draft-murakami-softwire-4rd-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rder to clearly explain why 4via6 stateless translation solution is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dec-stateless-4v6-02 has been propo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via6 Stateless Trans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uses IPv6/IPv4 protocol translation in order to transport IPv4 packets across IPv6-only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suitable to be deployed in mobile environments in which CPEs with wireless modem use 3GPP access as upl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天线"/>
          <p:cNvPicPr/>
          <p:nvPr/>
        </p:nvPicPr>
        <p:blipFill>
          <a:blip r:embed="rId1"/>
          <a:stretch/>
        </p:blipFill>
        <p:spPr>
          <a:xfrm>
            <a:off x="3532320" y="4518000"/>
            <a:ext cx="519120" cy="838080"/>
          </a:xfrm>
          <a:prstGeom prst="rect">
            <a:avLst/>
          </a:prstGeom>
          <a:ln w="0">
            <a:noFill/>
          </a:ln>
        </p:spPr>
      </p:pic>
      <p:sp>
        <p:nvSpPr>
          <p:cNvPr id="55" name="Line 5"/>
          <p:cNvSpPr/>
          <p:nvPr/>
        </p:nvSpPr>
        <p:spPr>
          <a:xfrm>
            <a:off x="3967200" y="5119560"/>
            <a:ext cx="305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Cloud"/>
          <p:cNvSpPr/>
          <p:nvPr/>
        </p:nvSpPr>
        <p:spPr>
          <a:xfrm>
            <a:off x="4255920" y="4241880"/>
            <a:ext cx="2229120" cy="1492200"/>
          </a:xfrm>
          <a:custGeom>
            <a:avLst/>
            <a:gdLst>
              <a:gd name="textAreaLeft" fmla="*/ 307080 w 2229120"/>
              <a:gd name="textAreaRight" fmla="*/ 1763640 w 2229120"/>
              <a:gd name="textAreaTop" fmla="*/ 225360 h 1492200"/>
              <a:gd name="textAreaBottom" fmla="*/ 1197720 h 149220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-1" y="8613"/>
                  <a:pt x="-1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4" y="13940"/>
                  <a:pt x="474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299"/>
                  <a:pt x="6247" y="20299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6"/>
                  <a:pt x="11036" y="21596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6"/>
                  <a:pt x="15802" y="18946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-1"/>
                  <a:pt x="16758" y="-1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-1"/>
                  <a:pt x="13174" y="-1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49"/>
                  <a:pt x="9358" y="649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1"/>
                  <a:pt x="5288" y="1971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09"/>
                  <a:pt x="2172" y="13109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Cloud"/>
          <p:cNvSpPr/>
          <p:nvPr/>
        </p:nvSpPr>
        <p:spPr>
          <a:xfrm>
            <a:off x="6742080" y="4546440"/>
            <a:ext cx="1398600" cy="936720"/>
          </a:xfrm>
          <a:custGeom>
            <a:avLst/>
            <a:gdLst>
              <a:gd name="textAreaLeft" fmla="*/ 192600 w 1398600"/>
              <a:gd name="textAreaRight" fmla="*/ 1106640 w 1398600"/>
              <a:gd name="textAreaTop" fmla="*/ 141480 h 936720"/>
              <a:gd name="textAreaBottom" fmla="*/ 752040 h 936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-1" y="8613"/>
                  <a:pt x="-1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4" y="13940"/>
                  <a:pt x="474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299"/>
                  <a:pt x="6247" y="20299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6"/>
                  <a:pt x="11036" y="21596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6"/>
                  <a:pt x="15802" y="18946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-1"/>
                  <a:pt x="16758" y="-1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-1"/>
                  <a:pt x="13174" y="-1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49"/>
                  <a:pt x="9358" y="649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1"/>
                  <a:pt x="5288" y="1971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09"/>
                  <a:pt x="2172" y="13109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2"/>
          <p:cNvSpPr/>
          <p:nvPr/>
        </p:nvSpPr>
        <p:spPr>
          <a:xfrm>
            <a:off x="4684680" y="4680000"/>
            <a:ext cx="158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GPP core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3"/>
          <p:cNvSpPr/>
          <p:nvPr/>
        </p:nvSpPr>
        <p:spPr>
          <a:xfrm>
            <a:off x="6961320" y="4832280"/>
            <a:ext cx="102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24"/>
          <p:cNvGrpSpPr/>
          <p:nvPr/>
        </p:nvGrpSpPr>
        <p:grpSpPr>
          <a:xfrm>
            <a:off x="1273320" y="5510160"/>
            <a:ext cx="222120" cy="436320"/>
            <a:chOff x="1273320" y="5510160"/>
            <a:chExt cx="222120" cy="436320"/>
          </a:xfrm>
        </p:grpSpPr>
        <p:sp>
          <p:nvSpPr>
            <p:cNvPr id="61" name="Rectangle 25"/>
            <p:cNvSpPr/>
            <p:nvPr/>
          </p:nvSpPr>
          <p:spPr>
            <a:xfrm>
              <a:off x="1273320" y="5641920"/>
              <a:ext cx="22212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26"/>
            <p:cNvSpPr/>
            <p:nvPr/>
          </p:nvSpPr>
          <p:spPr>
            <a:xfrm>
              <a:off x="1338120" y="5510160"/>
              <a:ext cx="0" cy="25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27"/>
          <p:cNvGrpSpPr/>
          <p:nvPr/>
        </p:nvGrpSpPr>
        <p:grpSpPr>
          <a:xfrm>
            <a:off x="1805040" y="5816520"/>
            <a:ext cx="222120" cy="436320"/>
            <a:chOff x="1805040" y="5816520"/>
            <a:chExt cx="222120" cy="436320"/>
          </a:xfrm>
        </p:grpSpPr>
        <p:sp>
          <p:nvSpPr>
            <p:cNvPr id="64" name="Rectangle 28"/>
            <p:cNvSpPr/>
            <p:nvPr/>
          </p:nvSpPr>
          <p:spPr>
            <a:xfrm>
              <a:off x="1805040" y="5948280"/>
              <a:ext cx="22212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29"/>
            <p:cNvSpPr/>
            <p:nvPr/>
          </p:nvSpPr>
          <p:spPr>
            <a:xfrm>
              <a:off x="1869840" y="5816520"/>
              <a:ext cx="0" cy="25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Group 30"/>
          <p:cNvGrpSpPr/>
          <p:nvPr/>
        </p:nvGrpSpPr>
        <p:grpSpPr>
          <a:xfrm>
            <a:off x="1565280" y="4844880"/>
            <a:ext cx="222120" cy="436320"/>
            <a:chOff x="1565280" y="4844880"/>
            <a:chExt cx="222120" cy="436320"/>
          </a:xfrm>
        </p:grpSpPr>
        <p:sp>
          <p:nvSpPr>
            <p:cNvPr id="67" name="Rectangle 31"/>
            <p:cNvSpPr/>
            <p:nvPr/>
          </p:nvSpPr>
          <p:spPr>
            <a:xfrm>
              <a:off x="1565280" y="4976640"/>
              <a:ext cx="22212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32"/>
            <p:cNvSpPr/>
            <p:nvPr/>
          </p:nvSpPr>
          <p:spPr>
            <a:xfrm>
              <a:off x="1630080" y="4844880"/>
              <a:ext cx="0" cy="25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33"/>
          <p:cNvGrpSpPr/>
          <p:nvPr/>
        </p:nvGrpSpPr>
        <p:grpSpPr>
          <a:xfrm>
            <a:off x="2222640" y="5143320"/>
            <a:ext cx="625320" cy="331920"/>
            <a:chOff x="2222640" y="5143320"/>
            <a:chExt cx="625320" cy="331920"/>
          </a:xfrm>
        </p:grpSpPr>
        <p:sp>
          <p:nvSpPr>
            <p:cNvPr id="70" name="AutoShape 34"/>
            <p:cNvSpPr/>
            <p:nvPr/>
          </p:nvSpPr>
          <p:spPr>
            <a:xfrm>
              <a:off x="2222640" y="5208480"/>
              <a:ext cx="625320" cy="266760"/>
            </a:xfrm>
            <a:prstGeom prst="cube">
              <a:avLst>
                <a:gd name="adj" fmla="val 55555"/>
              </a:avLst>
            </a:prstGeom>
            <a:gradFill rotWithShape="0">
              <a:gsLst>
                <a:gs pos="0">
                  <a:srgbClr val="ffff66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AutoShape 35"/>
            <p:cNvSpPr/>
            <p:nvPr/>
          </p:nvSpPr>
          <p:spPr>
            <a:xfrm>
              <a:off x="2291760" y="5386320"/>
              <a:ext cx="277920" cy="72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36"/>
            <p:cNvSpPr/>
            <p:nvPr/>
          </p:nvSpPr>
          <p:spPr>
            <a:xfrm>
              <a:off x="2474280" y="5392080"/>
              <a:ext cx="69480" cy="59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37"/>
            <p:cNvSpPr/>
            <p:nvPr/>
          </p:nvSpPr>
          <p:spPr>
            <a:xfrm>
              <a:off x="2304720" y="5415840"/>
              <a:ext cx="34560" cy="29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AutoShape 38"/>
            <p:cNvSpPr/>
            <p:nvPr/>
          </p:nvSpPr>
          <p:spPr>
            <a:xfrm>
              <a:off x="2291760" y="5267520"/>
              <a:ext cx="451800" cy="59400"/>
            </a:xfrm>
            <a:prstGeom prst="parallelogram">
              <a:avLst>
                <a:gd name="adj" fmla="val 120676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AutoShape 39"/>
            <p:cNvSpPr/>
            <p:nvPr/>
          </p:nvSpPr>
          <p:spPr>
            <a:xfrm flipV="1">
              <a:off x="2604600" y="5148360"/>
              <a:ext cx="34560" cy="296280"/>
            </a:xfrm>
            <a:custGeom>
              <a:avLst/>
              <a:gdLst>
                <a:gd name="textAreaLeft" fmla="*/ 6480 w 34560"/>
                <a:gd name="textAreaRight" fmla="*/ 28800 w 34560"/>
                <a:gd name="textAreaTop" fmla="*/ 52200 h 296280"/>
                <a:gd name="textAreaBottom" fmla="*/ 244080 h 29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4049" y="21600"/>
                  </a:lnTo>
                  <a:lnTo>
                    <a:pt x="17551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40"/>
            <p:cNvSpPr/>
            <p:nvPr/>
          </p:nvSpPr>
          <p:spPr>
            <a:xfrm flipV="1">
              <a:off x="2683800" y="5278320"/>
              <a:ext cx="163440" cy="13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41"/>
            <p:cNvSpPr/>
            <p:nvPr/>
          </p:nvSpPr>
          <p:spPr>
            <a:xfrm flipH="1">
              <a:off x="2569320" y="5415840"/>
              <a:ext cx="10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42"/>
            <p:cNvSpPr/>
            <p:nvPr/>
          </p:nvSpPr>
          <p:spPr>
            <a:xfrm>
              <a:off x="2222640" y="5430960"/>
              <a:ext cx="6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AutoShape 43"/>
            <p:cNvSpPr/>
            <p:nvPr/>
          </p:nvSpPr>
          <p:spPr>
            <a:xfrm flipV="1">
              <a:off x="2242080" y="5142960"/>
              <a:ext cx="34560" cy="296280"/>
            </a:xfrm>
            <a:custGeom>
              <a:avLst/>
              <a:gdLst>
                <a:gd name="textAreaLeft" fmla="*/ 6480 w 34560"/>
                <a:gd name="textAreaRight" fmla="*/ 28800 w 34560"/>
                <a:gd name="textAreaTop" fmla="*/ 52200 h 296280"/>
                <a:gd name="textAreaBottom" fmla="*/ 244080 h 29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4049" y="21600"/>
                  </a:lnTo>
                  <a:lnTo>
                    <a:pt x="17551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Freeform 45"/>
          <p:cNvSpPr/>
          <p:nvPr/>
        </p:nvSpPr>
        <p:spPr>
          <a:xfrm>
            <a:off x="2025720" y="5654520"/>
            <a:ext cx="253800" cy="169920"/>
          </a:xfrm>
          <a:custGeom>
            <a:avLst/>
            <a:gdLst/>
            <a:ahLst/>
            <a:rect l="l" t="t" r="r" b="b"/>
            <a:pathLst>
              <a:path w="160" h="107">
                <a:moveTo>
                  <a:pt x="0" y="89"/>
                </a:moveTo>
                <a:lnTo>
                  <a:pt x="80" y="0"/>
                </a:lnTo>
                <a:lnTo>
                  <a:pt x="71" y="107"/>
                </a:lnTo>
                <a:lnTo>
                  <a:pt x="160" y="1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46"/>
          <p:cNvSpPr/>
          <p:nvPr/>
        </p:nvSpPr>
        <p:spPr>
          <a:xfrm>
            <a:off x="3021120" y="5018040"/>
            <a:ext cx="436320" cy="128520"/>
          </a:xfrm>
          <a:custGeom>
            <a:avLst/>
            <a:gdLst/>
            <a:ahLst/>
            <a:rect l="l" t="t" r="r" b="b"/>
            <a:pathLst>
              <a:path w="160" h="107">
                <a:moveTo>
                  <a:pt x="0" y="89"/>
                </a:moveTo>
                <a:lnTo>
                  <a:pt x="80" y="0"/>
                </a:lnTo>
                <a:lnTo>
                  <a:pt x="71" y="107"/>
                </a:lnTo>
                <a:lnTo>
                  <a:pt x="160" y="1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48"/>
          <p:cNvSpPr/>
          <p:nvPr/>
        </p:nvSpPr>
        <p:spPr>
          <a:xfrm>
            <a:off x="1843200" y="4979880"/>
            <a:ext cx="252360" cy="182520"/>
          </a:xfrm>
          <a:custGeom>
            <a:avLst/>
            <a:gdLst/>
            <a:ahLst/>
            <a:rect l="l" t="t" r="r" b="b"/>
            <a:pathLst>
              <a:path w="159" h="115">
                <a:moveTo>
                  <a:pt x="18" y="0"/>
                </a:moveTo>
                <a:lnTo>
                  <a:pt x="159" y="53"/>
                </a:lnTo>
                <a:lnTo>
                  <a:pt x="0" y="53"/>
                </a:lnTo>
                <a:lnTo>
                  <a:pt x="142" y="11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9"/>
          <p:cNvSpPr/>
          <p:nvPr/>
        </p:nvSpPr>
        <p:spPr>
          <a:xfrm>
            <a:off x="6093000" y="4937040"/>
            <a:ext cx="280800" cy="376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0"/>
          <p:cNvSpPr/>
          <p:nvPr/>
        </p:nvSpPr>
        <p:spPr>
          <a:xfrm>
            <a:off x="2445120" y="54547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1"/>
          <p:cNvSpPr/>
          <p:nvPr/>
        </p:nvSpPr>
        <p:spPr>
          <a:xfrm>
            <a:off x="965520" y="608328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2"/>
          <p:cNvSpPr/>
          <p:nvPr/>
        </p:nvSpPr>
        <p:spPr>
          <a:xfrm>
            <a:off x="6124680" y="53071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" descr=""/>
          <p:cNvPicPr/>
          <p:nvPr/>
        </p:nvPicPr>
        <p:blipFill>
          <a:blip r:embed="rId1"/>
          <a:stretch/>
        </p:blipFill>
        <p:spPr>
          <a:xfrm>
            <a:off x="700200" y="3689280"/>
            <a:ext cx="4647960" cy="29973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haviors of 4via6 Stateless Trans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54680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via6 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e an IPv4 address or an shared IPv4 address and port-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e an IPv4 packet from/to an IPv6 p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4633920" y="1341360"/>
            <a:ext cx="4402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pping ru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via6 CE—&gt;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ource address: 4rd mapping r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tination address: RFC605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via6 CE —&gt; 4via6 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ource and destination address: 4rd mapping r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9"/>
          <p:cNvSpPr/>
          <p:nvPr/>
        </p:nvSpPr>
        <p:spPr>
          <a:xfrm>
            <a:off x="4633920" y="3573360"/>
            <a:ext cx="4402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 behavior is conforming to best current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ranslate the port number into the port-set generated in a given 4via6 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"/>
          <p:cNvSpPr/>
          <p:nvPr/>
        </p:nvSpPr>
        <p:spPr>
          <a:xfrm>
            <a:off x="324000" y="2824200"/>
            <a:ext cx="453528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via6 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tateless translation at edge of 4via6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via6 translation is suitable to the mobile net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ranslation solution in a mobile provider context requires less system changes (No impacts on core network eleme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via6 translated traffic can be handled using existing native IPv6 functionality defined by the core 3GPP specifications. It keeps the operator's service model intac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form of deployment has no noticeable impact on the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スライド番号プレースホルダ 1"/>
          <p:cNvSpPr/>
          <p:nvPr/>
        </p:nvSpPr>
        <p:spPr>
          <a:xfrm>
            <a:off x="43434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AA2E5-DE69-49E2-A309-39EFAAB529F9}" type="slidenum">
              <a:rPr b="1" lang="en-US" sz="1100" spc="-1" strike="noStrike">
                <a:solidFill>
                  <a:srgbClr val="ffffff"/>
                </a:solidFill>
                <a:latin typeface="Arial"/>
                <a:ea typeface="MS PGothic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57120" y="914400"/>
          <a:ext cx="8229600" cy="6492960"/>
        </p:xfrm>
        <a:graphic>
          <a:graphicData uri="http://schemas.openxmlformats.org/drawingml/2006/table">
            <a:tbl>
              <a:tblPr/>
              <a:tblGrid>
                <a:gridCol w="3376800"/>
                <a:gridCol w="1218960"/>
                <a:gridCol w="3633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pl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l (POP, IMAP, SMTP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MP Echo Request/Rep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W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u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 Access (GoogleMap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 Access (Youtub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 Access (Other sit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T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TP can be passed if using AL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PSec/UD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DP encapsulation is require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wit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erNo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opBo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gle Ear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torr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sh/telnet/ft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97" name="Rectangle 2"/>
          <p:cNvSpPr/>
          <p:nvPr/>
        </p:nvSpPr>
        <p:spPr>
          <a:xfrm>
            <a:off x="179280" y="189000"/>
            <a:ext cx="8650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firmed Application based on tes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727200" y="1933560"/>
            <a:ext cx="8040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pt 4via6 stateless translation as working group draf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3224160" y="4478400"/>
            <a:ext cx="279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hanks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a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ong Cui</cp:lastModifiedBy>
  <dcterms:modified xsi:type="dcterms:W3CDTF">2011-07-26T19:03:21Z</dcterms:modified>
  <cp:revision>75</cp:revision>
  <dc:subject/>
  <dc:title>4via6 stateless solutions</dc:title>
</cp:coreProperties>
</file>