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BB7-42AD-46FA-91CE-52909DB6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589-CFB1-407E-830B-CBF027ED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ACE-97CE-4927-BC8E-CB53D5E8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5C2-257D-4E5A-A88E-32A34910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8C4-FEE1-4917-95C3-CE3B666E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7CE-42EC-4E39-A053-3B19220B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A34-B116-472F-96E0-8DE876C0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940-4B85-4ACC-8465-A6DC212D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1DA-0C66-4712-93EB-BBF95323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9A6-D73D-469D-AC8E-A35A46B9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C6F-B522-49A3-81A1-09281127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DE8-9961-48DC-A001-30237F8E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4D60-E294-471D-8236-0BD91FF3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CGN NAT Bypa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. De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 Boucad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ance Tel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Zhou Huawei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Tsou Huawei Technologies (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Bajko Nok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re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7848720" cy="295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952880"/>
            <a:ext cx="52578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utbound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4 behavi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AT &amp; Encap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FTR behavi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-capsulation &amp;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bound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FTR behavi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ncapsulation &amp; port forwar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4 behavi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-capsulation &amp; N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provis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's the benefits of provisioning scattered 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incoming 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allocation is more likely to satisfy the random incoming port requests fro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ch as eMule, uTorrent,sharez, using UPnP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bulks of non-continuous ports among subscrib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akes port randomizatio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w to provision scattered po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ly tw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2867040"/>
            <a:ext cx="48006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4572000" cy="152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740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ephemeral port selection within the restricted por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or CPE N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3560760"/>
            <a:ext cx="7772400" cy="245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962520"/>
            <a:ext cx="73152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2787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ly one line code needs to be chang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n Implem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S-Lite encapsulation (demonstrat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3"/>
          <p:cNvSpPr/>
          <p:nvPr/>
        </p:nvSpPr>
        <p:spPr>
          <a:xfrm>
            <a:off x="3433680" y="1709640"/>
            <a:ext cx="3943440" cy="238464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2384640"/>
              <a:gd name="textAreaBottom" fmla="*/ 2385000 h 2384640"/>
            </a:gdLst>
            <a:ahLst/>
            <a:rect l="textAreaLeft" t="textAreaTop" r="textAreaRight" b="textAreaBottom"/>
            <a:pathLst>
              <a:path w="3311" h="1015">
                <a:moveTo>
                  <a:pt x="527" y="240"/>
                </a:moveTo>
                <a:lnTo>
                  <a:pt x="555" y="212"/>
                </a:lnTo>
                <a:lnTo>
                  <a:pt x="596" y="183"/>
                </a:lnTo>
                <a:lnTo>
                  <a:pt x="662" y="163"/>
                </a:lnTo>
                <a:lnTo>
                  <a:pt x="742" y="142"/>
                </a:lnTo>
                <a:lnTo>
                  <a:pt x="810" y="131"/>
                </a:lnTo>
                <a:lnTo>
                  <a:pt x="897" y="121"/>
                </a:lnTo>
                <a:lnTo>
                  <a:pt x="1025" y="117"/>
                </a:lnTo>
                <a:lnTo>
                  <a:pt x="1148" y="121"/>
                </a:lnTo>
                <a:lnTo>
                  <a:pt x="1265" y="131"/>
                </a:lnTo>
                <a:lnTo>
                  <a:pt x="1347" y="146"/>
                </a:lnTo>
                <a:lnTo>
                  <a:pt x="1395" y="102"/>
                </a:lnTo>
                <a:lnTo>
                  <a:pt x="1465" y="65"/>
                </a:lnTo>
                <a:lnTo>
                  <a:pt x="1552" y="39"/>
                </a:lnTo>
                <a:lnTo>
                  <a:pt x="1666" y="18"/>
                </a:lnTo>
                <a:lnTo>
                  <a:pt x="1806" y="4"/>
                </a:lnTo>
                <a:lnTo>
                  <a:pt x="1945" y="0"/>
                </a:lnTo>
                <a:lnTo>
                  <a:pt x="2068" y="11"/>
                </a:lnTo>
                <a:lnTo>
                  <a:pt x="2207" y="26"/>
                </a:lnTo>
                <a:lnTo>
                  <a:pt x="2312" y="58"/>
                </a:lnTo>
                <a:lnTo>
                  <a:pt x="2383" y="90"/>
                </a:lnTo>
                <a:lnTo>
                  <a:pt x="2433" y="119"/>
                </a:lnTo>
                <a:lnTo>
                  <a:pt x="2445" y="156"/>
                </a:lnTo>
                <a:lnTo>
                  <a:pt x="2540" y="146"/>
                </a:lnTo>
                <a:lnTo>
                  <a:pt x="2655" y="149"/>
                </a:lnTo>
                <a:lnTo>
                  <a:pt x="2753" y="163"/>
                </a:lnTo>
                <a:lnTo>
                  <a:pt x="2835" y="188"/>
                </a:lnTo>
                <a:lnTo>
                  <a:pt x="2894" y="225"/>
                </a:lnTo>
                <a:lnTo>
                  <a:pt x="2915" y="264"/>
                </a:lnTo>
                <a:lnTo>
                  <a:pt x="2913" y="290"/>
                </a:lnTo>
                <a:lnTo>
                  <a:pt x="2967" y="289"/>
                </a:lnTo>
                <a:lnTo>
                  <a:pt x="3036" y="293"/>
                </a:lnTo>
                <a:lnTo>
                  <a:pt x="3107" y="310"/>
                </a:lnTo>
                <a:lnTo>
                  <a:pt x="3159" y="324"/>
                </a:lnTo>
                <a:lnTo>
                  <a:pt x="3198" y="338"/>
                </a:lnTo>
                <a:lnTo>
                  <a:pt x="3230" y="355"/>
                </a:lnTo>
                <a:lnTo>
                  <a:pt x="3264" y="377"/>
                </a:lnTo>
                <a:lnTo>
                  <a:pt x="3282" y="405"/>
                </a:lnTo>
                <a:lnTo>
                  <a:pt x="3289" y="425"/>
                </a:lnTo>
                <a:lnTo>
                  <a:pt x="3278" y="447"/>
                </a:lnTo>
                <a:lnTo>
                  <a:pt x="3255" y="476"/>
                </a:lnTo>
                <a:lnTo>
                  <a:pt x="3282" y="500"/>
                </a:lnTo>
                <a:lnTo>
                  <a:pt x="3298" y="528"/>
                </a:lnTo>
                <a:lnTo>
                  <a:pt x="3305" y="556"/>
                </a:lnTo>
                <a:lnTo>
                  <a:pt x="3289" y="591"/>
                </a:lnTo>
                <a:lnTo>
                  <a:pt x="3273" y="612"/>
                </a:lnTo>
                <a:lnTo>
                  <a:pt x="3239" y="635"/>
                </a:lnTo>
                <a:lnTo>
                  <a:pt x="3289" y="668"/>
                </a:lnTo>
                <a:lnTo>
                  <a:pt x="3305" y="692"/>
                </a:lnTo>
                <a:lnTo>
                  <a:pt x="3310" y="723"/>
                </a:lnTo>
                <a:lnTo>
                  <a:pt x="3298" y="752"/>
                </a:lnTo>
                <a:lnTo>
                  <a:pt x="3266" y="790"/>
                </a:lnTo>
                <a:lnTo>
                  <a:pt x="3230" y="814"/>
                </a:lnTo>
                <a:lnTo>
                  <a:pt x="3170" y="835"/>
                </a:lnTo>
                <a:lnTo>
                  <a:pt x="3070" y="860"/>
                </a:lnTo>
                <a:lnTo>
                  <a:pt x="2967" y="867"/>
                </a:lnTo>
                <a:lnTo>
                  <a:pt x="2871" y="860"/>
                </a:lnTo>
                <a:lnTo>
                  <a:pt x="2810" y="851"/>
                </a:lnTo>
                <a:lnTo>
                  <a:pt x="2769" y="872"/>
                </a:lnTo>
                <a:lnTo>
                  <a:pt x="2721" y="892"/>
                </a:lnTo>
                <a:lnTo>
                  <a:pt x="2682" y="904"/>
                </a:lnTo>
                <a:lnTo>
                  <a:pt x="2609" y="920"/>
                </a:lnTo>
                <a:lnTo>
                  <a:pt x="2540" y="931"/>
                </a:lnTo>
                <a:lnTo>
                  <a:pt x="2445" y="942"/>
                </a:lnTo>
                <a:lnTo>
                  <a:pt x="2349" y="940"/>
                </a:lnTo>
                <a:lnTo>
                  <a:pt x="2253" y="930"/>
                </a:lnTo>
                <a:lnTo>
                  <a:pt x="2171" y="907"/>
                </a:lnTo>
                <a:lnTo>
                  <a:pt x="2123" y="942"/>
                </a:lnTo>
                <a:lnTo>
                  <a:pt x="2077" y="962"/>
                </a:lnTo>
                <a:lnTo>
                  <a:pt x="2018" y="977"/>
                </a:lnTo>
                <a:lnTo>
                  <a:pt x="1949" y="991"/>
                </a:lnTo>
                <a:lnTo>
                  <a:pt x="1872" y="998"/>
                </a:lnTo>
                <a:lnTo>
                  <a:pt x="1801" y="998"/>
                </a:lnTo>
                <a:lnTo>
                  <a:pt x="1728" y="991"/>
                </a:lnTo>
                <a:lnTo>
                  <a:pt x="1646" y="976"/>
                </a:lnTo>
                <a:lnTo>
                  <a:pt x="1598" y="958"/>
                </a:lnTo>
                <a:lnTo>
                  <a:pt x="1552" y="977"/>
                </a:lnTo>
                <a:lnTo>
                  <a:pt x="1502" y="991"/>
                </a:lnTo>
                <a:lnTo>
                  <a:pt x="1445" y="1002"/>
                </a:lnTo>
                <a:lnTo>
                  <a:pt x="1358" y="1014"/>
                </a:lnTo>
                <a:lnTo>
                  <a:pt x="1269" y="1009"/>
                </a:lnTo>
                <a:lnTo>
                  <a:pt x="1178" y="998"/>
                </a:lnTo>
                <a:lnTo>
                  <a:pt x="1109" y="983"/>
                </a:lnTo>
                <a:lnTo>
                  <a:pt x="1043" y="956"/>
                </a:lnTo>
                <a:lnTo>
                  <a:pt x="1004" y="930"/>
                </a:lnTo>
                <a:lnTo>
                  <a:pt x="936" y="938"/>
                </a:lnTo>
                <a:lnTo>
                  <a:pt x="858" y="945"/>
                </a:lnTo>
                <a:lnTo>
                  <a:pt x="762" y="942"/>
                </a:lnTo>
                <a:lnTo>
                  <a:pt x="680" y="930"/>
                </a:lnTo>
                <a:lnTo>
                  <a:pt x="619" y="913"/>
                </a:lnTo>
                <a:lnTo>
                  <a:pt x="568" y="892"/>
                </a:lnTo>
                <a:lnTo>
                  <a:pt x="523" y="867"/>
                </a:lnTo>
                <a:lnTo>
                  <a:pt x="514" y="835"/>
                </a:lnTo>
                <a:lnTo>
                  <a:pt x="468" y="843"/>
                </a:lnTo>
                <a:lnTo>
                  <a:pt x="393" y="843"/>
                </a:lnTo>
                <a:lnTo>
                  <a:pt x="308" y="835"/>
                </a:lnTo>
                <a:lnTo>
                  <a:pt x="224" y="817"/>
                </a:lnTo>
                <a:lnTo>
                  <a:pt x="164" y="794"/>
                </a:lnTo>
                <a:lnTo>
                  <a:pt x="116" y="758"/>
                </a:lnTo>
                <a:lnTo>
                  <a:pt x="87" y="723"/>
                </a:lnTo>
                <a:lnTo>
                  <a:pt x="75" y="674"/>
                </a:lnTo>
                <a:lnTo>
                  <a:pt x="78" y="644"/>
                </a:lnTo>
                <a:lnTo>
                  <a:pt x="105" y="595"/>
                </a:lnTo>
                <a:lnTo>
                  <a:pt x="46" y="567"/>
                </a:lnTo>
                <a:lnTo>
                  <a:pt x="16" y="534"/>
                </a:lnTo>
                <a:lnTo>
                  <a:pt x="0" y="493"/>
                </a:lnTo>
                <a:lnTo>
                  <a:pt x="0" y="453"/>
                </a:lnTo>
                <a:lnTo>
                  <a:pt x="21" y="414"/>
                </a:lnTo>
                <a:lnTo>
                  <a:pt x="57" y="380"/>
                </a:lnTo>
                <a:lnTo>
                  <a:pt x="126" y="344"/>
                </a:lnTo>
                <a:lnTo>
                  <a:pt x="192" y="319"/>
                </a:lnTo>
                <a:lnTo>
                  <a:pt x="276" y="293"/>
                </a:lnTo>
                <a:lnTo>
                  <a:pt x="379" y="279"/>
                </a:lnTo>
                <a:lnTo>
                  <a:pt x="475" y="272"/>
                </a:lnTo>
                <a:lnTo>
                  <a:pt x="523" y="265"/>
                </a:lnTo>
                <a:lnTo>
                  <a:pt x="527" y="240"/>
                </a:lnTo>
              </a:path>
            </a:pathLst>
          </a:custGeom>
          <a:solidFill>
            <a:srgbClr val="72bfc5"/>
          </a:solidFill>
          <a:ln cap="rnd" w="3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264240" rIns="264240" tIns="132120" bIns="13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287360" y="2619360"/>
            <a:ext cx="887400" cy="64764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2190600"/>
            <a:ext cx="884160" cy="65268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357120" y="3087720"/>
            <a:ext cx="984240" cy="65232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995400" y="2516040"/>
            <a:ext cx="5284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XP icon my computer"/>
          <p:cNvPicPr/>
          <p:nvPr/>
        </p:nvPicPr>
        <p:blipFill>
          <a:blip r:embed="rId1"/>
          <a:stretch/>
        </p:blipFill>
        <p:spPr>
          <a:xfrm>
            <a:off x="606600" y="3184560"/>
            <a:ext cx="506160" cy="477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1"/>
          <p:cNvSpPr/>
          <p:nvPr/>
        </p:nvSpPr>
        <p:spPr>
          <a:xfrm>
            <a:off x="3432240" y="2822400"/>
            <a:ext cx="2562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SP’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XP icon my computer"/>
          <p:cNvPicPr/>
          <p:nvPr/>
        </p:nvPicPr>
        <p:blipFill>
          <a:blip r:embed="rId2"/>
          <a:stretch/>
        </p:blipFill>
        <p:spPr>
          <a:xfrm>
            <a:off x="600120" y="2209680"/>
            <a:ext cx="506520" cy="482760"/>
          </a:xfrm>
          <a:prstGeom prst="rect">
            <a:avLst/>
          </a:prstGeom>
          <a:ln w="0">
            <a:noFill/>
          </a:ln>
        </p:spPr>
      </p:pic>
      <p:sp>
        <p:nvSpPr>
          <p:cNvPr id="74" name="Line 44"/>
          <p:cNvSpPr/>
          <p:nvPr/>
        </p:nvSpPr>
        <p:spPr>
          <a:xfrm flipV="1">
            <a:off x="1092240" y="2966760"/>
            <a:ext cx="4316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2"/>
          <p:cNvSpPr/>
          <p:nvPr/>
        </p:nvSpPr>
        <p:spPr>
          <a:xfrm>
            <a:off x="2244600" y="2711520"/>
            <a:ext cx="334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5396040" y="1676520"/>
            <a:ext cx="1703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CGN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1851120" y="3044880"/>
            <a:ext cx="0" cy="27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6093000" y="3267000"/>
            <a:ext cx="1440" cy="255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6"/>
          <p:cNvGrpSpPr/>
          <p:nvPr/>
        </p:nvGrpSpPr>
        <p:grpSpPr>
          <a:xfrm>
            <a:off x="7186680" y="2349360"/>
            <a:ext cx="1957320" cy="1298880"/>
            <a:chOff x="7186680" y="2349360"/>
            <a:chExt cx="1957320" cy="1298880"/>
          </a:xfrm>
        </p:grpSpPr>
        <p:pic>
          <p:nvPicPr>
            <p:cNvPr id="80" name="Picture 57" descr="Network Cloud 1.png"/>
            <p:cNvPicPr/>
            <p:nvPr/>
          </p:nvPicPr>
          <p:blipFill>
            <a:blip r:embed="rId3"/>
            <a:stretch/>
          </p:blipFill>
          <p:spPr>
            <a:xfrm>
              <a:off x="7186680" y="2349360"/>
              <a:ext cx="195732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58"/>
            <p:cNvSpPr/>
            <p:nvPr/>
          </p:nvSpPr>
          <p:spPr>
            <a:xfrm>
              <a:off x="7781760" y="2836800"/>
              <a:ext cx="1020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4600" rIns="264600" tIns="132120" bIns="132120" anchor="t">
              <a:spAutoFit/>
            </a:bodyPr>
            <a:p>
              <a:pPr>
                <a:tabLst>
                  <a:tab algn="l" pos="0"/>
                  <a:tab algn="l" pos="2644920"/>
                  <a:tab algn="l" pos="5289480"/>
                  <a:tab algn="l" pos="7934400"/>
                  <a:tab algn="l" pos="1057896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31"/>
          <p:cNvSpPr/>
          <p:nvPr/>
        </p:nvSpPr>
        <p:spPr>
          <a:xfrm>
            <a:off x="768240" y="2138400"/>
            <a:ext cx="2292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5151600" y="3367080"/>
            <a:ext cx="229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NE40E-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9"/>
          <p:cNvGraphicFramePr/>
          <p:nvPr/>
        </p:nvGraphicFramePr>
        <p:xfrm>
          <a:off x="1492200" y="2674800"/>
          <a:ext cx="682560" cy="4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2674800"/>
                    <a:ext cx="6825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44" descr=""/>
          <p:cNvPicPr/>
          <p:nvPr/>
        </p:nvPicPr>
        <p:blipFill>
          <a:blip r:embed="rId6"/>
          <a:stretch/>
        </p:blipFill>
        <p:spPr>
          <a:xfrm>
            <a:off x="5587920" y="2368440"/>
            <a:ext cx="1198800" cy="909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1"/>
          <p:cNvSpPr/>
          <p:nvPr/>
        </p:nvSpPr>
        <p:spPr>
          <a:xfrm>
            <a:off x="1309680" y="3267000"/>
            <a:ext cx="134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5"/>
          <p:cNvSpPr/>
          <p:nvPr/>
        </p:nvSpPr>
        <p:spPr>
          <a:xfrm>
            <a:off x="2209680" y="35337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I need a bunch of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50"/>
          <p:cNvCxnSpPr/>
          <p:nvPr/>
        </p:nvCxnSpPr>
        <p:spPr>
          <a:xfrm>
            <a:off x="1898640" y="411444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tailEnd len="lg" type="stealth" w="lg"/>
          </a:ln>
        </p:spPr>
      </p:cxnSp>
      <p:cxnSp>
        <p:nvCxnSpPr>
          <p:cNvPr id="90" name="Straight Arrow Connector 50"/>
          <p:cNvCxnSpPr/>
          <p:nvPr/>
        </p:nvCxnSpPr>
        <p:spPr>
          <a:xfrm>
            <a:off x="1898640" y="492732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headEnd len="lg" type="stealth" w="lg"/>
          </a:ln>
        </p:spPr>
      </p:cxnSp>
      <p:sp>
        <p:nvSpPr>
          <p:cNvPr id="91" name="直接连接符 50"/>
          <p:cNvSpPr/>
          <p:nvPr/>
        </p:nvSpPr>
        <p:spPr>
          <a:xfrm>
            <a:off x="884160" y="4807080"/>
            <a:ext cx="590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523880" y="2484360"/>
            <a:ext cx="650880" cy="208080"/>
          </a:xfrm>
          <a:prstGeom prst="rect">
            <a:avLst/>
          </a:prstGeom>
          <a:ln w="0">
            <a:noFill/>
          </a:ln>
        </p:spPr>
      </p:pic>
      <p:sp>
        <p:nvSpPr>
          <p:cNvPr id="93" name="矩形 46"/>
          <p:cNvSpPr/>
          <p:nvPr/>
        </p:nvSpPr>
        <p:spPr>
          <a:xfrm>
            <a:off x="1763640" y="43560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I give you a set of scattered 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594360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website for this demo: http://130.129.48.23:3532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lternative implement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+P 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3"/>
          <p:cNvSpPr/>
          <p:nvPr/>
        </p:nvSpPr>
        <p:spPr>
          <a:xfrm>
            <a:off x="3433680" y="1709640"/>
            <a:ext cx="3943440" cy="238464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2384640"/>
              <a:gd name="textAreaBottom" fmla="*/ 2385000 h 2384640"/>
            </a:gdLst>
            <a:ahLst/>
            <a:rect l="textAreaLeft" t="textAreaTop" r="textAreaRight" b="textAreaBottom"/>
            <a:pathLst>
              <a:path w="3311" h="1015">
                <a:moveTo>
                  <a:pt x="527" y="240"/>
                </a:moveTo>
                <a:lnTo>
                  <a:pt x="555" y="212"/>
                </a:lnTo>
                <a:lnTo>
                  <a:pt x="596" y="183"/>
                </a:lnTo>
                <a:lnTo>
                  <a:pt x="662" y="163"/>
                </a:lnTo>
                <a:lnTo>
                  <a:pt x="742" y="142"/>
                </a:lnTo>
                <a:lnTo>
                  <a:pt x="810" y="131"/>
                </a:lnTo>
                <a:lnTo>
                  <a:pt x="897" y="121"/>
                </a:lnTo>
                <a:lnTo>
                  <a:pt x="1025" y="117"/>
                </a:lnTo>
                <a:lnTo>
                  <a:pt x="1148" y="121"/>
                </a:lnTo>
                <a:lnTo>
                  <a:pt x="1265" y="131"/>
                </a:lnTo>
                <a:lnTo>
                  <a:pt x="1347" y="146"/>
                </a:lnTo>
                <a:lnTo>
                  <a:pt x="1395" y="102"/>
                </a:lnTo>
                <a:lnTo>
                  <a:pt x="1465" y="65"/>
                </a:lnTo>
                <a:lnTo>
                  <a:pt x="1552" y="39"/>
                </a:lnTo>
                <a:lnTo>
                  <a:pt x="1666" y="18"/>
                </a:lnTo>
                <a:lnTo>
                  <a:pt x="1806" y="4"/>
                </a:lnTo>
                <a:lnTo>
                  <a:pt x="1945" y="0"/>
                </a:lnTo>
                <a:lnTo>
                  <a:pt x="2068" y="11"/>
                </a:lnTo>
                <a:lnTo>
                  <a:pt x="2207" y="26"/>
                </a:lnTo>
                <a:lnTo>
                  <a:pt x="2312" y="58"/>
                </a:lnTo>
                <a:lnTo>
                  <a:pt x="2383" y="90"/>
                </a:lnTo>
                <a:lnTo>
                  <a:pt x="2433" y="119"/>
                </a:lnTo>
                <a:lnTo>
                  <a:pt x="2445" y="156"/>
                </a:lnTo>
                <a:lnTo>
                  <a:pt x="2540" y="146"/>
                </a:lnTo>
                <a:lnTo>
                  <a:pt x="2655" y="149"/>
                </a:lnTo>
                <a:lnTo>
                  <a:pt x="2753" y="163"/>
                </a:lnTo>
                <a:lnTo>
                  <a:pt x="2835" y="188"/>
                </a:lnTo>
                <a:lnTo>
                  <a:pt x="2894" y="225"/>
                </a:lnTo>
                <a:lnTo>
                  <a:pt x="2915" y="264"/>
                </a:lnTo>
                <a:lnTo>
                  <a:pt x="2913" y="290"/>
                </a:lnTo>
                <a:lnTo>
                  <a:pt x="2967" y="289"/>
                </a:lnTo>
                <a:lnTo>
                  <a:pt x="3036" y="293"/>
                </a:lnTo>
                <a:lnTo>
                  <a:pt x="3107" y="310"/>
                </a:lnTo>
                <a:lnTo>
                  <a:pt x="3159" y="324"/>
                </a:lnTo>
                <a:lnTo>
                  <a:pt x="3198" y="338"/>
                </a:lnTo>
                <a:lnTo>
                  <a:pt x="3230" y="355"/>
                </a:lnTo>
                <a:lnTo>
                  <a:pt x="3264" y="377"/>
                </a:lnTo>
                <a:lnTo>
                  <a:pt x="3282" y="405"/>
                </a:lnTo>
                <a:lnTo>
                  <a:pt x="3289" y="425"/>
                </a:lnTo>
                <a:lnTo>
                  <a:pt x="3278" y="447"/>
                </a:lnTo>
                <a:lnTo>
                  <a:pt x="3255" y="476"/>
                </a:lnTo>
                <a:lnTo>
                  <a:pt x="3282" y="500"/>
                </a:lnTo>
                <a:lnTo>
                  <a:pt x="3298" y="528"/>
                </a:lnTo>
                <a:lnTo>
                  <a:pt x="3305" y="556"/>
                </a:lnTo>
                <a:lnTo>
                  <a:pt x="3289" y="591"/>
                </a:lnTo>
                <a:lnTo>
                  <a:pt x="3273" y="612"/>
                </a:lnTo>
                <a:lnTo>
                  <a:pt x="3239" y="635"/>
                </a:lnTo>
                <a:lnTo>
                  <a:pt x="3289" y="668"/>
                </a:lnTo>
                <a:lnTo>
                  <a:pt x="3305" y="692"/>
                </a:lnTo>
                <a:lnTo>
                  <a:pt x="3310" y="723"/>
                </a:lnTo>
                <a:lnTo>
                  <a:pt x="3298" y="752"/>
                </a:lnTo>
                <a:lnTo>
                  <a:pt x="3266" y="790"/>
                </a:lnTo>
                <a:lnTo>
                  <a:pt x="3230" y="814"/>
                </a:lnTo>
                <a:lnTo>
                  <a:pt x="3170" y="835"/>
                </a:lnTo>
                <a:lnTo>
                  <a:pt x="3070" y="860"/>
                </a:lnTo>
                <a:lnTo>
                  <a:pt x="2967" y="867"/>
                </a:lnTo>
                <a:lnTo>
                  <a:pt x="2871" y="860"/>
                </a:lnTo>
                <a:lnTo>
                  <a:pt x="2810" y="851"/>
                </a:lnTo>
                <a:lnTo>
                  <a:pt x="2769" y="872"/>
                </a:lnTo>
                <a:lnTo>
                  <a:pt x="2721" y="892"/>
                </a:lnTo>
                <a:lnTo>
                  <a:pt x="2682" y="904"/>
                </a:lnTo>
                <a:lnTo>
                  <a:pt x="2609" y="920"/>
                </a:lnTo>
                <a:lnTo>
                  <a:pt x="2540" y="931"/>
                </a:lnTo>
                <a:lnTo>
                  <a:pt x="2445" y="942"/>
                </a:lnTo>
                <a:lnTo>
                  <a:pt x="2349" y="940"/>
                </a:lnTo>
                <a:lnTo>
                  <a:pt x="2253" y="930"/>
                </a:lnTo>
                <a:lnTo>
                  <a:pt x="2171" y="907"/>
                </a:lnTo>
                <a:lnTo>
                  <a:pt x="2123" y="942"/>
                </a:lnTo>
                <a:lnTo>
                  <a:pt x="2077" y="962"/>
                </a:lnTo>
                <a:lnTo>
                  <a:pt x="2018" y="977"/>
                </a:lnTo>
                <a:lnTo>
                  <a:pt x="1949" y="991"/>
                </a:lnTo>
                <a:lnTo>
                  <a:pt x="1872" y="998"/>
                </a:lnTo>
                <a:lnTo>
                  <a:pt x="1801" y="998"/>
                </a:lnTo>
                <a:lnTo>
                  <a:pt x="1728" y="991"/>
                </a:lnTo>
                <a:lnTo>
                  <a:pt x="1646" y="976"/>
                </a:lnTo>
                <a:lnTo>
                  <a:pt x="1598" y="958"/>
                </a:lnTo>
                <a:lnTo>
                  <a:pt x="1552" y="977"/>
                </a:lnTo>
                <a:lnTo>
                  <a:pt x="1502" y="991"/>
                </a:lnTo>
                <a:lnTo>
                  <a:pt x="1445" y="1002"/>
                </a:lnTo>
                <a:lnTo>
                  <a:pt x="1358" y="1014"/>
                </a:lnTo>
                <a:lnTo>
                  <a:pt x="1269" y="1009"/>
                </a:lnTo>
                <a:lnTo>
                  <a:pt x="1178" y="998"/>
                </a:lnTo>
                <a:lnTo>
                  <a:pt x="1109" y="983"/>
                </a:lnTo>
                <a:lnTo>
                  <a:pt x="1043" y="956"/>
                </a:lnTo>
                <a:lnTo>
                  <a:pt x="1004" y="930"/>
                </a:lnTo>
                <a:lnTo>
                  <a:pt x="936" y="938"/>
                </a:lnTo>
                <a:lnTo>
                  <a:pt x="858" y="945"/>
                </a:lnTo>
                <a:lnTo>
                  <a:pt x="762" y="942"/>
                </a:lnTo>
                <a:lnTo>
                  <a:pt x="680" y="930"/>
                </a:lnTo>
                <a:lnTo>
                  <a:pt x="619" y="913"/>
                </a:lnTo>
                <a:lnTo>
                  <a:pt x="568" y="892"/>
                </a:lnTo>
                <a:lnTo>
                  <a:pt x="523" y="867"/>
                </a:lnTo>
                <a:lnTo>
                  <a:pt x="514" y="835"/>
                </a:lnTo>
                <a:lnTo>
                  <a:pt x="468" y="843"/>
                </a:lnTo>
                <a:lnTo>
                  <a:pt x="393" y="843"/>
                </a:lnTo>
                <a:lnTo>
                  <a:pt x="308" y="835"/>
                </a:lnTo>
                <a:lnTo>
                  <a:pt x="224" y="817"/>
                </a:lnTo>
                <a:lnTo>
                  <a:pt x="164" y="794"/>
                </a:lnTo>
                <a:lnTo>
                  <a:pt x="116" y="758"/>
                </a:lnTo>
                <a:lnTo>
                  <a:pt x="87" y="723"/>
                </a:lnTo>
                <a:lnTo>
                  <a:pt x="75" y="674"/>
                </a:lnTo>
                <a:lnTo>
                  <a:pt x="78" y="644"/>
                </a:lnTo>
                <a:lnTo>
                  <a:pt x="105" y="595"/>
                </a:lnTo>
                <a:lnTo>
                  <a:pt x="46" y="567"/>
                </a:lnTo>
                <a:lnTo>
                  <a:pt x="16" y="534"/>
                </a:lnTo>
                <a:lnTo>
                  <a:pt x="0" y="493"/>
                </a:lnTo>
                <a:lnTo>
                  <a:pt x="0" y="453"/>
                </a:lnTo>
                <a:lnTo>
                  <a:pt x="21" y="414"/>
                </a:lnTo>
                <a:lnTo>
                  <a:pt x="57" y="380"/>
                </a:lnTo>
                <a:lnTo>
                  <a:pt x="126" y="344"/>
                </a:lnTo>
                <a:lnTo>
                  <a:pt x="192" y="319"/>
                </a:lnTo>
                <a:lnTo>
                  <a:pt x="276" y="293"/>
                </a:lnTo>
                <a:lnTo>
                  <a:pt x="379" y="279"/>
                </a:lnTo>
                <a:lnTo>
                  <a:pt x="475" y="272"/>
                </a:lnTo>
                <a:lnTo>
                  <a:pt x="523" y="265"/>
                </a:lnTo>
                <a:lnTo>
                  <a:pt x="527" y="240"/>
                </a:lnTo>
              </a:path>
            </a:pathLst>
          </a:custGeom>
          <a:solidFill>
            <a:srgbClr val="72bfc5"/>
          </a:solidFill>
          <a:ln cap="rnd" w="3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264240" rIns="264240" tIns="132120" bIns="13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1287360" y="2619360"/>
            <a:ext cx="887400" cy="64764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04920" y="2190600"/>
            <a:ext cx="884160" cy="65268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357120" y="3087720"/>
            <a:ext cx="984240" cy="65232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995400" y="2516040"/>
            <a:ext cx="5284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XP icon my computer"/>
          <p:cNvPicPr/>
          <p:nvPr/>
        </p:nvPicPr>
        <p:blipFill>
          <a:blip r:embed="rId1"/>
          <a:stretch/>
        </p:blipFill>
        <p:spPr>
          <a:xfrm>
            <a:off x="606600" y="3184560"/>
            <a:ext cx="506160" cy="477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1"/>
          <p:cNvSpPr/>
          <p:nvPr/>
        </p:nvSpPr>
        <p:spPr>
          <a:xfrm>
            <a:off x="3432240" y="2822400"/>
            <a:ext cx="2562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SP’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XP icon my computer"/>
          <p:cNvPicPr/>
          <p:nvPr/>
        </p:nvPicPr>
        <p:blipFill>
          <a:blip r:embed="rId2"/>
          <a:stretch/>
        </p:blipFill>
        <p:spPr>
          <a:xfrm>
            <a:off x="600120" y="2209680"/>
            <a:ext cx="506520" cy="482760"/>
          </a:xfrm>
          <a:prstGeom prst="rect">
            <a:avLst/>
          </a:prstGeom>
          <a:ln w="0">
            <a:noFill/>
          </a:ln>
        </p:spPr>
      </p:pic>
      <p:sp>
        <p:nvSpPr>
          <p:cNvPr id="104" name="Line 44"/>
          <p:cNvSpPr/>
          <p:nvPr/>
        </p:nvSpPr>
        <p:spPr>
          <a:xfrm flipV="1">
            <a:off x="1092240" y="2966760"/>
            <a:ext cx="4316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2"/>
          <p:cNvSpPr/>
          <p:nvPr/>
        </p:nvSpPr>
        <p:spPr>
          <a:xfrm>
            <a:off x="2244600" y="2711520"/>
            <a:ext cx="334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5396040" y="1676520"/>
            <a:ext cx="176688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/DHC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1851120" y="3044880"/>
            <a:ext cx="0" cy="27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6093000" y="3267000"/>
            <a:ext cx="1440" cy="255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6"/>
          <p:cNvGrpSpPr/>
          <p:nvPr/>
        </p:nvGrpSpPr>
        <p:grpSpPr>
          <a:xfrm>
            <a:off x="7186680" y="2349360"/>
            <a:ext cx="1957320" cy="1298880"/>
            <a:chOff x="7186680" y="2349360"/>
            <a:chExt cx="1957320" cy="1298880"/>
          </a:xfrm>
        </p:grpSpPr>
        <p:pic>
          <p:nvPicPr>
            <p:cNvPr id="110" name="Picture 57" descr="Network Cloud 1.png"/>
            <p:cNvPicPr/>
            <p:nvPr/>
          </p:nvPicPr>
          <p:blipFill>
            <a:blip r:embed="rId3"/>
            <a:stretch/>
          </p:blipFill>
          <p:spPr>
            <a:xfrm>
              <a:off x="7186680" y="2349360"/>
              <a:ext cx="195732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58"/>
            <p:cNvSpPr/>
            <p:nvPr/>
          </p:nvSpPr>
          <p:spPr>
            <a:xfrm>
              <a:off x="7781760" y="2836800"/>
              <a:ext cx="1020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4600" rIns="264600" tIns="132120" bIns="132120" anchor="t">
              <a:spAutoFit/>
            </a:bodyPr>
            <a:p>
              <a:pPr>
                <a:tabLst>
                  <a:tab algn="l" pos="0"/>
                  <a:tab algn="l" pos="2644920"/>
                  <a:tab algn="l" pos="5289480"/>
                  <a:tab algn="l" pos="7934400"/>
                  <a:tab algn="l" pos="1057896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31"/>
          <p:cNvSpPr/>
          <p:nvPr/>
        </p:nvSpPr>
        <p:spPr>
          <a:xfrm>
            <a:off x="768240" y="2138400"/>
            <a:ext cx="2292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/DHC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5257800" y="3174840"/>
            <a:ext cx="229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9"/>
          <p:cNvGraphicFramePr/>
          <p:nvPr/>
        </p:nvGraphicFramePr>
        <p:xfrm>
          <a:off x="1492200" y="2674800"/>
          <a:ext cx="682560" cy="4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2674800"/>
                    <a:ext cx="6825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44" descr=""/>
          <p:cNvPicPr/>
          <p:nvPr/>
        </p:nvPicPr>
        <p:blipFill>
          <a:blip r:embed="rId6"/>
          <a:stretch/>
        </p:blipFill>
        <p:spPr>
          <a:xfrm>
            <a:off x="5562720" y="2519280"/>
            <a:ext cx="1198440" cy="909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1"/>
          <p:cNvSpPr/>
          <p:nvPr/>
        </p:nvSpPr>
        <p:spPr>
          <a:xfrm>
            <a:off x="1473120" y="3124080"/>
            <a:ext cx="1346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A+P 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5"/>
          <p:cNvSpPr/>
          <p:nvPr/>
        </p:nvSpPr>
        <p:spPr>
          <a:xfrm>
            <a:off x="2209680" y="35337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I need a bunch of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50"/>
          <p:cNvCxnSpPr/>
          <p:nvPr/>
        </p:nvCxnSpPr>
        <p:spPr>
          <a:xfrm>
            <a:off x="1898640" y="411444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tailEnd len="lg" type="stealth" w="lg"/>
          </a:ln>
        </p:spPr>
      </p:cxnSp>
      <p:cxnSp>
        <p:nvCxnSpPr>
          <p:cNvPr id="120" name="Straight Arrow Connector 50"/>
          <p:cNvCxnSpPr/>
          <p:nvPr/>
        </p:nvCxnSpPr>
        <p:spPr>
          <a:xfrm>
            <a:off x="1898640" y="492732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headEnd len="lg" type="stealth" w="lg"/>
          </a:ln>
        </p:spPr>
      </p:cxnSp>
      <p:sp>
        <p:nvSpPr>
          <p:cNvPr id="121" name="直接连接符 50"/>
          <p:cNvSpPr/>
          <p:nvPr/>
        </p:nvSpPr>
        <p:spPr>
          <a:xfrm>
            <a:off x="884160" y="4807080"/>
            <a:ext cx="590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523880" y="2484360"/>
            <a:ext cx="650880" cy="2080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6"/>
          <p:cNvSpPr/>
          <p:nvPr/>
        </p:nvSpPr>
        <p:spPr>
          <a:xfrm>
            <a:off x="1763640" y="437184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I give you a set of scattered 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.._..,_,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~,"-.-~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=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[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]: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=]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~----~~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ough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07-24T17:06:0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