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5E1-CE79-4B45-8E40-163C7BD5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7DA-C4D0-4008-B4B1-24DC446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336-4D9D-4C9F-9AD4-68C1223F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A8B-9965-4E72-8E43-66D9849D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00E-3471-41E1-8C3E-6326B4FE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D49-7A4C-40B2-9B1B-8015A3E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047-E923-4854-B41B-6907FEF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0BB-2FB0-4F09-B7D5-D6CEF21A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60C-DBBD-4AD8-A5BF-59DD021C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2F4-C9B6-4FCB-A690-6772321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05C-A07D-4DA8-8752-ECB15160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568-A6F6-46A3-8A81-9BBF36F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57A4-9EB5-4410-A3CC-AF6BDC34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CGN NAT Byp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. De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oucad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nce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Zhou Huawei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Tsou Huawei Technologies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Bajko Nok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re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7848720" cy="295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52578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utbound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4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AT &amp; 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FTR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-capsulation &amp;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bound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FTR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capsulation &amp; port forwar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4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-capsulation &amp; 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provi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's the benefits of provisioning scattered 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coming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allocation is more likely to satisfy the random incoming port requests fro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 eMule, uTorrent,sharez, using UPnP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bulks of non-continuous ports among subscrib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akes port randomizatio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to provision scattered 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2867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4572000" cy="152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ephemeral port selection within the restricted por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r CPE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560760"/>
            <a:ext cx="7772400" cy="245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962520"/>
            <a:ext cx="73152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ly one line code needs to be cha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Implem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S-Lite encapsulation (demonstrat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74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5396040" y="1676520"/>
            <a:ext cx="1703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CG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80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5151600" y="336708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NE40E-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44" descr=""/>
          <p:cNvPicPr/>
          <p:nvPr/>
        </p:nvPicPr>
        <p:blipFill>
          <a:blip r:embed="rId6"/>
          <a:stretch/>
        </p:blipFill>
        <p:spPr>
          <a:xfrm>
            <a:off x="5587920" y="2368440"/>
            <a:ext cx="1198800" cy="909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1"/>
          <p:cNvSpPr/>
          <p:nvPr/>
        </p:nvSpPr>
        <p:spPr>
          <a:xfrm>
            <a:off x="1309680" y="3267000"/>
            <a:ext cx="134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90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91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93" name="矩形 46"/>
          <p:cNvSpPr/>
          <p:nvPr/>
        </p:nvSpPr>
        <p:spPr>
          <a:xfrm>
            <a:off x="1763640" y="43560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9436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website for this demo: http://130.129.48.23:3532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lternative implem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+P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104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5396040" y="1676520"/>
            <a:ext cx="176688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/DH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110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/DH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5257800" y="317484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44" descr=""/>
          <p:cNvPicPr/>
          <p:nvPr/>
        </p:nvPicPr>
        <p:blipFill>
          <a:blip r:embed="rId6"/>
          <a:stretch/>
        </p:blipFill>
        <p:spPr>
          <a:xfrm>
            <a:off x="5562720" y="2519280"/>
            <a:ext cx="1198440" cy="909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"/>
          <p:cNvSpPr/>
          <p:nvPr/>
        </p:nvSpPr>
        <p:spPr>
          <a:xfrm>
            <a:off x="1473120" y="3124080"/>
            <a:ext cx="1346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A+P 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120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121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6"/>
          <p:cNvSpPr/>
          <p:nvPr/>
        </p:nvSpPr>
        <p:spPr>
          <a:xfrm>
            <a:off x="1763640" y="437184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.._..,_,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~,"-.-~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=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]: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=]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~----~~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ough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4T17:06:0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