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1360" indent="-171360">
              <a:spcBef>
                <a:spcPts val="1001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100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4112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152280" y="6567480"/>
            <a:ext cx="541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                     </a:t>
            </a:r>
            <a:fld id="{C27D4971-52D2-40FC-ACDC-09AEF77BBB6D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3"/>
          <p:cNvSpPr/>
          <p:nvPr/>
        </p:nvSpPr>
        <p:spPr>
          <a:xfrm>
            <a:off x="685800" y="3733920"/>
            <a:ext cx="8458200" cy="0"/>
          </a:xfrm>
          <a:prstGeom prst="line">
            <a:avLst/>
          </a:prstGeom>
          <a:ln w="28440">
            <a:solidFill>
              <a:srgbClr val="f15d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4"/>
          <p:cNvSpPr/>
          <p:nvPr/>
        </p:nvSpPr>
        <p:spPr>
          <a:xfrm>
            <a:off x="685800" y="2228760"/>
            <a:ext cx="8458200" cy="0"/>
          </a:xfrm>
          <a:prstGeom prst="line">
            <a:avLst/>
          </a:prstGeom>
          <a:ln w="28440">
            <a:solidFill>
              <a:srgbClr val="f15d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1360" indent="-171360">
              <a:spcBef>
                <a:spcPts val="1001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100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4112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mizrahi-tictoc-checksum-trailer-00" TargetMode="External"/><Relationship Id="rId2" Type="http://schemas.openxmlformats.org/officeDocument/2006/relationships/hyperlink" Target="http://tools.ietf.org/html/draft-mizrahi-tictoc-checksum-trailer-00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4520" y="236376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d2a"/>
                </a:solidFill>
                <a:latin typeface="Arial"/>
              </a:rPr>
              <a:t>Checksum Trailer in Timing Protocols</a:t>
            </a:r>
            <a:br>
              <a:rPr sz="2800"/>
            </a:br>
            <a:br>
              <a:rPr sz="800"/>
            </a:br>
            <a:r>
              <a:rPr b="1" lang="en-US" sz="1600" spc="-1" strike="noStrike">
                <a:solidFill>
                  <a:srgbClr val="f15d2a"/>
                </a:solidFill>
                <a:latin typeface="Arial"/>
              </a:rPr>
              <a:t>draft-mizrahi-tictoc-checksum-trailer-00</a:t>
            </a:r>
            <a:br>
              <a:rPr sz="16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ols.ietf.org/html/draft-mizrahi-tictoc-checksum-trailer-00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8800" y="4051080"/>
            <a:ext cx="6400800" cy="11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Tal Mizrahi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Marvel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IETF Meeting 81, July 20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06280"/>
            <a:ext cx="7531200" cy="3779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ing protocols transported over UD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15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AMP/TW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DP over IPv4 (RFC 768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 can be 0, causing receiver to ignore checks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DP over IPv6 (RFC 2460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 is mand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ermediate Nod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7080"/>
            <a:ext cx="7988400" cy="3351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9000"/>
          </a:bodyPr>
          <a:p>
            <a:pPr marL="169560" indent="-1695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EE 1588 Transparent Clock (TC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intermediate nod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TP – RFC 5905 / OWAMP – RFC 4656 / TWAMP – RFC 5357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"/>
          <p:cNvGraphicFramePr/>
          <p:nvPr/>
        </p:nvGraphicFramePr>
        <p:xfrm>
          <a:off x="2538360" y="1647720"/>
          <a:ext cx="3483000" cy="22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1647720"/>
                    <a:ext cx="348300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"/>
          <p:cNvGraphicFramePr/>
          <p:nvPr/>
        </p:nvGraphicFramePr>
        <p:xfrm>
          <a:off x="2519280" y="4819680"/>
          <a:ext cx="529920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9280" y="4819680"/>
                    <a:ext cx="52992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ounded Rectangular Callout 5"/>
          <p:cNvSpPr/>
          <p:nvPr/>
        </p:nvSpPr>
        <p:spPr>
          <a:xfrm>
            <a:off x="6108840" y="279360"/>
            <a:ext cx="2933640" cy="927000"/>
          </a:xfrm>
          <a:prstGeom prst="wedgeRoundRectCallout">
            <a:avLst>
              <a:gd name="adj1" fmla="val -117912"/>
              <a:gd name="adj2" fmla="val -1212"/>
              <a:gd name="adj3" fmla="val 16667"/>
            </a:avLst>
          </a:pr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termediate nodes must re-computed the UDP checksum or incrementally update it  (RFC 162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06640"/>
            <a:ext cx="7531200" cy="2800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P over IPv6 (Annex E of IEEE 1588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ytes added to the end of the PTP pay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by an intermediate node for incremental checksum up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draf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Checksum Trailer for NTP and for OWAMP/TW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intermediate node to perform incremental checksum up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hecksum Trail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49160" y="1639800"/>
            <a:ext cx="75312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IPv4 / IPv6 Header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.........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^               |           UDP Header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.........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^       |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DP      |       |   NTP / PTP / OWAMP / TWAMP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  UDP      |            packet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Payload   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       |UDP Checksum Trailer (2 octets)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       v       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TP Checksum Trail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49160" y="1639800"/>
            <a:ext cx="75312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Field Type           |      Length = 16 octets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Padding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|       Checksum Trailer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ular Callout 4"/>
          <p:cNvSpPr/>
          <p:nvPr/>
        </p:nvSpPr>
        <p:spPr>
          <a:xfrm>
            <a:off x="6070680" y="279360"/>
            <a:ext cx="2971800" cy="762120"/>
          </a:xfrm>
          <a:prstGeom prst="wedgeRoundRectCallout">
            <a:avLst>
              <a:gd name="adj1" fmla="val -49833"/>
              <a:gd name="adj2" fmla="val 154037"/>
              <a:gd name="adj3" fmla="val 16667"/>
            </a:avLst>
          </a:pr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se NTP Extension Fie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Need to define Field Type for Checksum Trail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WAMP/TWAMP Checksum Trail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22440" y="1246320"/>
            <a:ext cx="753084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Sequence Number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Timestamp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Error Estimate         |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                        Packet Padding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                          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|       Checksum Trailer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4"/>
          <p:cNvSpPr/>
          <p:nvPr/>
        </p:nvSpPr>
        <p:spPr>
          <a:xfrm>
            <a:off x="6070680" y="279360"/>
            <a:ext cx="2971800" cy="762120"/>
          </a:xfrm>
          <a:prstGeom prst="wedgeRoundRectCallout">
            <a:avLst>
              <a:gd name="adj1" fmla="val -52398"/>
              <a:gd name="adj2" fmla="val 119037"/>
              <a:gd name="adj3" fmla="val 16667"/>
            </a:avLst>
          </a:pr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se the OWAMP padding fie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dding length is announced in the Request-Session mess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eroperability with Existing Implementat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06640"/>
            <a:ext cx="7531200" cy="2573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AMP paddin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 new requirements from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P extension field – open issue regarding existence of MA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P, OWAMP/TWAM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mediate node and the originator of the packet are managed by the same ent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both use the Checksum Trailer, or both do not us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59228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11 – draft 0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 feedbacks from W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Tal Mizrahi</cp:lastModifiedBy>
  <dcterms:modified xsi:type="dcterms:W3CDTF">2011-07-26T19:41:21Z</dcterms:modified>
  <cp:revision>771</cp:revision>
  <dc:subject/>
  <dc:title>Slide 1</dc:title>
</cp:coreProperties>
</file>