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288792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5088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288792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288792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2502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550880"/>
            <a:ext cx="2502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550880"/>
            <a:ext cx="2502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2887920"/>
            <a:ext cx="2502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2887920"/>
            <a:ext cx="2502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2887920"/>
            <a:ext cx="2502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550880"/>
            <a:ext cx="7772400" cy="25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7772400" cy="2559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3792600" cy="2559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550880"/>
            <a:ext cx="3792600" cy="2559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550880"/>
            <a:ext cx="3792600" cy="2559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288792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50880"/>
            <a:ext cx="7772400" cy="25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3792600" cy="2559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55088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288792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55088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288792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288792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5088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288792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288792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2502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550880"/>
            <a:ext cx="2502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550880"/>
            <a:ext cx="2502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2887920"/>
            <a:ext cx="2502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2887920"/>
            <a:ext cx="2502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2887920"/>
            <a:ext cx="2502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7772400" cy="2559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3792600" cy="2559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550880"/>
            <a:ext cx="3792600" cy="2559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50880"/>
            <a:ext cx="3792600" cy="2559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288792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3792600" cy="2559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5088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288792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5088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50880"/>
            <a:ext cx="3792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288792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50880"/>
            <a:ext cx="7772400" cy="2559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1360" indent="-171360">
              <a:spcBef>
                <a:spcPts val="1001"/>
              </a:spcBef>
              <a:buClr>
                <a:srgbClr val="f15d2a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-141120">
              <a:spcBef>
                <a:spcPts val="1001"/>
              </a:spcBef>
              <a:buClr>
                <a:srgbClr val="f15d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141120">
              <a:spcBef>
                <a:spcPts val="1001"/>
              </a:spcBef>
              <a:buClr>
                <a:srgbClr val="f15d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1001"/>
              </a:spcBef>
              <a:buClr>
                <a:srgbClr val="f15d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01"/>
              </a:spcBef>
              <a:buClr>
                <a:srgbClr val="f15d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152280" y="6567480"/>
            <a:ext cx="541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                     </a:t>
            </a:r>
            <a:fld id="{7ADA6A7C-7561-4CCC-9C2C-178038C5DA0E}" type="slidenum">
              <a:rPr b="0" lang="en-US" sz="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Line 3"/>
          <p:cNvSpPr/>
          <p:nvPr/>
        </p:nvSpPr>
        <p:spPr>
          <a:xfrm>
            <a:off x="685800" y="3733920"/>
            <a:ext cx="8458200" cy="0"/>
          </a:xfrm>
          <a:prstGeom prst="line">
            <a:avLst/>
          </a:prstGeom>
          <a:ln w="28440">
            <a:solidFill>
              <a:srgbClr val="f15d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Line 4"/>
          <p:cNvSpPr/>
          <p:nvPr/>
        </p:nvSpPr>
        <p:spPr>
          <a:xfrm>
            <a:off x="685800" y="2228760"/>
            <a:ext cx="8458200" cy="0"/>
          </a:xfrm>
          <a:prstGeom prst="line">
            <a:avLst/>
          </a:prstGeom>
          <a:ln w="28440">
            <a:solidFill>
              <a:srgbClr val="f15d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550880"/>
            <a:ext cx="7772400" cy="2559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1360" indent="-171360">
              <a:spcBef>
                <a:spcPts val="1001"/>
              </a:spcBef>
              <a:buClr>
                <a:srgbClr val="f15d2a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-141120">
              <a:spcBef>
                <a:spcPts val="1001"/>
              </a:spcBef>
              <a:buClr>
                <a:srgbClr val="f15d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141120">
              <a:spcBef>
                <a:spcPts val="1001"/>
              </a:spcBef>
              <a:buClr>
                <a:srgbClr val="f15d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1001"/>
              </a:spcBef>
              <a:buClr>
                <a:srgbClr val="f15d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01"/>
              </a:spcBef>
              <a:buClr>
                <a:srgbClr val="f15d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mizrahi-tictoc-checksum-trailer-00" TargetMode="External"/><Relationship Id="rId2" Type="http://schemas.openxmlformats.org/officeDocument/2006/relationships/hyperlink" Target="http://tools.ietf.org/html/draft-mizrahi-tictoc-checksum-trailer-00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4520" y="236376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5d2a"/>
                </a:solidFill>
                <a:latin typeface="Arial"/>
              </a:rPr>
              <a:t>Checksum Trailer in Timing Protocols</a:t>
            </a:r>
            <a:br>
              <a:rPr sz="2800"/>
            </a:br>
            <a:br>
              <a:rPr sz="800"/>
            </a:br>
            <a:r>
              <a:rPr b="1" lang="en-US" sz="1600" spc="-1" strike="noStrike">
                <a:solidFill>
                  <a:srgbClr val="f15d2a"/>
                </a:solidFill>
                <a:latin typeface="Arial"/>
              </a:rPr>
              <a:t>draft-mizrahi-tictoc-checksum-trailer-00</a:t>
            </a:r>
            <a:br>
              <a:rPr sz="1600"/>
            </a:b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ools.ietf.org/html/draft-mizrahi-tictoc-checksum-trailer-00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58800" y="4051080"/>
            <a:ext cx="6400800" cy="11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Tal Mizrahi</a:t>
            </a: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Marvel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IETF Meeting 81, July 20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06280"/>
            <a:ext cx="7531200" cy="37796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1360" indent="-171360">
              <a:spcBef>
                <a:spcPts val="1250"/>
              </a:spcBef>
              <a:buClr>
                <a:srgbClr val="f15d2a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ing protocols transported over UDP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-141120">
              <a:spcBef>
                <a:spcPts val="451"/>
              </a:spcBef>
              <a:buClr>
                <a:srgbClr val="f15d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15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-141120">
              <a:spcBef>
                <a:spcPts val="451"/>
              </a:spcBef>
              <a:buClr>
                <a:srgbClr val="f15d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-141120">
              <a:spcBef>
                <a:spcPts val="451"/>
              </a:spcBef>
              <a:buClr>
                <a:srgbClr val="f15d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AMP/TWA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250"/>
              </a:spcBef>
              <a:buClr>
                <a:srgbClr val="f15d2a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DP over IPv4 (RFC 768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-141120">
              <a:spcBef>
                <a:spcPts val="451"/>
              </a:spcBef>
              <a:buClr>
                <a:srgbClr val="f15d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 can be 0, causing receiver to ignore checks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250"/>
              </a:spcBef>
              <a:buClr>
                <a:srgbClr val="f15d2a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DP over IPv6 (RFC 2460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-141120">
              <a:spcBef>
                <a:spcPts val="451"/>
              </a:spcBef>
              <a:buClr>
                <a:srgbClr val="f15d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 is mand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ermediate Node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97080"/>
            <a:ext cx="7988400" cy="33516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99000"/>
          </a:bodyPr>
          <a:p>
            <a:pPr marL="169560" indent="-169560">
              <a:spcBef>
                <a:spcPts val="1250"/>
              </a:spcBef>
              <a:buClr>
                <a:srgbClr val="f15d2a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EEE 1588 Transparent Clock (TC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1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spcBef>
                <a:spcPts val="1250"/>
              </a:spcBef>
              <a:buClr>
                <a:srgbClr val="f15d2a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intermediate nod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NTP – RFC 5905 / OWAMP – RFC 4656 / TWAMP – RFC 5357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1"/>
          <p:cNvGraphicFramePr/>
          <p:nvPr/>
        </p:nvGraphicFramePr>
        <p:xfrm>
          <a:off x="2538360" y="1647720"/>
          <a:ext cx="3483000" cy="22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8360" y="1647720"/>
                    <a:ext cx="3483000" cy="22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1"/>
          <p:cNvGraphicFramePr/>
          <p:nvPr/>
        </p:nvGraphicFramePr>
        <p:xfrm>
          <a:off x="2519280" y="4819680"/>
          <a:ext cx="5299200" cy="181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9280" y="4819680"/>
                    <a:ext cx="529920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ounded Rectangular Callout 5"/>
          <p:cNvSpPr/>
          <p:nvPr/>
        </p:nvSpPr>
        <p:spPr>
          <a:xfrm>
            <a:off x="6108840" y="279360"/>
            <a:ext cx="2933640" cy="927000"/>
          </a:xfrm>
          <a:prstGeom prst="wedgeRoundRectCallout">
            <a:avLst>
              <a:gd name="adj1" fmla="val -117912"/>
              <a:gd name="adj2" fmla="val -1212"/>
              <a:gd name="adj3" fmla="val 16667"/>
            </a:avLst>
          </a:prstGeom>
          <a:solidFill>
            <a:srgbClr val="9ed3d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Intermediate nodes must re-computed the UDP checksum or incrementally update it  (RFC 1624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06640"/>
            <a:ext cx="7531200" cy="28000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1360" indent="-171360">
              <a:spcBef>
                <a:spcPts val="1250"/>
              </a:spcBef>
              <a:buClr>
                <a:srgbClr val="f15d2a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TP over IPv6 (Annex E of IEEE 1588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-141120">
              <a:spcBef>
                <a:spcPts val="451"/>
              </a:spcBef>
              <a:buClr>
                <a:srgbClr val="f15d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bytes added to the end of the PTP payl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-141120">
              <a:spcBef>
                <a:spcPts val="451"/>
              </a:spcBef>
              <a:buClr>
                <a:srgbClr val="f15d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used by an intermediate node for incremental checksum upd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250"/>
              </a:spcBef>
              <a:buClr>
                <a:srgbClr val="f15d2a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draf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-141120">
              <a:spcBef>
                <a:spcPts val="451"/>
              </a:spcBef>
              <a:buClr>
                <a:srgbClr val="f15d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Checksum Trailer for NTP and for OWAMP/TWA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-141120">
              <a:spcBef>
                <a:spcPts val="451"/>
              </a:spcBef>
              <a:buClr>
                <a:srgbClr val="f15d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intermediate node to perform incremental checksum upd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hecksum Trailer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749160" y="1639800"/>
            <a:ext cx="7531200" cy="35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IPv4 / IPv6 Header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..............+------------------------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^               |           UDP Header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.........+------------------------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^       |     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DP      |       |   NTP / PTP / OWAMP / TWAMP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   UDP      |            packet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Payload   +------------------------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|       |UDP Checksum Trailer (2 octets)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       v       +------------------------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NTP Checksum Trailer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749160" y="1639800"/>
            <a:ext cx="7531200" cy="35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Field Type           |      Length = 16 octets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Padding  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|       Checksum Trailer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ular Callout 4"/>
          <p:cNvSpPr/>
          <p:nvPr/>
        </p:nvSpPr>
        <p:spPr>
          <a:xfrm>
            <a:off x="6070680" y="279360"/>
            <a:ext cx="2971800" cy="762120"/>
          </a:xfrm>
          <a:prstGeom prst="wedgeRoundRectCallout">
            <a:avLst>
              <a:gd name="adj1" fmla="val -49833"/>
              <a:gd name="adj2" fmla="val 154037"/>
              <a:gd name="adj3" fmla="val 16667"/>
            </a:avLst>
          </a:prstGeom>
          <a:solidFill>
            <a:srgbClr val="9ed3d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Use NTP Extension Fiel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Need to define Field Type for Checksum Trail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OWAMP/TWAMP Checksum Trailer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22440" y="1246320"/>
            <a:ext cx="753084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Sequence Number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Timestamp 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Error Estimate         |    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    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                         Packet Padding                      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                                                             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|       Checksum Trailer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4"/>
          <p:cNvSpPr/>
          <p:nvPr/>
        </p:nvSpPr>
        <p:spPr>
          <a:xfrm>
            <a:off x="6070680" y="279360"/>
            <a:ext cx="2971800" cy="762120"/>
          </a:xfrm>
          <a:prstGeom prst="wedgeRoundRectCallout">
            <a:avLst>
              <a:gd name="adj1" fmla="val -52398"/>
              <a:gd name="adj2" fmla="val 119037"/>
              <a:gd name="adj3" fmla="val 16667"/>
            </a:avLst>
          </a:prstGeom>
          <a:solidFill>
            <a:srgbClr val="9ed3d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Use the OWAMP padding fiel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Padding length is announced in the Request-Session mess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eroperability with Existing Implementation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06640"/>
            <a:ext cx="7531200" cy="2573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1360" indent="-171360">
              <a:spcBef>
                <a:spcPts val="1250"/>
              </a:spcBef>
              <a:buClr>
                <a:srgbClr val="f15d2a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WAMP padding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o new requirements from receiv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250"/>
              </a:spcBef>
              <a:buClr>
                <a:srgbClr val="f15d2a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TP extension field – open issue regarding existence of MAC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250"/>
              </a:spcBef>
              <a:buClr>
                <a:srgbClr val="f15d2a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TP, OWAMP/TWAMP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-141120">
              <a:spcBef>
                <a:spcPts val="451"/>
              </a:spcBef>
              <a:buClr>
                <a:srgbClr val="f15d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rmediate node and the originator of the packet are managed by the same ent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4280" indent="-141120">
              <a:spcBef>
                <a:spcPts val="451"/>
              </a:spcBef>
              <a:buClr>
                <a:srgbClr val="f15d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both use the Checksum Trailer, or both do not us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592280"/>
            <a:ext cx="7772400" cy="8618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1360" indent="-171360">
              <a:spcBef>
                <a:spcPts val="1250"/>
              </a:spcBef>
              <a:buClr>
                <a:srgbClr val="f15d2a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y 2011 – draft 0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250"/>
              </a:spcBef>
              <a:buClr>
                <a:srgbClr val="f15d2a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 feedbacks from W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Tal Mizrahi</cp:lastModifiedBy>
  <dcterms:modified xsi:type="dcterms:W3CDTF">2011-07-26T19:41:21Z</dcterms:modified>
  <cp:revision>771</cp:revision>
  <dc:subject/>
  <dc:title>Slide 1</dc:title>
</cp:coreProperties>
</file>