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105-A419-4FCA-9B08-02B11F0E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3B2-F95A-4A46-A9D7-6B9AC7C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8D5-DD03-4BE8-BD76-872AEAF0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8C7-3D90-4214-B53D-089DFC1F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16B-BF2F-40C3-8FA0-F867DFF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532-B447-48A2-9E86-EC5756A3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099-1459-4B4B-A921-207515F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BE0-4FEE-4514-828B-9373660E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5E9-48A6-49E5-8BD3-D6D6639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75D-D227-4CEC-8C01-C301E0A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475-EADA-4CAE-A8BC-AA534F9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1A4-0396-4DA2-BBE9-67F974E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361-0A3F-4F66-9A85-6D0C3A4A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Synchronization Protocols an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TF tictoc working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O’Donogh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onoghue@iso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s been done thus f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basic aspects of the discussion around time/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potential types of security 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initial surv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14264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pplication require security? (if so, which one: authentication, encryption, traceability, othe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– assuming a privat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vors of cellular backha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 e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y systems with legal requir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and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 /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uthentication, server authentication, transaction auth, intermediate device a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aspects of the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5235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threats that need to be addressed for the synchronization protocol?  (and thus what security services need to be provid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ternal security practices impact the security and performance of time keeping? (and what can be done to mitigate these impacts?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security impacts of time synchronization protocol practices?  (e.g. on-the-fly modification of timestam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dependencies between other security services and time synchron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Security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/master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/slave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mediate device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 authent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ability time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52352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volunteers to work on th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2:33:55Z</dcterms:created>
  <dc:creator>Yaakov_s</dc:creator>
  <dc:description/>
  <dc:language>en-US</dc:language>
  <cp:lastModifiedBy>Karen O'Donoghue</cp:lastModifiedBy>
  <dcterms:modified xsi:type="dcterms:W3CDTF">2011-07-28T17:55:04Z</dcterms:modified>
  <cp:revision>45</cp:revision>
  <dc:subject/>
  <dc:title>Agenda</dc:title>
</cp:coreProperties>
</file>