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D07-B3D8-4CF4-9BE0-D19DE799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BCE-D5D3-48D0-AD9E-76CF0B3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C0E-E99D-4C85-8D0E-1736E31A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44C-3719-4FBE-B0C9-416B5403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316-8212-4B9E-A426-9151350C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D28-A938-4E20-AF0D-CEC39D53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F5B-3FC5-48C9-AF45-EBACE18D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2BF-691D-4304-BE56-800F4B0B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FB4-5AF4-4F86-A9B8-333FE3B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152-887C-49E5-BE09-ECEB3F3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A7B-1A80-4887-AE1B-F3E67B7D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7EB-1703-4107-ABEB-2E57381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995-3B01-47EF-8172-D390A37BC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 Synchronization Protocols an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TF tictoc working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 O’Donogh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onoghue@iso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s been done thus f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basic aspects of the discussion around time/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potential types of security 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initial surv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14264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pplication require security? (if so, which one: authentication, encryption, traceability, othe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– assuming a privat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vors of cellular backha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uit e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y systems with legal requir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and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 /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and 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uthentication, server authentication, transaction auth, intermediate device a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rtl="1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rtl="1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aspects of the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5235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threats that need to be addressed for the synchronization protocol?  (and thus what security services need to be provided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ternal security practices impact the security and performance of time keeping? (and what can be done to mitigate these impacts?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security impacts of time synchronization protocol practices?  (e.g. on-the-fly modification of timestam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dependencies between other security services and time synchron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 Security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/master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/slave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mediate device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 authent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rtl="1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ability time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52352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volunteers to work on th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2:33:55Z</dcterms:created>
  <dc:creator>Yaakov_s</dc:creator>
  <dc:description/>
  <dc:language>en-US</dc:language>
  <cp:lastModifiedBy>Karen O'Donoghue</cp:lastModifiedBy>
  <dcterms:modified xsi:type="dcterms:W3CDTF">2011-07-28T17:55:04Z</dcterms:modified>
  <cp:revision>45</cp:revision>
  <dc:subject/>
  <dc:title>Agenda</dc:title>
</cp:coreProperties>
</file>