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v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LL OAM &amp; BF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49CFAD-5B68-40F7-B9B9-61EF426A05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30CABA-1F7C-4D06-873D-3A01AA8853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v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RILL OAM &amp; BF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AF75C7-E642-473E-840A-8560505E53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v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RILL OAM &amp; BF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67CF-773B-4F2D-B0D5-290C0137B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117E-EFD6-4983-9078-109D50287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86BF-38FF-475E-86AF-AA32B12BA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B38B-098E-4AC1-949D-FC6381BBE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9A70-BA84-4ABD-B2A6-488FD4005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8E99-B43B-4F46-9D08-078447720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B7BE-6701-4BAE-AD32-3E6304B36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5C76-109C-4AB3-AF1D-2FA996712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766C-7A77-4FE2-AC04-0B33FE4B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224B-A59C-491D-8130-AACE746E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6104-719A-4E2B-A050-4644CAB2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93F5-5ACE-402E-9EE6-D9D1B8AE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RILL ES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125F32-FAE4-48E3-84DF-768B3E4FBF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247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Calibri"/>
              </a:rPr>
              <a:t>TRILL ESADI</a:t>
            </a:r>
            <a:br>
              <a:rPr sz="72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aft-hu-trill-rbridge-esadi-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819080" y="4332240"/>
            <a:ext cx="5281560" cy="17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Hongjun Zhai (Z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Fangwei hu  (Z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Radia Perlman (Intel Lab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Donald Eastlake 3</a:t>
            </a:r>
            <a:r>
              <a:rPr b="0" lang="en-US" sz="2000" spc="-1" strike="noStrike" baseline="30000">
                <a:solidFill>
                  <a:srgbClr val="898989"/>
                </a:solidFill>
                <a:latin typeface="Calibri"/>
              </a:rPr>
              <a:t>rd </a:t>
            </a: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(Huawe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BA1B99-EC36-4C07-9785-9605BE9C90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RILL   ES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ubtitle 2"/>
          <p:cNvSpPr/>
          <p:nvPr/>
        </p:nvSpPr>
        <p:spPr>
          <a:xfrm>
            <a:off x="1139760" y="3551400"/>
            <a:ext cx="4880160" cy="14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314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0" spc="-1" strike="noStrike">
                <a:solidFill>
                  <a:srgbClr val="0000ff"/>
                </a:solidFill>
                <a:latin typeface="Calibri"/>
              </a:rPr>
              <a:t>END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rch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F6BCBF-5839-4046-AD4A-D0D4C7B0D0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RILL O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2852640" y="4275000"/>
            <a:ext cx="3438720" cy="13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Hongjun Zhai (ZT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Fangwei hu  (ZT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Radia Perlman (Intel Lab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Donald Eastlake 3</a:t>
            </a:r>
            <a:r>
              <a:rPr b="0" lang="en-US" sz="2200" spc="-1" strike="noStrike" baseline="30000">
                <a:solidFill>
                  <a:srgbClr val="898989"/>
                </a:solidFill>
                <a:latin typeface="Calibri"/>
              </a:rPr>
              <a:t>rd </a:t>
            </a: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(Huawei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tiv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471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SADI( End System Address Distribution Information): a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tional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VLAN scoped way that RBridges can announce and learn end station addresses rapidly and secure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dvantage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urity advantages:  announces</a:t>
            </a: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nd stations with an authenticated enrollment , ESADI protocol supports cryptographic authentic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ast update advantages:  provides a fast update of</a:t>
            </a: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nd station MAC address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RILL  ES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F9E852-991F-4E69-A59E-121B6183B3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tiv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471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y do we need a new ESADI draf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ve the MAC and parameters from ISIS PDU to ESADI fra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the Basic TRILL RFC(RFC6325),  TRILL parameters and  MAC addresses are carried by TRILL IS-IS  PDU. The ESADI  MAC address flooding  has effect on TRILL control plane, which reduces the TRILL robust and reliabi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the new draft, TRILL MAC addresses and parameters are carried  in ESADI frames rather than in the core TRILL IS-IS protocol, the ESADI frame is encapsulated as  multicast  TRILL data traffic. By this design, ESADI is a virtual logical topology (for each VLAN ) overlay in the TRILL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polog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ich and  complement the ESADI protoco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ign DRB election state machine , ESADI sub-TLV 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RILL  ES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FB3639-748F-40AE-B9F0-BFC097DB6C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100160"/>
            <a:ext cx="822960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ADI RBridge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RBridge is appointed VLAN-x forwarder  and participants in ESADI protocol is called an ESADI RBrid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nsit RBridge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ward ESADI frame as multicast  TRILL data fra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the ESADI RBridges appear to  be directly connected by a shared virtual link for that V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 “routing” computation or decisions ever have to be made by ESAD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 Hello frame between ESADI RBrid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RILL  ES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1B0D08-0265-4123-BB59-8D1A6DC078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Object 1"/>
          <p:cNvGraphicFramePr/>
          <p:nvPr/>
        </p:nvGraphicFramePr>
        <p:xfrm>
          <a:off x="1457280" y="4405320"/>
          <a:ext cx="5929200" cy="236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7280" y="4405320"/>
                    <a:ext cx="5929200" cy="23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ILL ESADI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RILL ES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37E5D8-C6DB-41BE-87BD-F0DB24DDE0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2724120" y="3274920"/>
            <a:ext cx="4086360" cy="33242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457200" y="1299960"/>
            <a:ext cx="822960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SADI frames encapsulation in transit on Ethernet links is</a:t>
            </a: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milar with TRILL encapsulation  with an outer Ethernet head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SADI</a:t>
            </a: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rame has an inner Ethernet header with the Inner.MacDA of “All-</a:t>
            </a: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SADI-RBridges” and the “L2-IS-IS” Ethertype followed by the ESADI</a:t>
            </a: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ayloa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SADI DRB 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RILL ES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8FEAB8-0E63-4B57-8759-28F6C66A07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923760" y="1716120"/>
            <a:ext cx="3962520" cy="4711680"/>
          </a:xfrm>
          <a:prstGeom prst="rect">
            <a:avLst/>
          </a:prstGeom>
          <a:ln w="0">
            <a:noFill/>
          </a:ln>
        </p:spPr>
      </p:pic>
      <p:sp>
        <p:nvSpPr>
          <p:cNvPr id="82" name="TextBox 8"/>
          <p:cNvSpPr/>
          <p:nvPr/>
        </p:nvSpPr>
        <p:spPr>
          <a:xfrm>
            <a:off x="4886280" y="4602240"/>
            <a:ext cx="3757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:  Operationally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:  Finding  first neighb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3:  Holding Timer exp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4:  Receiving higher priority P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5:  Losing last neighb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6:  Operationally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8"/>
          <p:cNvSpPr/>
          <p:nvPr/>
        </p:nvSpPr>
        <p:spPr>
          <a:xfrm>
            <a:off x="4857840" y="1643040"/>
            <a:ext cx="4043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wn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iti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ADI instance is up but does not know of any ESADI neighbo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-DRB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ADI instance has found at least one valid ESADI neighbor and is not DRB y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B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ADI instance multicasts the ESADI CSNP PDUs periodically, and responds to ESADI-PSNP PDUs with ESADI-LS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8"/>
          <p:cNvSpPr/>
          <p:nvPr/>
        </p:nvSpPr>
        <p:spPr>
          <a:xfrm>
            <a:off x="414360" y="1257480"/>
            <a:ext cx="30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LL ESADI state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SADI LSP cont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599840"/>
            <a:ext cx="8229600" cy="9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SADI participation data  sub-TLV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UST be included in LSP fragment zer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RILL ES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0C5F9B-7817-469E-8D0F-9A8A9A4C9B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1152360" y="2529000"/>
            <a:ext cx="5820120" cy="31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SADI LSP cont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5998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ADI MAC Address sub-TLV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ILL ESADI LSP PDUs consists of one or more MAC Reachability (MAC-RI) TLV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cified in [RFC6165]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se sub-TLV contain one or more unicast MAC addresses of end sta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RILL ES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71479D-96C9-4E8E-A0BA-9D6921E263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do we do in the new ESADI draft (difference with RFC6325 )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ve MAC  addresses and parameters in TRILL IS-IS protocol to ESADI fram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ign DRB election state mach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ign ESADI neighbor l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ign PDU processing , optimize self-originated  LSP to be sent in unicast in stead of multicast in some situation to reduce multicast storm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ecific ESADI Participation Data TLV to announce ESADI capability for RBrid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RILL ES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A7A64D-0C43-4218-9F37-A4DB01B459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2T01:39:28Z</dcterms:created>
  <dc:creator>Donald Eastlake</dc:creator>
  <dc:description/>
  <dc:language>en-US</dc:language>
  <cp:lastModifiedBy>Your User Name</cp:lastModifiedBy>
  <cp:lastPrinted>2010-10-30T20:11:31Z</cp:lastPrinted>
  <dcterms:modified xsi:type="dcterms:W3CDTF">2011-07-24T21:15:07Z</dcterms:modified>
  <cp:revision>93</cp:revision>
  <dc:subject/>
  <dc:title>TRILL OAM &amp; BFD</dc:title>
</cp:coreProperties>
</file>