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 OAM &amp; BF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E342D-ED55-4E50-A570-4018E10D2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BC4BF-0F62-4A33-B784-72084372F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ILL OAM &amp; BF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D35ED-EAC5-416C-A2D5-AD424D9C4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ILL OAM &amp; BF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8E50-D134-4532-946A-07254BAA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7A36-622B-4C64-8870-A981FFE6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D263-87D9-433D-8E75-F0D41A3B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009C-F14E-47F8-9075-D07EA9A1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260-105E-4206-B948-C55E51B6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1481-3BE7-45A7-80F1-6ED63EF6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77A-0DBA-40D1-9B4D-4B16C669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51D-2B40-4DB9-ACED-CDB1AA21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F34-C66F-4F96-B5D1-6C52B7E1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AFDA-3FE2-4C67-9A43-5DEE2201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18A-A712-4949-9555-3F719D00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51EE-8030-4F4C-AD87-D9E8369A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ES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87D18-15A6-4C87-AC58-7D351449E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Calibri"/>
              </a:rPr>
              <a:t>TRILL ESADI</a:t>
            </a:r>
            <a:br>
              <a:rPr sz="72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ft-hu-trill-rbridge-esadi-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19080" y="4332240"/>
            <a:ext cx="5281560" cy="17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Hongjun Zhai (Z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Fangwei hu  (Z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Radia Perlman (Intel Lab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Donald Eastlake 3</a:t>
            </a:r>
            <a:r>
              <a:rPr b="0" lang="en-US" sz="2000" spc="-1" strike="noStrike" baseline="30000">
                <a:solidFill>
                  <a:srgbClr val="898989"/>
                </a:solidFill>
                <a:latin typeface="Calibri"/>
              </a:rPr>
              <a:t>rd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(Huawe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3EB78-CBED-4D59-893B-699882AE0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  ES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ubtitle 2"/>
          <p:cNvSpPr/>
          <p:nvPr/>
        </p:nvSpPr>
        <p:spPr>
          <a:xfrm>
            <a:off x="1139760" y="3551400"/>
            <a:ext cx="4880160" cy="14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Calibri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FA2B4-1B3C-47CF-A92B-AD0903AEF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O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852640" y="4275000"/>
            <a:ext cx="3438720" cy="13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Hongjun Zhai (Z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Fangwei hu  (Z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Radia Perlman (Intel Lab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Donald Eastlake 3</a:t>
            </a:r>
            <a:r>
              <a:rPr b="0" lang="en-US" sz="2200" spc="-1" strike="noStrike" baseline="30000">
                <a:solidFill>
                  <a:srgbClr val="898989"/>
                </a:solidFill>
                <a:latin typeface="Calibri"/>
              </a:rPr>
              <a:t>rd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(Huawe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tiv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ADI( End System Address Distribution Information): 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a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LAN scoped way that RBridges can announce and learn end station addresses rapidly and secure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vantage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urity advantages:  announces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 stations with an authenticated enrollment , ESADI protocol supports cryptographic authent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ast update advantages:  provides a fast update of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 station MAC addr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 ES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E9852-0BC4-429C-8E11-8836E7DE4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tiv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y do we need a new ESADI draf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ve the MAC and parameters from ISIS PDU to ESADI fr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Basic TRILL RFC(RFC6325),  TRILL parameters and  MAC addresses are carried by TRILL IS-IS  PDU. The ESADI  MAC address flooding  has effect on TRILL control plane, which reduces the TRILL robust and reli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new draft, TRILL MAC addresses and parameters are carried  in ESADI frames rather than in the core TRILL IS-IS protocol, the ESADI frame is encapsulated as  multicast  TRILL data traffic. By this design, ESADI is a virtual logical topology (for each VLAN ) overlay in the TRILL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polog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ch and  complement the ESADI protoco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DRB election state machine , ESADI sub-TLV 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 ES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32A64-2CD5-4945-AFD8-2FE29B0DE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100160"/>
            <a:ext cx="822960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ADI RBridg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Bridge is appointed VLAN-x forwarder  and participants in ESADI protocol is called an ESADI RBri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it RBridg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ward ESADI frame as multicast  TRILL data fr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the ESADI RBridges appear to  be directly connected by a shared virtual link for that V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“routing” computation or decisions ever have to be made by ESAD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Hello frame between ESADI RBrid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 ES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E524C-6612-45D7-AEF2-AB8C76080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1"/>
          <p:cNvGraphicFramePr/>
          <p:nvPr/>
        </p:nvGraphicFramePr>
        <p:xfrm>
          <a:off x="1457280" y="4405320"/>
          <a:ext cx="5929200" cy="23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4405320"/>
                    <a:ext cx="592920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LL ESADI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ES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83A8E-F924-40D9-B1BF-16C578A70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724120" y="3274920"/>
            <a:ext cx="4086360" cy="3324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7200" y="129996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ADI frames encapsulation in transit on Ethernet links is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milar with TRILL encapsulation  with an outer Ethernet head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ADI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ame has an inner Ethernet header with the Inner.MacDA of “All-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ADI-RBridges” and the “L2-IS-IS” Ethertype followed by the ESADI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yloa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ADI DRB 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ES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D35E9-273F-4FE2-97B2-92EA97898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23760" y="1716120"/>
            <a:ext cx="3962520" cy="4711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8"/>
          <p:cNvSpPr/>
          <p:nvPr/>
        </p:nvSpPr>
        <p:spPr>
          <a:xfrm>
            <a:off x="4886280" y="4602240"/>
            <a:ext cx="375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:  Operationally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:  Finding  first neigh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3:  Holding Timer exp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4:  Receiving higher priority P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5:  Losing last neigh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6:  Operationally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4857840" y="1643040"/>
            <a:ext cx="404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wn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DI instance is up but does not know of any ESADI neighb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-DRB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DI instance has found at least one valid ESADI neighbor and is not DRB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B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DI instance multicasts the ESADI CSNP PDUs periodically, and responds to ESADI-PSNP PDUs with ESADI-LS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414360" y="12574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LL ESADI stat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ADI LSP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ADI participation data  sub-TL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ST be included in LSP fragment zer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ES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049B6C-F758-4FB2-B45A-D38429A84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152360" y="2529000"/>
            <a:ext cx="582012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ADI LSP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ADI MAC Address sub-TL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LL ESADI LSP PDUs consists of one or more MAC Reachability (MAC-RI) TLV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ed in [RFC6165]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sub-TLV contain one or more unicast MAC addresses of end st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ES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1DEF1-62BE-4BD0-9D93-B0B9C92C6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 we do in the new ESADI draft (difference with RFC6325 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ve MAC  addresses and parameters in TRILL IS-IS protocol to ESADI fr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DRB election state mach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ESADI neighbor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PDU processing , optimize self-originated  LSP to be sent in unicast in stead of multicast in some situation to reduce multicast stor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ESADI Participation Data TLV to announce ESADI capability for RBrid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ES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2E47B-1A96-4C26-8AB3-1426019E4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01:39:28Z</dcterms:created>
  <dc:creator>Donald Eastlake</dc:creator>
  <dc:description/>
  <dc:language>en-US</dc:language>
  <cp:lastModifiedBy>Your User Name</cp:lastModifiedBy>
  <cp:lastPrinted>2010-10-30T20:11:31Z</cp:lastPrinted>
  <dcterms:modified xsi:type="dcterms:W3CDTF">2011-07-24T21:15:07Z</dcterms:modified>
  <cp:revision>93</cp:revision>
  <dc:subject/>
  <dc:title>TRILL OAM &amp; BFD</dc:title>
</cp:coreProperties>
</file>