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18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Jul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1720" y="687240"/>
            <a:ext cx="4530600" cy="3394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296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1800" y="862920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2920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174E6-3F0C-4737-8F28-7D86FAFA82E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56210-3AE7-4FB7-A298-7D1F1A66C2A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496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Date Placeholder 1"/>
          <p:cNvSpPr/>
          <p:nvPr/>
        </p:nvSpPr>
        <p:spPr>
          <a:xfrm>
            <a:off x="388476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Jul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82DB-7C17-4023-A28E-B45D8446D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D5A2-5C3F-49F3-A96C-5D68E7491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E209-1923-4F18-A652-BFCD1F9EE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AA16-17F7-4471-8B51-384EC16A4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8DFB-F7A2-4C5F-87CD-C805F09BB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F22A-D004-4D0C-9D2D-B1B1F84DF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EE68-632E-432D-B62C-ADB931F28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10C7-CCDD-483A-9226-C06A79062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66FC-CC7F-4EDB-B716-7A606F1AC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423A-2A0B-46A0-931A-C1DF6AC7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AF65-50B4-4BBE-99AD-9898A91B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817A-0C61-4682-A192-414DA54C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TRILL W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5D595-B713-4FB3-8DA4-A7687D37D7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e-Grained VLAN Labeling</a:t>
            </a:r>
            <a:br>
              <a:rPr sz="4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ft-eastlake-trill-rbridge-fine-labeling-01.tx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19160" y="3886200"/>
            <a:ext cx="3429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a Perl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 La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aperlman@gmai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114CE-4D4A-4ED0-A618-761E61DE34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TRILL W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 in co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nly time core RBridges look at VLAN tag is for filtering multidestination fra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OK for filtering not to be perfect (i.e., only filter on 12 of the 24 VLAN bits – it just wastes a bit of bandwidth, and filtering is a SHOULD anyway, not a MU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must not falsely fil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ED867-00D9-48FF-8A09-4429015DCB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TRILL W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voiding false filtering with ST R1 in co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make sure that R1 does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 falsely filter (X.Y), all edge RBridges attached to any fine-grained label with the first 12 bits=X must report connectivity to ST VLAN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addition to DT VLAN (X.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0741E-AE0F-4ECF-BECF-FDD72E3A2C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TRILL W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ca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ally no change, except for prio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there are two VLAN tags, ther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two priority fie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it RBridges use the priority in the first VLAN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DAC70-C6CE-490B-8819-2A9EA1F61C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TRILL W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sible Vari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might be reasons for R1 to send a multidestination frame as several unicasts inst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might be a very small number of edge RBridges that need to see the frame (e.g., a VLAN that only exists at a few plac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n alternative instead of disabling connectivity to X.Y, when illegal 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optional for ingress to send, but mandatory for egress to receive a multidestination frame as a directed unica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A6276-B0F9-42A7-A9B3-586BD1DE29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TRILL W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VL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 with existing silic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existing RBridges to work in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sure misconfigurations (having old RBridges on the edge) d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 do anything ba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portunistic opportunity: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iority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C6CBF-6D64-4D6C-9305-B9A17C946B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TRILL W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Id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wo VLANs (in the inner packet), to encode 24 bits of VLAN (16 mill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88361-1E10-45A4-86B0-245274344E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TRILL W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uble VLAN ta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0"/>
          <p:cNvSpPr/>
          <p:nvPr/>
        </p:nvSpPr>
        <p:spPr>
          <a:xfrm>
            <a:off x="2438280" y="1905120"/>
            <a:ext cx="1905120" cy="4343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11"/>
          <p:cNvSpPr/>
          <p:nvPr/>
        </p:nvSpPr>
        <p:spPr>
          <a:xfrm>
            <a:off x="2438280" y="259092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2421720" y="1943280"/>
            <a:ext cx="184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er Ethernet h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4556880" y="201924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chang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4"/>
          <p:cNvSpPr/>
          <p:nvPr/>
        </p:nvSpPr>
        <p:spPr>
          <a:xfrm>
            <a:off x="2438280" y="3124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5"/>
          <p:cNvSpPr/>
          <p:nvPr/>
        </p:nvSpPr>
        <p:spPr>
          <a:xfrm>
            <a:off x="2616120" y="2629080"/>
            <a:ext cx="14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L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6"/>
          <p:cNvSpPr/>
          <p:nvPr/>
        </p:nvSpPr>
        <p:spPr>
          <a:xfrm>
            <a:off x="4572720" y="268128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chang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7"/>
          <p:cNvSpPr/>
          <p:nvPr/>
        </p:nvSpPr>
        <p:spPr>
          <a:xfrm>
            <a:off x="2727360" y="3086280"/>
            <a:ext cx="135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t 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urce 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8"/>
          <p:cNvSpPr/>
          <p:nvPr/>
        </p:nvSpPr>
        <p:spPr>
          <a:xfrm flipH="1">
            <a:off x="2438280" y="38098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19"/>
          <p:cNvSpPr/>
          <p:nvPr/>
        </p:nvSpPr>
        <p:spPr>
          <a:xfrm>
            <a:off x="2438280" y="457200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20"/>
          <p:cNvSpPr/>
          <p:nvPr/>
        </p:nvSpPr>
        <p:spPr>
          <a:xfrm>
            <a:off x="2438280" y="3809880"/>
            <a:ext cx="1905120" cy="762120"/>
          </a:xfrm>
          <a:prstGeom prst="rect">
            <a:avLst/>
          </a:prstGeom>
          <a:gradFill rotWithShape="0">
            <a:gsLst>
              <a:gs pos="0">
                <a:srgbClr val="ff00ff">
                  <a:alpha val="57254"/>
                </a:srgbClr>
              </a:gs>
              <a:gs pos="100000">
                <a:srgbClr val="ffc6ff">
                  <a:alpha val="59215"/>
                </a:srgbClr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LAN INF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22"/>
          <p:cNvSpPr/>
          <p:nvPr/>
        </p:nvSpPr>
        <p:spPr>
          <a:xfrm flipH="1">
            <a:off x="2438280" y="556272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3"/>
          <p:cNvSpPr/>
          <p:nvPr/>
        </p:nvSpPr>
        <p:spPr>
          <a:xfrm>
            <a:off x="2728080" y="476244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y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4"/>
          <p:cNvSpPr/>
          <p:nvPr/>
        </p:nvSpPr>
        <p:spPr>
          <a:xfrm>
            <a:off x="2574720" y="567684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nk Trai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25"/>
          <p:cNvSpPr/>
          <p:nvPr/>
        </p:nvSpPr>
        <p:spPr>
          <a:xfrm flipH="1">
            <a:off x="4495320" y="419112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6"/>
          <p:cNvSpPr/>
          <p:nvPr/>
        </p:nvSpPr>
        <p:spPr>
          <a:xfrm>
            <a:off x="5392800" y="3924360"/>
            <a:ext cx="2955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is what ch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fine-grained lab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ld:  single VLAN t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e-grained: two consecu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LAN tags (both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6AEA3-E7FC-4429-93FA-10316D0C04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TRILL W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=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gle Tag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Bridge, i.e., not fine-grained labeling a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T=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uble Tag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Bridge, i.e., fine-grained labeling a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.Y) = Fine-grained label with first 12 bits=X, and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2 bits=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DC5B7-DF3C-47CC-AF7D-454DBCD7BC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TRILL W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orting DT-cap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T RBridges will report their DT-capability in LS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therefore DT RBridges will know which RBridges are ST, and which are 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F5BC8-2275-4F71-A5F1-C1B86696EB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TRILL W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porting Attached fine-grained lab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sub-TLV in LSP for appointed forwarder to report attachment to a range of 24-bit lab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 be ignored by ST RBrid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0DCB2-2CC0-47CA-9F0C-3CEFCB148F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TRILL W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me issues with mixing ST and DT RBrid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ST RBridge in core, make sure it does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alsely filter multidestination (letting extra traffic through is OK, but blocking traffic because confusion with double ta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ot 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core ST RBridge exists, then DT R2 attached to X.Y must report attachment to ST VLAN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allow some ST edge RBridges, we will allow some VLANs (say first k) to be announced with a single tag, whether ingressed by DT or 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F056B-4B46-471E-8901-55FCA0F713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TRILL W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legal configu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legal if ALL of the following are 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 tag VLAN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uble tag VLAN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.Y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a ST RBridge on the edge reporting it is connected to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cted through LS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ated by having DT RBridge that is appointed forwarder for DT VLAN X.Y refrain from ingressing or egressing VLAN X.Y,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nd compl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4651E-1535-4BDB-8B20-E257EE83B2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TRILL W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Radia Perlman</dc:creator>
  <dc:description/>
  <dc:language>en-US</dc:language>
  <cp:lastModifiedBy>Donald Eastlake III</cp:lastModifiedBy>
  <dcterms:modified xsi:type="dcterms:W3CDTF">2011-07-25T15:13:56Z</dcterms:modified>
  <cp:revision>51</cp:revision>
  <dc:subject/>
  <dc:title>Rbridges: Transparent Routing</dc:title>
</cp:coreProperties>
</file>