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1720" y="687240"/>
            <a:ext cx="4530600" cy="339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96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80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7B7D-7A97-490D-BA4E-61EF46D60C9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BFBA-5ADF-4F40-9D59-4A56375DDCF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Date Placeholder 1"/>
          <p:cNvSpPr/>
          <p:nvPr/>
        </p:nvSpPr>
        <p:spPr>
          <a:xfrm>
            <a:off x="388476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BC9-21AC-4A23-AD65-7097557D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E1C-85A2-44E6-A874-EF643026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756-8997-427E-B914-1502522E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192-7353-4A2B-8940-1BDA8189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780-02CA-48E2-89B4-8BF35A42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ED4-7C0D-4991-B425-38CC5996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6D3-2233-4BF2-A27E-68A3BBB1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01A-6064-4E93-9B17-75437BD0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702-EF05-43F7-857C-A77CAE29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C344-F4D2-4772-BB5A-92C9CA40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B3A-5F8F-4EE3-B64E-6B9E4225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33D-B45B-40A8-AA6A-713A3610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3508-C0C8-479D-B694-8B5A2406C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e-Grained VLAN Labeling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eastlake-trill-rbridge-fine-labeling-01.tx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38862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 Per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 L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perlman@gmai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C09F-A4B5-4BED-A6E3-744F60329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 in c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time core RBridges look at VLAN tag is for filtering multidestination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OK for filtering not to be perfect (i.e., only filter on 12 of the 24 VLAN bits – it just wastes a bit of bandwidth, and filtering is a SHOULD anyway, not a MU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must not falsely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66AD-017B-47F9-814C-4DD9E7D1D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voiding false filtering with ST R1 in c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ke sure that R1 does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falsely filter (X.Y), all edge RBridges attached to any fine-grained label with the first 12 bits=X must report connectivity to ST VLAN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ddition to DT VLAN (X.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E98A-7145-4F4A-A5E5-5F1E2AA3C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c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ally no change, except for pri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re are two VLAN tags, t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two priority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 RBridges use the priority in the first VLAN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5CE8-365A-4FF9-8329-D4CEA6705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Var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might be reasons for R1 to send a multidestination frame as several unicasts inst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might be a very small number of edge RBridges that need to see the frame (e.g., a VLAN that only exists at a few pla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n alternative instead of disabling connectivity to X.Y, when illegal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optional for ingress to send, but mandatory for egress to receive a multidestination frame as a directed unic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6126-DF6E-48CD-A343-D21800BD4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V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existing sili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existing RBridges to work i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misconfigurations (having old RBridges on the edge) d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do anything b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opportunity: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iority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F98F-78C3-43D6-9039-4F681EC5B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wo VLANs (in the inner packet), to encode 24 bits of VLAN (16 mill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9F94-4C8E-4672-BC87-9A66248FD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 VLAN t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2438280" y="1905120"/>
            <a:ext cx="1905120" cy="43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243828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421720" y="194328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er Ethernet h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4556880" y="20192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2438280" y="3124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2616120" y="262908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L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4572720" y="2681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2727360" y="3086280"/>
            <a:ext cx="135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8"/>
          <p:cNvSpPr/>
          <p:nvPr/>
        </p:nvSpPr>
        <p:spPr>
          <a:xfrm flipH="1">
            <a:off x="2438280" y="38098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9"/>
          <p:cNvSpPr/>
          <p:nvPr/>
        </p:nvSpPr>
        <p:spPr>
          <a:xfrm>
            <a:off x="2438280" y="45720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2438280" y="3809880"/>
            <a:ext cx="1905120" cy="762120"/>
          </a:xfrm>
          <a:prstGeom prst="rect">
            <a:avLst/>
          </a:prstGeom>
          <a:gradFill rotWithShape="0">
            <a:gsLst>
              <a:gs pos="0">
                <a:srgbClr val="ff00ff">
                  <a:alpha val="57254"/>
                </a:srgbClr>
              </a:gs>
              <a:gs pos="100000">
                <a:srgbClr val="ffc6ff">
                  <a:alpha val="59215"/>
                </a:srgbClr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AN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2"/>
          <p:cNvSpPr/>
          <p:nvPr/>
        </p:nvSpPr>
        <p:spPr>
          <a:xfrm flipH="1">
            <a:off x="2438280" y="55627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2728080" y="47624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574720" y="56768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 Tr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5"/>
          <p:cNvSpPr/>
          <p:nvPr/>
        </p:nvSpPr>
        <p:spPr>
          <a:xfrm flipH="1">
            <a:off x="4495320" y="41911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5392800" y="3924360"/>
            <a:ext cx="295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what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fine-grained lab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d:  single VLAN 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e-grained: two consecu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AN tags (both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9784-CE8A-4302-96C4-C590EFA76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=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Ta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Bridge, i.e., not fine-grained labeling a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=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Ta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Bridge, i.e., fine-grained labeling a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.Y) = Fine-grained label with first 12 bits=X, an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 bits=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5822-BF86-4A3D-AA77-31BFDEC93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ing DT-cap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 RBridges will report their DT-capability in LS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refore DT RBridges will know which RBridges are ST, and which are 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593D-76CF-45BC-8920-46A8E5114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orting Attached fine-grained lab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sub-TLV in LSP for appointed forwarder to report attachment to a range of 24-bit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ignored by ST RB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0CC7-6B74-4744-AE2F-04A937188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issues with mixing ST and DT RBrid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T RBridge in core, make sure it does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lsely filter multidestination (letting extra traffic through is OK, but blocking traffic because confusion with double ta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 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re ST RBridge exists, then DT R2 attached to X.Y must report attachment to ST VLA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llow some ST edge RBridges, we will allow some VLANs (say first k) to be announced with a single tag, whether ingressed by DT or 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680C-DE9F-4B67-87A0-7B0583876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egal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egal if ALL of the following are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tag VLA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tag VLA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ST RBridge on the edge reporting it is connected 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ed through LS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ted by having DT RBridge that is appointed forwarder for DT VLAN X.Y refrain from ingressing or egressing VLAN X.Y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d compl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1CAB-9BD9-413D-AEC2-7DA380648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adia Perlman</dc:creator>
  <dc:description/>
  <dc:language>en-US</dc:language>
  <cp:lastModifiedBy>Donald Eastlake III</cp:lastModifiedBy>
  <dcterms:modified xsi:type="dcterms:W3CDTF">2011-07-25T15:13:56Z</dcterms:modified>
  <cp:revision>51</cp:revision>
  <dc:subject/>
  <dc:title>Rbridges: Transparent Routing</dc:title>
</cp:coreProperties>
</file>