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OAM &amp; BF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1F2AE-59E2-4BA6-8569-C6D283B4E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376D7-6608-4DDB-B894-73019BD39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OAM &amp; BF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30DF3-6860-4D3D-9250-80F5572F2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OAM &amp; BF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3DE-28B2-4614-AF33-4050E7DA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D1E-9A96-44B7-9FEC-20F84EA9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501-7B6B-4C9F-9FF1-CDFDA25A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C32-170F-482D-A386-15FE2776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238-2A52-4AB3-9EB7-9EDC963F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FBE-B081-4600-9201-5EC0814D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B8E-8502-46CB-89E1-33408D83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E08-CD4F-46D4-8A7F-705A2782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007-18C7-4645-AF95-E70EB141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227-0B2B-4857-B024-2BA1EDB6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E84-AEEF-4EEF-A1D8-13446276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AFC-86CA-4CA4-8574-10199E7D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O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4712A-D439-4F4D-AC2F-675153857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Pseudonode Nickname </a:t>
            </a:r>
            <a:br>
              <a:rPr sz="72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hu-trill-pseudonode-nickname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44600" y="4097160"/>
            <a:ext cx="4538880" cy="15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Hongjun Zhai (Z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Fangwei Hu  (Z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Radia Perlman (Intel Lab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2000" spc="-1" strike="noStrike" baseline="30000">
                <a:solidFill>
                  <a:srgbClr val="898989"/>
                </a:solidFill>
                <a:latin typeface="Calibri"/>
              </a:rPr>
              <a:t>rd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(Huawe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F4AED-21E3-45DD-85B4-C791A7528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ontrol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eudonode nickname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RBridge on the link announces its pseudonode nickname capability in its TRILL Hel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if DRB confirms that all the adjacencies in Report state support and enable this capability,  this function can be enabled on the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764C0-E34A-4AFA-917B-54DF6E52F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ontrol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eudonode nickname in Hel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RBridge announces the pseudonode nickname used on this link if it knows such one nick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the pseudonode nickname contained in adjacencies’ hellos, a new DRB can obtain the pseudonode nickname used on this link and reus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0DEF7-2C13-40D1-9294-BF6599E2D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ontrol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eudonode nickname in LS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seudonode nickname is announced in DRB’s pseudonode LSPs across TRILL camp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the help of pseudonode LSPs and the contained pseudonode nickname, other Rbridges can calculate a shortest path to the pseudonode nick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9718C-0CE5-4313-8E5C-5FB2110DA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raffic fails caused by AF ch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Control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ata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LV Extension for Pseudonon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BDFA3-6C33-458F-BA1F-2E6A012DA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ata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eudonode nickname is not used for multicast frames, but for unicast data fram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cast TRILL data frames is forwarded along the given Distribution Tree, which contains all the RBridges in TRILL camp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multicast traffic can not fail even if AF has change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eudonode nickname influences only ingress and egress RBridges, not transit Rbridges in data pl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FABC6-A55C-49AB-9EF8-48C916625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ata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gress process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gress nickname is pseudonode nickname instead of RBridge’s nickname in TRILL he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FBFDF-8A50-42DF-BC8F-826E29D9F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46"/>
          <p:cNvGrpSpPr/>
          <p:nvPr/>
        </p:nvGrpSpPr>
        <p:grpSpPr>
          <a:xfrm>
            <a:off x="1805040" y="2928960"/>
            <a:ext cx="5324400" cy="2008080"/>
            <a:chOff x="1805040" y="2928960"/>
            <a:chExt cx="5324400" cy="2008080"/>
          </a:xfrm>
        </p:grpSpPr>
        <p:sp>
          <p:nvSpPr>
            <p:cNvPr id="209" name="Cloud"/>
            <p:cNvSpPr/>
            <p:nvPr/>
          </p:nvSpPr>
          <p:spPr>
            <a:xfrm>
              <a:off x="1904760" y="2928960"/>
              <a:ext cx="4405320" cy="1884240"/>
            </a:xfrm>
            <a:custGeom>
              <a:avLst/>
              <a:gdLst>
                <a:gd name="textAreaLeft" fmla="*/ 606960 w 4405320"/>
                <a:gd name="textAreaRight" fmla="*/ 3485160 w 4405320"/>
                <a:gd name="textAreaTop" fmla="*/ 284400 h 1884240"/>
                <a:gd name="textAreaBottom" fmla="*/ 1512360 h 18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43"/>
            <p:cNvSpPr/>
            <p:nvPr/>
          </p:nvSpPr>
          <p:spPr>
            <a:xfrm>
              <a:off x="1847880" y="4317840"/>
              <a:ext cx="1631880" cy="4618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2357280" y="4290120"/>
              <a:ext cx="9226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seNick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"/>
            <p:cNvSpPr/>
            <p:nvPr/>
          </p:nvSpPr>
          <p:spPr>
            <a:xfrm>
              <a:off x="5310360" y="3003480"/>
              <a:ext cx="504720" cy="287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RB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2981160" y="397512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2084400" y="3986280"/>
              <a:ext cx="504720" cy="287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RB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2488320" y="3076560"/>
              <a:ext cx="13698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ILL Camp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7"/>
            <p:cNvSpPr/>
            <p:nvPr/>
          </p:nvSpPr>
          <p:spPr>
            <a:xfrm>
              <a:off x="2079360" y="4576680"/>
              <a:ext cx="1406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8"/>
            <p:cNvSpPr/>
            <p:nvPr/>
          </p:nvSpPr>
          <p:spPr>
            <a:xfrm>
              <a:off x="2360520" y="42735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9"/>
            <p:cNvSpPr/>
            <p:nvPr/>
          </p:nvSpPr>
          <p:spPr>
            <a:xfrm>
              <a:off x="3046320" y="457668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30"/>
            <p:cNvSpPr/>
            <p:nvPr/>
          </p:nvSpPr>
          <p:spPr>
            <a:xfrm>
              <a:off x="2386080" y="4794480"/>
              <a:ext cx="142560" cy="142560"/>
            </a:xfrm>
            <a:prstGeom prst="flowChartConnector">
              <a:avLst/>
            </a:prstGeom>
            <a:solidFill>
              <a:srgbClr val="ff000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1"/>
            <p:cNvSpPr/>
            <p:nvPr/>
          </p:nvSpPr>
          <p:spPr>
            <a:xfrm>
              <a:off x="2973240" y="4794480"/>
              <a:ext cx="142560" cy="14256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2"/>
            <p:cNvSpPr/>
            <p:nvPr/>
          </p:nvSpPr>
          <p:spPr>
            <a:xfrm>
              <a:off x="3117960" y="4649760"/>
              <a:ext cx="2156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3"/>
            <p:cNvSpPr/>
            <p:nvPr/>
          </p:nvSpPr>
          <p:spPr>
            <a:xfrm>
              <a:off x="2141280" y="471384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9"/>
            <p:cNvSpPr/>
            <p:nvPr/>
          </p:nvSpPr>
          <p:spPr>
            <a:xfrm>
              <a:off x="2455920" y="457668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2"/>
            <p:cNvSpPr/>
            <p:nvPr/>
          </p:nvSpPr>
          <p:spPr>
            <a:xfrm flipV="1">
              <a:off x="2428920" y="3524400"/>
              <a:ext cx="1057320" cy="4615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8"/>
            <p:cNvSpPr/>
            <p:nvPr/>
          </p:nvSpPr>
          <p:spPr>
            <a:xfrm>
              <a:off x="3246480" y="426240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"/>
            <p:cNvSpPr/>
            <p:nvPr/>
          </p:nvSpPr>
          <p:spPr>
            <a:xfrm>
              <a:off x="5310360" y="343368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B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7"/>
            <p:cNvSpPr/>
            <p:nvPr/>
          </p:nvSpPr>
          <p:spPr>
            <a:xfrm>
              <a:off x="6124680" y="2952360"/>
              <a:ext cx="0" cy="798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8"/>
            <p:cNvSpPr/>
            <p:nvPr/>
          </p:nvSpPr>
          <p:spPr>
            <a:xfrm flipH="1">
              <a:off x="6124320" y="335556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8"/>
            <p:cNvSpPr/>
            <p:nvPr/>
          </p:nvSpPr>
          <p:spPr>
            <a:xfrm flipH="1">
              <a:off x="5814720" y="3133440"/>
              <a:ext cx="30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8"/>
            <p:cNvSpPr/>
            <p:nvPr/>
          </p:nvSpPr>
          <p:spPr>
            <a:xfrm flipH="1">
              <a:off x="5798880" y="359712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86"/>
            <p:cNvSpPr/>
            <p:nvPr/>
          </p:nvSpPr>
          <p:spPr>
            <a:xfrm>
              <a:off x="6586560" y="3283920"/>
              <a:ext cx="142560" cy="142560"/>
            </a:xfrm>
            <a:prstGeom prst="flowChartConnector">
              <a:avLst/>
            </a:prstGeom>
            <a:solidFill>
              <a:srgbClr val="ff0000">
                <a:alpha val="5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89"/>
            <p:cNvSpPr/>
            <p:nvPr/>
          </p:nvSpPr>
          <p:spPr>
            <a:xfrm>
              <a:off x="6729480" y="3234960"/>
              <a:ext cx="3999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7"/>
            <p:cNvSpPr/>
            <p:nvPr/>
          </p:nvSpPr>
          <p:spPr>
            <a:xfrm flipH="1" flipV="1">
              <a:off x="3992040" y="3596760"/>
              <a:ext cx="803160" cy="5907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7"/>
            <p:cNvSpPr/>
            <p:nvPr/>
          </p:nvSpPr>
          <p:spPr>
            <a:xfrm flipH="1">
              <a:off x="3480120" y="4086360"/>
              <a:ext cx="1017360" cy="20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3"/>
            <p:cNvSpPr/>
            <p:nvPr/>
          </p:nvSpPr>
          <p:spPr>
            <a:xfrm>
              <a:off x="1805040" y="445788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5980320" y="375084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3"/>
            <p:cNvSpPr/>
            <p:nvPr/>
          </p:nvSpPr>
          <p:spPr>
            <a:xfrm>
              <a:off x="3487680" y="338112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B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2"/>
            <p:cNvSpPr/>
            <p:nvPr/>
          </p:nvSpPr>
          <p:spPr>
            <a:xfrm flipV="1">
              <a:off x="3992400" y="3164040"/>
              <a:ext cx="1317600" cy="2880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"/>
            <p:cNvSpPr/>
            <p:nvPr/>
          </p:nvSpPr>
          <p:spPr>
            <a:xfrm>
              <a:off x="4497480" y="396864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7"/>
            <p:cNvSpPr/>
            <p:nvPr/>
          </p:nvSpPr>
          <p:spPr>
            <a:xfrm flipH="1">
              <a:off x="4795920" y="3621240"/>
              <a:ext cx="514080" cy="3535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 flipH="1">
              <a:off x="3333240" y="3678480"/>
              <a:ext cx="447480" cy="3074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45"/>
          <p:cNvSpPr/>
          <p:nvPr/>
        </p:nvSpPr>
        <p:spPr>
          <a:xfrm>
            <a:off x="789120" y="5151600"/>
            <a:ext cx="71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RB1 encapsulates H1’s native data frame into TRILL form, the ingress nickname in TRILL header is PseNick1 not RB1 if the pseudonode nickname function is enabled on link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上弧形箭头 36"/>
          <p:cNvSpPr/>
          <p:nvPr/>
        </p:nvSpPr>
        <p:spPr>
          <a:xfrm flipV="1" rot="20366400">
            <a:off x="2459160" y="4196880"/>
            <a:ext cx="4498920" cy="414000"/>
          </a:xfrm>
          <a:custGeom>
            <a:avLst/>
            <a:gdLst>
              <a:gd name="textAreaLeft" fmla="*/ 1085760 w 4498920"/>
              <a:gd name="textAreaRight" fmla="*/ 3361320 w 4498920"/>
              <a:gd name="textAreaTop" fmla="*/ 55440 h 414000"/>
              <a:gd name="textAreaBottom" fmla="*/ 358560 h 41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27" hR="21600" stAng="10800000" swAng="5400000"/>
                <a:lnTo>
                  <a:pt x="10924" y="0"/>
                </a:lnTo>
                <a:arcTo wR="10427" hR="21600" stAng="-5400000" swAng="3711539"/>
                <a:lnTo>
                  <a:pt x="21269" y="16200"/>
                </a:lnTo>
                <a:lnTo>
                  <a:pt x="21103" y="21600"/>
                </a:lnTo>
                <a:lnTo>
                  <a:pt x="20274" y="16200"/>
                </a:lnTo>
                <a:lnTo>
                  <a:pt x="20523" y="16200"/>
                </a:lnTo>
                <a:arcTo wR="10427" hR="21600" stAng="-1688461" swAng="-3671979"/>
                <a:lnTo>
                  <a:pt x="10676" y="6"/>
                </a:lnTo>
                <a:arcTo wR="10427" hR="21600" stAng="-5439559" swAng="-5360441"/>
                <a:close/>
              </a:path>
              <a:path fill="darkenLess" w="21600" h="21600">
                <a:moveTo>
                  <a:pt x="0" y="21600"/>
                </a:moveTo>
                <a:arcTo wR="10427" hR="21600" stAng="10800000" swAng="5400000"/>
                <a:lnTo>
                  <a:pt x="10427" y="0"/>
                </a:lnTo>
                <a:arcTo wR="10427" hR="21600" stAng="-5400000" swAng="39559"/>
                <a:lnTo>
                  <a:pt x="10676" y="6"/>
                </a:lnTo>
                <a:arcTo wR="10427" hR="21600" stAng="-5439559" swAng="-5360441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4164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ata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gress process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VLAN-x forwarder on the destination link can decapsulate the TRILL data frame to native form, and do self-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case that the egress nickname in TRILL header is the pseudonode nickname of one connected link, the receiving RBridge should forward it to the VLAN-x forwarder if it is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methods are given for receiving RBridge to forward the fram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casting to VLAN-x A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lticasting to VLAN-x A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708BA-0109-4524-A123-6EF212A28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组合 63"/>
          <p:cNvGrpSpPr/>
          <p:nvPr/>
        </p:nvGrpSpPr>
        <p:grpSpPr>
          <a:xfrm>
            <a:off x="1327320" y="2908080"/>
            <a:ext cx="5027400" cy="2025720"/>
            <a:chOff x="1327320" y="2908080"/>
            <a:chExt cx="5027400" cy="2025720"/>
          </a:xfrm>
        </p:grpSpPr>
        <p:grpSp>
          <p:nvGrpSpPr>
            <p:cNvPr id="250" name="组合 67"/>
            <p:cNvGrpSpPr/>
            <p:nvPr/>
          </p:nvGrpSpPr>
          <p:grpSpPr>
            <a:xfrm>
              <a:off x="1327320" y="2908080"/>
              <a:ext cx="5027400" cy="2025720"/>
              <a:chOff x="1327320" y="2908080"/>
              <a:chExt cx="5027400" cy="2025720"/>
            </a:xfrm>
          </p:grpSpPr>
          <p:sp>
            <p:nvSpPr>
              <p:cNvPr id="251" name="Cloud"/>
              <p:cNvSpPr/>
              <p:nvPr/>
            </p:nvSpPr>
            <p:spPr>
              <a:xfrm>
                <a:off x="1427040" y="2908440"/>
                <a:ext cx="4405320" cy="1942920"/>
              </a:xfrm>
              <a:custGeom>
                <a:avLst/>
                <a:gdLst>
                  <a:gd name="textAreaLeft" fmla="*/ 606960 w 4405320"/>
                  <a:gd name="textAreaRight" fmla="*/ 3485160 w 4405320"/>
                  <a:gd name="textAreaTop" fmla="*/ 293400 h 1942920"/>
                  <a:gd name="textAreaBottom" fmla="*/ 1559520 h 19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49" y="7180"/>
                    </a:moveTo>
                    <a:cubicBezTo>
                      <a:pt x="841" y="7336"/>
                      <a:pt x="0" y="8613"/>
                      <a:pt x="0" y="10137"/>
                    </a:cubicBezTo>
                    <a:cubicBezTo>
                      <a:pt x="-1" y="11192"/>
                      <a:pt x="409" y="12169"/>
                      <a:pt x="1074" y="12702"/>
                    </a:cubicBezTo>
                    <a:lnTo>
                      <a:pt x="1063" y="12668"/>
                    </a:lnTo>
                    <a:cubicBezTo>
                      <a:pt x="685" y="13217"/>
                      <a:pt x="475" y="13940"/>
                      <a:pt x="475" y="14690"/>
                    </a:cubicBezTo>
                    <a:cubicBezTo>
                      <a:pt x="475" y="16325"/>
                      <a:pt x="1451" y="17650"/>
                      <a:pt x="2655" y="17650"/>
                    </a:cubicBezTo>
                    <a:cubicBezTo>
                      <a:pt x="2739" y="17650"/>
                      <a:pt x="2824" y="17643"/>
                      <a:pt x="2909" y="17629"/>
                    </a:cubicBezTo>
                    <a:lnTo>
                      <a:pt x="2897" y="17649"/>
                    </a:lnTo>
                    <a:cubicBezTo>
                      <a:pt x="3585" y="19288"/>
                      <a:pt x="4863" y="20300"/>
                      <a:pt x="6247" y="20300"/>
                    </a:cubicBezTo>
                    <a:cubicBezTo>
                      <a:pt x="6947" y="20299"/>
                      <a:pt x="7635" y="20039"/>
                      <a:pt x="8235" y="19546"/>
                    </a:cubicBezTo>
                    <a:lnTo>
                      <a:pt x="8229" y="19550"/>
                    </a:lnTo>
                    <a:cubicBezTo>
                      <a:pt x="8855" y="20829"/>
                      <a:pt x="9908" y="21597"/>
                      <a:pt x="11036" y="21597"/>
                    </a:cubicBezTo>
                    <a:cubicBezTo>
                      <a:pt x="12523" y="21596"/>
                      <a:pt x="13836" y="20267"/>
                      <a:pt x="14267" y="18324"/>
                    </a:cubicBezTo>
                    <a:lnTo>
                      <a:pt x="14270" y="18350"/>
                    </a:lnTo>
                    <a:cubicBezTo>
                      <a:pt x="14730" y="18740"/>
                      <a:pt x="15260" y="18947"/>
                      <a:pt x="15802" y="18947"/>
                    </a:cubicBezTo>
                    <a:cubicBezTo>
                      <a:pt x="17390" y="18946"/>
                      <a:pt x="18682" y="17205"/>
                      <a:pt x="18694" y="15045"/>
                    </a:cubicBezTo>
                    <a:lnTo>
                      <a:pt x="18689" y="15035"/>
                    </a:lnTo>
                    <a:cubicBezTo>
                      <a:pt x="20357" y="14710"/>
                      <a:pt x="21597" y="12765"/>
                      <a:pt x="21597" y="10472"/>
                    </a:cubicBezTo>
                    <a:cubicBezTo>
                      <a:pt x="21597" y="9456"/>
                      <a:pt x="21350" y="8469"/>
                      <a:pt x="20896" y="7663"/>
                    </a:cubicBezTo>
                    <a:lnTo>
                      <a:pt x="20889" y="7661"/>
                    </a:lnTo>
                    <a:cubicBezTo>
                      <a:pt x="21031" y="7208"/>
                      <a:pt x="21105" y="6721"/>
                      <a:pt x="21105" y="6228"/>
                    </a:cubicBezTo>
                    <a:cubicBezTo>
                      <a:pt x="21105" y="4588"/>
                      <a:pt x="20299" y="3150"/>
                      <a:pt x="19139" y="2719"/>
                    </a:cubicBezTo>
                    <a:lnTo>
                      <a:pt x="19148" y="2712"/>
                    </a:lnTo>
                    <a:cubicBezTo>
                      <a:pt x="18940" y="1142"/>
                      <a:pt x="17933" y="0"/>
                      <a:pt x="16758" y="0"/>
                    </a:cubicBezTo>
                    <a:cubicBezTo>
                      <a:pt x="16044" y="-1"/>
                      <a:pt x="15367" y="426"/>
                      <a:pt x="14905" y="1165"/>
                    </a:cubicBezTo>
                    <a:lnTo>
                      <a:pt x="14909" y="1170"/>
                    </a:lnTo>
                    <a:cubicBezTo>
                      <a:pt x="14497" y="432"/>
                      <a:pt x="13855" y="0"/>
                      <a:pt x="13174" y="0"/>
                    </a:cubicBezTo>
                    <a:cubicBezTo>
                      <a:pt x="12347" y="-1"/>
                      <a:pt x="11590" y="637"/>
                      <a:pt x="11221" y="1645"/>
                    </a:cubicBezTo>
                    <a:lnTo>
                      <a:pt x="11229" y="1694"/>
                    </a:lnTo>
                    <a:cubicBezTo>
                      <a:pt x="10730" y="1024"/>
                      <a:pt x="10058" y="650"/>
                      <a:pt x="9358" y="650"/>
                    </a:cubicBezTo>
                    <a:cubicBezTo>
                      <a:pt x="8372" y="649"/>
                      <a:pt x="7466" y="1391"/>
                      <a:pt x="7003" y="2578"/>
                    </a:cubicBezTo>
                    <a:lnTo>
                      <a:pt x="6995" y="2602"/>
                    </a:lnTo>
                    <a:cubicBezTo>
                      <a:pt x="6477" y="2189"/>
                      <a:pt x="5888" y="1972"/>
                      <a:pt x="5288" y="1972"/>
                    </a:cubicBezTo>
                    <a:cubicBezTo>
                      <a:pt x="3423" y="1972"/>
                      <a:pt x="1912" y="4029"/>
                      <a:pt x="1912" y="6567"/>
                    </a:cubicBezTo>
                    <a:cubicBezTo>
                      <a:pt x="1911" y="6774"/>
                      <a:pt x="1922" y="6981"/>
                      <a:pt x="1942" y="7186"/>
                    </a:cubicBezTo>
                    <a:lnTo>
                      <a:pt x="1949" y="7180"/>
                    </a:lnTo>
                    <a:close/>
                  </a:path>
                  <a:path fill="none" w="21600" h="21600">
                    <a:moveTo>
                      <a:pt x="1074" y="12702"/>
                    </a:moveTo>
                    <a:cubicBezTo>
                      <a:pt x="1407" y="12969"/>
                      <a:pt x="1786" y="13110"/>
                      <a:pt x="2172" y="13110"/>
                    </a:cubicBezTo>
                    <a:cubicBezTo>
                      <a:pt x="2228" y="13109"/>
                      <a:pt x="2285" y="13107"/>
                      <a:pt x="2341" y="13101"/>
                    </a:cubicBezTo>
                  </a:path>
                  <a:path fill="none" w="21600" h="21600">
                    <a:moveTo>
                      <a:pt x="2909" y="17629"/>
                    </a:moveTo>
                    <a:cubicBezTo>
                      <a:pt x="3099" y="17599"/>
                      <a:pt x="3285" y="17535"/>
                      <a:pt x="3463" y="17439"/>
                    </a:cubicBezTo>
                  </a:path>
                  <a:path fill="none" w="21600" h="21600">
                    <a:moveTo>
                      <a:pt x="7895" y="18680"/>
                    </a:moveTo>
                    <a:cubicBezTo>
                      <a:pt x="7983" y="18985"/>
                      <a:pt x="8095" y="19277"/>
                      <a:pt x="8229" y="19550"/>
                    </a:cubicBezTo>
                  </a:path>
                  <a:path fill="none" w="21600" h="21600">
                    <a:moveTo>
                      <a:pt x="14267" y="18324"/>
                    </a:moveTo>
                    <a:cubicBezTo>
                      <a:pt x="14336" y="18013"/>
                      <a:pt x="14380" y="17693"/>
                      <a:pt x="14400" y="17370"/>
                    </a:cubicBezTo>
                  </a:path>
                  <a:path fill="none" w="21600" h="21600">
                    <a:moveTo>
                      <a:pt x="18694" y="15045"/>
                    </a:moveTo>
                    <a:cubicBezTo>
                      <a:pt x="18694" y="15034"/>
                      <a:pt x="18695" y="15024"/>
                      <a:pt x="18695" y="15013"/>
                    </a:cubicBezTo>
                    <a:cubicBezTo>
                      <a:pt x="18695" y="13508"/>
                      <a:pt x="18063" y="12136"/>
                      <a:pt x="17069" y="11477"/>
                    </a:cubicBezTo>
                  </a:path>
                  <a:path fill="none" w="21600" h="21600">
                    <a:moveTo>
                      <a:pt x="20165" y="8999"/>
                    </a:moveTo>
                    <a:cubicBezTo>
                      <a:pt x="20479" y="8635"/>
                      <a:pt x="20726" y="8177"/>
                      <a:pt x="20889" y="7661"/>
                    </a:cubicBezTo>
                  </a:path>
                  <a:path fill="none" w="21600" h="21600">
                    <a:moveTo>
                      <a:pt x="19186" y="3344"/>
                    </a:moveTo>
                    <a:cubicBezTo>
                      <a:pt x="19186" y="3328"/>
                      <a:pt x="19187" y="3313"/>
                      <a:pt x="19187" y="3297"/>
                    </a:cubicBezTo>
                    <a:cubicBezTo>
                      <a:pt x="19187" y="3101"/>
                      <a:pt x="19174" y="2905"/>
                      <a:pt x="19148" y="2712"/>
                    </a:cubicBezTo>
                  </a:path>
                  <a:path fill="none" w="21600" h="21600">
                    <a:moveTo>
                      <a:pt x="14905" y="1165"/>
                    </a:moveTo>
                    <a:cubicBezTo>
                      <a:pt x="14754" y="1408"/>
                      <a:pt x="14629" y="1679"/>
                      <a:pt x="14535" y="1971"/>
                    </a:cubicBezTo>
                  </a:path>
                  <a:path fill="none" w="21600" h="21600">
                    <a:moveTo>
                      <a:pt x="11221" y="1645"/>
                    </a:moveTo>
                    <a:cubicBezTo>
                      <a:pt x="11140" y="1866"/>
                      <a:pt x="11080" y="2099"/>
                      <a:pt x="11041" y="2340"/>
                    </a:cubicBezTo>
                  </a:path>
                  <a:path fill="none" w="21600" h="21600">
                    <a:moveTo>
                      <a:pt x="7645" y="3276"/>
                    </a:moveTo>
                    <a:cubicBezTo>
                      <a:pt x="7449" y="3016"/>
                      <a:pt x="7231" y="2790"/>
                      <a:pt x="6995" y="2602"/>
                    </a:cubicBezTo>
                  </a:path>
                  <a:path fill="none" w="21600" h="21600">
                    <a:moveTo>
                      <a:pt x="1942" y="7186"/>
                    </a:moveTo>
                    <a:cubicBezTo>
                      <a:pt x="1966" y="7426"/>
                      <a:pt x="2004" y="7663"/>
                      <a:pt x="2056" y="7895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椭圆 58"/>
              <p:cNvSpPr/>
              <p:nvPr/>
            </p:nvSpPr>
            <p:spPr>
              <a:xfrm rot="16200000">
                <a:off x="4984920" y="3315960"/>
                <a:ext cx="1331640" cy="5158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椭圆 43"/>
              <p:cNvSpPr/>
              <p:nvPr/>
            </p:nvSpPr>
            <p:spPr>
              <a:xfrm>
                <a:off x="1370160" y="4240080"/>
                <a:ext cx="163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8"/>
              <p:cNvSpPr/>
              <p:nvPr/>
            </p:nvSpPr>
            <p:spPr>
              <a:xfrm>
                <a:off x="1879560" y="4211280"/>
                <a:ext cx="92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seNick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"/>
              <p:cNvSpPr/>
              <p:nvPr/>
            </p:nvSpPr>
            <p:spPr>
              <a:xfrm>
                <a:off x="4832280" y="3446280"/>
                <a:ext cx="504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B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5"/>
              <p:cNvSpPr/>
              <p:nvPr/>
            </p:nvSpPr>
            <p:spPr>
              <a:xfrm>
                <a:off x="1606680" y="3907800"/>
                <a:ext cx="504720" cy="28728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RB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8"/>
              <p:cNvSpPr/>
              <p:nvPr/>
            </p:nvSpPr>
            <p:spPr>
              <a:xfrm>
                <a:off x="2909880" y="2997720"/>
                <a:ext cx="13698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RILL Camp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27"/>
              <p:cNvSpPr/>
              <p:nvPr/>
            </p:nvSpPr>
            <p:spPr>
              <a:xfrm>
                <a:off x="1601640" y="4498920"/>
                <a:ext cx="1406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28"/>
              <p:cNvSpPr/>
              <p:nvPr/>
            </p:nvSpPr>
            <p:spPr>
              <a:xfrm>
                <a:off x="1882800" y="419544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29"/>
              <p:cNvSpPr/>
              <p:nvPr/>
            </p:nvSpPr>
            <p:spPr>
              <a:xfrm>
                <a:off x="2568600" y="449892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30"/>
              <p:cNvSpPr/>
              <p:nvPr/>
            </p:nvSpPr>
            <p:spPr>
              <a:xfrm>
                <a:off x="1908000" y="4716360"/>
                <a:ext cx="142560" cy="142920"/>
              </a:xfrm>
              <a:prstGeom prst="flowChartConnector">
                <a:avLst/>
              </a:prstGeom>
              <a:solidFill>
                <a:srgbClr val="ff0000">
                  <a:alpha val="6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31"/>
              <p:cNvSpPr/>
              <p:nvPr/>
            </p:nvSpPr>
            <p:spPr>
              <a:xfrm>
                <a:off x="2495520" y="4716360"/>
                <a:ext cx="142560" cy="142920"/>
              </a:xfrm>
              <a:prstGeom prst="flowChartConnector">
                <a:avLst/>
              </a:prstGeom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>
                <a:off x="2693880" y="4716360"/>
                <a:ext cx="21564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H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>
                <a:off x="1629000" y="47019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H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39"/>
              <p:cNvSpPr/>
              <p:nvPr/>
            </p:nvSpPr>
            <p:spPr>
              <a:xfrm>
                <a:off x="1978200" y="449892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42"/>
              <p:cNvSpPr/>
              <p:nvPr/>
            </p:nvSpPr>
            <p:spPr>
              <a:xfrm flipV="1">
                <a:off x="1951200" y="3445200"/>
                <a:ext cx="1056960" cy="461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28"/>
              <p:cNvSpPr/>
              <p:nvPr/>
            </p:nvSpPr>
            <p:spPr>
              <a:xfrm>
                <a:off x="2768760" y="418428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"/>
              <p:cNvSpPr/>
              <p:nvPr/>
            </p:nvSpPr>
            <p:spPr>
              <a:xfrm>
                <a:off x="4832280" y="3876480"/>
                <a:ext cx="504720" cy="2872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RB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7"/>
              <p:cNvSpPr/>
              <p:nvPr/>
            </p:nvSpPr>
            <p:spPr>
              <a:xfrm>
                <a:off x="5646960" y="2997720"/>
                <a:ext cx="0" cy="1195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8"/>
              <p:cNvSpPr/>
              <p:nvPr/>
            </p:nvSpPr>
            <p:spPr>
              <a:xfrm flipH="1">
                <a:off x="5660640" y="3268800"/>
                <a:ext cx="42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8"/>
              <p:cNvSpPr/>
              <p:nvPr/>
            </p:nvSpPr>
            <p:spPr>
              <a:xfrm flipH="1">
                <a:off x="5337000" y="3576240"/>
                <a:ext cx="30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8"/>
              <p:cNvSpPr/>
              <p:nvPr/>
            </p:nvSpPr>
            <p:spPr>
              <a:xfrm flipH="1">
                <a:off x="5337000" y="403992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utoShape 86"/>
              <p:cNvSpPr/>
              <p:nvPr/>
            </p:nvSpPr>
            <p:spPr>
              <a:xfrm>
                <a:off x="6072120" y="3189960"/>
                <a:ext cx="142560" cy="142920"/>
              </a:xfrm>
              <a:prstGeom prst="flowChartConnector">
                <a:avLst/>
              </a:prstGeom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89"/>
              <p:cNvSpPr/>
              <p:nvPr/>
            </p:nvSpPr>
            <p:spPr>
              <a:xfrm>
                <a:off x="5954760" y="2941920"/>
                <a:ext cx="3999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H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7"/>
              <p:cNvSpPr/>
              <p:nvPr/>
            </p:nvSpPr>
            <p:spPr>
              <a:xfrm flipH="1" flipV="1">
                <a:off x="3514680" y="3518640"/>
                <a:ext cx="1317600" cy="488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7"/>
              <p:cNvSpPr/>
              <p:nvPr/>
            </p:nvSpPr>
            <p:spPr>
              <a:xfrm flipH="1">
                <a:off x="3002040" y="4007880"/>
                <a:ext cx="1017360" cy="2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33"/>
              <p:cNvSpPr/>
              <p:nvPr/>
            </p:nvSpPr>
            <p:spPr>
              <a:xfrm>
                <a:off x="1327320" y="43797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33"/>
              <p:cNvSpPr/>
              <p:nvPr/>
            </p:nvSpPr>
            <p:spPr>
              <a:xfrm>
                <a:off x="5513760" y="420552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3"/>
              <p:cNvSpPr/>
              <p:nvPr/>
            </p:nvSpPr>
            <p:spPr>
              <a:xfrm>
                <a:off x="3009960" y="3303720"/>
                <a:ext cx="504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B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42"/>
              <p:cNvSpPr/>
              <p:nvPr/>
            </p:nvSpPr>
            <p:spPr>
              <a:xfrm>
                <a:off x="3514680" y="3445920"/>
                <a:ext cx="1317600" cy="70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"/>
              <p:cNvSpPr/>
              <p:nvPr/>
            </p:nvSpPr>
            <p:spPr>
              <a:xfrm>
                <a:off x="3813120" y="3895560"/>
                <a:ext cx="504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B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"/>
              <p:cNvSpPr/>
              <p:nvPr/>
            </p:nvSpPr>
            <p:spPr>
              <a:xfrm flipH="1">
                <a:off x="4318200" y="3542760"/>
                <a:ext cx="514080" cy="465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"/>
              <p:cNvSpPr/>
              <p:nvPr/>
            </p:nvSpPr>
            <p:spPr>
              <a:xfrm flipH="1">
                <a:off x="2693880" y="3599640"/>
                <a:ext cx="429840" cy="29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8"/>
              <p:cNvSpPr/>
              <p:nvPr/>
            </p:nvSpPr>
            <p:spPr>
              <a:xfrm rot="16200000">
                <a:off x="5327280" y="3426480"/>
                <a:ext cx="924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seNick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 flipH="1">
                <a:off x="5347080" y="3137760"/>
                <a:ext cx="30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7"/>
              <p:cNvSpPr/>
              <p:nvPr/>
            </p:nvSpPr>
            <p:spPr>
              <a:xfrm flipH="1">
                <a:off x="3514680" y="3137760"/>
                <a:ext cx="1317600" cy="195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8"/>
              <p:cNvSpPr/>
              <p:nvPr/>
            </p:nvSpPr>
            <p:spPr>
              <a:xfrm flipH="1">
                <a:off x="5660640" y="3843720"/>
                <a:ext cx="42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86"/>
              <p:cNvSpPr/>
              <p:nvPr/>
            </p:nvSpPr>
            <p:spPr>
              <a:xfrm>
                <a:off x="6072120" y="3764880"/>
                <a:ext cx="142560" cy="142920"/>
              </a:xfrm>
              <a:prstGeom prst="flowChartConnector">
                <a:avLst/>
              </a:prstGeom>
              <a:solidFill>
                <a:srgbClr val="ff0000">
                  <a:alpha val="6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89"/>
              <p:cNvSpPr/>
              <p:nvPr/>
            </p:nvSpPr>
            <p:spPr>
              <a:xfrm>
                <a:off x="5954760" y="3542760"/>
                <a:ext cx="3999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H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2216160" y="34689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0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33"/>
              <p:cNvSpPr/>
              <p:nvPr/>
            </p:nvSpPr>
            <p:spPr>
              <a:xfrm>
                <a:off x="4174560" y="326880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0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33"/>
              <p:cNvSpPr/>
              <p:nvPr/>
            </p:nvSpPr>
            <p:spPr>
              <a:xfrm>
                <a:off x="4280040" y="294192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5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7"/>
              <p:cNvSpPr/>
              <p:nvPr/>
            </p:nvSpPr>
            <p:spPr>
              <a:xfrm flipH="1" flipV="1">
                <a:off x="3360600" y="3589920"/>
                <a:ext cx="658800" cy="306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33"/>
              <p:cNvSpPr/>
              <p:nvPr/>
            </p:nvSpPr>
            <p:spPr>
              <a:xfrm>
                <a:off x="4174560" y="35913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5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5"/>
            <p:cNvSpPr/>
            <p:nvPr/>
          </p:nvSpPr>
          <p:spPr>
            <a:xfrm>
              <a:off x="2505240" y="388512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7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R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5"/>
            <p:cNvSpPr/>
            <p:nvPr/>
          </p:nvSpPr>
          <p:spPr>
            <a:xfrm>
              <a:off x="4832280" y="299952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7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RB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ata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gress processing(Unicasting to AF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LL header unchanged, the Outer.MacDA is replaced with one unicast MAC of VLAN-x AF on the destination li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BA9A8-F620-4B70-BB9C-526B44CA8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789120" y="5151600"/>
            <a:ext cx="71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approach, the forwarding table has to be based on {nickname, VLAN}, instead of {nickname}, because RB3 must know which Rbridges on E2 is VLAN-Red AF just from the view of data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任意多边形 42"/>
          <p:cNvSpPr/>
          <p:nvPr/>
        </p:nvSpPr>
        <p:spPr>
          <a:xfrm rot="1223400">
            <a:off x="1987560" y="2993760"/>
            <a:ext cx="2695680" cy="1339920"/>
          </a:xfrm>
          <a:custGeom>
            <a:avLst/>
            <a:gdLst/>
            <a:ahLst/>
            <a:rect l="l" t="t" r="r" b="b"/>
            <a:pathLst>
              <a:path w="2793305" h="751561">
                <a:moveTo>
                  <a:pt x="0" y="751561"/>
                </a:moveTo>
                <a:lnTo>
                  <a:pt x="0" y="751561"/>
                </a:lnTo>
                <a:lnTo>
                  <a:pt x="162839" y="651353"/>
                </a:lnTo>
                <a:lnTo>
                  <a:pt x="613776" y="413359"/>
                </a:lnTo>
                <a:lnTo>
                  <a:pt x="977031" y="263046"/>
                </a:lnTo>
                <a:lnTo>
                  <a:pt x="1415442" y="162838"/>
                </a:lnTo>
                <a:lnTo>
                  <a:pt x="1929009" y="87682"/>
                </a:lnTo>
                <a:lnTo>
                  <a:pt x="2793305" y="0"/>
                </a:lnTo>
              </a:path>
            </a:pathLst>
          </a:custGeom>
          <a:noFill/>
          <a:ln w="50760">
            <a:solidFill>
              <a:srgbClr val="4f81bd"/>
            </a:solidFill>
            <a:round/>
            <a:tailEnd len="med" type="stealth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标注 54"/>
          <p:cNvSpPr/>
          <p:nvPr/>
        </p:nvSpPr>
        <p:spPr>
          <a:xfrm>
            <a:off x="6354720" y="2925720"/>
            <a:ext cx="2016000" cy="776160"/>
          </a:xfrm>
          <a:prstGeom prst="wedgeRectCallout">
            <a:avLst>
              <a:gd name="adj1" fmla="val -107087"/>
              <a:gd name="adj2" fmla="val 3232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gress      VLAN   next_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PseNick2   Red     MAC_R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Calibri"/>
                <a:ea typeface="宋体"/>
              </a:rPr>
              <a:t>PseNick2   Blue    MAC_R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…               … 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56"/>
          <p:cNvSpPr/>
          <p:nvPr/>
        </p:nvSpPr>
        <p:spPr>
          <a:xfrm>
            <a:off x="5348160" y="3610080"/>
            <a:ext cx="196920" cy="374400"/>
          </a:xfrm>
          <a:custGeom>
            <a:avLst/>
            <a:gdLst/>
            <a:ahLst/>
            <a:rect l="l" t="t" r="r" b="b"/>
            <a:pathLst>
              <a:path w="246185" h="487345">
                <a:moveTo>
                  <a:pt x="0" y="0"/>
                </a:moveTo>
                <a:lnTo>
                  <a:pt x="0" y="0"/>
                </a:lnTo>
                <a:lnTo>
                  <a:pt x="50242" y="0"/>
                </a:lnTo>
                <a:lnTo>
                  <a:pt x="165798" y="5024"/>
                </a:lnTo>
                <a:lnTo>
                  <a:pt x="216040" y="20096"/>
                </a:lnTo>
                <a:lnTo>
                  <a:pt x="241161" y="45217"/>
                </a:lnTo>
                <a:cubicBezTo>
                  <a:pt x="242836" y="164123"/>
                  <a:pt x="244510" y="283028"/>
                  <a:pt x="246185" y="401934"/>
                </a:cubicBezTo>
                <a:lnTo>
                  <a:pt x="221064" y="462224"/>
                </a:lnTo>
                <a:lnTo>
                  <a:pt x="165798" y="477296"/>
                </a:lnTo>
                <a:lnTo>
                  <a:pt x="0" y="487345"/>
                </a:lnTo>
              </a:path>
            </a:pathLst>
          </a:custGeom>
          <a:noFill/>
          <a:ln w="50760">
            <a:solidFill>
              <a:srgbClr val="0000ff"/>
            </a:solidFill>
            <a:round/>
            <a:tailEnd len="med" type="stealth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任意多边形 52"/>
          <p:cNvSpPr/>
          <p:nvPr/>
        </p:nvSpPr>
        <p:spPr>
          <a:xfrm>
            <a:off x="5375160" y="3889440"/>
            <a:ext cx="711360" cy="231840"/>
          </a:xfrm>
          <a:custGeom>
            <a:avLst/>
            <a:gdLst/>
            <a:ahLst/>
            <a:rect l="l" t="t" r="r" b="b"/>
            <a:pathLst>
              <a:path w="713433" h="272819">
                <a:moveTo>
                  <a:pt x="0" y="262800"/>
                </a:moveTo>
                <a:cubicBezTo>
                  <a:pt x="81167" y="270916"/>
                  <a:pt x="77370" y="272819"/>
                  <a:pt x="190918" y="262800"/>
                </a:cubicBezTo>
                <a:cubicBezTo>
                  <a:pt x="201469" y="261869"/>
                  <a:pt x="210616" y="254492"/>
                  <a:pt x="221064" y="252751"/>
                </a:cubicBezTo>
                <a:lnTo>
                  <a:pt x="251209" y="247727"/>
                </a:lnTo>
                <a:cubicBezTo>
                  <a:pt x="261257" y="244378"/>
                  <a:pt x="273865" y="245169"/>
                  <a:pt x="281354" y="237679"/>
                </a:cubicBezTo>
                <a:cubicBezTo>
                  <a:pt x="310578" y="208452"/>
                  <a:pt x="268459" y="249261"/>
                  <a:pt x="306475" y="217582"/>
                </a:cubicBezTo>
                <a:cubicBezTo>
                  <a:pt x="311933" y="213034"/>
                  <a:pt x="316523" y="207534"/>
                  <a:pt x="321547" y="202510"/>
                </a:cubicBezTo>
                <a:lnTo>
                  <a:pt x="361740" y="81929"/>
                </a:lnTo>
                <a:lnTo>
                  <a:pt x="366765" y="66857"/>
                </a:lnTo>
                <a:cubicBezTo>
                  <a:pt x="370075" y="56928"/>
                  <a:pt x="372982" y="43796"/>
                  <a:pt x="381837" y="36712"/>
                </a:cubicBezTo>
                <a:cubicBezTo>
                  <a:pt x="385973" y="33404"/>
                  <a:pt x="391886" y="33363"/>
                  <a:pt x="396910" y="31688"/>
                </a:cubicBezTo>
                <a:cubicBezTo>
                  <a:pt x="400259" y="28338"/>
                  <a:pt x="402896" y="24076"/>
                  <a:pt x="406958" y="21639"/>
                </a:cubicBezTo>
                <a:cubicBezTo>
                  <a:pt x="412432" y="18355"/>
                  <a:pt x="437948" y="12785"/>
                  <a:pt x="442127" y="11591"/>
                </a:cubicBezTo>
                <a:cubicBezTo>
                  <a:pt x="450861" y="9096"/>
                  <a:pt x="468866" y="1708"/>
                  <a:pt x="477296" y="1543"/>
                </a:cubicBezTo>
                <a:cubicBezTo>
                  <a:pt x="555993" y="0"/>
                  <a:pt x="634721" y="1543"/>
                  <a:pt x="713433" y="1543"/>
                </a:cubicBezTo>
              </a:path>
            </a:pathLst>
          </a:custGeom>
          <a:noFill/>
          <a:ln w="50760">
            <a:solidFill>
              <a:srgbClr val="c00000"/>
            </a:solidFill>
            <a:round/>
            <a:tailEnd len="med" type="stealth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标注 57"/>
          <p:cNvSpPr/>
          <p:nvPr/>
        </p:nvSpPr>
        <p:spPr>
          <a:xfrm>
            <a:off x="6445080" y="4356000"/>
            <a:ext cx="1568520" cy="587520"/>
          </a:xfrm>
          <a:prstGeom prst="wedgeRectCallout">
            <a:avLst>
              <a:gd name="adj1" fmla="val -127111"/>
              <a:gd name="adj2" fmla="val -99125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_MAC         E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ff0000"/>
                </a:solidFill>
                <a:latin typeface="Calibri"/>
                <a:ea typeface="宋体"/>
              </a:rPr>
              <a:t>H1              PseNick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…                   …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上弧形箭头 36"/>
          <p:cNvSpPr/>
          <p:nvPr/>
        </p:nvSpPr>
        <p:spPr>
          <a:xfrm flipV="1" rot="20806200">
            <a:off x="2000160" y="4394160"/>
            <a:ext cx="4343400" cy="414720"/>
          </a:xfrm>
          <a:custGeom>
            <a:avLst/>
            <a:gdLst>
              <a:gd name="textAreaLeft" fmla="*/ 1046880 w 4343400"/>
              <a:gd name="textAreaRight" fmla="*/ 3244680 w 4343400"/>
              <a:gd name="textAreaTop" fmla="*/ 55440 h 414720"/>
              <a:gd name="textAreaBottom" fmla="*/ 359280 h 41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30" y="0"/>
                </a:lnTo>
                <a:arcTo wR="10414" hR="21600" stAng="-5400000" swAng="3709686"/>
                <a:lnTo>
                  <a:pt x="21269" y="16200"/>
                </a:lnTo>
                <a:lnTo>
                  <a:pt x="21085" y="21600"/>
                </a:lnTo>
                <a:lnTo>
                  <a:pt x="20239" y="16200"/>
                </a:lnTo>
                <a:lnTo>
                  <a:pt x="20496" y="16200"/>
                </a:lnTo>
                <a:arcTo wR="10414" hR="21600" stAng="-1690314" swAng="-3668613"/>
                <a:lnTo>
                  <a:pt x="10672" y="7"/>
                </a:lnTo>
                <a:arcTo wR="10414" hR="21600" stAng="-5441073" swAng="-535892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1073"/>
                <a:lnTo>
                  <a:pt x="10672" y="7"/>
                </a:lnTo>
                <a:arcTo wR="10414" hR="21600" stAng="-5441073" swAng="-5358927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4608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64"/>
          <p:cNvGrpSpPr/>
          <p:nvPr/>
        </p:nvGrpSpPr>
        <p:grpSpPr>
          <a:xfrm>
            <a:off x="1327320" y="2908080"/>
            <a:ext cx="5027400" cy="2025720"/>
            <a:chOff x="1327320" y="2908080"/>
            <a:chExt cx="5027400" cy="2025720"/>
          </a:xfrm>
        </p:grpSpPr>
        <p:grpSp>
          <p:nvGrpSpPr>
            <p:cNvPr id="310" name="组合 67"/>
            <p:cNvGrpSpPr/>
            <p:nvPr/>
          </p:nvGrpSpPr>
          <p:grpSpPr>
            <a:xfrm>
              <a:off x="1327320" y="2908080"/>
              <a:ext cx="5027400" cy="2025720"/>
              <a:chOff x="1327320" y="2908080"/>
              <a:chExt cx="5027400" cy="2025720"/>
            </a:xfrm>
          </p:grpSpPr>
          <p:sp>
            <p:nvSpPr>
              <p:cNvPr id="311" name="Cloud"/>
              <p:cNvSpPr/>
              <p:nvPr/>
            </p:nvSpPr>
            <p:spPr>
              <a:xfrm>
                <a:off x="1427040" y="2908440"/>
                <a:ext cx="4405320" cy="1942920"/>
              </a:xfrm>
              <a:custGeom>
                <a:avLst/>
                <a:gdLst>
                  <a:gd name="textAreaLeft" fmla="*/ 606960 w 4405320"/>
                  <a:gd name="textAreaRight" fmla="*/ 3485160 w 4405320"/>
                  <a:gd name="textAreaTop" fmla="*/ 293400 h 1942920"/>
                  <a:gd name="textAreaBottom" fmla="*/ 1559520 h 19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49" y="7180"/>
                    </a:moveTo>
                    <a:cubicBezTo>
                      <a:pt x="841" y="7336"/>
                      <a:pt x="0" y="8613"/>
                      <a:pt x="0" y="10137"/>
                    </a:cubicBezTo>
                    <a:cubicBezTo>
                      <a:pt x="-1" y="11192"/>
                      <a:pt x="409" y="12169"/>
                      <a:pt x="1074" y="12702"/>
                    </a:cubicBezTo>
                    <a:lnTo>
                      <a:pt x="1063" y="12668"/>
                    </a:lnTo>
                    <a:cubicBezTo>
                      <a:pt x="685" y="13217"/>
                      <a:pt x="475" y="13940"/>
                      <a:pt x="475" y="14690"/>
                    </a:cubicBezTo>
                    <a:cubicBezTo>
                      <a:pt x="475" y="16325"/>
                      <a:pt x="1451" y="17650"/>
                      <a:pt x="2655" y="17650"/>
                    </a:cubicBezTo>
                    <a:cubicBezTo>
                      <a:pt x="2739" y="17650"/>
                      <a:pt x="2824" y="17643"/>
                      <a:pt x="2909" y="17629"/>
                    </a:cubicBezTo>
                    <a:lnTo>
                      <a:pt x="2897" y="17649"/>
                    </a:lnTo>
                    <a:cubicBezTo>
                      <a:pt x="3585" y="19288"/>
                      <a:pt x="4863" y="20300"/>
                      <a:pt x="6247" y="20300"/>
                    </a:cubicBezTo>
                    <a:cubicBezTo>
                      <a:pt x="6947" y="20299"/>
                      <a:pt x="7635" y="20039"/>
                      <a:pt x="8235" y="19546"/>
                    </a:cubicBezTo>
                    <a:lnTo>
                      <a:pt x="8229" y="19550"/>
                    </a:lnTo>
                    <a:cubicBezTo>
                      <a:pt x="8855" y="20829"/>
                      <a:pt x="9908" y="21597"/>
                      <a:pt x="11036" y="21597"/>
                    </a:cubicBezTo>
                    <a:cubicBezTo>
                      <a:pt x="12523" y="21596"/>
                      <a:pt x="13836" y="20267"/>
                      <a:pt x="14267" y="18324"/>
                    </a:cubicBezTo>
                    <a:lnTo>
                      <a:pt x="14270" y="18350"/>
                    </a:lnTo>
                    <a:cubicBezTo>
                      <a:pt x="14730" y="18740"/>
                      <a:pt x="15260" y="18947"/>
                      <a:pt x="15802" y="18947"/>
                    </a:cubicBezTo>
                    <a:cubicBezTo>
                      <a:pt x="17390" y="18946"/>
                      <a:pt x="18682" y="17205"/>
                      <a:pt x="18694" y="15045"/>
                    </a:cubicBezTo>
                    <a:lnTo>
                      <a:pt x="18689" y="15035"/>
                    </a:lnTo>
                    <a:cubicBezTo>
                      <a:pt x="20357" y="14710"/>
                      <a:pt x="21597" y="12765"/>
                      <a:pt x="21597" y="10472"/>
                    </a:cubicBezTo>
                    <a:cubicBezTo>
                      <a:pt x="21597" y="9456"/>
                      <a:pt x="21350" y="8469"/>
                      <a:pt x="20896" y="7663"/>
                    </a:cubicBezTo>
                    <a:lnTo>
                      <a:pt x="20889" y="7661"/>
                    </a:lnTo>
                    <a:cubicBezTo>
                      <a:pt x="21031" y="7208"/>
                      <a:pt x="21105" y="6721"/>
                      <a:pt x="21105" y="6228"/>
                    </a:cubicBezTo>
                    <a:cubicBezTo>
                      <a:pt x="21105" y="4588"/>
                      <a:pt x="20299" y="3150"/>
                      <a:pt x="19139" y="2719"/>
                    </a:cubicBezTo>
                    <a:lnTo>
                      <a:pt x="19148" y="2712"/>
                    </a:lnTo>
                    <a:cubicBezTo>
                      <a:pt x="18940" y="1142"/>
                      <a:pt x="17933" y="0"/>
                      <a:pt x="16758" y="0"/>
                    </a:cubicBezTo>
                    <a:cubicBezTo>
                      <a:pt x="16044" y="-1"/>
                      <a:pt x="15367" y="426"/>
                      <a:pt x="14905" y="1165"/>
                    </a:cubicBezTo>
                    <a:lnTo>
                      <a:pt x="14909" y="1170"/>
                    </a:lnTo>
                    <a:cubicBezTo>
                      <a:pt x="14497" y="432"/>
                      <a:pt x="13855" y="0"/>
                      <a:pt x="13174" y="0"/>
                    </a:cubicBezTo>
                    <a:cubicBezTo>
                      <a:pt x="12347" y="-1"/>
                      <a:pt x="11590" y="637"/>
                      <a:pt x="11221" y="1645"/>
                    </a:cubicBezTo>
                    <a:lnTo>
                      <a:pt x="11229" y="1694"/>
                    </a:lnTo>
                    <a:cubicBezTo>
                      <a:pt x="10730" y="1024"/>
                      <a:pt x="10058" y="650"/>
                      <a:pt x="9358" y="650"/>
                    </a:cubicBezTo>
                    <a:cubicBezTo>
                      <a:pt x="8372" y="649"/>
                      <a:pt x="7466" y="1391"/>
                      <a:pt x="7003" y="2578"/>
                    </a:cubicBezTo>
                    <a:lnTo>
                      <a:pt x="6995" y="2602"/>
                    </a:lnTo>
                    <a:cubicBezTo>
                      <a:pt x="6477" y="2189"/>
                      <a:pt x="5888" y="1972"/>
                      <a:pt x="5288" y="1972"/>
                    </a:cubicBezTo>
                    <a:cubicBezTo>
                      <a:pt x="3423" y="1972"/>
                      <a:pt x="1912" y="4029"/>
                      <a:pt x="1912" y="6567"/>
                    </a:cubicBezTo>
                    <a:cubicBezTo>
                      <a:pt x="1911" y="6774"/>
                      <a:pt x="1922" y="6981"/>
                      <a:pt x="1942" y="7186"/>
                    </a:cubicBezTo>
                    <a:lnTo>
                      <a:pt x="1949" y="7180"/>
                    </a:lnTo>
                    <a:close/>
                  </a:path>
                  <a:path fill="none" w="21600" h="21600">
                    <a:moveTo>
                      <a:pt x="1074" y="12702"/>
                    </a:moveTo>
                    <a:cubicBezTo>
                      <a:pt x="1407" y="12969"/>
                      <a:pt x="1786" y="13110"/>
                      <a:pt x="2172" y="13110"/>
                    </a:cubicBezTo>
                    <a:cubicBezTo>
                      <a:pt x="2228" y="13109"/>
                      <a:pt x="2285" y="13107"/>
                      <a:pt x="2341" y="13101"/>
                    </a:cubicBezTo>
                  </a:path>
                  <a:path fill="none" w="21600" h="21600">
                    <a:moveTo>
                      <a:pt x="2909" y="17629"/>
                    </a:moveTo>
                    <a:cubicBezTo>
                      <a:pt x="3099" y="17599"/>
                      <a:pt x="3285" y="17535"/>
                      <a:pt x="3463" y="17439"/>
                    </a:cubicBezTo>
                  </a:path>
                  <a:path fill="none" w="21600" h="21600">
                    <a:moveTo>
                      <a:pt x="7895" y="18680"/>
                    </a:moveTo>
                    <a:cubicBezTo>
                      <a:pt x="7983" y="18985"/>
                      <a:pt x="8095" y="19277"/>
                      <a:pt x="8229" y="19550"/>
                    </a:cubicBezTo>
                  </a:path>
                  <a:path fill="none" w="21600" h="21600">
                    <a:moveTo>
                      <a:pt x="14267" y="18324"/>
                    </a:moveTo>
                    <a:cubicBezTo>
                      <a:pt x="14336" y="18013"/>
                      <a:pt x="14380" y="17693"/>
                      <a:pt x="14400" y="17370"/>
                    </a:cubicBezTo>
                  </a:path>
                  <a:path fill="none" w="21600" h="21600">
                    <a:moveTo>
                      <a:pt x="18694" y="15045"/>
                    </a:moveTo>
                    <a:cubicBezTo>
                      <a:pt x="18694" y="15034"/>
                      <a:pt x="18695" y="15024"/>
                      <a:pt x="18695" y="15013"/>
                    </a:cubicBezTo>
                    <a:cubicBezTo>
                      <a:pt x="18695" y="13508"/>
                      <a:pt x="18063" y="12136"/>
                      <a:pt x="17069" y="11477"/>
                    </a:cubicBezTo>
                  </a:path>
                  <a:path fill="none" w="21600" h="21600">
                    <a:moveTo>
                      <a:pt x="20165" y="8999"/>
                    </a:moveTo>
                    <a:cubicBezTo>
                      <a:pt x="20479" y="8635"/>
                      <a:pt x="20726" y="8177"/>
                      <a:pt x="20889" y="7661"/>
                    </a:cubicBezTo>
                  </a:path>
                  <a:path fill="none" w="21600" h="21600">
                    <a:moveTo>
                      <a:pt x="19186" y="3344"/>
                    </a:moveTo>
                    <a:cubicBezTo>
                      <a:pt x="19186" y="3328"/>
                      <a:pt x="19187" y="3313"/>
                      <a:pt x="19187" y="3297"/>
                    </a:cubicBezTo>
                    <a:cubicBezTo>
                      <a:pt x="19187" y="3101"/>
                      <a:pt x="19174" y="2905"/>
                      <a:pt x="19148" y="2712"/>
                    </a:cubicBezTo>
                  </a:path>
                  <a:path fill="none" w="21600" h="21600">
                    <a:moveTo>
                      <a:pt x="14905" y="1165"/>
                    </a:moveTo>
                    <a:cubicBezTo>
                      <a:pt x="14754" y="1408"/>
                      <a:pt x="14629" y="1679"/>
                      <a:pt x="14535" y="1971"/>
                    </a:cubicBezTo>
                  </a:path>
                  <a:path fill="none" w="21600" h="21600">
                    <a:moveTo>
                      <a:pt x="11221" y="1645"/>
                    </a:moveTo>
                    <a:cubicBezTo>
                      <a:pt x="11140" y="1866"/>
                      <a:pt x="11080" y="2099"/>
                      <a:pt x="11041" y="2340"/>
                    </a:cubicBezTo>
                  </a:path>
                  <a:path fill="none" w="21600" h="21600">
                    <a:moveTo>
                      <a:pt x="7645" y="3276"/>
                    </a:moveTo>
                    <a:cubicBezTo>
                      <a:pt x="7449" y="3016"/>
                      <a:pt x="7231" y="2790"/>
                      <a:pt x="6995" y="2602"/>
                    </a:cubicBezTo>
                  </a:path>
                  <a:path fill="none" w="21600" h="21600">
                    <a:moveTo>
                      <a:pt x="1942" y="7186"/>
                    </a:moveTo>
                    <a:cubicBezTo>
                      <a:pt x="1966" y="7426"/>
                      <a:pt x="2004" y="7663"/>
                      <a:pt x="2056" y="7895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椭圆 58"/>
              <p:cNvSpPr/>
              <p:nvPr/>
            </p:nvSpPr>
            <p:spPr>
              <a:xfrm rot="16200000">
                <a:off x="4984920" y="3315960"/>
                <a:ext cx="1331640" cy="5158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椭圆 43"/>
              <p:cNvSpPr/>
              <p:nvPr/>
            </p:nvSpPr>
            <p:spPr>
              <a:xfrm>
                <a:off x="1370160" y="4240080"/>
                <a:ext cx="163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"/>
              <p:cNvSpPr/>
              <p:nvPr/>
            </p:nvSpPr>
            <p:spPr>
              <a:xfrm>
                <a:off x="1879560" y="4211280"/>
                <a:ext cx="92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seNick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3"/>
              <p:cNvSpPr/>
              <p:nvPr/>
            </p:nvSpPr>
            <p:spPr>
              <a:xfrm>
                <a:off x="4832280" y="3446280"/>
                <a:ext cx="504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B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5"/>
              <p:cNvSpPr/>
              <p:nvPr/>
            </p:nvSpPr>
            <p:spPr>
              <a:xfrm>
                <a:off x="1606680" y="3907800"/>
                <a:ext cx="504720" cy="28728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RB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"/>
              <p:cNvSpPr/>
              <p:nvPr/>
            </p:nvSpPr>
            <p:spPr>
              <a:xfrm>
                <a:off x="2909880" y="2997720"/>
                <a:ext cx="13698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RILL Camp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>
                <a:off x="1601640" y="4498920"/>
                <a:ext cx="1406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>
                <a:off x="1882800" y="419544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>
                <a:off x="2568600" y="449892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30"/>
              <p:cNvSpPr/>
              <p:nvPr/>
            </p:nvSpPr>
            <p:spPr>
              <a:xfrm>
                <a:off x="1908000" y="4716360"/>
                <a:ext cx="142560" cy="142920"/>
              </a:xfrm>
              <a:prstGeom prst="flowChartConnector">
                <a:avLst/>
              </a:prstGeom>
              <a:solidFill>
                <a:srgbClr val="ff0000">
                  <a:alpha val="6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31"/>
              <p:cNvSpPr/>
              <p:nvPr/>
            </p:nvSpPr>
            <p:spPr>
              <a:xfrm>
                <a:off x="2495520" y="4716360"/>
                <a:ext cx="142560" cy="142920"/>
              </a:xfrm>
              <a:prstGeom prst="flowChartConnector">
                <a:avLst/>
              </a:prstGeom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>
                <a:off x="2693880" y="4716360"/>
                <a:ext cx="21564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H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>
                <a:off x="1629000" y="47019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H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39"/>
              <p:cNvSpPr/>
              <p:nvPr/>
            </p:nvSpPr>
            <p:spPr>
              <a:xfrm>
                <a:off x="1978200" y="449892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42"/>
              <p:cNvSpPr/>
              <p:nvPr/>
            </p:nvSpPr>
            <p:spPr>
              <a:xfrm flipV="1">
                <a:off x="1951200" y="3445200"/>
                <a:ext cx="1056960" cy="461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8"/>
              <p:cNvSpPr/>
              <p:nvPr/>
            </p:nvSpPr>
            <p:spPr>
              <a:xfrm>
                <a:off x="2768760" y="418428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3"/>
              <p:cNvSpPr/>
              <p:nvPr/>
            </p:nvSpPr>
            <p:spPr>
              <a:xfrm>
                <a:off x="4832280" y="3876480"/>
                <a:ext cx="504720" cy="287280"/>
              </a:xfrm>
              <a:prstGeom prst="rect">
                <a:avLst/>
              </a:prstGeom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RB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7"/>
              <p:cNvSpPr/>
              <p:nvPr/>
            </p:nvSpPr>
            <p:spPr>
              <a:xfrm>
                <a:off x="5646960" y="2997720"/>
                <a:ext cx="0" cy="1195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8"/>
              <p:cNvSpPr/>
              <p:nvPr/>
            </p:nvSpPr>
            <p:spPr>
              <a:xfrm flipH="1">
                <a:off x="5660640" y="3268800"/>
                <a:ext cx="42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28"/>
              <p:cNvSpPr/>
              <p:nvPr/>
            </p:nvSpPr>
            <p:spPr>
              <a:xfrm flipH="1">
                <a:off x="5337000" y="3576240"/>
                <a:ext cx="30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28"/>
              <p:cNvSpPr/>
              <p:nvPr/>
            </p:nvSpPr>
            <p:spPr>
              <a:xfrm flipH="1">
                <a:off x="5337000" y="403992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86"/>
              <p:cNvSpPr/>
              <p:nvPr/>
            </p:nvSpPr>
            <p:spPr>
              <a:xfrm>
                <a:off x="6072120" y="3189960"/>
                <a:ext cx="142560" cy="142920"/>
              </a:xfrm>
              <a:prstGeom prst="flowChartConnector">
                <a:avLst/>
              </a:prstGeom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9"/>
              <p:cNvSpPr/>
              <p:nvPr/>
            </p:nvSpPr>
            <p:spPr>
              <a:xfrm>
                <a:off x="5954760" y="2941920"/>
                <a:ext cx="3999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H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7"/>
              <p:cNvSpPr/>
              <p:nvPr/>
            </p:nvSpPr>
            <p:spPr>
              <a:xfrm flipH="1" flipV="1">
                <a:off x="3514680" y="3518640"/>
                <a:ext cx="1317600" cy="488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 flipH="1">
                <a:off x="3002040" y="4007880"/>
                <a:ext cx="1017360" cy="2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3"/>
              <p:cNvSpPr/>
              <p:nvPr/>
            </p:nvSpPr>
            <p:spPr>
              <a:xfrm>
                <a:off x="1327320" y="43797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3"/>
              <p:cNvSpPr/>
              <p:nvPr/>
            </p:nvSpPr>
            <p:spPr>
              <a:xfrm>
                <a:off x="5513760" y="420552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3"/>
              <p:cNvSpPr/>
              <p:nvPr/>
            </p:nvSpPr>
            <p:spPr>
              <a:xfrm>
                <a:off x="3009960" y="3303720"/>
                <a:ext cx="504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B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42"/>
              <p:cNvSpPr/>
              <p:nvPr/>
            </p:nvSpPr>
            <p:spPr>
              <a:xfrm>
                <a:off x="3514680" y="3445920"/>
                <a:ext cx="1317600" cy="70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3"/>
              <p:cNvSpPr/>
              <p:nvPr/>
            </p:nvSpPr>
            <p:spPr>
              <a:xfrm>
                <a:off x="3813120" y="3895560"/>
                <a:ext cx="504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B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7"/>
              <p:cNvSpPr/>
              <p:nvPr/>
            </p:nvSpPr>
            <p:spPr>
              <a:xfrm flipH="1">
                <a:off x="4318200" y="3542760"/>
                <a:ext cx="514080" cy="465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7"/>
              <p:cNvSpPr/>
              <p:nvPr/>
            </p:nvSpPr>
            <p:spPr>
              <a:xfrm flipH="1">
                <a:off x="2693880" y="3599640"/>
                <a:ext cx="429840" cy="29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8"/>
              <p:cNvSpPr/>
              <p:nvPr/>
            </p:nvSpPr>
            <p:spPr>
              <a:xfrm rot="16200000">
                <a:off x="5327280" y="3426480"/>
                <a:ext cx="924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seNick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28"/>
              <p:cNvSpPr/>
              <p:nvPr/>
            </p:nvSpPr>
            <p:spPr>
              <a:xfrm flipH="1">
                <a:off x="5347080" y="3137760"/>
                <a:ext cx="30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7"/>
              <p:cNvSpPr/>
              <p:nvPr/>
            </p:nvSpPr>
            <p:spPr>
              <a:xfrm flipH="1">
                <a:off x="3514680" y="3137760"/>
                <a:ext cx="1317600" cy="195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28"/>
              <p:cNvSpPr/>
              <p:nvPr/>
            </p:nvSpPr>
            <p:spPr>
              <a:xfrm flipH="1">
                <a:off x="5660640" y="3843720"/>
                <a:ext cx="42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86"/>
              <p:cNvSpPr/>
              <p:nvPr/>
            </p:nvSpPr>
            <p:spPr>
              <a:xfrm>
                <a:off x="6072120" y="3764880"/>
                <a:ext cx="142560" cy="142920"/>
              </a:xfrm>
              <a:prstGeom prst="flowChartConnector">
                <a:avLst/>
              </a:prstGeom>
              <a:solidFill>
                <a:srgbClr val="ff0000">
                  <a:alpha val="6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9"/>
              <p:cNvSpPr/>
              <p:nvPr/>
            </p:nvSpPr>
            <p:spPr>
              <a:xfrm>
                <a:off x="5954760" y="3542760"/>
                <a:ext cx="3999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H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2216160" y="34689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0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33"/>
              <p:cNvSpPr/>
              <p:nvPr/>
            </p:nvSpPr>
            <p:spPr>
              <a:xfrm>
                <a:off x="4174560" y="326880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0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33"/>
              <p:cNvSpPr/>
              <p:nvPr/>
            </p:nvSpPr>
            <p:spPr>
              <a:xfrm>
                <a:off x="4280040" y="294192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5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7"/>
              <p:cNvSpPr/>
              <p:nvPr/>
            </p:nvSpPr>
            <p:spPr>
              <a:xfrm flipH="1" flipV="1">
                <a:off x="3360600" y="3589920"/>
                <a:ext cx="658800" cy="306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33"/>
              <p:cNvSpPr/>
              <p:nvPr/>
            </p:nvSpPr>
            <p:spPr>
              <a:xfrm>
                <a:off x="4174560" y="35913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5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Rectangle 5"/>
            <p:cNvSpPr/>
            <p:nvPr/>
          </p:nvSpPr>
          <p:spPr>
            <a:xfrm>
              <a:off x="2505240" y="389664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7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R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5"/>
            <p:cNvSpPr/>
            <p:nvPr/>
          </p:nvSpPr>
          <p:spPr>
            <a:xfrm>
              <a:off x="4832280" y="301608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7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RB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ata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822960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gress processing(Multicasting to AF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LL header unchanged, the Outer.MacDA is replaced with a multicast MAC, i.e., “AF RBridges on this link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F923B-A5B7-4A74-BECB-C977468F7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5"/>
          <p:cNvSpPr/>
          <p:nvPr/>
        </p:nvSpPr>
        <p:spPr>
          <a:xfrm>
            <a:off x="789120" y="5151600"/>
            <a:ext cx="71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warding remains unchanged in form, but a multicast MAC, i.e., “AF RBridges on this link”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RB4, the VLAN-Red AF, will decapsulate this TRILL data frame to native frame and forward it to H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上弧形箭头 36"/>
          <p:cNvSpPr/>
          <p:nvPr/>
        </p:nvSpPr>
        <p:spPr>
          <a:xfrm flipV="1" rot="20806200">
            <a:off x="2000160" y="4394160"/>
            <a:ext cx="4343400" cy="414720"/>
          </a:xfrm>
          <a:custGeom>
            <a:avLst/>
            <a:gdLst>
              <a:gd name="textAreaLeft" fmla="*/ 1046880 w 4343400"/>
              <a:gd name="textAreaRight" fmla="*/ 3244680 w 4343400"/>
              <a:gd name="textAreaTop" fmla="*/ 55440 h 414720"/>
              <a:gd name="textAreaBottom" fmla="*/ 359280 h 41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30" y="0"/>
                </a:lnTo>
                <a:arcTo wR="10414" hR="21600" stAng="-5400000" swAng="3709686"/>
                <a:lnTo>
                  <a:pt x="21269" y="16200"/>
                </a:lnTo>
                <a:lnTo>
                  <a:pt x="21085" y="21600"/>
                </a:lnTo>
                <a:lnTo>
                  <a:pt x="20239" y="16200"/>
                </a:lnTo>
                <a:lnTo>
                  <a:pt x="20496" y="16200"/>
                </a:lnTo>
                <a:arcTo wR="10414" hR="21600" stAng="-1690314" swAng="-3668613"/>
                <a:lnTo>
                  <a:pt x="10672" y="7"/>
                </a:lnTo>
                <a:arcTo wR="10414" hR="21600" stAng="-5441073" swAng="-535892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1073"/>
                <a:lnTo>
                  <a:pt x="10672" y="7"/>
                </a:lnTo>
                <a:arcTo wR="10414" hR="21600" stAng="-5441073" swAng="-5358927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4608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42"/>
          <p:cNvSpPr/>
          <p:nvPr/>
        </p:nvSpPr>
        <p:spPr>
          <a:xfrm rot="1223400">
            <a:off x="1987560" y="2993760"/>
            <a:ext cx="2695680" cy="1339920"/>
          </a:xfrm>
          <a:custGeom>
            <a:avLst/>
            <a:gdLst/>
            <a:ahLst/>
            <a:rect l="l" t="t" r="r" b="b"/>
            <a:pathLst>
              <a:path w="2793305" h="751561">
                <a:moveTo>
                  <a:pt x="0" y="751561"/>
                </a:moveTo>
                <a:lnTo>
                  <a:pt x="0" y="751561"/>
                </a:lnTo>
                <a:lnTo>
                  <a:pt x="162839" y="651353"/>
                </a:lnTo>
                <a:lnTo>
                  <a:pt x="613776" y="413359"/>
                </a:lnTo>
                <a:lnTo>
                  <a:pt x="977031" y="263046"/>
                </a:lnTo>
                <a:lnTo>
                  <a:pt x="1415442" y="162838"/>
                </a:lnTo>
                <a:lnTo>
                  <a:pt x="1929009" y="87682"/>
                </a:lnTo>
                <a:lnTo>
                  <a:pt x="2793305" y="0"/>
                </a:lnTo>
              </a:path>
            </a:pathLst>
          </a:custGeom>
          <a:noFill/>
          <a:ln w="50760">
            <a:solidFill>
              <a:srgbClr val="4f81bd"/>
            </a:solidFill>
            <a:round/>
            <a:tailEnd len="med" type="stealth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标注 54"/>
          <p:cNvSpPr/>
          <p:nvPr/>
        </p:nvSpPr>
        <p:spPr>
          <a:xfrm>
            <a:off x="6354720" y="3025800"/>
            <a:ext cx="2016000" cy="676080"/>
          </a:xfrm>
          <a:prstGeom prst="wedgeRectCallout">
            <a:avLst>
              <a:gd name="adj1" fmla="val -107087"/>
              <a:gd name="adj2" fmla="val 3232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gress         next_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PseNick2    AF-Rbrid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…               … 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任意多边形 52"/>
          <p:cNvSpPr/>
          <p:nvPr/>
        </p:nvSpPr>
        <p:spPr>
          <a:xfrm>
            <a:off x="5375160" y="3889440"/>
            <a:ext cx="711360" cy="231840"/>
          </a:xfrm>
          <a:custGeom>
            <a:avLst/>
            <a:gdLst/>
            <a:ahLst/>
            <a:rect l="l" t="t" r="r" b="b"/>
            <a:pathLst>
              <a:path w="713433" h="272819">
                <a:moveTo>
                  <a:pt x="0" y="262800"/>
                </a:moveTo>
                <a:cubicBezTo>
                  <a:pt x="81167" y="270916"/>
                  <a:pt x="77370" y="272819"/>
                  <a:pt x="190918" y="262800"/>
                </a:cubicBezTo>
                <a:cubicBezTo>
                  <a:pt x="201469" y="261869"/>
                  <a:pt x="210616" y="254492"/>
                  <a:pt x="221064" y="252751"/>
                </a:cubicBezTo>
                <a:lnTo>
                  <a:pt x="251209" y="247727"/>
                </a:lnTo>
                <a:cubicBezTo>
                  <a:pt x="261257" y="244378"/>
                  <a:pt x="273865" y="245169"/>
                  <a:pt x="281354" y="237679"/>
                </a:cubicBezTo>
                <a:cubicBezTo>
                  <a:pt x="310578" y="208452"/>
                  <a:pt x="268459" y="249261"/>
                  <a:pt x="306475" y="217582"/>
                </a:cubicBezTo>
                <a:cubicBezTo>
                  <a:pt x="311933" y="213034"/>
                  <a:pt x="316523" y="207534"/>
                  <a:pt x="321547" y="202510"/>
                </a:cubicBezTo>
                <a:lnTo>
                  <a:pt x="361740" y="81929"/>
                </a:lnTo>
                <a:lnTo>
                  <a:pt x="366765" y="66857"/>
                </a:lnTo>
                <a:cubicBezTo>
                  <a:pt x="370075" y="56928"/>
                  <a:pt x="372982" y="43796"/>
                  <a:pt x="381837" y="36712"/>
                </a:cubicBezTo>
                <a:cubicBezTo>
                  <a:pt x="385973" y="33404"/>
                  <a:pt x="391886" y="33363"/>
                  <a:pt x="396910" y="31688"/>
                </a:cubicBezTo>
                <a:cubicBezTo>
                  <a:pt x="400259" y="28338"/>
                  <a:pt x="402896" y="24076"/>
                  <a:pt x="406958" y="21639"/>
                </a:cubicBezTo>
                <a:cubicBezTo>
                  <a:pt x="412432" y="18355"/>
                  <a:pt x="437948" y="12785"/>
                  <a:pt x="442127" y="11591"/>
                </a:cubicBezTo>
                <a:cubicBezTo>
                  <a:pt x="450861" y="9096"/>
                  <a:pt x="468866" y="1708"/>
                  <a:pt x="477296" y="1543"/>
                </a:cubicBezTo>
                <a:cubicBezTo>
                  <a:pt x="555993" y="0"/>
                  <a:pt x="634721" y="1543"/>
                  <a:pt x="713433" y="1543"/>
                </a:cubicBezTo>
              </a:path>
            </a:pathLst>
          </a:custGeom>
          <a:noFill/>
          <a:ln w="50760">
            <a:solidFill>
              <a:srgbClr val="c00000"/>
            </a:solidFill>
            <a:round/>
            <a:tailEnd len="med" type="stealth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标注 57"/>
          <p:cNvSpPr/>
          <p:nvPr/>
        </p:nvSpPr>
        <p:spPr>
          <a:xfrm>
            <a:off x="6445080" y="4356000"/>
            <a:ext cx="1568520" cy="587520"/>
          </a:xfrm>
          <a:prstGeom prst="wedgeRectCallout">
            <a:avLst>
              <a:gd name="adj1" fmla="val -127111"/>
              <a:gd name="adj2" fmla="val -99125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_MAC         E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ff0000"/>
                </a:solidFill>
                <a:latin typeface="Calibri"/>
                <a:ea typeface="宋体"/>
              </a:rPr>
              <a:t>H1              PseNick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…                   …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67"/>
          <p:cNvGrpSpPr/>
          <p:nvPr/>
        </p:nvGrpSpPr>
        <p:grpSpPr>
          <a:xfrm>
            <a:off x="5348160" y="3171600"/>
            <a:ext cx="196920" cy="824040"/>
            <a:chOff x="5348160" y="3171600"/>
            <a:chExt cx="196920" cy="824040"/>
          </a:xfrm>
        </p:grpSpPr>
        <p:sp>
          <p:nvSpPr>
            <p:cNvPr id="369" name="任意多边形 56"/>
            <p:cNvSpPr/>
            <p:nvPr/>
          </p:nvSpPr>
          <p:spPr>
            <a:xfrm>
              <a:off x="5348160" y="3621240"/>
              <a:ext cx="196920" cy="374400"/>
            </a:xfrm>
            <a:custGeom>
              <a:avLst/>
              <a:gdLst/>
              <a:ahLst/>
              <a:rect l="l" t="t" r="r" b="b"/>
              <a:pathLst>
                <a:path w="246185" h="487345">
                  <a:moveTo>
                    <a:pt x="0" y="0"/>
                  </a:moveTo>
                  <a:lnTo>
                    <a:pt x="0" y="0"/>
                  </a:lnTo>
                  <a:lnTo>
                    <a:pt x="50242" y="0"/>
                  </a:lnTo>
                  <a:lnTo>
                    <a:pt x="165798" y="5024"/>
                  </a:lnTo>
                  <a:lnTo>
                    <a:pt x="216040" y="20096"/>
                  </a:lnTo>
                  <a:lnTo>
                    <a:pt x="241161" y="45217"/>
                  </a:lnTo>
                  <a:cubicBezTo>
                    <a:pt x="242836" y="164123"/>
                    <a:pt x="244510" y="283028"/>
                    <a:pt x="246185" y="401934"/>
                  </a:cubicBezTo>
                  <a:lnTo>
                    <a:pt x="221064" y="462224"/>
                  </a:lnTo>
                  <a:lnTo>
                    <a:pt x="165798" y="477296"/>
                  </a:lnTo>
                  <a:lnTo>
                    <a:pt x="0" y="487345"/>
                  </a:lnTo>
                </a:path>
              </a:pathLst>
            </a:custGeom>
            <a:noFill/>
            <a:ln w="50760">
              <a:solidFill>
                <a:srgbClr val="0000ff"/>
              </a:solidFill>
              <a:round/>
              <a:tailEnd len="med" type="stealth" w="med"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 66"/>
            <p:cNvSpPr/>
            <p:nvPr/>
          </p:nvSpPr>
          <p:spPr>
            <a:xfrm flipV="1">
              <a:off x="5352840" y="3171240"/>
              <a:ext cx="192240" cy="361800"/>
            </a:xfrm>
            <a:custGeom>
              <a:avLst/>
              <a:gdLst/>
              <a:ahLst/>
              <a:rect l="l" t="t" r="r" b="b"/>
              <a:pathLst>
                <a:path w="246185" h="487345">
                  <a:moveTo>
                    <a:pt x="0" y="0"/>
                  </a:moveTo>
                  <a:lnTo>
                    <a:pt x="0" y="0"/>
                  </a:lnTo>
                  <a:lnTo>
                    <a:pt x="50242" y="0"/>
                  </a:lnTo>
                  <a:lnTo>
                    <a:pt x="165798" y="5024"/>
                  </a:lnTo>
                  <a:lnTo>
                    <a:pt x="216040" y="20096"/>
                  </a:lnTo>
                  <a:lnTo>
                    <a:pt x="241161" y="45217"/>
                  </a:lnTo>
                  <a:cubicBezTo>
                    <a:pt x="242836" y="164123"/>
                    <a:pt x="244510" y="283028"/>
                    <a:pt x="246185" y="401934"/>
                  </a:cubicBezTo>
                  <a:lnTo>
                    <a:pt x="221064" y="462224"/>
                  </a:lnTo>
                  <a:lnTo>
                    <a:pt x="165798" y="477296"/>
                  </a:lnTo>
                  <a:lnTo>
                    <a:pt x="0" y="487345"/>
                  </a:lnTo>
                </a:path>
              </a:pathLst>
            </a:custGeom>
            <a:noFill/>
            <a:ln w="50760">
              <a:solidFill>
                <a:srgbClr val="0000ff"/>
              </a:solidFill>
              <a:round/>
              <a:tailEnd len="med" type="stealth" w="med"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raffic fails caused by AF ch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Control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Data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LV Extension for Pseudonon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71728-9096-41B7-B17F-048BC19F8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ffic failure caused by AF ch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rol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LV Extension for Pseudonon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DEFC8-AEF3-4F38-8581-495C8BB73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LV Extension for Pseudonon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eudonode Nickname Capability in Hel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A457F-505D-4253-8390-236944E40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1986120" y="2025720"/>
            <a:ext cx="4933800" cy="300348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9"/>
          <p:cNvSpPr/>
          <p:nvPr/>
        </p:nvSpPr>
        <p:spPr>
          <a:xfrm>
            <a:off x="789120" y="515160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N bit is used to indicate whether a RBridge supports and enables the pseudonode nick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LV Extension for Pseudonon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59984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eudonode Nickname T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0CE3A-0EFE-48AB-88D7-A6ED828B6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69"/>
          <p:cNvSpPr/>
          <p:nvPr/>
        </p:nvSpPr>
        <p:spPr>
          <a:xfrm>
            <a:off x="789120" y="539892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LV is carried in DRB’s pseudonode LSPs, and the RBridges’ H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942840" y="2066760"/>
            <a:ext cx="6013440" cy="2054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942840" y="4359240"/>
            <a:ext cx="4578480" cy="1015920"/>
          </a:xfrm>
          <a:prstGeom prst="rect">
            <a:avLst/>
          </a:prstGeom>
          <a:ln w="0">
            <a:noFill/>
          </a:ln>
        </p:spPr>
      </p:pic>
      <p:sp>
        <p:nvSpPr>
          <p:cNvPr id="391" name="TextBox 11"/>
          <p:cNvSpPr/>
          <p:nvPr/>
        </p:nvSpPr>
        <p:spPr>
          <a:xfrm>
            <a:off x="893880" y="4118040"/>
            <a:ext cx="71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node nickname reco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Calibri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070FA-5BBB-45D6-9FD3-C3370C531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ubtitle 2"/>
          <p:cNvSpPr/>
          <p:nvPr/>
        </p:nvSpPr>
        <p:spPr>
          <a:xfrm>
            <a:off x="2244600" y="4097160"/>
            <a:ext cx="453888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Hongjun Zhai (Z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Fangwei Hu  (Z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Radia Perlman (Intel La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2000" spc="-1" strike="noStrike" baseline="30000">
                <a:solidFill>
                  <a:srgbClr val="898989"/>
                </a:solidFill>
                <a:latin typeface="Calibri"/>
              </a:rPr>
              <a:t>rd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(Huaw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8560" y="274680"/>
            <a:ext cx="778824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alibri"/>
              </a:rPr>
              <a:t>Problem Statem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061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AF(Appointed Forwarder)  can ingress/egress native frames into or from TRILL network on a multi-access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LAN-x AF changes for some reas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B changed, and the new DRB maybe designate another RBridge as VLAN-x AF in the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 down or overloaded, DRB designates another RBridge as VLAN-x 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6D550-4840-4A3F-8FCD-F8D939C12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8560" y="274680"/>
            <a:ext cx="778824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alibri"/>
              </a:rPr>
              <a:t>Problem Statem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8061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 caused by VLAN-x AF chang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station can not perceive the A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 entries in remote RBridge’s cache can not be updated by self-learning in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traffic to local end station will be destined to the stale VLAN-x AF, and be discar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ADI can alleviate the issues, but it is only an optional protocol, not running on all ingress/egress RBrid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even worse for the Swap Nickname Field approach in multi-level TR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8BB4D-D6D9-48F6-BB07-F4205E82C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8560" y="274680"/>
            <a:ext cx="778824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alibri"/>
              </a:rPr>
              <a:t>Problem Statem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8061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 caused by VLAN-x AF changing(example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BE764-4492-445C-97EA-BACBDB751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loud"/>
          <p:cNvSpPr/>
          <p:nvPr/>
        </p:nvSpPr>
        <p:spPr>
          <a:xfrm>
            <a:off x="1450800" y="2751120"/>
            <a:ext cx="4729320" cy="2465280"/>
          </a:xfrm>
          <a:custGeom>
            <a:avLst/>
            <a:gdLst>
              <a:gd name="textAreaLeft" fmla="*/ 651600 w 4729320"/>
              <a:gd name="textAreaRight" fmla="*/ 3741480 w 4729320"/>
              <a:gd name="textAreaTop" fmla="*/ 372240 h 2465280"/>
              <a:gd name="textAreaBottom" fmla="*/ 1978920 h 2465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5005440" y="3143160"/>
            <a:ext cx="504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7e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676600" y="4346640"/>
            <a:ext cx="504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779480" y="4357800"/>
            <a:ext cx="50508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7e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133720" y="3100320"/>
            <a:ext cx="136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LL Camp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7"/>
          <p:cNvSpPr/>
          <p:nvPr/>
        </p:nvSpPr>
        <p:spPr>
          <a:xfrm>
            <a:off x="1774800" y="4948200"/>
            <a:ext cx="14065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8"/>
          <p:cNvSpPr/>
          <p:nvPr/>
        </p:nvSpPr>
        <p:spPr>
          <a:xfrm>
            <a:off x="2055960" y="464508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9"/>
          <p:cNvSpPr/>
          <p:nvPr/>
        </p:nvSpPr>
        <p:spPr>
          <a:xfrm>
            <a:off x="2741760" y="49482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0"/>
          <p:cNvSpPr/>
          <p:nvPr/>
        </p:nvSpPr>
        <p:spPr>
          <a:xfrm>
            <a:off x="2081160" y="5165640"/>
            <a:ext cx="142920" cy="142920"/>
          </a:xfrm>
          <a:prstGeom prst="flowChartConnector">
            <a:avLst/>
          </a:prstGeom>
          <a:solidFill>
            <a:srgbClr val="ff00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1"/>
          <p:cNvSpPr/>
          <p:nvPr/>
        </p:nvSpPr>
        <p:spPr>
          <a:xfrm>
            <a:off x="2668680" y="5165640"/>
            <a:ext cx="142920" cy="1429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2"/>
          <p:cNvSpPr/>
          <p:nvPr/>
        </p:nvSpPr>
        <p:spPr>
          <a:xfrm>
            <a:off x="2813040" y="5021280"/>
            <a:ext cx="216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1836720" y="5003640"/>
            <a:ext cx="2872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9"/>
          <p:cNvSpPr/>
          <p:nvPr/>
        </p:nvSpPr>
        <p:spPr>
          <a:xfrm>
            <a:off x="2151000" y="49482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2"/>
          <p:cNvSpPr/>
          <p:nvPr/>
        </p:nvSpPr>
        <p:spPr>
          <a:xfrm flipV="1">
            <a:off x="1944720" y="3673080"/>
            <a:ext cx="1236600" cy="684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8"/>
          <p:cNvSpPr/>
          <p:nvPr/>
        </p:nvSpPr>
        <p:spPr>
          <a:xfrm>
            <a:off x="2941560" y="4633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5440" y="3624120"/>
            <a:ext cx="504720" cy="2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"/>
          <p:cNvSpPr/>
          <p:nvPr/>
        </p:nvSpPr>
        <p:spPr>
          <a:xfrm>
            <a:off x="5819760" y="3173400"/>
            <a:ext cx="0" cy="7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 flipH="1">
            <a:off x="5819760" y="35766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8"/>
          <p:cNvSpPr/>
          <p:nvPr/>
        </p:nvSpPr>
        <p:spPr>
          <a:xfrm flipH="1">
            <a:off x="5510160" y="327348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8"/>
          <p:cNvSpPr/>
          <p:nvPr/>
        </p:nvSpPr>
        <p:spPr>
          <a:xfrm flipH="1">
            <a:off x="5494320" y="3787920"/>
            <a:ext cx="30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6"/>
          <p:cNvSpPr/>
          <p:nvPr/>
        </p:nvSpPr>
        <p:spPr>
          <a:xfrm>
            <a:off x="6281640" y="3505320"/>
            <a:ext cx="142920" cy="142920"/>
          </a:xfrm>
          <a:prstGeom prst="flowChartConnector">
            <a:avLst/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9"/>
          <p:cNvSpPr/>
          <p:nvPr/>
        </p:nvSpPr>
        <p:spPr>
          <a:xfrm>
            <a:off x="6424560" y="3456000"/>
            <a:ext cx="399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H="1" flipV="1">
            <a:off x="3687480" y="3730320"/>
            <a:ext cx="803160" cy="5094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H="1">
            <a:off x="3180960" y="4357800"/>
            <a:ext cx="1011240" cy="144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1500120" y="4829040"/>
            <a:ext cx="2872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3"/>
          <p:cNvSpPr/>
          <p:nvPr/>
        </p:nvSpPr>
        <p:spPr>
          <a:xfrm>
            <a:off x="5675400" y="3971880"/>
            <a:ext cx="287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43"/>
          <p:cNvGrpSpPr/>
          <p:nvPr/>
        </p:nvGrpSpPr>
        <p:grpSpPr>
          <a:xfrm>
            <a:off x="1774800" y="4300560"/>
            <a:ext cx="504720" cy="403200"/>
            <a:chOff x="1774800" y="4300560"/>
            <a:chExt cx="504720" cy="403200"/>
          </a:xfrm>
        </p:grpSpPr>
        <p:sp>
          <p:nvSpPr>
            <p:cNvPr id="100" name="Line 27"/>
            <p:cNvSpPr/>
            <p:nvPr/>
          </p:nvSpPr>
          <p:spPr>
            <a:xfrm flipV="1">
              <a:off x="1774800" y="4300560"/>
              <a:ext cx="448920" cy="403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7"/>
            <p:cNvSpPr/>
            <p:nvPr/>
          </p:nvSpPr>
          <p:spPr>
            <a:xfrm flipH="1" flipV="1">
              <a:off x="1774800" y="4300560"/>
              <a:ext cx="504720" cy="403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4"/>
          <p:cNvSpPr/>
          <p:nvPr/>
        </p:nvSpPr>
        <p:spPr>
          <a:xfrm>
            <a:off x="2678040" y="4346640"/>
            <a:ext cx="504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7e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上弧形箭头 45"/>
          <p:cNvSpPr/>
          <p:nvPr/>
        </p:nvSpPr>
        <p:spPr>
          <a:xfrm flipV="1" rot="9584400">
            <a:off x="1676520" y="3078720"/>
            <a:ext cx="3597120" cy="590400"/>
          </a:xfrm>
          <a:custGeom>
            <a:avLst/>
            <a:gdLst>
              <a:gd name="textAreaLeft" fmla="*/ 843840 w 3597120"/>
              <a:gd name="textAreaRight" fmla="*/ 2679480 w 3597120"/>
              <a:gd name="textAreaTop" fmla="*/ 78840 h 590400"/>
              <a:gd name="textAreaBottom" fmla="*/ 511560 h 590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35" hR="21600" stAng="10800000" swAng="5400000"/>
                <a:lnTo>
                  <a:pt x="11022" y="0"/>
                </a:lnTo>
                <a:arcTo wR="10135" hR="21600" stAng="-5400000" swAng="3670611"/>
                <a:lnTo>
                  <a:pt x="21278" y="16200"/>
                </a:lnTo>
                <a:lnTo>
                  <a:pt x="20714" y="21600"/>
                </a:lnTo>
                <a:lnTo>
                  <a:pt x="19505" y="16200"/>
                </a:lnTo>
                <a:lnTo>
                  <a:pt x="19948" y="16200"/>
                </a:lnTo>
                <a:arcTo wR="10135" hR="21600" stAng="-1729389" swAng="-3599968"/>
                <a:lnTo>
                  <a:pt x="10579" y="21"/>
                </a:lnTo>
                <a:arcTo wR="10135" hR="21600" stAng="-5470643" swAng="-5329357"/>
                <a:close/>
              </a:path>
              <a:path fill="darkenLess" w="21600" h="21600">
                <a:moveTo>
                  <a:pt x="0" y="21600"/>
                </a:moveTo>
                <a:arcTo wR="10135" hR="21600" stAng="10800000" swAng="5400000"/>
                <a:lnTo>
                  <a:pt x="10135" y="0"/>
                </a:lnTo>
                <a:arcTo wR="10135" hR="21600" stAng="-5400000" swAng="70643"/>
                <a:lnTo>
                  <a:pt x="10579" y="21"/>
                </a:lnTo>
                <a:arcTo wR="10135" hR="21600" stAng="-5470643" swAng="-5329357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498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82760" y="3505320"/>
            <a:ext cx="50508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2"/>
          <p:cNvSpPr/>
          <p:nvPr/>
        </p:nvSpPr>
        <p:spPr>
          <a:xfrm flipV="1">
            <a:off x="3687840" y="3215880"/>
            <a:ext cx="1317600" cy="360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192560" y="4240080"/>
            <a:ext cx="504720" cy="2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4490640" y="3787920"/>
            <a:ext cx="514440" cy="4521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3028680" y="3792600"/>
            <a:ext cx="447480" cy="5079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3"/>
          <p:cNvSpPr/>
          <p:nvPr/>
        </p:nvSpPr>
        <p:spPr>
          <a:xfrm>
            <a:off x="898560" y="544680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B3’s forwarding table, egress is an RBridge, not a link or a group of RBridges, which causes the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标注 47"/>
          <p:cNvSpPr/>
          <p:nvPr/>
        </p:nvSpPr>
        <p:spPr>
          <a:xfrm>
            <a:off x="5945040" y="2556000"/>
            <a:ext cx="1568520" cy="587160"/>
          </a:xfrm>
          <a:prstGeom prst="wedgeRectCallout">
            <a:avLst>
              <a:gd name="adj1" fmla="val -81351"/>
              <a:gd name="adj2" fmla="val 46694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_MAC         E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ff0000"/>
                </a:solidFill>
                <a:latin typeface="Calibri"/>
                <a:ea typeface="宋体"/>
              </a:rPr>
              <a:t>H1                R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…                   …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raffic fails caused by AF ch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rol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LV Extension for Pseudonon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D68AC-1EF2-4E11-8FC0-C6574B0DD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loud"/>
          <p:cNvSpPr/>
          <p:nvPr/>
        </p:nvSpPr>
        <p:spPr>
          <a:xfrm>
            <a:off x="1450800" y="2751120"/>
            <a:ext cx="4729320" cy="2465280"/>
          </a:xfrm>
          <a:custGeom>
            <a:avLst/>
            <a:gdLst>
              <a:gd name="textAreaLeft" fmla="*/ 651600 w 4729320"/>
              <a:gd name="textAreaRight" fmla="*/ 3741480 w 4729320"/>
              <a:gd name="textAreaTop" fmla="*/ 372240 h 2465280"/>
              <a:gd name="textAreaBottom" fmla="*/ 1978920 h 2465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43"/>
          <p:cNvSpPr/>
          <p:nvPr/>
        </p:nvSpPr>
        <p:spPr>
          <a:xfrm>
            <a:off x="1685880" y="4703760"/>
            <a:ext cx="1631880" cy="461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8560" y="274680"/>
            <a:ext cx="778824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Pseudonode Nickna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80612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 is solved by pseudonode nickna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84B22-0879-4F7E-81D9-064B24A9B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5440" y="3143160"/>
            <a:ext cx="504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7e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676600" y="4346640"/>
            <a:ext cx="504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779480" y="4357800"/>
            <a:ext cx="50508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7e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1774800" y="4948200"/>
            <a:ext cx="14065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055960" y="464508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2741760" y="49482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0"/>
          <p:cNvSpPr/>
          <p:nvPr/>
        </p:nvSpPr>
        <p:spPr>
          <a:xfrm>
            <a:off x="2081160" y="5165640"/>
            <a:ext cx="142920" cy="142920"/>
          </a:xfrm>
          <a:prstGeom prst="flowChartConnector">
            <a:avLst/>
          </a:prstGeom>
          <a:solidFill>
            <a:srgbClr val="ff00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1"/>
          <p:cNvSpPr/>
          <p:nvPr/>
        </p:nvSpPr>
        <p:spPr>
          <a:xfrm>
            <a:off x="2668680" y="5165640"/>
            <a:ext cx="142920" cy="1429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2813040" y="5021280"/>
            <a:ext cx="216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3"/>
          <p:cNvSpPr/>
          <p:nvPr/>
        </p:nvSpPr>
        <p:spPr>
          <a:xfrm>
            <a:off x="1836720" y="5003640"/>
            <a:ext cx="2872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>
            <a:off x="2151000" y="49482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2"/>
          <p:cNvSpPr/>
          <p:nvPr/>
        </p:nvSpPr>
        <p:spPr>
          <a:xfrm flipV="1">
            <a:off x="1944720" y="3673080"/>
            <a:ext cx="1236600" cy="684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2941560" y="4633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005440" y="3624120"/>
            <a:ext cx="504720" cy="2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7"/>
          <p:cNvSpPr/>
          <p:nvPr/>
        </p:nvSpPr>
        <p:spPr>
          <a:xfrm>
            <a:off x="5819760" y="3173400"/>
            <a:ext cx="0" cy="7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 flipH="1">
            <a:off x="5819760" y="35766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 flipH="1">
            <a:off x="5510160" y="327348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 flipH="1">
            <a:off x="5494320" y="3787920"/>
            <a:ext cx="30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6"/>
          <p:cNvSpPr/>
          <p:nvPr/>
        </p:nvSpPr>
        <p:spPr>
          <a:xfrm>
            <a:off x="6281640" y="3505320"/>
            <a:ext cx="142920" cy="142920"/>
          </a:xfrm>
          <a:prstGeom prst="flowChartConnector">
            <a:avLst/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9"/>
          <p:cNvSpPr/>
          <p:nvPr/>
        </p:nvSpPr>
        <p:spPr>
          <a:xfrm>
            <a:off x="6424560" y="3456000"/>
            <a:ext cx="399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 flipV="1">
            <a:off x="3687480" y="3730320"/>
            <a:ext cx="803160" cy="5094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 flipH="1">
            <a:off x="3180960" y="4357800"/>
            <a:ext cx="1011240" cy="144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3"/>
          <p:cNvSpPr/>
          <p:nvPr/>
        </p:nvSpPr>
        <p:spPr>
          <a:xfrm>
            <a:off x="1500120" y="4829040"/>
            <a:ext cx="2872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3"/>
          <p:cNvSpPr/>
          <p:nvPr/>
        </p:nvSpPr>
        <p:spPr>
          <a:xfrm>
            <a:off x="5675400" y="3971880"/>
            <a:ext cx="287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43"/>
          <p:cNvGrpSpPr/>
          <p:nvPr/>
        </p:nvGrpSpPr>
        <p:grpSpPr>
          <a:xfrm>
            <a:off x="1774800" y="4300560"/>
            <a:ext cx="504720" cy="403200"/>
            <a:chOff x="1774800" y="4300560"/>
            <a:chExt cx="504720" cy="403200"/>
          </a:xfrm>
        </p:grpSpPr>
        <p:sp>
          <p:nvSpPr>
            <p:cNvPr id="148" name="Line 27"/>
            <p:cNvSpPr/>
            <p:nvPr/>
          </p:nvSpPr>
          <p:spPr>
            <a:xfrm flipV="1">
              <a:off x="1774800" y="4300560"/>
              <a:ext cx="448920" cy="403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 flipV="1">
              <a:off x="1774800" y="4300560"/>
              <a:ext cx="504720" cy="403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4"/>
          <p:cNvSpPr/>
          <p:nvPr/>
        </p:nvSpPr>
        <p:spPr>
          <a:xfrm>
            <a:off x="2678040" y="4346640"/>
            <a:ext cx="504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7e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上弧形箭头 45"/>
          <p:cNvSpPr/>
          <p:nvPr/>
        </p:nvSpPr>
        <p:spPr>
          <a:xfrm flipV="1" rot="9009600">
            <a:off x="1932120" y="3250080"/>
            <a:ext cx="3283920" cy="676440"/>
          </a:xfrm>
          <a:custGeom>
            <a:avLst/>
            <a:gdLst>
              <a:gd name="textAreaLeft" fmla="*/ 757440 w 3283920"/>
              <a:gd name="textAreaRight" fmla="*/ 2441880 w 3283920"/>
              <a:gd name="textAreaTop" fmla="*/ 90360 h 676440"/>
              <a:gd name="textAreaBottom" fmla="*/ 586080 h 676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66" hR="21600" stAng="10800000" swAng="5400000"/>
                <a:lnTo>
                  <a:pt x="11078" y="0"/>
                </a:lnTo>
                <a:arcTo wR="9966" hR="21600" stAng="-5400000" swAng="3646085"/>
                <a:lnTo>
                  <a:pt x="21284" y="16200"/>
                </a:lnTo>
                <a:lnTo>
                  <a:pt x="20488" y="21600"/>
                </a:lnTo>
                <a:lnTo>
                  <a:pt x="19060" y="16200"/>
                </a:lnTo>
                <a:lnTo>
                  <a:pt x="19616" y="16200"/>
                </a:lnTo>
                <a:arcTo wR="9966" hR="21600" stAng="-1753915" swAng="-3557477"/>
                <a:lnTo>
                  <a:pt x="10522" y="34"/>
                </a:lnTo>
                <a:arcTo wR="9966" hR="21600" stAng="-5488609" swAng="-5311391"/>
                <a:close/>
              </a:path>
              <a:path fill="darkenLess" w="21600" h="21600">
                <a:moveTo>
                  <a:pt x="0" y="21600"/>
                </a:moveTo>
                <a:arcTo wR="9966" hR="21600" stAng="10800000" swAng="5400000"/>
                <a:lnTo>
                  <a:pt x="9966" y="0"/>
                </a:lnTo>
                <a:arcTo wR="9966" hR="21600" stAng="-5400000" swAng="88609"/>
                <a:lnTo>
                  <a:pt x="10522" y="34"/>
                </a:lnTo>
                <a:arcTo wR="9966" hR="21600" stAng="-5488609" swAng="-5311391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441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182760" y="3505320"/>
            <a:ext cx="50508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2"/>
          <p:cNvSpPr/>
          <p:nvPr/>
        </p:nvSpPr>
        <p:spPr>
          <a:xfrm flipV="1">
            <a:off x="3687840" y="3215880"/>
            <a:ext cx="1317600" cy="360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192560" y="4240080"/>
            <a:ext cx="504720" cy="2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H="1">
            <a:off x="4490640" y="3787920"/>
            <a:ext cx="514440" cy="4521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>
            <a:off x="2941560" y="3792600"/>
            <a:ext cx="534960" cy="5540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043000" y="4686480"/>
            <a:ext cx="922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eNick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68"/>
          <p:cNvGrpSpPr/>
          <p:nvPr/>
        </p:nvGrpSpPr>
        <p:grpSpPr>
          <a:xfrm>
            <a:off x="2160720" y="3406680"/>
            <a:ext cx="5448240" cy="1121040"/>
            <a:chOff x="2160720" y="3406680"/>
            <a:chExt cx="5448240" cy="1121040"/>
          </a:xfrm>
        </p:grpSpPr>
        <p:sp>
          <p:nvSpPr>
            <p:cNvPr id="159" name="Rectangle 33"/>
            <p:cNvSpPr/>
            <p:nvPr/>
          </p:nvSpPr>
          <p:spPr>
            <a:xfrm>
              <a:off x="4340880" y="340668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[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3"/>
            <p:cNvSpPr/>
            <p:nvPr/>
          </p:nvSpPr>
          <p:spPr>
            <a:xfrm>
              <a:off x="2160720" y="385992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[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3"/>
            <p:cNvSpPr/>
            <p:nvPr/>
          </p:nvSpPr>
          <p:spPr>
            <a:xfrm>
              <a:off x="3247920" y="396864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[1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3"/>
            <p:cNvSpPr/>
            <p:nvPr/>
          </p:nvSpPr>
          <p:spPr>
            <a:xfrm>
              <a:off x="6423840" y="4300920"/>
              <a:ext cx="118512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[xx]:    cost of li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任意多边形 64"/>
          <p:cNvSpPr/>
          <p:nvPr/>
        </p:nvSpPr>
        <p:spPr>
          <a:xfrm rot="359400">
            <a:off x="2289240" y="3032280"/>
            <a:ext cx="2536920" cy="1396800"/>
          </a:xfrm>
          <a:custGeom>
            <a:avLst/>
            <a:gdLst/>
            <a:ahLst/>
            <a:rect l="l" t="t" r="r" b="b"/>
            <a:pathLst>
              <a:path w="2830883" h="1427967">
                <a:moveTo>
                  <a:pt x="2830883" y="0"/>
                </a:moveTo>
                <a:lnTo>
                  <a:pt x="2517732" y="37578"/>
                </a:lnTo>
                <a:lnTo>
                  <a:pt x="2104373" y="150312"/>
                </a:lnTo>
                <a:lnTo>
                  <a:pt x="1766170" y="250520"/>
                </a:lnTo>
                <a:lnTo>
                  <a:pt x="1427968" y="375781"/>
                </a:lnTo>
                <a:lnTo>
                  <a:pt x="1052187" y="576197"/>
                </a:lnTo>
                <a:lnTo>
                  <a:pt x="801666" y="764088"/>
                </a:lnTo>
                <a:lnTo>
                  <a:pt x="400833" y="1052186"/>
                </a:lnTo>
                <a:lnTo>
                  <a:pt x="175365" y="1240077"/>
                </a:lnTo>
                <a:lnTo>
                  <a:pt x="0" y="1427967"/>
                </a:lnTo>
              </a:path>
            </a:pathLst>
          </a:custGeom>
          <a:noFill/>
          <a:ln w="50760">
            <a:solidFill>
              <a:srgbClr val="4f81bd"/>
            </a:solidFill>
            <a:round/>
            <a:tailEnd len="med" type="stealth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6"/>
          <p:cNvSpPr/>
          <p:nvPr/>
        </p:nvSpPr>
        <p:spPr>
          <a:xfrm>
            <a:off x="898560" y="544680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B3’s forwarding table, egress is the pseudonode nickname of E2 link, not an RBridge, so the issue is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67"/>
          <p:cNvSpPr/>
          <p:nvPr/>
        </p:nvSpPr>
        <p:spPr>
          <a:xfrm>
            <a:off x="2943360" y="3244680"/>
            <a:ext cx="1966680" cy="1076400"/>
          </a:xfrm>
          <a:custGeom>
            <a:avLst/>
            <a:gdLst/>
            <a:ahLst/>
            <a:rect l="l" t="t" r="r" b="b"/>
            <a:pathLst>
              <a:path w="1966587" h="1077238">
                <a:moveTo>
                  <a:pt x="1966587" y="0"/>
                </a:moveTo>
                <a:lnTo>
                  <a:pt x="1628384" y="25052"/>
                </a:lnTo>
                <a:lnTo>
                  <a:pt x="1164921" y="125260"/>
                </a:lnTo>
                <a:lnTo>
                  <a:pt x="789140" y="275573"/>
                </a:lnTo>
                <a:lnTo>
                  <a:pt x="488516" y="501041"/>
                </a:lnTo>
                <a:lnTo>
                  <a:pt x="275573" y="726510"/>
                </a:lnTo>
                <a:lnTo>
                  <a:pt x="62631" y="989556"/>
                </a:lnTo>
                <a:lnTo>
                  <a:pt x="0" y="1077238"/>
                </a:lnTo>
              </a:path>
            </a:pathLst>
          </a:custGeom>
          <a:noFill/>
          <a:ln w="50760">
            <a:solidFill>
              <a:srgbClr val="c00000"/>
            </a:solidFill>
            <a:round/>
            <a:tailEnd len="med" type="stealth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标注 53"/>
          <p:cNvSpPr/>
          <p:nvPr/>
        </p:nvSpPr>
        <p:spPr>
          <a:xfrm>
            <a:off x="5945040" y="2556000"/>
            <a:ext cx="1568520" cy="587160"/>
          </a:xfrm>
          <a:prstGeom prst="wedgeRectCallout">
            <a:avLst>
              <a:gd name="adj1" fmla="val -81351"/>
              <a:gd name="adj2" fmla="val 46694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_MAC         E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ff0000"/>
                </a:solidFill>
                <a:latin typeface="Calibri"/>
                <a:ea typeface="宋体"/>
              </a:rPr>
              <a:t>H1              PseNick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…                   …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133720" y="3100320"/>
            <a:ext cx="136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LL Camp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98560" y="274680"/>
            <a:ext cx="778824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Pseudonode Nickna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80612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eudonode nickname is used to identify a link or a group of Rbrid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ssigned by DRB on the lin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re is not a pseudonode nickname on a link, the DRB will contend for one (just as an RBridge nickname) and announce it in its hel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se, the DRB should reuse the existing pseudonode nickname on this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56DBB-ECAE-4FFB-8CC8-54A411EBB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raffic fails caused by AF ch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Control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LV Extension for Pseudonon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3404F-9FEE-47DE-BDE4-67225B562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1:39:28Z</dcterms:created>
  <dc:creator>Donald Eastlake</dc:creator>
  <dc:description/>
  <dc:language>en-US</dc:language>
  <cp:lastModifiedBy>Donald Eastlake III</cp:lastModifiedBy>
  <cp:lastPrinted>2010-10-30T20:11:31Z</cp:lastPrinted>
  <dcterms:modified xsi:type="dcterms:W3CDTF">2011-07-20T17:10:05Z</dcterms:modified>
  <cp:revision>190</cp:revision>
  <dc:subject/>
  <dc:title>TRILL OAM &amp; BFD</dc:title>
</cp:coreProperties>
</file>