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7C564-977E-4048-BF94-2AB4D7CF8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F0427-CB1B-45FB-A5BA-B5E449F64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8BF2D-5DB5-4C46-9694-C48EB20AB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C164D-0567-4E2B-B8BD-0ED97988F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F8460-AA14-4E86-9352-80A40920C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428-407F-4124-82D4-28978CF5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028-D4C5-4272-A94D-DF7DC2D5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C75-A300-4B0A-A305-15DADE57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957-1DC7-4B42-9D97-E5D43F2F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337-1D05-4BFC-B0A3-E5B7A0BA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290-82F4-4EB6-A558-8D5C6A0C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139-789F-4E11-B49F-ECCAA9F5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998-E706-4BE4-A274-5E9BF87A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E74-A06B-411E-A2D6-6B5A5CBF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FFA-8DEB-4F8E-B993-35CA8F4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240-4B13-4759-A951-EF63AF4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323-14C2-4862-BA7D-6821E2B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B20CC-61A1-40BF-8D6D-82C5B4982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2130120"/>
            <a:ext cx="797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TRILL Header Extension Simplific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40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89CE9-26E8-43B3-9DC9-5A4304A46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posed Header Extended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lag B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if Ext/OpLng in TRILL Header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8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77D91-EDF6-425E-8906-39A00C6C2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572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508120" y="2417760"/>
            <a:ext cx="205128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5594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61032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H="1">
            <a:off x="76359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8"/>
          <p:cNvSpPr/>
          <p:nvPr/>
        </p:nvSpPr>
        <p:spPr>
          <a:xfrm flipH="1">
            <a:off x="5592240" y="2759040"/>
            <a:ext cx="180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 flipH="1">
            <a:off x="3529080" y="275256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 flipH="1">
            <a:off x="14907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>
            <a:off x="71308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2"/>
          <p:cNvSpPr/>
          <p:nvPr/>
        </p:nvSpPr>
        <p:spPr>
          <a:xfrm>
            <a:off x="687564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13"/>
          <p:cNvSpPr/>
          <p:nvPr/>
        </p:nvSpPr>
        <p:spPr>
          <a:xfrm>
            <a:off x="73756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4"/>
          <p:cNvSpPr/>
          <p:nvPr/>
        </p:nvSpPr>
        <p:spPr>
          <a:xfrm>
            <a:off x="61056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15"/>
          <p:cNvSpPr/>
          <p:nvPr/>
        </p:nvSpPr>
        <p:spPr>
          <a:xfrm>
            <a:off x="58500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16"/>
          <p:cNvSpPr/>
          <p:nvPr/>
        </p:nvSpPr>
        <p:spPr>
          <a:xfrm>
            <a:off x="63500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7"/>
          <p:cNvSpPr/>
          <p:nvPr/>
        </p:nvSpPr>
        <p:spPr>
          <a:xfrm>
            <a:off x="507996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8"/>
          <p:cNvSpPr/>
          <p:nvPr/>
        </p:nvSpPr>
        <p:spPr>
          <a:xfrm>
            <a:off x="4824360" y="282240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9"/>
          <p:cNvSpPr/>
          <p:nvPr/>
        </p:nvSpPr>
        <p:spPr>
          <a:xfrm>
            <a:off x="532440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0"/>
          <p:cNvSpPr/>
          <p:nvPr/>
        </p:nvSpPr>
        <p:spPr>
          <a:xfrm>
            <a:off x="404352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1"/>
          <p:cNvSpPr/>
          <p:nvPr/>
        </p:nvSpPr>
        <p:spPr>
          <a:xfrm>
            <a:off x="378612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22"/>
          <p:cNvSpPr/>
          <p:nvPr/>
        </p:nvSpPr>
        <p:spPr>
          <a:xfrm>
            <a:off x="42879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3"/>
          <p:cNvSpPr/>
          <p:nvPr/>
        </p:nvSpPr>
        <p:spPr>
          <a:xfrm>
            <a:off x="30416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24"/>
          <p:cNvSpPr/>
          <p:nvPr/>
        </p:nvSpPr>
        <p:spPr>
          <a:xfrm>
            <a:off x="27846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25"/>
          <p:cNvSpPr/>
          <p:nvPr/>
        </p:nvSpPr>
        <p:spPr>
          <a:xfrm>
            <a:off x="3286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26"/>
          <p:cNvSpPr/>
          <p:nvPr/>
        </p:nvSpPr>
        <p:spPr>
          <a:xfrm>
            <a:off x="81327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27"/>
          <p:cNvSpPr/>
          <p:nvPr/>
        </p:nvSpPr>
        <p:spPr>
          <a:xfrm>
            <a:off x="787716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8"/>
          <p:cNvSpPr/>
          <p:nvPr/>
        </p:nvSpPr>
        <p:spPr>
          <a:xfrm>
            <a:off x="83772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29"/>
          <p:cNvSpPr/>
          <p:nvPr/>
        </p:nvSpPr>
        <p:spPr>
          <a:xfrm>
            <a:off x="20034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30"/>
          <p:cNvSpPr/>
          <p:nvPr/>
        </p:nvSpPr>
        <p:spPr>
          <a:xfrm>
            <a:off x="17478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1"/>
          <p:cNvSpPr/>
          <p:nvPr/>
        </p:nvSpPr>
        <p:spPr>
          <a:xfrm>
            <a:off x="2249640" y="2943360"/>
            <a:ext cx="0" cy="8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2"/>
          <p:cNvSpPr/>
          <p:nvPr/>
        </p:nvSpPr>
        <p:spPr>
          <a:xfrm>
            <a:off x="944640" y="241776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33"/>
          <p:cNvSpPr/>
          <p:nvPr/>
        </p:nvSpPr>
        <p:spPr>
          <a:xfrm>
            <a:off x="687240" y="2417760"/>
            <a:ext cx="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4"/>
          <p:cNvSpPr/>
          <p:nvPr/>
        </p:nvSpPr>
        <p:spPr>
          <a:xfrm>
            <a:off x="1189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1"/>
          <p:cNvSpPr/>
          <p:nvPr/>
        </p:nvSpPr>
        <p:spPr>
          <a:xfrm rot="16200000">
            <a:off x="1170720" y="387396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. H-b-H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eft Brace 42"/>
          <p:cNvSpPr/>
          <p:nvPr/>
        </p:nvSpPr>
        <p:spPr>
          <a:xfrm rot="16200000">
            <a:off x="3304440" y="2534040"/>
            <a:ext cx="219240" cy="1258920"/>
          </a:xfrm>
          <a:custGeom>
            <a:avLst/>
            <a:gdLst>
              <a:gd name="textAreaLeft" fmla="*/ 140040 w 219240"/>
              <a:gd name="textAreaRight" fmla="*/ 219600 w 219240"/>
              <a:gd name="textAreaTop" fmla="*/ 25920 h 1258920"/>
              <a:gd name="textAreaBottom" fmla="*/ 123300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126"/>
                </a:lnTo>
                <a:cubicBezTo>
                  <a:pt x="10800" y="9842"/>
                  <a:pt x="5400" y="10557"/>
                  <a:pt x="0" y="10557"/>
                </a:cubicBezTo>
                <a:cubicBezTo>
                  <a:pt x="5400" y="10557"/>
                  <a:pt x="10800" y="11273"/>
                  <a:pt x="10800" y="11988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43"/>
          <p:cNvSpPr/>
          <p:nvPr/>
        </p:nvSpPr>
        <p:spPr>
          <a:xfrm flipH="1">
            <a:off x="812520" y="2752560"/>
            <a:ext cx="4680" cy="2822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44"/>
          <p:cNvSpPr/>
          <p:nvPr/>
        </p:nvSpPr>
        <p:spPr>
          <a:xfrm>
            <a:off x="812880" y="557532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45"/>
          <p:cNvSpPr/>
          <p:nvPr/>
        </p:nvSpPr>
        <p:spPr>
          <a:xfrm>
            <a:off x="572400" y="2759040"/>
            <a:ext cx="4680" cy="3129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46"/>
          <p:cNvSpPr/>
          <p:nvPr/>
        </p:nvSpPr>
        <p:spPr>
          <a:xfrm>
            <a:off x="577800" y="5888160"/>
            <a:ext cx="1170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0"/>
          <p:cNvSpPr/>
          <p:nvPr/>
        </p:nvSpPr>
        <p:spPr>
          <a:xfrm>
            <a:off x="1758960" y="570060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Hop-by-Hop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1"/>
          <p:cNvSpPr/>
          <p:nvPr/>
        </p:nvSpPr>
        <p:spPr>
          <a:xfrm>
            <a:off x="1747800" y="5392800"/>
            <a:ext cx="35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Ingress-to-Egress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57"/>
          <p:cNvSpPr/>
          <p:nvPr/>
        </p:nvSpPr>
        <p:spPr>
          <a:xfrm>
            <a:off x="1090440" y="2751120"/>
            <a:ext cx="0" cy="23036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60"/>
          <p:cNvSpPr/>
          <p:nvPr/>
        </p:nvSpPr>
        <p:spPr>
          <a:xfrm>
            <a:off x="1090440" y="5033880"/>
            <a:ext cx="424080" cy="1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2"/>
          <p:cNvSpPr/>
          <p:nvPr/>
        </p:nvSpPr>
        <p:spPr>
          <a:xfrm>
            <a:off x="1509840" y="4836960"/>
            <a:ext cx="38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ritical Border RBridge Summary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eft Brace 90"/>
          <p:cNvSpPr/>
          <p:nvPr/>
        </p:nvSpPr>
        <p:spPr>
          <a:xfrm rot="16200000">
            <a:off x="1870200" y="2379600"/>
            <a:ext cx="233280" cy="1595520"/>
          </a:xfrm>
          <a:custGeom>
            <a:avLst/>
            <a:gdLst>
              <a:gd name="textAreaLeft" fmla="*/ 149040 w 233280"/>
              <a:gd name="textAreaRight" fmla="*/ 233640 w 233280"/>
              <a:gd name="textAreaTop" fmla="*/ 27720 h 1595520"/>
              <a:gd name="textAreaBottom" fmla="*/ 1567800 h 159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2"/>
                  <a:pt x="10800" y="1203"/>
                </a:cubicBezTo>
                <a:lnTo>
                  <a:pt x="10800" y="9354"/>
                </a:lnTo>
                <a:cubicBezTo>
                  <a:pt x="10800" y="9956"/>
                  <a:pt x="5400" y="10557"/>
                  <a:pt x="0" y="10557"/>
                </a:cubicBezTo>
                <a:cubicBezTo>
                  <a:pt x="5400" y="10557"/>
                  <a:pt x="10800" y="11159"/>
                  <a:pt x="10800" y="11760"/>
                </a:cubicBezTo>
                <a:lnTo>
                  <a:pt x="10800" y="20397"/>
                </a:lnTo>
                <a:cubicBezTo>
                  <a:pt x="10800" y="209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eft Brace 91"/>
          <p:cNvSpPr/>
          <p:nvPr/>
        </p:nvSpPr>
        <p:spPr>
          <a:xfrm rot="16200000">
            <a:off x="6608880" y="2521080"/>
            <a:ext cx="263520" cy="1270080"/>
          </a:xfrm>
          <a:custGeom>
            <a:avLst/>
            <a:gdLst>
              <a:gd name="textAreaLeft" fmla="*/ 168480 w 263520"/>
              <a:gd name="textAreaRight" fmla="*/ 263880 w 263520"/>
              <a:gd name="textAreaTop" fmla="*/ 31320 h 1270080"/>
              <a:gd name="textAreaBottom" fmla="*/ 1238760 h 12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3"/>
                  <a:pt x="10800" y="1706"/>
                </a:cubicBezTo>
                <a:lnTo>
                  <a:pt x="10800" y="8851"/>
                </a:lnTo>
                <a:cubicBezTo>
                  <a:pt x="10800" y="9704"/>
                  <a:pt x="5400" y="10557"/>
                  <a:pt x="0" y="10557"/>
                </a:cubicBezTo>
                <a:cubicBezTo>
                  <a:pt x="5400" y="10557"/>
                  <a:pt x="10800" y="11410"/>
                  <a:pt x="10800" y="12263"/>
                </a:cubicBezTo>
                <a:lnTo>
                  <a:pt x="10800" y="19894"/>
                </a:lnTo>
                <a:cubicBezTo>
                  <a:pt x="10800" y="207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1"/>
          <p:cNvSpPr/>
          <p:nvPr/>
        </p:nvSpPr>
        <p:spPr>
          <a:xfrm rot="16200000">
            <a:off x="2564640" y="390744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C. H-b-H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1"/>
          <p:cNvSpPr/>
          <p:nvPr/>
        </p:nvSpPr>
        <p:spPr>
          <a:xfrm rot="16200000">
            <a:off x="6036480" y="380088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. I-t-E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1"/>
          <p:cNvSpPr/>
          <p:nvPr/>
        </p:nvSpPr>
        <p:spPr>
          <a:xfrm rot="16200000">
            <a:off x="7320600" y="378036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C. I-t-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eft Brace 69"/>
          <p:cNvSpPr/>
          <p:nvPr/>
        </p:nvSpPr>
        <p:spPr>
          <a:xfrm rot="16200000">
            <a:off x="7896960" y="2529360"/>
            <a:ext cx="243000" cy="1285560"/>
          </a:xfrm>
          <a:custGeom>
            <a:avLst/>
            <a:gdLst>
              <a:gd name="textAreaLeft" fmla="*/ 155160 w 243000"/>
              <a:gd name="textAreaRight" fmla="*/ 243360 w 243000"/>
              <a:gd name="textAreaTop" fmla="*/ 28800 h 1285560"/>
              <a:gd name="textAreaBottom" fmla="*/ 125676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7"/>
                  <a:pt x="10800" y="1553"/>
                </a:cubicBezTo>
                <a:lnTo>
                  <a:pt x="10800" y="9004"/>
                </a:lnTo>
                <a:cubicBezTo>
                  <a:pt x="10800" y="9781"/>
                  <a:pt x="5400" y="10557"/>
                  <a:pt x="0" y="10557"/>
                </a:cubicBezTo>
                <a:cubicBezTo>
                  <a:pt x="5400" y="10557"/>
                  <a:pt x="10800" y="11334"/>
                  <a:pt x="10800" y="12110"/>
                </a:cubicBezTo>
                <a:lnTo>
                  <a:pt x="10800" y="20047"/>
                </a:lnTo>
                <a:cubicBezTo>
                  <a:pt x="10800" y="2082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ight Brace 1"/>
          <p:cNvSpPr/>
          <p:nvPr/>
        </p:nvSpPr>
        <p:spPr>
          <a:xfrm>
            <a:off x="5079960" y="5405400"/>
            <a:ext cx="360360" cy="646200"/>
          </a:xfrm>
          <a:custGeom>
            <a:avLst/>
            <a:gdLst>
              <a:gd name="textAreaLeft" fmla="*/ 0 w 360360"/>
              <a:gd name="textAreaRight" fmla="*/ 129960 w 360360"/>
              <a:gd name="textAreaTop" fmla="*/ 32760 h 646200"/>
              <a:gd name="textAreaBottom" fmla="*/ 61344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59"/>
                  <a:pt x="10800" y="3517"/>
                </a:cubicBezTo>
                <a:lnTo>
                  <a:pt x="10800" y="7283"/>
                </a:lnTo>
                <a:cubicBezTo>
                  <a:pt x="10800" y="9042"/>
                  <a:pt x="16200" y="10800"/>
                  <a:pt x="21600" y="10800"/>
                </a:cubicBezTo>
                <a:cubicBezTo>
                  <a:pt x="16200" y="10800"/>
                  <a:pt x="10800" y="12559"/>
                  <a:pt x="10800" y="14317"/>
                </a:cubicBezTo>
                <a:lnTo>
                  <a:pt x="10800" y="18083"/>
                </a:lnTo>
                <a:cubicBezTo>
                  <a:pt x="10800" y="1984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0"/>
          <p:cNvSpPr/>
          <p:nvPr/>
        </p:nvSpPr>
        <p:spPr>
          <a:xfrm>
            <a:off x="5470560" y="554688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cified in bas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 rot="16200000">
            <a:off x="2276640" y="24807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1747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eft Brace 70"/>
          <p:cNvSpPr/>
          <p:nvPr/>
        </p:nvSpPr>
        <p:spPr>
          <a:xfrm rot="16200000">
            <a:off x="5484600" y="2646000"/>
            <a:ext cx="216000" cy="102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5560 h 1025640"/>
              <a:gd name="textAreaBottom" fmla="*/ 1000080 h 10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6"/>
                  <a:pt x="10800" y="1731"/>
                </a:cubicBezTo>
                <a:lnTo>
                  <a:pt x="10800" y="8826"/>
                </a:lnTo>
                <a:cubicBezTo>
                  <a:pt x="10800" y="9692"/>
                  <a:pt x="5400" y="10557"/>
                  <a:pt x="0" y="10557"/>
                </a:cubicBezTo>
                <a:cubicBezTo>
                  <a:pt x="5400" y="10557"/>
                  <a:pt x="10800" y="11423"/>
                  <a:pt x="10800" y="12288"/>
                </a:cubicBezTo>
                <a:lnTo>
                  <a:pt x="10800" y="19869"/>
                </a:lnTo>
                <a:cubicBezTo>
                  <a:pt x="10800" y="2073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eft Brace 71"/>
          <p:cNvSpPr/>
          <p:nvPr/>
        </p:nvSpPr>
        <p:spPr>
          <a:xfrm rot="16200000">
            <a:off x="4455360" y="2648880"/>
            <a:ext cx="200160" cy="1023840"/>
          </a:xfrm>
          <a:custGeom>
            <a:avLst/>
            <a:gdLst>
              <a:gd name="textAreaLeft" fmla="*/ 127800 w 200160"/>
              <a:gd name="textAreaRight" fmla="*/ 200520 w 200160"/>
              <a:gd name="textAreaTop" fmla="*/ 23760 h 1023840"/>
              <a:gd name="textAreaBottom" fmla="*/ 1000080 h 102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3"/>
                  <a:pt x="10800" y="1606"/>
                </a:cubicBezTo>
                <a:lnTo>
                  <a:pt x="10800" y="8951"/>
                </a:lnTo>
                <a:cubicBezTo>
                  <a:pt x="10800" y="9754"/>
                  <a:pt x="5400" y="10557"/>
                  <a:pt x="0" y="10557"/>
                </a:cubicBezTo>
                <a:cubicBezTo>
                  <a:pt x="5400" y="10557"/>
                  <a:pt x="10800" y="11360"/>
                  <a:pt x="10800" y="12163"/>
                </a:cubicBezTo>
                <a:lnTo>
                  <a:pt x="10800" y="19994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 rot="16200000">
            <a:off x="4755240" y="390744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C. Border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1"/>
          <p:cNvSpPr/>
          <p:nvPr/>
        </p:nvSpPr>
        <p:spPr>
          <a:xfrm rot="16200000">
            <a:off x="3774240" y="386748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. Border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3494160" y="250020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Proposed TLV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mat of TLV Ext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355760" y="2959200"/>
            <a:ext cx="2050920" cy="6062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3406680" y="2959200"/>
            <a:ext cx="2051280" cy="6062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5"/>
          <p:cNvSpPr/>
          <p:nvPr/>
        </p:nvSpPr>
        <p:spPr>
          <a:xfrm>
            <a:off x="5457960" y="2957400"/>
            <a:ext cx="2050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6"/>
          <p:cNvSpPr/>
          <p:nvPr/>
        </p:nvSpPr>
        <p:spPr>
          <a:xfrm>
            <a:off x="5457960" y="3564000"/>
            <a:ext cx="2050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7"/>
          <p:cNvSpPr/>
          <p:nvPr/>
        </p:nvSpPr>
        <p:spPr>
          <a:xfrm flipH="1">
            <a:off x="4430880" y="329868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8"/>
          <p:cNvSpPr/>
          <p:nvPr/>
        </p:nvSpPr>
        <p:spPr>
          <a:xfrm flipH="1">
            <a:off x="2389320" y="3298680"/>
            <a:ext cx="1440" cy="26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9"/>
          <p:cNvSpPr/>
          <p:nvPr/>
        </p:nvSpPr>
        <p:spPr>
          <a:xfrm>
            <a:off x="3927600" y="295740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10"/>
          <p:cNvSpPr/>
          <p:nvPr/>
        </p:nvSpPr>
        <p:spPr>
          <a:xfrm>
            <a:off x="3670200" y="3360600"/>
            <a:ext cx="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11"/>
          <p:cNvSpPr/>
          <p:nvPr/>
        </p:nvSpPr>
        <p:spPr>
          <a:xfrm>
            <a:off x="4172040" y="295740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12"/>
          <p:cNvSpPr/>
          <p:nvPr/>
        </p:nvSpPr>
        <p:spPr>
          <a:xfrm>
            <a:off x="290196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3"/>
          <p:cNvSpPr/>
          <p:nvPr/>
        </p:nvSpPr>
        <p:spPr>
          <a:xfrm>
            <a:off x="2644920" y="336852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4"/>
          <p:cNvSpPr/>
          <p:nvPr/>
        </p:nvSpPr>
        <p:spPr>
          <a:xfrm>
            <a:off x="314640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5"/>
          <p:cNvSpPr/>
          <p:nvPr/>
        </p:nvSpPr>
        <p:spPr>
          <a:xfrm>
            <a:off x="1876320" y="2959200"/>
            <a:ext cx="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16"/>
          <p:cNvSpPr/>
          <p:nvPr/>
        </p:nvSpPr>
        <p:spPr>
          <a:xfrm>
            <a:off x="1619280" y="2959200"/>
            <a:ext cx="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7"/>
          <p:cNvSpPr/>
          <p:nvPr/>
        </p:nvSpPr>
        <p:spPr>
          <a:xfrm>
            <a:off x="2120760" y="33606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18"/>
          <p:cNvSpPr/>
          <p:nvPr/>
        </p:nvSpPr>
        <p:spPr>
          <a:xfrm>
            <a:off x="492912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9"/>
          <p:cNvSpPr/>
          <p:nvPr/>
        </p:nvSpPr>
        <p:spPr>
          <a:xfrm>
            <a:off x="4672080" y="336852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20"/>
          <p:cNvSpPr/>
          <p:nvPr/>
        </p:nvSpPr>
        <p:spPr>
          <a:xfrm>
            <a:off x="517356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6"/>
          <p:cNvSpPr/>
          <p:nvPr/>
        </p:nvSpPr>
        <p:spPr>
          <a:xfrm>
            <a:off x="5702400" y="3129120"/>
            <a:ext cx="16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e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eft Brace 22"/>
          <p:cNvSpPr/>
          <p:nvPr/>
        </p:nvSpPr>
        <p:spPr>
          <a:xfrm rot="16200000">
            <a:off x="4617360" y="3119760"/>
            <a:ext cx="392040" cy="128268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1282680"/>
              <a:gd name="textAreaBottom" fmla="*/ 122508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2"/>
                  <a:pt x="10800" y="3103"/>
                </a:cubicBezTo>
                <a:lnTo>
                  <a:pt x="10800" y="7454"/>
                </a:lnTo>
                <a:cubicBezTo>
                  <a:pt x="10800" y="9006"/>
                  <a:pt x="5400" y="10557"/>
                  <a:pt x="0" y="10557"/>
                </a:cubicBezTo>
                <a:cubicBezTo>
                  <a:pt x="5400" y="10557"/>
                  <a:pt x="10800" y="12109"/>
                  <a:pt x="10800" y="13660"/>
                </a:cubicBezTo>
                <a:lnTo>
                  <a:pt x="10800" y="18497"/>
                </a:lnTo>
                <a:cubicBezTo>
                  <a:pt x="10800" y="2004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eft Brace 23"/>
          <p:cNvSpPr/>
          <p:nvPr/>
        </p:nvSpPr>
        <p:spPr>
          <a:xfrm rot="16200000">
            <a:off x="2828160" y="2857680"/>
            <a:ext cx="392040" cy="180684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1806840"/>
              <a:gd name="textAreaBottom" fmla="*/ 1749240 h 180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2"/>
                  <a:pt x="10800" y="2203"/>
                </a:cubicBezTo>
                <a:lnTo>
                  <a:pt x="10800" y="8354"/>
                </a:lnTo>
                <a:cubicBezTo>
                  <a:pt x="10800" y="9456"/>
                  <a:pt x="5400" y="10557"/>
                  <a:pt x="0" y="10557"/>
                </a:cubicBezTo>
                <a:cubicBezTo>
                  <a:pt x="5400" y="10557"/>
                  <a:pt x="10800" y="11659"/>
                  <a:pt x="10800" y="12760"/>
                </a:cubicBezTo>
                <a:lnTo>
                  <a:pt x="10800" y="19397"/>
                </a:lnTo>
                <a:cubicBezTo>
                  <a:pt x="10800" y="2049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3927600" y="3957480"/>
            <a:ext cx="17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ngth in 4-Byte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0"/>
          <p:cNvSpPr/>
          <p:nvPr/>
        </p:nvSpPr>
        <p:spPr>
          <a:xfrm>
            <a:off x="2489040" y="411012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26"/>
          <p:cNvSpPr/>
          <p:nvPr/>
        </p:nvSpPr>
        <p:spPr>
          <a:xfrm flipH="1">
            <a:off x="4048200" y="3300480"/>
            <a:ext cx="1440" cy="1617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7"/>
          <p:cNvSpPr/>
          <p:nvPr/>
        </p:nvSpPr>
        <p:spPr>
          <a:xfrm flipH="1">
            <a:off x="1982520" y="3298680"/>
            <a:ext cx="3240" cy="1617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8"/>
          <p:cNvSpPr/>
          <p:nvPr/>
        </p:nvSpPr>
        <p:spPr>
          <a:xfrm>
            <a:off x="1619280" y="3957480"/>
            <a:ext cx="0" cy="1795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9"/>
          <p:cNvSpPr/>
          <p:nvPr/>
        </p:nvSpPr>
        <p:spPr>
          <a:xfrm>
            <a:off x="4049640" y="4916520"/>
            <a:ext cx="8827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1"/>
          <p:cNvSpPr/>
          <p:nvPr/>
        </p:nvSpPr>
        <p:spPr>
          <a:xfrm>
            <a:off x="4933800" y="474804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31"/>
          <p:cNvSpPr/>
          <p:nvPr/>
        </p:nvSpPr>
        <p:spPr>
          <a:xfrm>
            <a:off x="1982880" y="4917960"/>
            <a:ext cx="6444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2577960" y="474012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33"/>
          <p:cNvSpPr/>
          <p:nvPr/>
        </p:nvSpPr>
        <p:spPr>
          <a:xfrm>
            <a:off x="1606680" y="5757840"/>
            <a:ext cx="90000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A3068-7B7D-4848-9C6C-266ECF3B9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40"/>
          <p:cNvSpPr/>
          <p:nvPr/>
        </p:nvSpPr>
        <p:spPr>
          <a:xfrm rot="16200000">
            <a:off x="1419840" y="3491280"/>
            <a:ext cx="392040" cy="52056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520560"/>
              <a:gd name="textAreaBottom" fmla="*/ 462960 h 52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22"/>
                  <a:pt x="10800" y="7643"/>
                </a:cubicBezTo>
                <a:lnTo>
                  <a:pt x="10800" y="2914"/>
                </a:lnTo>
                <a:cubicBezTo>
                  <a:pt x="10800" y="6736"/>
                  <a:pt x="5400" y="10557"/>
                  <a:pt x="0" y="10557"/>
                </a:cubicBezTo>
                <a:cubicBezTo>
                  <a:pt x="5400" y="10557"/>
                  <a:pt x="10800" y="14379"/>
                  <a:pt x="10800" y="18200"/>
                </a:cubicBezTo>
                <a:lnTo>
                  <a:pt x="10800" y="13957"/>
                </a:lnTo>
                <a:cubicBezTo>
                  <a:pt x="10800" y="1777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4"/>
          <p:cNvSpPr/>
          <p:nvPr/>
        </p:nvSpPr>
        <p:spPr>
          <a:xfrm>
            <a:off x="2577960" y="5373720"/>
            <a:ext cx="235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– hop-by-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border R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– ingress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– reserv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Header Extensions/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ummary of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988C0-23A0-47BD-AA59-12032B39B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Proposed 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Flow-ID Field for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2-bits of Extended Fl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“border” summary bit and TLV extension bit to accommodate possible future extension of TRILL to multi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Working Group Last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2D4A6-B353-4709-B6F4-A1193BBE6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3600" spc="-1" strike="noStrike" baseline="30000">
                <a:solidFill>
                  <a:srgbClr val="898989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uawei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3e3e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C1812-B004-4246-B46F-820574E7F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RILL Data Fram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33553-DAAA-44C5-BAD0-79C0F9508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522440" y="1871640"/>
            <a:ext cx="400356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pecific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522440" y="2457360"/>
            <a:ext cx="400356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LL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1522440" y="304164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Ethernet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1522440" y="35640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Ethernet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522440" y="5135400"/>
            <a:ext cx="400356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pecific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522440" y="46116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522440" y="4087800"/>
            <a:ext cx="35431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 rot="16200000">
            <a:off x="4249080" y="3857760"/>
            <a:ext cx="20923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eft Brace 13"/>
          <p:cNvSpPr/>
          <p:nvPr/>
        </p:nvSpPr>
        <p:spPr>
          <a:xfrm>
            <a:off x="5703840" y="2610000"/>
            <a:ext cx="293760" cy="812520"/>
          </a:xfrm>
          <a:custGeom>
            <a:avLst/>
            <a:gdLst>
              <a:gd name="textAreaLeft" fmla="*/ 187560 w 293760"/>
              <a:gd name="textAreaRight" fmla="*/ 294120 w 293760"/>
              <a:gd name="textAreaTop" fmla="*/ 34920 h 812520"/>
              <a:gd name="textAreaBottom" fmla="*/ 777600 h 81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6"/>
                  <a:pt x="10800" y="2971"/>
                </a:cubicBezTo>
                <a:lnTo>
                  <a:pt x="10800" y="7586"/>
                </a:lnTo>
                <a:cubicBezTo>
                  <a:pt x="10800" y="9072"/>
                  <a:pt x="5400" y="10557"/>
                  <a:pt x="0" y="10557"/>
                </a:cubicBezTo>
                <a:cubicBezTo>
                  <a:pt x="5400" y="10557"/>
                  <a:pt x="10800" y="12043"/>
                  <a:pt x="10800" y="13528"/>
                </a:cubicBezTo>
                <a:lnTo>
                  <a:pt x="10800" y="18629"/>
                </a:lnTo>
                <a:cubicBezTo>
                  <a:pt x="10800" y="2011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997600" y="2592360"/>
            <a:ext cx="20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urrent Header Extensions/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-ietf-trill-rbridge-options-05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 of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60C73-7E2D-4349-8FC7-AFF969503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Current TRILL Head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9BE2E-7EC5-49DA-BEC8-B66B253F6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3925800" y="1643040"/>
            <a:ext cx="33544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866880" y="2165400"/>
            <a:ext cx="64134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866880" y="2670120"/>
            <a:ext cx="3213000" cy="52056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|           Flags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870120" y="3706920"/>
            <a:ext cx="6413400" cy="520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V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779400" y="4438800"/>
            <a:ext cx="67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Summary bits indicate if it is safe for a transit or egress RBridge that does not implement any extensions to process th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eft Brace 20"/>
          <p:cNvSpPr/>
          <p:nvPr/>
        </p:nvSpPr>
        <p:spPr>
          <a:xfrm rot="10800000">
            <a:off x="7373880" y="2687760"/>
            <a:ext cx="393840" cy="1542960"/>
          </a:xfrm>
          <a:custGeom>
            <a:avLst/>
            <a:gdLst>
              <a:gd name="textAreaLeft" fmla="*/ 251640 w 393840"/>
              <a:gd name="textAreaRight" fmla="*/ 394200 w 393840"/>
              <a:gd name="textAreaTop" fmla="*/ 37800 h 1542960"/>
              <a:gd name="textAreaBottom" fmla="*/ 1505160 h 15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6"/>
                  <a:pt x="10800" y="1691"/>
                </a:cubicBezTo>
                <a:lnTo>
                  <a:pt x="10800" y="9001"/>
                </a:lnTo>
                <a:cubicBezTo>
                  <a:pt x="10800" y="9847"/>
                  <a:pt x="5400" y="10692"/>
                  <a:pt x="0" y="10692"/>
                </a:cubicBezTo>
                <a:cubicBezTo>
                  <a:pt x="5400" y="10692"/>
                  <a:pt x="10800" y="11538"/>
                  <a:pt x="10800" y="12383"/>
                </a:cubicBezTo>
                <a:lnTo>
                  <a:pt x="10800" y="19909"/>
                </a:lnTo>
                <a:cubicBezTo>
                  <a:pt x="10800" y="2075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"/>
          <p:cNvSpPr/>
          <p:nvPr/>
        </p:nvSpPr>
        <p:spPr>
          <a:xfrm>
            <a:off x="5657760" y="1333440"/>
            <a:ext cx="2514600" cy="2090880"/>
          </a:xfrm>
          <a:custGeom>
            <a:avLst/>
            <a:gdLst/>
            <a:ahLst/>
            <a:rect l="l" t="t" r="r" b="b"/>
            <a:pathLst>
              <a:path w="2514519" h="1860014">
                <a:moveTo>
                  <a:pt x="0" y="384830"/>
                </a:moveTo>
                <a:lnTo>
                  <a:pt x="0" y="0"/>
                </a:lnTo>
                <a:lnTo>
                  <a:pt x="2514519" y="0"/>
                </a:lnTo>
                <a:lnTo>
                  <a:pt x="2514519" y="1860014"/>
                </a:lnTo>
                <a:lnTo>
                  <a:pt x="2245107" y="18600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"/>
          <p:cNvSpPr/>
          <p:nvPr/>
        </p:nvSpPr>
        <p:spPr>
          <a:xfrm>
            <a:off x="512640" y="2989440"/>
            <a:ext cx="398520" cy="1679400"/>
          </a:xfrm>
          <a:custGeom>
            <a:avLst/>
            <a:gdLst/>
            <a:ahLst/>
            <a:rect l="l" t="t" r="r" b="b"/>
            <a:pathLst>
              <a:path w="397705" h="1462356">
                <a:moveTo>
                  <a:pt x="295072" y="1462356"/>
                </a:moveTo>
                <a:lnTo>
                  <a:pt x="0" y="1462356"/>
                </a:lnTo>
                <a:lnTo>
                  <a:pt x="12829" y="0"/>
                </a:lnTo>
                <a:lnTo>
                  <a:pt x="397705" y="0"/>
                </a:lnTo>
                <a:lnTo>
                  <a:pt x="397705" y="0"/>
                </a:lnTo>
                <a:lnTo>
                  <a:pt x="39770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051440" y="2670120"/>
            <a:ext cx="3213000" cy="52056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873000" y="3166920"/>
            <a:ext cx="6413760" cy="52056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urrent Header Extension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irst 32 B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if Ext/OpLng in TRILL Header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8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B6FC9-9E52-47C0-8C1C-1C9B8A69D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08120" y="2417760"/>
            <a:ext cx="205128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5940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610320" y="2417760"/>
            <a:ext cx="2050920" cy="6066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 flipH="1">
            <a:off x="76359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 flipH="1">
            <a:off x="5592240" y="2759040"/>
            <a:ext cx="180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9"/>
          <p:cNvSpPr/>
          <p:nvPr/>
        </p:nvSpPr>
        <p:spPr>
          <a:xfrm flipH="1">
            <a:off x="3529080" y="275256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0"/>
          <p:cNvSpPr/>
          <p:nvPr/>
        </p:nvSpPr>
        <p:spPr>
          <a:xfrm flipH="1">
            <a:off x="1490760" y="2759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1"/>
          <p:cNvSpPr/>
          <p:nvPr/>
        </p:nvSpPr>
        <p:spPr>
          <a:xfrm>
            <a:off x="71308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12"/>
          <p:cNvSpPr/>
          <p:nvPr/>
        </p:nvSpPr>
        <p:spPr>
          <a:xfrm>
            <a:off x="687564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73756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61056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58500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6"/>
          <p:cNvSpPr/>
          <p:nvPr/>
        </p:nvSpPr>
        <p:spPr>
          <a:xfrm>
            <a:off x="63500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7"/>
          <p:cNvSpPr/>
          <p:nvPr/>
        </p:nvSpPr>
        <p:spPr>
          <a:xfrm>
            <a:off x="507996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8"/>
          <p:cNvSpPr/>
          <p:nvPr/>
        </p:nvSpPr>
        <p:spPr>
          <a:xfrm>
            <a:off x="4824360" y="282240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9"/>
          <p:cNvSpPr/>
          <p:nvPr/>
        </p:nvSpPr>
        <p:spPr>
          <a:xfrm>
            <a:off x="5324400" y="28224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20"/>
          <p:cNvSpPr/>
          <p:nvPr/>
        </p:nvSpPr>
        <p:spPr>
          <a:xfrm>
            <a:off x="404352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21"/>
          <p:cNvSpPr/>
          <p:nvPr/>
        </p:nvSpPr>
        <p:spPr>
          <a:xfrm>
            <a:off x="378612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22"/>
          <p:cNvSpPr/>
          <p:nvPr/>
        </p:nvSpPr>
        <p:spPr>
          <a:xfrm>
            <a:off x="42879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3"/>
          <p:cNvSpPr/>
          <p:nvPr/>
        </p:nvSpPr>
        <p:spPr>
          <a:xfrm>
            <a:off x="304164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4"/>
          <p:cNvSpPr/>
          <p:nvPr/>
        </p:nvSpPr>
        <p:spPr>
          <a:xfrm>
            <a:off x="27846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5"/>
          <p:cNvSpPr/>
          <p:nvPr/>
        </p:nvSpPr>
        <p:spPr>
          <a:xfrm>
            <a:off x="3286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6"/>
          <p:cNvSpPr/>
          <p:nvPr/>
        </p:nvSpPr>
        <p:spPr>
          <a:xfrm>
            <a:off x="813276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7"/>
          <p:cNvSpPr/>
          <p:nvPr/>
        </p:nvSpPr>
        <p:spPr>
          <a:xfrm>
            <a:off x="787716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8"/>
          <p:cNvSpPr/>
          <p:nvPr/>
        </p:nvSpPr>
        <p:spPr>
          <a:xfrm>
            <a:off x="83772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9"/>
          <p:cNvSpPr/>
          <p:nvPr/>
        </p:nvSpPr>
        <p:spPr>
          <a:xfrm>
            <a:off x="200340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0"/>
          <p:cNvSpPr/>
          <p:nvPr/>
        </p:nvSpPr>
        <p:spPr>
          <a:xfrm>
            <a:off x="1747800" y="282888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1"/>
          <p:cNvSpPr/>
          <p:nvPr/>
        </p:nvSpPr>
        <p:spPr>
          <a:xfrm>
            <a:off x="2249640" y="2943360"/>
            <a:ext cx="0" cy="8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32"/>
          <p:cNvSpPr/>
          <p:nvPr/>
        </p:nvSpPr>
        <p:spPr>
          <a:xfrm>
            <a:off x="944640" y="241776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3"/>
          <p:cNvSpPr/>
          <p:nvPr/>
        </p:nvSpPr>
        <p:spPr>
          <a:xfrm>
            <a:off x="687240" y="2417760"/>
            <a:ext cx="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34"/>
          <p:cNvSpPr/>
          <p:nvPr/>
        </p:nvSpPr>
        <p:spPr>
          <a:xfrm>
            <a:off x="1189080" y="2828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2"/>
          <p:cNvSpPr/>
          <p:nvPr/>
        </p:nvSpPr>
        <p:spPr>
          <a:xfrm>
            <a:off x="5324400" y="34434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ow ID, Non-zero if 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Brace 36"/>
          <p:cNvSpPr/>
          <p:nvPr/>
        </p:nvSpPr>
        <p:spPr>
          <a:xfrm rot="16200000">
            <a:off x="6415200" y="1168560"/>
            <a:ext cx="390240" cy="4101840"/>
          </a:xfrm>
          <a:custGeom>
            <a:avLst/>
            <a:gdLst>
              <a:gd name="textAreaLeft" fmla="*/ 249480 w 390240"/>
              <a:gd name="textAreaRight" fmla="*/ 390600 w 390240"/>
              <a:gd name="textAreaTop" fmla="*/ 46440 h 4101840"/>
              <a:gd name="textAreaBottom" fmla="*/ 4055400 h 410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3"/>
                </a:cubicBezTo>
                <a:lnTo>
                  <a:pt x="10800" y="9774"/>
                </a:lnTo>
                <a:cubicBezTo>
                  <a:pt x="10800" y="10166"/>
                  <a:pt x="5400" y="10557"/>
                  <a:pt x="0" y="10557"/>
                </a:cubicBezTo>
                <a:cubicBezTo>
                  <a:pt x="5400" y="10557"/>
                  <a:pt x="10800" y="10949"/>
                  <a:pt x="10800" y="11340"/>
                </a:cubicBezTo>
                <a:lnTo>
                  <a:pt x="10800" y="20817"/>
                </a:lnTo>
                <a:cubicBezTo>
                  <a:pt x="10800" y="2120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1"/>
          <p:cNvSpPr/>
          <p:nvPr/>
        </p:nvSpPr>
        <p:spPr>
          <a:xfrm rot="16200000">
            <a:off x="694800" y="3829320"/>
            <a:ext cx="14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. H-b-H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42"/>
          <p:cNvSpPr/>
          <p:nvPr/>
        </p:nvSpPr>
        <p:spPr>
          <a:xfrm rot="16200000">
            <a:off x="2018160" y="2776680"/>
            <a:ext cx="212760" cy="766800"/>
          </a:xfrm>
          <a:custGeom>
            <a:avLst/>
            <a:gdLst>
              <a:gd name="textAreaLeft" fmla="*/ 136080 w 212760"/>
              <a:gd name="textAreaRight" fmla="*/ 213120 w 212760"/>
              <a:gd name="textAreaTop" fmla="*/ 25200 h 766800"/>
              <a:gd name="textAreaBottom" fmla="*/ 741600 h 7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1"/>
                  <a:pt x="10800" y="2281"/>
                </a:cubicBezTo>
                <a:lnTo>
                  <a:pt x="10800" y="8276"/>
                </a:lnTo>
                <a:cubicBezTo>
                  <a:pt x="10800" y="9417"/>
                  <a:pt x="5400" y="10557"/>
                  <a:pt x="0" y="10557"/>
                </a:cubicBezTo>
                <a:cubicBezTo>
                  <a:pt x="5400" y="10557"/>
                  <a:pt x="10800" y="11698"/>
                  <a:pt x="10800" y="12838"/>
                </a:cubicBezTo>
                <a:lnTo>
                  <a:pt x="10800" y="19319"/>
                </a:lnTo>
                <a:cubicBezTo>
                  <a:pt x="10800" y="2046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43"/>
          <p:cNvSpPr/>
          <p:nvPr/>
        </p:nvSpPr>
        <p:spPr>
          <a:xfrm flipH="1">
            <a:off x="812520" y="2752560"/>
            <a:ext cx="4680" cy="2822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4"/>
          <p:cNvSpPr/>
          <p:nvPr/>
        </p:nvSpPr>
        <p:spPr>
          <a:xfrm>
            <a:off x="812880" y="557532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45"/>
          <p:cNvSpPr/>
          <p:nvPr/>
        </p:nvSpPr>
        <p:spPr>
          <a:xfrm>
            <a:off x="572400" y="2759040"/>
            <a:ext cx="4680" cy="3129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46"/>
          <p:cNvSpPr/>
          <p:nvPr/>
        </p:nvSpPr>
        <p:spPr>
          <a:xfrm>
            <a:off x="577800" y="5888160"/>
            <a:ext cx="1170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0"/>
          <p:cNvSpPr/>
          <p:nvPr/>
        </p:nvSpPr>
        <p:spPr>
          <a:xfrm>
            <a:off x="1758960" y="571356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Hop-by-Hop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1"/>
          <p:cNvSpPr/>
          <p:nvPr/>
        </p:nvSpPr>
        <p:spPr>
          <a:xfrm>
            <a:off x="1747800" y="5405400"/>
            <a:ext cx="35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itical Ingress-to-Egress Summary B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7"/>
          <p:cNvSpPr/>
          <p:nvPr/>
        </p:nvSpPr>
        <p:spPr>
          <a:xfrm>
            <a:off x="1090440" y="2751120"/>
            <a:ext cx="0" cy="2130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0"/>
          <p:cNvSpPr/>
          <p:nvPr/>
        </p:nvSpPr>
        <p:spPr>
          <a:xfrm>
            <a:off x="1090440" y="4886280"/>
            <a:ext cx="4240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2"/>
          <p:cNvSpPr/>
          <p:nvPr/>
        </p:nvSpPr>
        <p:spPr>
          <a:xfrm>
            <a:off x="1509840" y="4716360"/>
            <a:ext cx="23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e Extended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63"/>
          <p:cNvSpPr/>
          <p:nvPr/>
        </p:nvSpPr>
        <p:spPr>
          <a:xfrm flipH="1">
            <a:off x="4417560" y="2751120"/>
            <a:ext cx="1800" cy="11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2"/>
          <p:cNvSpPr/>
          <p:nvPr/>
        </p:nvSpPr>
        <p:spPr>
          <a:xfrm>
            <a:off x="4710240" y="420048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itical Ingress-to-Egress TLV Option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68"/>
          <p:cNvSpPr/>
          <p:nvPr/>
        </p:nvSpPr>
        <p:spPr>
          <a:xfrm>
            <a:off x="4148280" y="2751120"/>
            <a:ext cx="10800" cy="1617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2"/>
          <p:cNvSpPr/>
          <p:nvPr/>
        </p:nvSpPr>
        <p:spPr>
          <a:xfrm>
            <a:off x="4287960" y="3855960"/>
            <a:ext cx="44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 Ingress-to-Egress TLV Option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76"/>
          <p:cNvSpPr/>
          <p:nvPr/>
        </p:nvSpPr>
        <p:spPr>
          <a:xfrm>
            <a:off x="4148280" y="436896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8"/>
          <p:cNvSpPr/>
          <p:nvPr/>
        </p:nvSpPr>
        <p:spPr>
          <a:xfrm>
            <a:off x="3915720" y="2759040"/>
            <a:ext cx="11160" cy="1951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0"/>
          <p:cNvSpPr/>
          <p:nvPr/>
        </p:nvSpPr>
        <p:spPr>
          <a:xfrm>
            <a:off x="3927600" y="4708440"/>
            <a:ext cx="7952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2"/>
          <p:cNvSpPr/>
          <p:nvPr/>
        </p:nvSpPr>
        <p:spPr>
          <a:xfrm>
            <a:off x="4722840" y="4543560"/>
            <a:ext cx="40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 Hop-by-Hop TLV Option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eft Brace 90"/>
          <p:cNvSpPr/>
          <p:nvPr/>
        </p:nvSpPr>
        <p:spPr>
          <a:xfrm rot="16200000">
            <a:off x="1345320" y="2898000"/>
            <a:ext cx="239760" cy="552240"/>
          </a:xfrm>
          <a:custGeom>
            <a:avLst/>
            <a:gdLst>
              <a:gd name="textAreaLeft" fmla="*/ 153360 w 239760"/>
              <a:gd name="textAreaRight" fmla="*/ 240120 w 239760"/>
              <a:gd name="textAreaTop" fmla="*/ 28440 h 552240"/>
              <a:gd name="textAreaBottom" fmla="*/ 523800 h 55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4"/>
                  <a:pt x="10800" y="3568"/>
                </a:cubicBezTo>
                <a:lnTo>
                  <a:pt x="10800" y="6989"/>
                </a:lnTo>
                <a:cubicBezTo>
                  <a:pt x="10800" y="8773"/>
                  <a:pt x="5400" y="10557"/>
                  <a:pt x="0" y="10557"/>
                </a:cubicBezTo>
                <a:cubicBezTo>
                  <a:pt x="5400" y="10557"/>
                  <a:pt x="10800" y="12341"/>
                  <a:pt x="10800" y="14125"/>
                </a:cubicBezTo>
                <a:lnTo>
                  <a:pt x="10800" y="18032"/>
                </a:lnTo>
                <a:cubicBezTo>
                  <a:pt x="10800" y="1981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eft Brace 91"/>
          <p:cNvSpPr/>
          <p:nvPr/>
        </p:nvSpPr>
        <p:spPr>
          <a:xfrm rot="16200000">
            <a:off x="2788920" y="2772720"/>
            <a:ext cx="212760" cy="774720"/>
          </a:xfrm>
          <a:custGeom>
            <a:avLst/>
            <a:gdLst>
              <a:gd name="textAreaLeft" fmla="*/ 136080 w 212760"/>
              <a:gd name="textAreaRight" fmla="*/ 213120 w 212760"/>
              <a:gd name="textAreaTop" fmla="*/ 25200 h 774720"/>
              <a:gd name="textAreaBottom" fmla="*/ 749520 h 7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9"/>
                  <a:pt x="10800" y="2258"/>
                </a:cubicBezTo>
                <a:lnTo>
                  <a:pt x="10800" y="8299"/>
                </a:lnTo>
                <a:cubicBezTo>
                  <a:pt x="10800" y="9428"/>
                  <a:pt x="5400" y="10557"/>
                  <a:pt x="0" y="10557"/>
                </a:cubicBezTo>
                <a:cubicBezTo>
                  <a:pt x="5400" y="10557"/>
                  <a:pt x="10800" y="11686"/>
                  <a:pt x="10800" y="12815"/>
                </a:cubicBezTo>
                <a:lnTo>
                  <a:pt x="10800" y="19342"/>
                </a:lnTo>
                <a:cubicBezTo>
                  <a:pt x="10800" y="2047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1"/>
          <p:cNvSpPr/>
          <p:nvPr/>
        </p:nvSpPr>
        <p:spPr>
          <a:xfrm rot="16200000">
            <a:off x="1344960" y="38584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C. H-b-H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1"/>
          <p:cNvSpPr/>
          <p:nvPr/>
        </p:nvSpPr>
        <p:spPr>
          <a:xfrm rot="16200000">
            <a:off x="2244960" y="373644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. I-t-E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1"/>
          <p:cNvSpPr/>
          <p:nvPr/>
        </p:nvSpPr>
        <p:spPr>
          <a:xfrm rot="16200000">
            <a:off x="2903760" y="370944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C. I-t-E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69"/>
          <p:cNvSpPr/>
          <p:nvPr/>
        </p:nvSpPr>
        <p:spPr>
          <a:xfrm rot="16200000">
            <a:off x="3420000" y="2916360"/>
            <a:ext cx="243000" cy="511200"/>
          </a:xfrm>
          <a:custGeom>
            <a:avLst/>
            <a:gdLst>
              <a:gd name="textAreaLeft" fmla="*/ 155160 w 243000"/>
              <a:gd name="textAreaRight" fmla="*/ 243360 w 243000"/>
              <a:gd name="textAreaTop" fmla="*/ 28800 h 511200"/>
              <a:gd name="textAreaBottom" fmla="*/ 48240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4"/>
                  <a:pt x="10800" y="3907"/>
                </a:cubicBezTo>
                <a:lnTo>
                  <a:pt x="10800" y="6650"/>
                </a:lnTo>
                <a:cubicBezTo>
                  <a:pt x="10800" y="8604"/>
                  <a:pt x="5400" y="10557"/>
                  <a:pt x="0" y="10557"/>
                </a:cubicBezTo>
                <a:cubicBezTo>
                  <a:pt x="5400" y="10557"/>
                  <a:pt x="10800" y="12511"/>
                  <a:pt x="10800" y="14464"/>
                </a:cubicBezTo>
                <a:lnTo>
                  <a:pt x="10800" y="17693"/>
                </a:lnTo>
                <a:cubicBezTo>
                  <a:pt x="10800" y="196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ight Brace 1"/>
          <p:cNvSpPr/>
          <p:nvPr/>
        </p:nvSpPr>
        <p:spPr>
          <a:xfrm>
            <a:off x="5079960" y="5405400"/>
            <a:ext cx="360360" cy="646200"/>
          </a:xfrm>
          <a:custGeom>
            <a:avLst/>
            <a:gdLst>
              <a:gd name="textAreaLeft" fmla="*/ 0 w 360360"/>
              <a:gd name="textAreaRight" fmla="*/ 129960 w 360360"/>
              <a:gd name="textAreaTop" fmla="*/ 32760 h 646200"/>
              <a:gd name="textAreaBottom" fmla="*/ 61344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59"/>
                  <a:pt x="10800" y="3517"/>
                </a:cubicBezTo>
                <a:lnTo>
                  <a:pt x="10800" y="7283"/>
                </a:lnTo>
                <a:cubicBezTo>
                  <a:pt x="10800" y="9042"/>
                  <a:pt x="16200" y="10800"/>
                  <a:pt x="21600" y="10800"/>
                </a:cubicBezTo>
                <a:cubicBezTo>
                  <a:pt x="16200" y="10800"/>
                  <a:pt x="10800" y="12559"/>
                  <a:pt x="10800" y="14317"/>
                </a:cubicBezTo>
                <a:lnTo>
                  <a:pt x="10800" y="18083"/>
                </a:lnTo>
                <a:cubicBezTo>
                  <a:pt x="10800" y="1984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0"/>
          <p:cNvSpPr/>
          <p:nvPr/>
        </p:nvSpPr>
        <p:spPr>
          <a:xfrm>
            <a:off x="5470560" y="557388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cified in bas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 rot="16200000">
            <a:off x="1527120" y="24807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471"/>
          <p:cNvSpPr/>
          <p:nvPr/>
        </p:nvSpPr>
        <p:spPr>
          <a:xfrm rot="16200000">
            <a:off x="1918800" y="24973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1747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urrent Header Extension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econd 32 B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09988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xtended Flag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 is a one, there are 4 bytes of additional extended header flags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7200" y="3405240"/>
            <a:ext cx="2050920" cy="60624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508120" y="3405240"/>
            <a:ext cx="2051280" cy="60624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559400" y="3405240"/>
            <a:ext cx="2050920" cy="60624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610320" y="3405240"/>
            <a:ext cx="2050920" cy="606240"/>
          </a:xfrm>
          <a:prstGeom prst="rect">
            <a:avLst/>
          </a:prstGeom>
          <a:solidFill>
            <a:srgbClr val="fcd5b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 flipH="1">
            <a:off x="7635960" y="3746520"/>
            <a:ext cx="1440" cy="26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8"/>
          <p:cNvSpPr/>
          <p:nvPr/>
        </p:nvSpPr>
        <p:spPr>
          <a:xfrm flipH="1">
            <a:off x="5592240" y="3746520"/>
            <a:ext cx="1800" cy="26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9"/>
          <p:cNvSpPr/>
          <p:nvPr/>
        </p:nvSpPr>
        <p:spPr>
          <a:xfrm flipH="1">
            <a:off x="3529080" y="374004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0"/>
          <p:cNvSpPr/>
          <p:nvPr/>
        </p:nvSpPr>
        <p:spPr>
          <a:xfrm flipH="1">
            <a:off x="1490760" y="3746520"/>
            <a:ext cx="1440" cy="26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1"/>
          <p:cNvSpPr/>
          <p:nvPr/>
        </p:nvSpPr>
        <p:spPr>
          <a:xfrm>
            <a:off x="713088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"/>
          <p:cNvSpPr/>
          <p:nvPr/>
        </p:nvSpPr>
        <p:spPr>
          <a:xfrm>
            <a:off x="687564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3"/>
          <p:cNvSpPr/>
          <p:nvPr/>
        </p:nvSpPr>
        <p:spPr>
          <a:xfrm>
            <a:off x="737568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4"/>
          <p:cNvSpPr/>
          <p:nvPr/>
        </p:nvSpPr>
        <p:spPr>
          <a:xfrm>
            <a:off x="610560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5"/>
          <p:cNvSpPr/>
          <p:nvPr/>
        </p:nvSpPr>
        <p:spPr>
          <a:xfrm>
            <a:off x="585000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5004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7"/>
          <p:cNvSpPr/>
          <p:nvPr/>
        </p:nvSpPr>
        <p:spPr>
          <a:xfrm>
            <a:off x="5079960" y="3809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8"/>
          <p:cNvSpPr/>
          <p:nvPr/>
        </p:nvSpPr>
        <p:spPr>
          <a:xfrm>
            <a:off x="4824360" y="380988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9"/>
          <p:cNvSpPr/>
          <p:nvPr/>
        </p:nvSpPr>
        <p:spPr>
          <a:xfrm>
            <a:off x="5324400" y="38098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0"/>
          <p:cNvSpPr/>
          <p:nvPr/>
        </p:nvSpPr>
        <p:spPr>
          <a:xfrm>
            <a:off x="404352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1"/>
          <p:cNvSpPr/>
          <p:nvPr/>
        </p:nvSpPr>
        <p:spPr>
          <a:xfrm>
            <a:off x="378612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8796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304164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24"/>
          <p:cNvSpPr/>
          <p:nvPr/>
        </p:nvSpPr>
        <p:spPr>
          <a:xfrm>
            <a:off x="278460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5"/>
          <p:cNvSpPr/>
          <p:nvPr/>
        </p:nvSpPr>
        <p:spPr>
          <a:xfrm>
            <a:off x="328608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6"/>
          <p:cNvSpPr/>
          <p:nvPr/>
        </p:nvSpPr>
        <p:spPr>
          <a:xfrm>
            <a:off x="813276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7"/>
          <p:cNvSpPr/>
          <p:nvPr/>
        </p:nvSpPr>
        <p:spPr>
          <a:xfrm>
            <a:off x="787716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8"/>
          <p:cNvSpPr/>
          <p:nvPr/>
        </p:nvSpPr>
        <p:spPr>
          <a:xfrm>
            <a:off x="837720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9"/>
          <p:cNvSpPr/>
          <p:nvPr/>
        </p:nvSpPr>
        <p:spPr>
          <a:xfrm>
            <a:off x="200340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0"/>
          <p:cNvSpPr/>
          <p:nvPr/>
        </p:nvSpPr>
        <p:spPr>
          <a:xfrm>
            <a:off x="174780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31"/>
          <p:cNvSpPr/>
          <p:nvPr/>
        </p:nvSpPr>
        <p:spPr>
          <a:xfrm>
            <a:off x="224964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32"/>
          <p:cNvSpPr/>
          <p:nvPr/>
        </p:nvSpPr>
        <p:spPr>
          <a:xfrm>
            <a:off x="944640" y="3809880"/>
            <a:ext cx="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33"/>
          <p:cNvSpPr/>
          <p:nvPr/>
        </p:nvSpPr>
        <p:spPr>
          <a:xfrm>
            <a:off x="687240" y="38163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189080" y="381636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2"/>
          <p:cNvSpPr/>
          <p:nvPr/>
        </p:nvSpPr>
        <p:spPr>
          <a:xfrm>
            <a:off x="6746760" y="443088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gress-to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eft Brace 36"/>
          <p:cNvSpPr/>
          <p:nvPr/>
        </p:nvSpPr>
        <p:spPr>
          <a:xfrm rot="16200000">
            <a:off x="7441200" y="3181680"/>
            <a:ext cx="390600" cy="2049480"/>
          </a:xfrm>
          <a:custGeom>
            <a:avLst/>
            <a:gdLst>
              <a:gd name="textAreaLeft" fmla="*/ 249480 w 390600"/>
              <a:gd name="textAreaRight" fmla="*/ 390960 w 390600"/>
              <a:gd name="textAreaTop" fmla="*/ 46440 h 2049480"/>
              <a:gd name="textAreaBottom" fmla="*/ 2003040 h 20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4"/>
                  <a:pt x="10800" y="1567"/>
                </a:cubicBezTo>
                <a:lnTo>
                  <a:pt x="10800" y="8990"/>
                </a:lnTo>
                <a:cubicBezTo>
                  <a:pt x="10800" y="9774"/>
                  <a:pt x="5400" y="10557"/>
                  <a:pt x="0" y="10557"/>
                </a:cubicBezTo>
                <a:cubicBezTo>
                  <a:pt x="5400" y="10557"/>
                  <a:pt x="10800" y="11341"/>
                  <a:pt x="10800" y="12124"/>
                </a:cubicBezTo>
                <a:lnTo>
                  <a:pt x="10800" y="20033"/>
                </a:lnTo>
                <a:cubicBezTo>
                  <a:pt x="10800" y="2081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4703760" y="443088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gress-to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eft Brace 38"/>
          <p:cNvSpPr/>
          <p:nvPr/>
        </p:nvSpPr>
        <p:spPr>
          <a:xfrm rot="16200000">
            <a:off x="5398920" y="3182760"/>
            <a:ext cx="392400" cy="2049480"/>
          </a:xfrm>
          <a:custGeom>
            <a:avLst/>
            <a:gdLst>
              <a:gd name="textAreaLeft" fmla="*/ 250920 w 392400"/>
              <a:gd name="textAreaRight" fmla="*/ 392760 w 392400"/>
              <a:gd name="textAreaTop" fmla="*/ 57600 h 2049480"/>
              <a:gd name="textAreaBottom" fmla="*/ 1991880 h 20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1"/>
                  <a:pt x="10800" y="1942"/>
                </a:cubicBezTo>
                <a:lnTo>
                  <a:pt x="10800" y="8615"/>
                </a:lnTo>
                <a:cubicBezTo>
                  <a:pt x="10800" y="9586"/>
                  <a:pt x="5400" y="10557"/>
                  <a:pt x="0" y="10557"/>
                </a:cubicBezTo>
                <a:cubicBezTo>
                  <a:pt x="5400" y="10557"/>
                  <a:pt x="10800" y="11528"/>
                  <a:pt x="10800" y="12499"/>
                </a:cubicBezTo>
                <a:lnTo>
                  <a:pt x="10800" y="19658"/>
                </a:lnTo>
                <a:cubicBezTo>
                  <a:pt x="10800" y="2062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9"/>
          <p:cNvSpPr/>
          <p:nvPr/>
        </p:nvSpPr>
        <p:spPr>
          <a:xfrm>
            <a:off x="2635200" y="443088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p-by-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eft Brace 40"/>
          <p:cNvSpPr/>
          <p:nvPr/>
        </p:nvSpPr>
        <p:spPr>
          <a:xfrm rot="16200000">
            <a:off x="3330360" y="3182400"/>
            <a:ext cx="390600" cy="2047680"/>
          </a:xfrm>
          <a:custGeom>
            <a:avLst/>
            <a:gdLst>
              <a:gd name="textAreaLeft" fmla="*/ 249480 w 390600"/>
              <a:gd name="textAreaRight" fmla="*/ 390960 w 390600"/>
              <a:gd name="textAreaTop" fmla="*/ 46440 h 2047680"/>
              <a:gd name="textAreaBottom" fmla="*/ 2001240 h 20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4"/>
                  <a:pt x="10800" y="1568"/>
                </a:cubicBezTo>
                <a:lnTo>
                  <a:pt x="10800" y="8989"/>
                </a:lnTo>
                <a:cubicBezTo>
                  <a:pt x="10800" y="9773"/>
                  <a:pt x="5400" y="10557"/>
                  <a:pt x="0" y="10557"/>
                </a:cubicBezTo>
                <a:cubicBezTo>
                  <a:pt x="5400" y="10557"/>
                  <a:pt x="10800" y="11341"/>
                  <a:pt x="10800" y="12125"/>
                </a:cubicBezTo>
                <a:lnTo>
                  <a:pt x="10800" y="20032"/>
                </a:lnTo>
                <a:cubicBezTo>
                  <a:pt x="10800" y="2081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1"/>
          <p:cNvSpPr/>
          <p:nvPr/>
        </p:nvSpPr>
        <p:spPr>
          <a:xfrm>
            <a:off x="568440" y="4425840"/>
            <a:ext cx="17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p-by-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eft Brace 42"/>
          <p:cNvSpPr/>
          <p:nvPr/>
        </p:nvSpPr>
        <p:spPr>
          <a:xfrm rot="16200000">
            <a:off x="1285920" y="3177720"/>
            <a:ext cx="392040" cy="2049480"/>
          </a:xfrm>
          <a:custGeom>
            <a:avLst/>
            <a:gdLst>
              <a:gd name="textAreaLeft" fmla="*/ 250560 w 392040"/>
              <a:gd name="textAreaRight" fmla="*/ 392400 w 392040"/>
              <a:gd name="textAreaTop" fmla="*/ 46440 h 2049480"/>
              <a:gd name="textAreaBottom" fmla="*/ 2003040 h 20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7"/>
                  <a:pt x="10800" y="1573"/>
                </a:cubicBezTo>
                <a:lnTo>
                  <a:pt x="10800" y="8984"/>
                </a:lnTo>
                <a:cubicBezTo>
                  <a:pt x="10800" y="9771"/>
                  <a:pt x="5400" y="10557"/>
                  <a:pt x="0" y="10557"/>
                </a:cubicBezTo>
                <a:cubicBezTo>
                  <a:pt x="5400" y="10557"/>
                  <a:pt x="10800" y="11344"/>
                  <a:pt x="10800" y="12130"/>
                </a:cubicBezTo>
                <a:lnTo>
                  <a:pt x="10800" y="20027"/>
                </a:lnTo>
                <a:cubicBezTo>
                  <a:pt x="10800" y="2081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8B730-C898-434C-81F6-A77650D76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Current TLV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mat of TLV Ext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355760" y="2959200"/>
            <a:ext cx="2050920" cy="6062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406680" y="2959200"/>
            <a:ext cx="2051280" cy="6062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5"/>
          <p:cNvSpPr/>
          <p:nvPr/>
        </p:nvSpPr>
        <p:spPr>
          <a:xfrm>
            <a:off x="5457960" y="2957400"/>
            <a:ext cx="2050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"/>
          <p:cNvSpPr/>
          <p:nvPr/>
        </p:nvSpPr>
        <p:spPr>
          <a:xfrm>
            <a:off x="5457960" y="3564000"/>
            <a:ext cx="2050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7"/>
          <p:cNvSpPr/>
          <p:nvPr/>
        </p:nvSpPr>
        <p:spPr>
          <a:xfrm flipH="1">
            <a:off x="4430880" y="3298680"/>
            <a:ext cx="14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8"/>
          <p:cNvSpPr/>
          <p:nvPr/>
        </p:nvSpPr>
        <p:spPr>
          <a:xfrm flipH="1">
            <a:off x="2389320" y="3298680"/>
            <a:ext cx="1440" cy="26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9"/>
          <p:cNvSpPr/>
          <p:nvPr/>
        </p:nvSpPr>
        <p:spPr>
          <a:xfrm>
            <a:off x="3927600" y="295740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"/>
          <p:cNvSpPr/>
          <p:nvPr/>
        </p:nvSpPr>
        <p:spPr>
          <a:xfrm>
            <a:off x="3670200" y="3360600"/>
            <a:ext cx="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>
            <a:off x="4172040" y="2957400"/>
            <a:ext cx="0" cy="60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2"/>
          <p:cNvSpPr/>
          <p:nvPr/>
        </p:nvSpPr>
        <p:spPr>
          <a:xfrm>
            <a:off x="290196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3"/>
          <p:cNvSpPr/>
          <p:nvPr/>
        </p:nvSpPr>
        <p:spPr>
          <a:xfrm>
            <a:off x="2644920" y="336852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4"/>
          <p:cNvSpPr/>
          <p:nvPr/>
        </p:nvSpPr>
        <p:spPr>
          <a:xfrm>
            <a:off x="314640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5"/>
          <p:cNvSpPr/>
          <p:nvPr/>
        </p:nvSpPr>
        <p:spPr>
          <a:xfrm>
            <a:off x="1876320" y="2959200"/>
            <a:ext cx="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6"/>
          <p:cNvSpPr/>
          <p:nvPr/>
        </p:nvSpPr>
        <p:spPr>
          <a:xfrm>
            <a:off x="1619280" y="2959200"/>
            <a:ext cx="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7"/>
          <p:cNvSpPr/>
          <p:nvPr/>
        </p:nvSpPr>
        <p:spPr>
          <a:xfrm>
            <a:off x="2120760" y="336060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8"/>
          <p:cNvSpPr/>
          <p:nvPr/>
        </p:nvSpPr>
        <p:spPr>
          <a:xfrm>
            <a:off x="492912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>
            <a:off x="4672080" y="336852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0"/>
          <p:cNvSpPr/>
          <p:nvPr/>
        </p:nvSpPr>
        <p:spPr>
          <a:xfrm>
            <a:off x="5173560" y="336852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6"/>
          <p:cNvSpPr/>
          <p:nvPr/>
        </p:nvSpPr>
        <p:spPr>
          <a:xfrm>
            <a:off x="5702400" y="3129120"/>
            <a:ext cx="16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e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eft Brace 22"/>
          <p:cNvSpPr/>
          <p:nvPr/>
        </p:nvSpPr>
        <p:spPr>
          <a:xfrm rot="16200000">
            <a:off x="4617360" y="3119760"/>
            <a:ext cx="392040" cy="128268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1282680"/>
              <a:gd name="textAreaBottom" fmla="*/ 122508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2"/>
                  <a:pt x="10800" y="3103"/>
                </a:cubicBezTo>
                <a:lnTo>
                  <a:pt x="10800" y="7454"/>
                </a:lnTo>
                <a:cubicBezTo>
                  <a:pt x="10800" y="9006"/>
                  <a:pt x="5400" y="10557"/>
                  <a:pt x="0" y="10557"/>
                </a:cubicBezTo>
                <a:cubicBezTo>
                  <a:pt x="5400" y="10557"/>
                  <a:pt x="10800" y="12109"/>
                  <a:pt x="10800" y="13660"/>
                </a:cubicBezTo>
                <a:lnTo>
                  <a:pt x="10800" y="18497"/>
                </a:lnTo>
                <a:cubicBezTo>
                  <a:pt x="10800" y="2004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eft Brace 23"/>
          <p:cNvSpPr/>
          <p:nvPr/>
        </p:nvSpPr>
        <p:spPr>
          <a:xfrm rot="16200000">
            <a:off x="2705760" y="2735280"/>
            <a:ext cx="392040" cy="2051280"/>
          </a:xfrm>
          <a:custGeom>
            <a:avLst/>
            <a:gdLst>
              <a:gd name="textAreaLeft" fmla="*/ 250560 w 392040"/>
              <a:gd name="textAreaRight" fmla="*/ 392400 w 392040"/>
              <a:gd name="textAreaTop" fmla="*/ 57600 h 2051280"/>
              <a:gd name="textAreaBottom" fmla="*/ 1993680 h 20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0"/>
                  <a:pt x="10800" y="1940"/>
                </a:cubicBezTo>
                <a:lnTo>
                  <a:pt x="10800" y="8617"/>
                </a:lnTo>
                <a:cubicBezTo>
                  <a:pt x="10800" y="9587"/>
                  <a:pt x="5400" y="10557"/>
                  <a:pt x="0" y="10557"/>
                </a:cubicBezTo>
                <a:cubicBezTo>
                  <a:pt x="5400" y="10557"/>
                  <a:pt x="10800" y="11527"/>
                  <a:pt x="10800" y="12497"/>
                </a:cubicBezTo>
                <a:lnTo>
                  <a:pt x="10800" y="19660"/>
                </a:lnTo>
                <a:cubicBezTo>
                  <a:pt x="10800" y="206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9"/>
          <p:cNvSpPr/>
          <p:nvPr/>
        </p:nvSpPr>
        <p:spPr>
          <a:xfrm>
            <a:off x="3927600" y="3957480"/>
            <a:ext cx="17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ngth in 4-Byte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0"/>
          <p:cNvSpPr/>
          <p:nvPr/>
        </p:nvSpPr>
        <p:spPr>
          <a:xfrm>
            <a:off x="2368440" y="411012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26"/>
          <p:cNvSpPr/>
          <p:nvPr/>
        </p:nvSpPr>
        <p:spPr>
          <a:xfrm flipH="1">
            <a:off x="4048200" y="3300480"/>
            <a:ext cx="1440" cy="1617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7"/>
          <p:cNvSpPr/>
          <p:nvPr/>
        </p:nvSpPr>
        <p:spPr>
          <a:xfrm flipH="1">
            <a:off x="1740960" y="3298680"/>
            <a:ext cx="3240" cy="194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8"/>
          <p:cNvSpPr/>
          <p:nvPr/>
        </p:nvSpPr>
        <p:spPr>
          <a:xfrm flipH="1">
            <a:off x="1483920" y="3303720"/>
            <a:ext cx="4680" cy="2474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9"/>
          <p:cNvSpPr/>
          <p:nvPr/>
        </p:nvSpPr>
        <p:spPr>
          <a:xfrm>
            <a:off x="4049640" y="4916520"/>
            <a:ext cx="8827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1"/>
          <p:cNvSpPr/>
          <p:nvPr/>
        </p:nvSpPr>
        <p:spPr>
          <a:xfrm>
            <a:off x="4933800" y="474804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31"/>
          <p:cNvSpPr/>
          <p:nvPr/>
        </p:nvSpPr>
        <p:spPr>
          <a:xfrm>
            <a:off x="1744560" y="5243400"/>
            <a:ext cx="6447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7"/>
          <p:cNvSpPr/>
          <p:nvPr/>
        </p:nvSpPr>
        <p:spPr>
          <a:xfrm>
            <a:off x="2390760" y="508788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33"/>
          <p:cNvSpPr/>
          <p:nvPr/>
        </p:nvSpPr>
        <p:spPr>
          <a:xfrm>
            <a:off x="1488960" y="5776920"/>
            <a:ext cx="9003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2"/>
          <p:cNvSpPr/>
          <p:nvPr/>
        </p:nvSpPr>
        <p:spPr>
          <a:xfrm>
            <a:off x="2390760" y="5607000"/>
            <a:ext cx="22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gress-to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F0598-5FD7-4AAC-877F-0B1E664A6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Header Extensions/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oposed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 of Propo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B852B-A2AE-408F-A162-3D6A9659E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Proposed TRILL Head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9FF7F-9D28-4391-A950-EEEB393B9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3979800" y="1816200"/>
            <a:ext cx="3354480" cy="4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L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920880" y="2338560"/>
            <a:ext cx="64134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920880" y="2860560"/>
            <a:ext cx="6413400" cy="52056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 |  |   |             Flags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923760" y="3411360"/>
            <a:ext cx="6413760" cy="520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V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833400" y="4368960"/>
            <a:ext cx="67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Summary bits indicate if it is safe for a transit, egres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 bor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ridge that does not implement any extensions to process th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eft Brace 20"/>
          <p:cNvSpPr/>
          <p:nvPr/>
        </p:nvSpPr>
        <p:spPr>
          <a:xfrm rot="10800000">
            <a:off x="7427880" y="2860560"/>
            <a:ext cx="393840" cy="1046160"/>
          </a:xfrm>
          <a:custGeom>
            <a:avLst/>
            <a:gdLst>
              <a:gd name="textAreaLeft" fmla="*/ 251640 w 393840"/>
              <a:gd name="textAreaRight" fmla="*/ 394200 w 393840"/>
              <a:gd name="textAreaTop" fmla="*/ 37800 h 1046160"/>
              <a:gd name="textAreaBottom" fmla="*/ 1008360 h 10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8"/>
                  <a:pt x="10800" y="2495"/>
                </a:cubicBezTo>
                <a:lnTo>
                  <a:pt x="10800" y="8197"/>
                </a:lnTo>
                <a:cubicBezTo>
                  <a:pt x="10800" y="9445"/>
                  <a:pt x="5400" y="10692"/>
                  <a:pt x="0" y="10692"/>
                </a:cubicBezTo>
                <a:cubicBezTo>
                  <a:pt x="5400" y="10692"/>
                  <a:pt x="10800" y="11940"/>
                  <a:pt x="10800" y="13187"/>
                </a:cubicBezTo>
                <a:lnTo>
                  <a:pt x="10800" y="19105"/>
                </a:lnTo>
                <a:cubicBezTo>
                  <a:pt x="10800" y="2035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"/>
          <p:cNvSpPr/>
          <p:nvPr/>
        </p:nvSpPr>
        <p:spPr>
          <a:xfrm>
            <a:off x="5711760" y="1506600"/>
            <a:ext cx="2514600" cy="1860480"/>
          </a:xfrm>
          <a:custGeom>
            <a:avLst/>
            <a:gdLst/>
            <a:ahLst/>
            <a:rect l="l" t="t" r="r" b="b"/>
            <a:pathLst>
              <a:path w="2514519" h="1860014">
                <a:moveTo>
                  <a:pt x="0" y="384830"/>
                </a:moveTo>
                <a:lnTo>
                  <a:pt x="0" y="0"/>
                </a:lnTo>
                <a:lnTo>
                  <a:pt x="2514519" y="0"/>
                </a:lnTo>
                <a:lnTo>
                  <a:pt x="2514519" y="1860014"/>
                </a:lnTo>
                <a:lnTo>
                  <a:pt x="2245107" y="18600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"/>
          <p:cNvSpPr/>
          <p:nvPr/>
        </p:nvSpPr>
        <p:spPr>
          <a:xfrm>
            <a:off x="566640" y="3162240"/>
            <a:ext cx="398520" cy="1462320"/>
          </a:xfrm>
          <a:custGeom>
            <a:avLst/>
            <a:gdLst/>
            <a:ahLst/>
            <a:rect l="l" t="t" r="r" b="b"/>
            <a:pathLst>
              <a:path w="397705" h="1462356">
                <a:moveTo>
                  <a:pt x="295072" y="1462356"/>
                </a:moveTo>
                <a:lnTo>
                  <a:pt x="0" y="1462356"/>
                </a:lnTo>
                <a:lnTo>
                  <a:pt x="12829" y="0"/>
                </a:lnTo>
                <a:lnTo>
                  <a:pt x="397705" y="0"/>
                </a:lnTo>
                <a:lnTo>
                  <a:pt x="397705" y="0"/>
                </a:lnTo>
                <a:lnTo>
                  <a:pt x="39770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 rot="16200000">
            <a:off x="1593360" y="2907000"/>
            <a:ext cx="73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 rot="16200000">
            <a:off x="2769480" y="294516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3:30:53Z</dcterms:created>
  <dc:creator>Donald Eastlake</dc:creator>
  <dc:description/>
  <dc:language>en-US</dc:language>
  <cp:lastModifiedBy>Donald Eastlake III</cp:lastModifiedBy>
  <dcterms:modified xsi:type="dcterms:W3CDTF">2011-07-25T14:01:09Z</dcterms:modified>
  <cp:revision>66</cp:revision>
  <dc:subject/>
  <dc:title>TRILL Option Improvements</dc:title>
</cp:coreProperties>
</file>