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64A-B78B-4A43-BBAD-A8C0CA9B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D13-9C7C-43FD-A79F-2B491189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EE2-E62E-4C41-97E2-51FE376B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AFA-D748-4FD0-85C2-04F9F657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6A3F-218F-46A5-9C40-C5734A57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D926-01DE-4021-B41C-2B4F5133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E080-4C84-4676-8CF0-D8E345B1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E129-D1FD-4BD5-98D1-A214D7F1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305-7D17-4500-94F0-83ADA721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107F-81B2-4038-8872-C11B7CB9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28E2-48ED-4A03-A2BA-2F5DC987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372-318E-4A5D-B5D4-8ABC92FE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E559-F8C6-480C-AF56-B62DAB2E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2DF8-A5B4-4367-9301-155FA414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D9C5-5337-4828-A56C-0CB1B90B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7EE4-7D2E-46A6-B22A-923B04A5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4C6B-CD2C-460C-9037-EA8CF7DE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A2F2-E7FC-4319-8AA1-0EAF3A88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8430-5229-4C34-95FF-8638ED3A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4EDC-2272-4509-B68A-606B30EF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23B9-66DC-4D31-8230-5FD51ED5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59C0-F75A-4DEE-9846-A18074F6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CED-5426-4332-85CE-F077AEDE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7FF5A-1651-49CA-B381-DDEACEBD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ECF1-0455-4AEC-B9CF-97751289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7F16-EAD6-4DC7-83DA-AFD5EE93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3732-B615-48AD-BA98-ADCA3F87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23514-AA03-425A-893F-BD9CEF32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9C581-0EFD-4069-99F2-F85167A2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49B2-EF11-4E0E-8D2C-F4A21AFB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337-F5AA-4C5F-ACAA-1C42C253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885-95E7-4D7E-973E-2690BF6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A60-0A4C-498F-854E-FD34A40F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6B4-F8FA-438A-A128-DCFF3DCC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8C2-18EE-4F0B-82F2-3C12A5B1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8A0-2D3C-4F8C-ABD7-FEABFCD9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0"/>
            <a:ext cx="9137520" cy="6853320"/>
            <a:chOff x="3240" y="0"/>
            <a:chExt cx="9137520" cy="6853320"/>
          </a:xfrm>
        </p:grpSpPr>
        <p:sp>
          <p:nvSpPr>
            <p:cNvPr id="1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A743-0DF0-4CC3-8657-2D736194D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1440"/>
            <a:ext cx="9131400" cy="6843960"/>
            <a:chOff x="0" y="1440"/>
            <a:chExt cx="9131400" cy="6843960"/>
          </a:xfrm>
        </p:grpSpPr>
        <p:sp>
          <p:nvSpPr>
            <p:cNvPr id="47" name="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4089-A54F-4860-B79C-FD30409D3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4480" indent="-28728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444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3440" indent="-230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606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606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606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1292400"/>
            <a:ext cx="914400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040600" y="6396120"/>
            <a:ext cx="1843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1292400"/>
            <a:ext cx="914400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234720" y="6402240"/>
            <a:ext cx="2130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822400" y="6402240"/>
            <a:ext cx="3956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S433/533: COmputer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013520" y="640224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901E-9BAB-4FB8-88EE-575848E004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State Migration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enter: Yingjie G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219E-A67B-4759-BF7C-59CDADBEC0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3708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Scope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200" y="4654440"/>
            <a:ext cx="2160720" cy="100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5680" y="4797360"/>
            <a:ext cx="20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724280"/>
            <a:ext cx="21589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3440" y="4743360"/>
            <a:ext cx="20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2133720"/>
            <a:ext cx="208764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1840" y="2349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6920" y="2133720"/>
            <a:ext cx="208908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94560" y="234936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6920" y="5013360"/>
            <a:ext cx="165744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186920" y="2924280"/>
            <a:ext cx="73080" cy="17287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4920" y="2924280"/>
            <a:ext cx="3384360" cy="180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19080" y="2886120"/>
            <a:ext cx="961920" cy="181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178" y="1891"/>
                  <a:pt x="2081" y="7754"/>
                  <a:pt x="1040" y="11356"/>
                </a:cubicBezTo>
                <a:cubicBezTo>
                  <a:pt x="0" y="14957"/>
                  <a:pt x="12931" y="19890"/>
                  <a:pt x="15312" y="2160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2433600" y="2455920"/>
            <a:ext cx="134460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0"/>
                </a:moveTo>
                <a:cubicBezTo>
                  <a:pt x="3047" y="0"/>
                  <a:pt x="14994" y="0"/>
                  <a:pt x="18297" y="0"/>
                </a:cubicBezTo>
                <a:cubicBezTo>
                  <a:pt x="21600" y="0"/>
                  <a:pt x="19551" y="0"/>
                  <a:pt x="19795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2494080" y="2905200"/>
            <a:ext cx="3195360" cy="181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3073" y="1036"/>
                  <a:pt x="15281" y="2633"/>
                  <a:pt x="18440" y="6236"/>
                </a:cubicBezTo>
                <a:cubicBezTo>
                  <a:pt x="21600" y="9838"/>
                  <a:pt x="18861" y="19041"/>
                  <a:pt x="18947" y="2160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61080" y="3429000"/>
            <a:ext cx="1295640" cy="1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357336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te migration contro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4797360"/>
            <a:ext cx="122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72360" y="501336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te migration protoc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y reuse/extend exis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2720" y="4510080"/>
            <a:ext cx="122400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61080" y="1773360"/>
            <a:ext cx="180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23000" y="1844640"/>
            <a:ext cx="17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present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6360" y="1773360"/>
            <a:ext cx="360360" cy="36036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56360" y="3286080"/>
            <a:ext cx="358920" cy="35892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56360" y="4510080"/>
            <a:ext cx="360360" cy="36036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1D0-2AEF-4B94-8D03-E6363DBD24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Q&amp;A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548-6153-4E69-BA43-7C9CA2677A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076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Background Introduction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rver 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orage 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M Migration, in ord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ke full use of idle re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crease CAPEX &amp; OPEX, energy-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ffic optimization and 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crease servi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762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orage Migration, in ord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ffic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5601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uick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C4D-FE92-4773-85C0-23ACDA0538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In-site and Between-sites Migration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ost current VM migration is in-site migration, in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871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2 Connectivity is 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rong requirements on between-sites migration, in order to e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871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sources-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871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 consolidation/expansion/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871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itional technologies to guarantee L2 connectivities betweens DCs, which is out of scope of this problem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M migration requires that running service shouldn't be disru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837-E5EA-4666-9375-BEA445B40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421080" y="1197000"/>
            <a:ext cx="5638680" cy="4897080"/>
            <a:chOff x="3421080" y="1197000"/>
            <a:chExt cx="5638680" cy="489708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3421080" y="1964880"/>
              <a:ext cx="5638680" cy="41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047480" y="3501360"/>
              <a:ext cx="565560" cy="4798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1760" y="3597480"/>
              <a:ext cx="1050840" cy="4798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90120" y="4557960"/>
              <a:ext cx="1212480" cy="4798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89560" y="3597480"/>
              <a:ext cx="565920" cy="479880"/>
            </a:xfrm>
            <a:prstGeom prst="ellipse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81360" y="4557960"/>
              <a:ext cx="1212480" cy="479880"/>
            </a:xfrm>
            <a:prstGeom prst="ellipse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62000" y="3693600"/>
              <a:ext cx="969840" cy="479880"/>
            </a:xfrm>
            <a:prstGeom prst="ellipse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4613400" y="1197000"/>
              <a:ext cx="3395160" cy="2304360"/>
            </a:xfrm>
            <a:custGeom>
              <a:avLst/>
              <a:gdLst/>
              <a:ahLst/>
              <a:rect l="l" t="t" r="r" b="b"/>
              <a:pathLst>
                <a:path w="2016" h="1008">
                  <a:moveTo>
                    <a:pt x="0" y="1008"/>
                  </a:moveTo>
                  <a:cubicBezTo>
                    <a:pt x="360" y="504"/>
                    <a:pt x="720" y="0"/>
                    <a:pt x="1056" y="0"/>
                  </a:cubicBezTo>
                  <a:cubicBezTo>
                    <a:pt x="1392" y="0"/>
                    <a:pt x="1704" y="504"/>
                    <a:pt x="2016" y="1008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Operational State Migration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105120" y="1854360"/>
            <a:ext cx="40352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 order to keep running service undisrupted, operational state also need to be migrated with V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erational State, i.e. dynamic policies generated during service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 connection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ynamic AC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umulativ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871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ssion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503-2621-466D-AB35-9D4B7C38DA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Two categories of</a:t>
            </a:r>
            <a:br>
              <a:rPr sz="4000"/>
            </a:b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Operational State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0040" y="1671480"/>
            <a:ext cx="793116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ssential state, if not migrated will disrup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CP connection state on F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ynamic ACLs on switch/F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ssion state on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nhancement state, if not migrated will increase vuln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umulative data on switch/IDS/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3358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0FC-4210-4089-BF6C-270FA34F7C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Time-sensitive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3120" y="1917720"/>
            <a:ext cx="9147240" cy="4555800"/>
            <a:chOff x="33120" y="1917720"/>
            <a:chExt cx="9147240" cy="45558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547280" y="2062800"/>
              <a:ext cx="7608600" cy="441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454160" y="3502440"/>
              <a:ext cx="15249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VM Mig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bor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55640" y="2278800"/>
              <a:ext cx="4824720" cy="41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83640" y="2346840"/>
              <a:ext cx="2736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5640" y="4222440"/>
              <a:ext cx="2160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120" y="206172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VM begins to mig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6920" y="1918080"/>
              <a:ext cx="252036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5640" y="2350080"/>
              <a:ext cx="360" cy="18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14000" y="2998080"/>
              <a:ext cx="250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Operational State keep chan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89120" y="1917720"/>
              <a:ext cx="20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Network de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60360" y="192312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3640" y="4510080"/>
              <a:ext cx="217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Operational State be s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32360" y="4222440"/>
              <a:ext cx="504000" cy="1151640"/>
            </a:xfrm>
            <a:custGeom>
              <a:avLst/>
              <a:gdLst>
                <a:gd name="textAreaLeft" fmla="*/ 0 w 504000"/>
                <a:gd name="textAreaRight" fmla="*/ 181800 w 504000"/>
                <a:gd name="textAreaTop" fmla="*/ 29880 h 1151640"/>
                <a:gd name="textAreaBottom" fmla="*/ 1121760 h 11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2360" y="4438440"/>
              <a:ext cx="165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Final State mig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74920" y="3934080"/>
              <a:ext cx="1151640" cy="230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2589840" y="4760640"/>
              <a:ext cx="1007280" cy="23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271240" y="4654440"/>
            <a:ext cx="187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ransition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AD7-0388-46B1-BC30-61FDE4015E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Example Architecture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3860640"/>
            <a:ext cx="2160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6400" y="4005360"/>
            <a:ext cx="20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3932280"/>
            <a:ext cx="2160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74880" y="3951360"/>
            <a:ext cx="20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1339920"/>
            <a:ext cx="2089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2560" y="15559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1339920"/>
            <a:ext cx="2089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280" y="155592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629080" y="2131920"/>
            <a:ext cx="71280" cy="172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2131920"/>
            <a:ext cx="3384360" cy="180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3873600" y="1663560"/>
            <a:ext cx="1346040" cy="36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0"/>
                </a:moveTo>
                <a:cubicBezTo>
                  <a:pt x="3047" y="0"/>
                  <a:pt x="14994" y="0"/>
                  <a:pt x="18297" y="0"/>
                </a:cubicBezTo>
                <a:cubicBezTo>
                  <a:pt x="21600" y="0"/>
                  <a:pt x="19551" y="0"/>
                  <a:pt x="19795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8200" y="5950080"/>
            <a:ext cx="1368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640" y="6022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4720" y="5950080"/>
            <a:ext cx="136872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4360" y="60228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w V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9080" y="4870440"/>
            <a:ext cx="0" cy="1079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61080" y="4870440"/>
            <a:ext cx="0" cy="1079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3348000" y="6167520"/>
            <a:ext cx="2728800" cy="56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825" y="3559"/>
                  <a:pt x="7345" y="21115"/>
                  <a:pt x="10945" y="21357"/>
                </a:cubicBezTo>
                <a:cubicBezTo>
                  <a:pt x="14545" y="21600"/>
                  <a:pt x="19825" y="4721"/>
                  <a:pt x="21600" y="1404"/>
                </a:cubicBezTo>
              </a:path>
            </a:pathLst>
          </a:custGeom>
          <a:noFill/>
          <a:ln w="28440">
            <a:solidFill>
              <a:srgbClr val="99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421-60D1-4528-A2C0-0138DCACD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1640" y="2062080"/>
            <a:ext cx="7921440" cy="1800360"/>
          </a:xfrm>
          <a:prstGeom prst="rect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900000" y="5805360"/>
            <a:ext cx="8136000" cy="720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7013520" y="6402240"/>
            <a:ext cx="2130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74BA-C38D-459B-BB4A-61121F4209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1557360"/>
            <a:ext cx="12967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2720" y="15508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c.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1563840"/>
            <a:ext cx="129708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080" y="1557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st.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1280" y="1563840"/>
            <a:ext cx="129708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23800" y="15573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1563840"/>
            <a:ext cx="129528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22520" y="1557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M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40720" y="199080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1989000"/>
            <a:ext cx="1440" cy="468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5280" y="1989000"/>
            <a:ext cx="180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1990800"/>
            <a:ext cx="144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51280" y="24940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634920" y="3355920"/>
            <a:ext cx="2016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5035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618920" y="278136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924280"/>
            <a:ext cx="4032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618920" y="450360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50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537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6237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1800" y="2133720"/>
            <a:ext cx="24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State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4160" y="234936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Volume Query a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43240" y="2925720"/>
            <a:ext cx="35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Resource Query a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04000" y="414324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 State Migration Comm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66520" y="501336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 State Migration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6880" y="580536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. State Migration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6597720"/>
            <a:ext cx="2880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90480" y="47023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 State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5080" y="414972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26160" y="46530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use exist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42160" y="209232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M transfers to transition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8762-E8A8-4678-8879-89C11B1A29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4000" y="1125360"/>
            <a:ext cx="8640720" cy="2232360"/>
          </a:xfrm>
          <a:prstGeom prst="ellipse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6720" y="5302080"/>
            <a:ext cx="8496360" cy="1440000"/>
          </a:xfrm>
          <a:prstGeom prst="ellipse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3571920"/>
            <a:ext cx="8569080" cy="1441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Problem Decomposition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14480" y="5435640"/>
            <a:ext cx="8096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Unified representation for Operational Stat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ed to consider state on multiple carriers: FW/LB/IDS..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0480" y="1197000"/>
            <a:ext cx="7626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600" spc="-1" strike="noStrike">
                <a:solidFill>
                  <a:srgbClr val="990000"/>
                </a:solidFill>
                <a:latin typeface="Arial"/>
              </a:rPr>
              <a:t>State migration control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State notification from VM manager to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Feedback from Coordinator to VM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Capability discovery and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1120" y="4197240"/>
            <a:ext cx="7183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otential protocols: e.g. NETCONF, MIDC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4200" y="3645000"/>
            <a:ext cx="400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Arial"/>
              </a:rPr>
              <a:t>State Migration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0200" y="5397480"/>
            <a:ext cx="33811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Arial"/>
              </a:rPr>
              <a:t>State re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229-57ED-4EB7-A29F-FF434B77CF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23:14:36Z</dcterms:created>
  <dc:creator>gyj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