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307-6833-4ADF-A36D-3BB69977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758-E31E-462D-8F02-F0FD3EB9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613-33E6-4017-9C6C-0DCE9720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2F1-88FB-4475-A01A-B5A4E240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B225-FF80-4141-A01E-01BD1D47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3461-E7DB-4BF5-8E83-AC9FF3C8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3CA3-5351-453B-B540-07DE0603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73CE-51B0-497D-B31C-99DDA43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96DD-4CD9-4F71-9049-605DCACF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EEA8-2A6C-44B8-82F2-AAEC7AEB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AC74-4AED-4599-9105-41122D1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90C-1F3C-4F4F-BF3F-D6A9BEDA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9277-D1BF-4C48-BF25-269ACB98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E02D-5710-4CB3-9603-4446425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80CA-F6EE-4D31-AF2F-E2EC8ED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1AE-4319-4D41-8D19-C0F956EF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DFA1-1CD3-4E22-8EA6-D7BE56BB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4369-063E-4C5B-A790-C5278601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B75D-C2C9-4C31-A680-DFB6FD5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0F40-4F9F-4381-9AC4-C2DE02B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C8B5-5A9A-4202-88A2-EDF602C0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2EBB-F694-44DB-8407-D30160D5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FF6-EB72-42F1-9A7E-5140ADCA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1174-54C1-491A-8A94-3029D3F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0306-5100-46D0-8B08-8A1D6EE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930A-5982-4F9A-A0C5-9E72FE9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B91C-8ED6-4C25-BE76-BCB39B0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CCE2-6870-4E73-A137-DEA0760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7BC5-021C-43EF-8945-7BE35E9F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7572-A4BB-43C4-AB89-4FA8605B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32A-AF25-489B-A642-A662208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6D4-9F65-4DC3-BD43-BA713FAE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54A-78FC-48DE-A570-F18ED58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268-5B86-4FBE-B558-64FE987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2A5-052E-4C60-9439-99BEC8D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D90-AABC-494C-9954-C84D85DB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1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9354-66D1-40EC-BAFB-0AC2E4A9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47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4390-1408-42A1-824A-4C408C376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4480" indent="-28728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444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3440" indent="-230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606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606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606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1292400"/>
            <a:ext cx="91440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040600" y="6396120"/>
            <a:ext cx="1843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1292400"/>
            <a:ext cx="91440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234720" y="6402240"/>
            <a:ext cx="2130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822400" y="6402240"/>
            <a:ext cx="3956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S433/533: COmp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13520" y="640224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03AD-7228-473E-B392-F728A6D4B4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State Migration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enter: Yingjie G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5CC-F838-40D3-AA15-79F5330593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3708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Scope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200" y="4654440"/>
            <a:ext cx="216072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680" y="4797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724280"/>
            <a:ext cx="21589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3440" y="4743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133720"/>
            <a:ext cx="208764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234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6920" y="2133720"/>
            <a:ext cx="208908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4560" y="234936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6920" y="5013360"/>
            <a:ext cx="16574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186920" y="2924280"/>
            <a:ext cx="73080" cy="17287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4920" y="2924280"/>
            <a:ext cx="3384360" cy="180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19080" y="2886120"/>
            <a:ext cx="961920" cy="181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178" y="1891"/>
                  <a:pt x="2081" y="7754"/>
                  <a:pt x="1040" y="11356"/>
                </a:cubicBezTo>
                <a:cubicBezTo>
                  <a:pt x="0" y="14957"/>
                  <a:pt x="12931" y="19890"/>
                  <a:pt x="15312" y="2160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2433600" y="2455920"/>
            <a:ext cx="134460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3047" y="0"/>
                  <a:pt x="14994" y="0"/>
                  <a:pt x="18297" y="0"/>
                </a:cubicBezTo>
                <a:cubicBezTo>
                  <a:pt x="21600" y="0"/>
                  <a:pt x="19551" y="0"/>
                  <a:pt x="19795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2494080" y="2905200"/>
            <a:ext cx="3195360" cy="181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3073" y="1036"/>
                  <a:pt x="15281" y="2633"/>
                  <a:pt x="18440" y="6236"/>
                </a:cubicBezTo>
                <a:cubicBezTo>
                  <a:pt x="21600" y="9838"/>
                  <a:pt x="18861" y="19041"/>
                  <a:pt x="18947" y="2160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61080" y="3429000"/>
            <a:ext cx="1295640" cy="1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357336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te migration contro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4797360"/>
            <a:ext cx="122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501336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te migration protoc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y reuse/extend exis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2720" y="4510080"/>
            <a:ext cx="122400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61080" y="177336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23000" y="184464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present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6360" y="1773360"/>
            <a:ext cx="360360" cy="36036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56360" y="3286080"/>
            <a:ext cx="358920" cy="35892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4510080"/>
            <a:ext cx="360360" cy="36036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9D9-B76E-4813-B6FF-4EF17591C0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Q&amp;A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2F9-B64B-4658-972D-39E7994D1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076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Background Introduction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rver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orage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M Migration,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ke full use of idle re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crease CAPEX &amp; OPEX, energy-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ffic optimization and 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crease servi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orage Migration,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ffic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uick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F1F-9841-4AC7-8685-DE0E2CC0F7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In-site and Between-sites Migration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ost current VM migration is in-site migration, in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2 Connectivity is 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rong requirements on between-sites migration, in order to 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sources-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 consolidation/expansion/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itional technologies to guarantee L2 connectivities betweens DCs, which is out of scope of this problem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M migration requires that running service shouldn't be disru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449-57A2-4CAC-93C9-A7CC2C7B9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421080" y="1197000"/>
            <a:ext cx="5638680" cy="4897080"/>
            <a:chOff x="3421080" y="1197000"/>
            <a:chExt cx="5638680" cy="489708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421080" y="1964880"/>
              <a:ext cx="5638680" cy="41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047480" y="3501360"/>
              <a:ext cx="565560" cy="4798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1760" y="3597480"/>
              <a:ext cx="1050840" cy="4798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90120" y="4557960"/>
              <a:ext cx="1212480" cy="4798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89560" y="3597480"/>
              <a:ext cx="565920" cy="47988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81360" y="4557960"/>
              <a:ext cx="1212480" cy="47988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62000" y="3693600"/>
              <a:ext cx="969840" cy="47988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4613400" y="1197000"/>
              <a:ext cx="3395160" cy="2304360"/>
            </a:xfrm>
            <a:custGeom>
              <a:avLst/>
              <a:gdLst/>
              <a:ahLst/>
              <a:rect l="l" t="t" r="r" b="b"/>
              <a:pathLst>
                <a:path w="2016" h="1008">
                  <a:moveTo>
                    <a:pt x="0" y="1008"/>
                  </a:moveTo>
                  <a:cubicBezTo>
                    <a:pt x="360" y="504"/>
                    <a:pt x="720" y="0"/>
                    <a:pt x="1056" y="0"/>
                  </a:cubicBezTo>
                  <a:cubicBezTo>
                    <a:pt x="1392" y="0"/>
                    <a:pt x="1704" y="504"/>
                    <a:pt x="2016" y="1008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Operational State Migration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105120" y="1854360"/>
            <a:ext cx="40352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order to keep running service undisrupted, operational state also need to be migrated with V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erational State, i.e. dynamic policies generated during service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 connection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ynamic AC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umulativ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ssio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329-FBCE-4768-982F-E07FA326E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Two categories of</a:t>
            </a:r>
            <a:br>
              <a:rPr sz="4000"/>
            </a:b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Operational State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0040" y="1671480"/>
            <a:ext cx="79311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ssential state, if not migrated will disrup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CP connection state on 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ynamic ACLs on switch/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ssion state on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nhancement state, if not migrated will increase vuln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umulative data on switch/IDS/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5AB-5B2B-46D5-88CF-8618898365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Time-sensitive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3120" y="1917720"/>
            <a:ext cx="9147240" cy="4555800"/>
            <a:chOff x="33120" y="1917720"/>
            <a:chExt cx="9147240" cy="45558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547280" y="2062800"/>
              <a:ext cx="7608600" cy="44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454160" y="3502440"/>
              <a:ext cx="1524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VM Mig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bor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5640" y="2278800"/>
              <a:ext cx="4824720" cy="41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83640" y="2346840"/>
              <a:ext cx="2736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5640" y="4222440"/>
              <a:ext cx="2160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120" y="206172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VM begins to mig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6920" y="1918080"/>
              <a:ext cx="252036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5640" y="2350080"/>
              <a:ext cx="360" cy="18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14000" y="2998080"/>
              <a:ext cx="250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Operational State keep chan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89120" y="1917720"/>
              <a:ext cx="20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Network de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0360" y="19231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640" y="4510080"/>
              <a:ext cx="217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Operational State be s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32360" y="4222440"/>
              <a:ext cx="504000" cy="1151640"/>
            </a:xfrm>
            <a:custGeom>
              <a:avLst/>
              <a:gdLst>
                <a:gd name="textAreaLeft" fmla="*/ 0 w 504000"/>
                <a:gd name="textAreaRight" fmla="*/ 181800 w 504000"/>
                <a:gd name="textAreaTop" fmla="*/ 29880 h 1151640"/>
                <a:gd name="textAreaBottom" fmla="*/ 1121760 h 11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2360" y="4438440"/>
              <a:ext cx="165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Final State mig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74920" y="3934080"/>
              <a:ext cx="1151640" cy="230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2589840" y="4760640"/>
              <a:ext cx="1007280" cy="23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71240" y="4654440"/>
            <a:ext cx="187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1AE-D266-481A-8ECD-7F168DBA7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Example Architecture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3860640"/>
            <a:ext cx="2160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6400" y="4005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3932280"/>
            <a:ext cx="2160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74880" y="3951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1339920"/>
            <a:ext cx="2089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2560" y="15559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1339920"/>
            <a:ext cx="2089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280" y="155592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29080" y="2131920"/>
            <a:ext cx="71280" cy="172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2131920"/>
            <a:ext cx="3384360" cy="18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3873600" y="1663560"/>
            <a:ext cx="1346040" cy="36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3047" y="0"/>
                  <a:pt x="14994" y="0"/>
                  <a:pt x="18297" y="0"/>
                </a:cubicBezTo>
                <a:cubicBezTo>
                  <a:pt x="21600" y="0"/>
                  <a:pt x="19551" y="0"/>
                  <a:pt x="19795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8200" y="5950080"/>
            <a:ext cx="1368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640" y="602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5950080"/>
            <a:ext cx="1368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4360" y="6022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w 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9080" y="4870440"/>
            <a:ext cx="0" cy="1079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61080" y="4870440"/>
            <a:ext cx="0" cy="1079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3348000" y="6167520"/>
            <a:ext cx="2728800" cy="5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825" y="3559"/>
                  <a:pt x="7345" y="21115"/>
                  <a:pt x="10945" y="21357"/>
                </a:cubicBezTo>
                <a:cubicBezTo>
                  <a:pt x="14545" y="21600"/>
                  <a:pt x="19825" y="4721"/>
                  <a:pt x="21600" y="1404"/>
                </a:cubicBezTo>
              </a:path>
            </a:pathLst>
          </a:custGeom>
          <a:noFill/>
          <a:ln w="28440">
            <a:solidFill>
              <a:srgbClr val="99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687-8C04-4A20-9C5F-14FF947751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1640" y="2062080"/>
            <a:ext cx="7921440" cy="180036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900000" y="5805360"/>
            <a:ext cx="8136000" cy="720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7013520" y="6402240"/>
            <a:ext cx="2130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A67A-B521-45E8-8219-3DE655319E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1557360"/>
            <a:ext cx="1296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2720" y="15508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c.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1563840"/>
            <a:ext cx="129708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080" y="1557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st.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1280" y="1563840"/>
            <a:ext cx="129708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23800" y="1557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1563840"/>
            <a:ext cx="129528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2520" y="1557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M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19908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1989000"/>
            <a:ext cx="1440" cy="468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1989000"/>
            <a:ext cx="180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990800"/>
            <a:ext cx="144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51280" y="24940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634920" y="3355920"/>
            <a:ext cx="2016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5035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618920" y="278136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924280"/>
            <a:ext cx="403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618920" y="45036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50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537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6237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1800" y="2133720"/>
            <a:ext cx="24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State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4160" y="234936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Volume Query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43240" y="292572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Resource Query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04000" y="414324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State Migration Comm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6520" y="501336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 State Migration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6880" y="5805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 State Migratio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6597720"/>
            <a:ext cx="2880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90480" y="47023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 State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5080" y="414972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26160" y="46530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use exist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2160" y="20923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M transfers to transitio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2CEF-A2DE-4FAE-BF9B-B33F32861E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1125360"/>
            <a:ext cx="8640720" cy="2232360"/>
          </a:xfrm>
          <a:prstGeom prst="ellipse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720" y="5302080"/>
            <a:ext cx="8496360" cy="1440000"/>
          </a:xfrm>
          <a:prstGeom prst="ellipse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3571920"/>
            <a:ext cx="8569080" cy="1441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Problem Decomposition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14480" y="5435640"/>
            <a:ext cx="8096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nified representation for Operational Stat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ed to consider state on multiple carriers: FW/LB/IDS..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0480" y="1197000"/>
            <a:ext cx="7626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State migration control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ate notification from VM manager to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eedback from Coordinator to VM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Capability discovery and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1120" y="4197240"/>
            <a:ext cx="7183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otential protocols: e.g. NETCONF, MIDC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4200" y="3645000"/>
            <a:ext cx="400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State Migration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0200" y="5397480"/>
            <a:ext cx="3381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State re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112-F4DD-4510-8EE1-1A28D8C376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23:14:36Z</dcterms:created>
  <dc:creator>gyj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