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7.pct" ContentType="image/x-pict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3.png" ContentType="image/png"/>
  <Override PartName="/ppt/media/image4.pct" ContentType="image/x-pict"/>
  <Override PartName="/ppt/media/image12.png" ContentType="image/png"/>
  <Override PartName="/ppt/media/image2.jpeg" ContentType="image/jpeg"/>
  <Override PartName="/ppt/media/image5.pct" ContentType="image/x-pict"/>
  <Override PartName="/ppt/media/image8.png" ContentType="image/png"/>
  <Override PartName="/ppt/media/image13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D2556-2138-485F-9CEC-74413281A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29760" y="4083480"/>
            <a:ext cx="8489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2B78-215A-492F-848F-B05207BFC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205704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29760" y="408348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8348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86009-C924-4ADC-A660-6E6BEF73D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27334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0400" y="2057040"/>
            <a:ext cx="27334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0680" y="2057040"/>
            <a:ext cx="27334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29760" y="4083480"/>
            <a:ext cx="27334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0400" y="4083480"/>
            <a:ext cx="27334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0680" y="4083480"/>
            <a:ext cx="27334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59125-254D-40A7-BEDA-FA985A8A5D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29760" y="205704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4142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2057040"/>
            <a:ext cx="4142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29760" y="457200"/>
            <a:ext cx="84898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2057040"/>
            <a:ext cx="4142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9760" y="408348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29760" y="205704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E2A2E-072C-47A9-A3AB-6B1C5BA04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4142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205704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8348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205704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29760" y="4083480"/>
            <a:ext cx="8489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9760" y="4083480"/>
            <a:ext cx="8489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205704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29760" y="408348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8348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27334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00400" y="2057040"/>
            <a:ext cx="27334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0680" y="2057040"/>
            <a:ext cx="27334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29760" y="4083480"/>
            <a:ext cx="27334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00400" y="4083480"/>
            <a:ext cx="27334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0680" y="4083480"/>
            <a:ext cx="27334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ADA7D-182B-48C3-8DC2-3DCD64F82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4142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2057040"/>
            <a:ext cx="4142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66060-1EE1-4E15-9E15-F020B896F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A7B4-4E36-41C0-A7A5-161772D39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29760" y="457200"/>
            <a:ext cx="84898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63A2D-77F1-411F-BFB7-6B5B6EC6A7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2057040"/>
            <a:ext cx="4142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29760" y="408348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75860-5E07-42EC-A6D7-F2A2C01D9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4142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205704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8348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CDC55-22AA-4622-93AE-8DADFDEFBE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2057040"/>
            <a:ext cx="4142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29760" y="4083480"/>
            <a:ext cx="84898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1143E-D6E5-4C90-9DB4-1F9FA3DFB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9760" y="205704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1" marL="743040" indent="-285840">
              <a:spcBef>
                <a:spcPts val="700"/>
              </a:spcBef>
              <a:buClr>
                <a:srgbClr val="000a6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812000" y="6337080"/>
            <a:ext cx="100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2DF6-1059-4D40-BD62-238090799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24000" y="6244920"/>
            <a:ext cx="849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0" y="-228600"/>
            <a:ext cx="9144000" cy="1203480"/>
            <a:chOff x="0" y="-228600"/>
            <a:chExt cx="9144000" cy="1203480"/>
          </a:xfrm>
        </p:grpSpPr>
        <p:sp>
          <p:nvSpPr>
            <p:cNvPr id="42" name=""/>
            <p:cNvSpPr/>
            <p:nvPr/>
          </p:nvSpPr>
          <p:spPr>
            <a:xfrm>
              <a:off x="0" y="669960"/>
              <a:ext cx="9144000" cy="304920"/>
            </a:xfrm>
            <a:prstGeom prst="rect">
              <a:avLst/>
            </a:prstGeom>
            <a:solidFill>
              <a:srgbClr val="d1d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-15840"/>
              <a:ext cx="9144000" cy="762120"/>
            </a:xfrm>
            <a:prstGeom prst="rect">
              <a:avLst/>
            </a:prstGeom>
            <a:solidFill>
              <a:srgbClr val="0000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6794640" y="-228600"/>
              <a:ext cx="2349360" cy="97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" name=""/>
          <p:cNvGrpSpPr/>
          <p:nvPr/>
        </p:nvGrpSpPr>
        <p:grpSpPr>
          <a:xfrm>
            <a:off x="0" y="-228600"/>
            <a:ext cx="9144000" cy="1203480"/>
            <a:chOff x="0" y="-228600"/>
            <a:chExt cx="9144000" cy="1203480"/>
          </a:xfrm>
        </p:grpSpPr>
        <p:sp>
          <p:nvSpPr>
            <p:cNvPr id="46" name=""/>
            <p:cNvSpPr/>
            <p:nvPr/>
          </p:nvSpPr>
          <p:spPr>
            <a:xfrm>
              <a:off x="0" y="669960"/>
              <a:ext cx="9144000" cy="304920"/>
            </a:xfrm>
            <a:prstGeom prst="rect">
              <a:avLst/>
            </a:prstGeom>
            <a:solidFill>
              <a:srgbClr val="d1d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-15840"/>
              <a:ext cx="9144000" cy="762120"/>
            </a:xfrm>
            <a:prstGeom prst="rect">
              <a:avLst/>
            </a:prstGeom>
            <a:solidFill>
              <a:srgbClr val="0000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6794640" y="-228600"/>
              <a:ext cx="2349360" cy="97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Gill Sans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3" marL="1371600" algn="ctr">
              <a:spcBef>
                <a:spcPts val="700"/>
              </a:spcBef>
              <a:buClr>
                <a:srgbClr val="000000"/>
              </a:buClr>
              <a:buFont typeface="Gill Sans Ligh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4" marL="1828800" algn="ctr">
              <a:spcBef>
                <a:spcPts val="700"/>
              </a:spcBef>
              <a:buClr>
                <a:srgbClr val="000000"/>
              </a:buClr>
              <a:buFont typeface="Gill Sans Ligh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Gill Sans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Gill Sans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4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4.pct"/><Relationship Id="rId3" Type="http://schemas.openxmlformats.org/officeDocument/2006/relationships/image" Target="../media/image4.pct"/><Relationship Id="rId4" Type="http://schemas.openxmlformats.org/officeDocument/2006/relationships/image" Target="../media/image4.pct"/><Relationship Id="rId5" Type="http://schemas.openxmlformats.org/officeDocument/2006/relationships/image" Target="../media/image4.pct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4.pct"/><Relationship Id="rId3" Type="http://schemas.openxmlformats.org/officeDocument/2006/relationships/image" Target="../media/image4.pct"/><Relationship Id="rId4" Type="http://schemas.openxmlformats.org/officeDocument/2006/relationships/image" Target="../media/image4.pct"/><Relationship Id="rId5" Type="http://schemas.openxmlformats.org/officeDocument/2006/relationships/image" Target="../media/image4.pct"/><Relationship Id="rId6" Type="http://schemas.openxmlformats.org/officeDocument/2006/relationships/image" Target="../media/image7.pct"/><Relationship Id="rId7" Type="http://schemas.openxmlformats.org/officeDocument/2006/relationships/image" Target="../media/image4.pct"/><Relationship Id="rId8" Type="http://schemas.openxmlformats.org/officeDocument/2006/relationships/image" Target="../media/image4.pct"/><Relationship Id="rId9" Type="http://schemas.openxmlformats.org/officeDocument/2006/relationships/image" Target="../media/image4.pct"/><Relationship Id="rId10" Type="http://schemas.openxmlformats.org/officeDocument/2006/relationships/image" Target="../media/image4.pct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51051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"/>
              </a:rPr>
              <a:t>tcpcrypt: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real transport-level encryption</a:t>
            </a:r>
            <a:br>
              <a:rPr sz="4400"/>
            </a:b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24000" y="5360760"/>
            <a:ext cx="84960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UCL and Stanford.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510160" y="990720"/>
            <a:ext cx="3633840" cy="5867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85840" y="3884760"/>
            <a:ext cx="481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rea Bittau, Mike Hamburg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Mark Handle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, David Mazieres, Dan Bone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heck the Session ID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9760" y="3816360"/>
            <a:ext cx="8489880" cy="23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ut-of-band: </a:t>
            </a: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e.g., phone call, other secure protocol.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KI: </a:t>
            </a: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server signs Session ID. 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e-shared secret: </a:t>
            </a: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send CMAC of Session ID, keyed with Pre-shared secret.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13736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52280" y="3581280"/>
            <a:ext cx="8686800" cy="2819520"/>
            <a:chOff x="152280" y="3581280"/>
            <a:chExt cx="8686800" cy="2819520"/>
          </a:xfrm>
        </p:grpSpPr>
        <p:sp>
          <p:nvSpPr>
            <p:cNvPr id="125" name=""/>
            <p:cNvSpPr/>
            <p:nvPr/>
          </p:nvSpPr>
          <p:spPr>
            <a:xfrm>
              <a:off x="152280" y="3581280"/>
              <a:ext cx="8686800" cy="2819520"/>
            </a:xfrm>
            <a:prstGeom prst="rect">
              <a:avLst/>
            </a:prstGeom>
            <a:solidFill>
              <a:srgbClr val="ece9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2971800" y="4754520"/>
              <a:ext cx="1495440" cy="14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6629400" y="5138640"/>
              <a:ext cx="2057400" cy="110988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sp>
          <p:nvSpPr>
            <p:cNvPr id="128" name=""/>
            <p:cNvSpPr/>
            <p:nvPr/>
          </p:nvSpPr>
          <p:spPr>
            <a:xfrm>
              <a:off x="3926880" y="4984920"/>
              <a:ext cx="95328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s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76600" y="4984920"/>
              <a:ext cx="95328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s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67080" y="5486400"/>
              <a:ext cx="2667240" cy="762120"/>
            </a:xfrm>
            <a:prstGeom prst="leftRightArrow">
              <a:avLst>
                <a:gd name="adj1" fmla="val 65417"/>
                <a:gd name="adj2" fmla="val 70109"/>
              </a:avLst>
            </a:prstGeom>
            <a:solidFill>
              <a:srgbClr val="fff9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cpcry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9760" y="45576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uthentication Exampl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assword-based Mutual Authentica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Whenever a user knows a password, mutual authentication should be used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743040" indent="-285840">
              <a:spcBef>
                <a:spcPts val="601"/>
              </a:spcBef>
              <a:buClr>
                <a:srgbClr val="000a6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Does not rely on user to spot spurious URLs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57200" y="3733920"/>
            <a:ext cx="6705720" cy="2307600"/>
            <a:chOff x="457200" y="3733920"/>
            <a:chExt cx="6705720" cy="2307600"/>
          </a:xfrm>
        </p:grpSpPr>
        <p:sp>
          <p:nvSpPr>
            <p:cNvPr id="134" name=""/>
            <p:cNvSpPr/>
            <p:nvPr/>
          </p:nvSpPr>
          <p:spPr>
            <a:xfrm>
              <a:off x="457200" y="4484520"/>
              <a:ext cx="2514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uthenticating the session ID authenticates the end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38480" y="3733920"/>
              <a:ext cx="3124440" cy="1143000"/>
            </a:xfrm>
            <a:prstGeom prst="leftRightArrow">
              <a:avLst>
                <a:gd name="adj1" fmla="val 78611"/>
                <a:gd name="adj2" fmla="val 67086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ssword-base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uth of use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d session 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114800" y="4419360"/>
              <a:ext cx="3049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6781320" y="4419360"/>
              <a:ext cx="3049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9760" y="45576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uthentication Exampl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assword-based Mutual Authentica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15328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uthentication Example: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gning a batch of session IDs to amortize RSA cos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960720" y="2459160"/>
            <a:ext cx="1220760" cy="3065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2743200"/>
            <a:ext cx="1495440" cy="1417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295280" y="3124080"/>
            <a:ext cx="2667240" cy="762120"/>
          </a:xfrm>
          <a:prstGeom prst="leftRightArrow">
            <a:avLst>
              <a:gd name="adj1" fmla="val 65417"/>
              <a:gd name="adj2" fmla="val 70109"/>
            </a:avLst>
          </a:prstGeom>
          <a:solidFill>
            <a:srgbClr val="fff9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session ID: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514600"/>
            <a:ext cx="2361960" cy="762120"/>
          </a:xfrm>
          <a:prstGeom prst="leftArrow">
            <a:avLst>
              <a:gd name="adj1" fmla="val 100000"/>
              <a:gd name="adj2" fmla="val 33273"/>
            </a:avLst>
          </a:prstGeom>
          <a:solidFill>
            <a:srgbClr val="e1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A”, sign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amazo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2819520"/>
            <a:ext cx="129528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RSA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0" y="4373640"/>
            <a:ext cx="5257800" cy="1646280"/>
            <a:chOff x="0" y="4373640"/>
            <a:chExt cx="5257800" cy="1646280"/>
          </a:xfrm>
        </p:grpSpPr>
        <p:pic>
          <p:nvPicPr>
            <p:cNvPr id="147" name="" descr=""/>
            <p:cNvPicPr/>
            <p:nvPr/>
          </p:nvPicPr>
          <p:blipFill>
            <a:blip r:embed="rId3"/>
            <a:stretch/>
          </p:blipFill>
          <p:spPr>
            <a:xfrm>
              <a:off x="0" y="4602240"/>
              <a:ext cx="149544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295640" y="4983120"/>
              <a:ext cx="2666880" cy="762120"/>
            </a:xfrm>
            <a:prstGeom prst="leftRightArrow">
              <a:avLst>
                <a:gd name="adj1" fmla="val 65417"/>
                <a:gd name="adj2" fmla="val 70099"/>
              </a:avLst>
            </a:prstGeom>
            <a:solidFill>
              <a:srgbClr val="fff9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Light"/>
                </a:rPr>
                <a:t>session ID: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4373640"/>
              <a:ext cx="2362320" cy="761760"/>
            </a:xfrm>
            <a:prstGeom prst="leftArrow">
              <a:avLst>
                <a:gd name="adj1" fmla="val 100000"/>
                <a:gd name="adj2" fmla="val 33294"/>
              </a:avLst>
            </a:prstGeom>
            <a:solidFill>
              <a:srgbClr val="e1d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Light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Gill Sans Light"/>
                </a:rPr>
                <a:t>B”, signed by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Light"/>
                </a:rPr>
                <a:t>amazon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62520" y="4678200"/>
              <a:ext cx="129528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Light"/>
                </a:rPr>
                <a:t>RSA o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uthentication Example: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gning a batch of session IDs to amortize RSA cos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60720" y="2459160"/>
            <a:ext cx="1220760" cy="3065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2743200"/>
            <a:ext cx="1495440" cy="1417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295280" y="3124080"/>
            <a:ext cx="2667240" cy="762120"/>
          </a:xfrm>
          <a:prstGeom prst="leftRightArrow">
            <a:avLst>
              <a:gd name="adj1" fmla="val 65417"/>
              <a:gd name="adj2" fmla="val 70109"/>
            </a:avLst>
          </a:prstGeom>
          <a:solidFill>
            <a:srgbClr val="fff9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session ID: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4602240"/>
            <a:ext cx="1495440" cy="1417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295280" y="4983120"/>
            <a:ext cx="2667240" cy="762120"/>
          </a:xfrm>
          <a:prstGeom prst="leftRightArrow">
            <a:avLst>
              <a:gd name="adj1" fmla="val 65417"/>
              <a:gd name="adj2" fmla="val 70109"/>
            </a:avLst>
          </a:prstGeom>
          <a:solidFill>
            <a:srgbClr val="fff9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session ID: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 flipH="1">
            <a:off x="7648560" y="4648320"/>
            <a:ext cx="1495440" cy="1417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flipH="1">
            <a:off x="5180760" y="5029200"/>
            <a:ext cx="2667240" cy="762120"/>
          </a:xfrm>
          <a:prstGeom prst="leftRightArrow">
            <a:avLst>
              <a:gd name="adj1" fmla="val 65417"/>
              <a:gd name="adj2" fmla="val 70109"/>
            </a:avLst>
          </a:prstGeom>
          <a:solidFill>
            <a:srgbClr val="fff9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session ID: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 flipH="1">
            <a:off x="7572240" y="2743200"/>
            <a:ext cx="1495440" cy="1417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H="1">
            <a:off x="5105520" y="3124080"/>
            <a:ext cx="2666880" cy="762120"/>
          </a:xfrm>
          <a:prstGeom prst="leftRightArrow">
            <a:avLst>
              <a:gd name="adj1" fmla="val 65417"/>
              <a:gd name="adj2" fmla="val 70099"/>
            </a:avLst>
          </a:prstGeom>
          <a:solidFill>
            <a:srgbClr val="fff9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session ID: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979400">
            <a:off x="1676160" y="3733920"/>
            <a:ext cx="2361960" cy="761760"/>
          </a:xfrm>
          <a:prstGeom prst="leftArrow">
            <a:avLst>
              <a:gd name="adj1" fmla="val 100000"/>
              <a:gd name="adj2" fmla="val 33289"/>
            </a:avLst>
          </a:prstGeom>
          <a:solidFill>
            <a:srgbClr val="e1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A,B,C,D” sig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by amazo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rot="19620600">
            <a:off x="4800240" y="3733560"/>
            <a:ext cx="2362320" cy="761760"/>
          </a:xfrm>
          <a:prstGeom prst="leftArrow">
            <a:avLst>
              <a:gd name="adj1" fmla="val 100000"/>
              <a:gd name="adj2" fmla="val 33294"/>
            </a:avLst>
          </a:prstGeom>
          <a:solidFill>
            <a:srgbClr val="e1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A,B,C,D” sig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by amazo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4495680"/>
            <a:ext cx="2362320" cy="762120"/>
          </a:xfrm>
          <a:prstGeom prst="leftArrow">
            <a:avLst>
              <a:gd name="adj1" fmla="val 100000"/>
              <a:gd name="adj2" fmla="val 33278"/>
            </a:avLst>
          </a:prstGeom>
          <a:solidFill>
            <a:srgbClr val="e1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A,B,C,D” sig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by amazo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029200" y="4495680"/>
            <a:ext cx="2362320" cy="762120"/>
          </a:xfrm>
          <a:prstGeom prst="leftArrow">
            <a:avLst>
              <a:gd name="adj1" fmla="val 100000"/>
              <a:gd name="adj2" fmla="val 33278"/>
            </a:avLst>
          </a:prstGeom>
          <a:solidFill>
            <a:srgbClr val="e1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A,B,C,D” sig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by amazo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4678200"/>
            <a:ext cx="129528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RSA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0120" y="2741760"/>
            <a:ext cx="8661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SL servers RSA decrypt each client’s secret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886200" y="380880"/>
            <a:ext cx="4571640" cy="1960200"/>
            <a:chOff x="3886200" y="380880"/>
            <a:chExt cx="4571640" cy="1960200"/>
          </a:xfrm>
        </p:grpSpPr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6560" y="380880"/>
              <a:ext cx="610200" cy="16660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36147" dir="2700000" blurRad="0" rotWithShape="0">
                <a:srgbClr val="808080"/>
              </a:outerShdw>
            </a:effectLst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3886200" y="534960"/>
              <a:ext cx="747720" cy="77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533840" y="742320"/>
              <a:ext cx="1333440" cy="414000"/>
            </a:xfrm>
            <a:prstGeom prst="leftRightArrow">
              <a:avLst>
                <a:gd name="adj1" fmla="val 65417"/>
                <a:gd name="adj2" fmla="val 64522"/>
              </a:avLst>
            </a:prstGeom>
            <a:solidFill>
              <a:srgbClr val="fff9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session ID: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3"/>
            <a:stretch/>
          </p:blipFill>
          <p:spPr>
            <a:xfrm>
              <a:off x="3886200" y="1545840"/>
              <a:ext cx="747720" cy="77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4533840" y="1752840"/>
              <a:ext cx="1333440" cy="414000"/>
            </a:xfrm>
            <a:prstGeom prst="leftRightArrow">
              <a:avLst>
                <a:gd name="adj1" fmla="val 65417"/>
                <a:gd name="adj2" fmla="val 64522"/>
              </a:avLst>
            </a:prstGeom>
            <a:solidFill>
              <a:srgbClr val="fff9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session ID: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 flipH="1">
              <a:off x="7710120" y="1570680"/>
              <a:ext cx="747720" cy="77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 flipH="1">
              <a:off x="6476760" y="1777680"/>
              <a:ext cx="1333440" cy="414000"/>
            </a:xfrm>
            <a:prstGeom prst="leftRightArrow">
              <a:avLst>
                <a:gd name="adj1" fmla="val 65417"/>
                <a:gd name="adj2" fmla="val 64522"/>
              </a:avLst>
            </a:prstGeom>
            <a:solidFill>
              <a:srgbClr val="fff9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session ID: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 flipH="1">
              <a:off x="7671960" y="534960"/>
              <a:ext cx="747720" cy="77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flipH="1">
              <a:off x="6438960" y="742320"/>
              <a:ext cx="1333440" cy="414000"/>
            </a:xfrm>
            <a:prstGeom prst="leftRightArrow">
              <a:avLst>
                <a:gd name="adj1" fmla="val 65417"/>
                <a:gd name="adj2" fmla="val 64522"/>
              </a:avLst>
            </a:prstGeom>
            <a:solidFill>
              <a:srgbClr val="fff9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session ID: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979400">
              <a:off x="4724280" y="1073520"/>
              <a:ext cx="1180800" cy="414000"/>
            </a:xfrm>
            <a:prstGeom prst="leftArrow">
              <a:avLst>
                <a:gd name="adj1" fmla="val 100000"/>
                <a:gd name="adj2" fmla="val 30621"/>
              </a:avLst>
            </a:prstGeom>
            <a:solidFill>
              <a:srgbClr val="e1d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A,B,C,D” sign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by amazon.c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rot="19620600">
              <a:off x="6286320" y="1073520"/>
              <a:ext cx="1181160" cy="414000"/>
            </a:xfrm>
            <a:prstGeom prst="leftArrow">
              <a:avLst>
                <a:gd name="adj1" fmla="val 100000"/>
                <a:gd name="adj2" fmla="val 30631"/>
              </a:avLst>
            </a:prstGeom>
            <a:solidFill>
              <a:srgbClr val="e1d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A,B,C,D” sign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by amazon.c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86120" y="1487880"/>
              <a:ext cx="1181160" cy="414000"/>
            </a:xfrm>
            <a:prstGeom prst="leftArrow">
              <a:avLst>
                <a:gd name="adj1" fmla="val 100000"/>
                <a:gd name="adj2" fmla="val 30631"/>
              </a:avLst>
            </a:prstGeom>
            <a:solidFill>
              <a:srgbClr val="e1d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A,B,C,D” sign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by amazon.c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400080" y="1487880"/>
              <a:ext cx="1181160" cy="414000"/>
            </a:xfrm>
            <a:prstGeom prst="leftArrow">
              <a:avLst>
                <a:gd name="adj1" fmla="val 100000"/>
                <a:gd name="adj2" fmla="val 30631"/>
              </a:avLst>
            </a:prstGeom>
            <a:solidFill>
              <a:srgbClr val="e1d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A,B,C,D” sign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by amazon.c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29120" y="1586880"/>
              <a:ext cx="647640" cy="2484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Light"/>
                </a:rPr>
                <a:t>RSA 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3960720" y="3373560"/>
            <a:ext cx="1220760" cy="3065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0" y="3657600"/>
            <a:ext cx="1495440" cy="14176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flipH="1">
            <a:off x="1600200" y="4191120"/>
            <a:ext cx="2362320" cy="533160"/>
          </a:xfrm>
          <a:prstGeom prst="leftArrow">
            <a:avLst>
              <a:gd name="adj1" fmla="val 100000"/>
              <a:gd name="adj2" fmla="val 47569"/>
            </a:avLst>
          </a:prstGeom>
          <a:solidFill>
            <a:srgbClr val="e1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enc(Secret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76320" y="5059440"/>
            <a:ext cx="1495440" cy="14176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 flipH="1">
            <a:off x="7467480" y="3687840"/>
            <a:ext cx="1495440" cy="1417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0"/>
          <a:stretch/>
        </p:blipFill>
        <p:spPr>
          <a:xfrm flipH="1">
            <a:off x="7391520" y="5257800"/>
            <a:ext cx="1495440" cy="14176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105520" y="4191120"/>
            <a:ext cx="2361960" cy="533160"/>
          </a:xfrm>
          <a:prstGeom prst="leftArrow">
            <a:avLst>
              <a:gd name="adj1" fmla="val 100000"/>
              <a:gd name="adj2" fmla="val 47562"/>
            </a:avLst>
          </a:prstGeom>
          <a:solidFill>
            <a:srgbClr val="e1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enc(Secret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5791320"/>
            <a:ext cx="2361960" cy="533160"/>
          </a:xfrm>
          <a:prstGeom prst="leftArrow">
            <a:avLst>
              <a:gd name="adj1" fmla="val 100000"/>
              <a:gd name="adj2" fmla="val 47562"/>
            </a:avLst>
          </a:prstGeom>
          <a:solidFill>
            <a:srgbClr val="e1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enc(Secret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600200" y="5791320"/>
            <a:ext cx="2362320" cy="533160"/>
          </a:xfrm>
          <a:prstGeom prst="leftArrow">
            <a:avLst>
              <a:gd name="adj1" fmla="val 100000"/>
              <a:gd name="adj2" fmla="val 47569"/>
            </a:avLst>
          </a:prstGeom>
          <a:solidFill>
            <a:srgbClr val="e1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enc(Secret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3886200"/>
            <a:ext cx="129528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RSA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5486400"/>
            <a:ext cx="129564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RSA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48320" y="5486400"/>
            <a:ext cx="129528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RSA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48320" y="3886200"/>
            <a:ext cx="129528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RSA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9760" y="198108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808080"/>
                </a:solidFill>
                <a:latin typeface="Gill Sans"/>
              </a:rPr>
              <a:t>Tcpcrypt</a:t>
            </a:r>
            <a:br>
              <a:rPr sz="12900"/>
            </a:br>
            <a:r>
              <a:rPr b="0" i="1" lang="en-US" sz="6000" spc="-1" strike="noStrike">
                <a:solidFill>
                  <a:srgbClr val="808080"/>
                </a:solidFill>
                <a:latin typeface="Gill Sans"/>
              </a:rPr>
              <a:t>in detail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tline of Tcpcrypt key exchang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35080" y="2054160"/>
            <a:ext cx="70182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9760" y="2286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Key exchange is performed in the TCP connection setup handshake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09760" y="1495440"/>
            <a:ext cx="681984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Key Schedul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07696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at would it take to encrypt the vast majority of TCP traffic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9760" y="221580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ill Sans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Fast enough to enable by default on almost all servers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ill Sans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Leverage certificates, cookies, passwords, etc., to give best possible security for any given setting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ill Sans"/>
              </a:rPr>
              <a:t>Compatibility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Works in existing networks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Works with unmodified legacy applications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cpcrypt in TCP Packe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1532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rypto state can be cached.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ubsequent connections between the same endpoints get similar latency to regular TCP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44680" y="2265480"/>
            <a:ext cx="655632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Key Scheduling 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28600" y="1847880"/>
            <a:ext cx="845820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9760" y="198108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808080"/>
                </a:solidFill>
                <a:latin typeface="Gill Sans"/>
              </a:rPr>
              <a:t>Tcpcrypt</a:t>
            </a:r>
            <a:br>
              <a:rPr sz="12900"/>
            </a:br>
            <a:r>
              <a:rPr b="0" i="1" lang="en-US" sz="4800" spc="-1" strike="noStrike">
                <a:solidFill>
                  <a:srgbClr val="808080"/>
                </a:solidFill>
                <a:latin typeface="Gill Sans"/>
              </a:rPr>
              <a:t>Performance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cpcrypt implementa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9760" y="1523880"/>
            <a:ext cx="8489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Linux kernel implementation:  4,500 lines of code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29040" indent="-329040"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Portable divert-socket implementation: 7000 LoC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1" marL="713160" indent="-274320">
              <a:spcBef>
                <a:spcPts val="700"/>
              </a:spcBef>
              <a:buClr>
                <a:srgbClr val="000a6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Tested on Windows, MacOS, Linux, FreeBSD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290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29040" indent="-329040"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Binary compatible OpenSSL library that attempts tcpcrypt with batch-signing or falls back to SSL.</a:t>
            </a: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4038480"/>
            <a:ext cx="3886200" cy="609840"/>
          </a:xfrm>
          <a:prstGeom prst="rect">
            <a:avLst/>
          </a:prstGeom>
          <a:solidFill>
            <a:srgbClr val="e1d9f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3208320"/>
            <a:ext cx="1295280" cy="533520"/>
          </a:xfrm>
          <a:prstGeom prst="rect">
            <a:avLst/>
          </a:prstGeom>
          <a:solidFill>
            <a:srgbClr val="e1d9f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tcpcryp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3208320"/>
            <a:ext cx="2286000" cy="533520"/>
          </a:xfrm>
          <a:prstGeom prst="rect">
            <a:avLst/>
          </a:prstGeom>
          <a:solidFill>
            <a:srgbClr val="e1d9f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3589200"/>
            <a:ext cx="1905120" cy="838440"/>
          </a:xfrm>
          <a:prstGeom prst="ellipse">
            <a:avLst/>
          </a:prstGeom>
          <a:solidFill>
            <a:srgbClr val="e1d9f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3581280"/>
            <a:ext cx="3047760" cy="685800"/>
          </a:xfrm>
          <a:custGeom>
            <a:avLst/>
            <a:gdLst/>
            <a:ahLst/>
            <a:rect l="l" t="t" r="r" b="b"/>
            <a:pathLst>
              <a:path w="1920" h="432">
                <a:moveTo>
                  <a:pt x="0" y="240"/>
                </a:moveTo>
                <a:cubicBezTo>
                  <a:pt x="156" y="300"/>
                  <a:pt x="312" y="360"/>
                  <a:pt x="432" y="384"/>
                </a:cubicBezTo>
                <a:cubicBezTo>
                  <a:pt x="552" y="408"/>
                  <a:pt x="648" y="432"/>
                  <a:pt x="720" y="384"/>
                </a:cubicBezTo>
                <a:cubicBezTo>
                  <a:pt x="792" y="336"/>
                  <a:pt x="800" y="152"/>
                  <a:pt x="864" y="96"/>
                </a:cubicBezTo>
                <a:cubicBezTo>
                  <a:pt x="928" y="40"/>
                  <a:pt x="1032" y="0"/>
                  <a:pt x="1104" y="48"/>
                </a:cubicBezTo>
                <a:cubicBezTo>
                  <a:pt x="1176" y="96"/>
                  <a:pt x="1208" y="336"/>
                  <a:pt x="1296" y="384"/>
                </a:cubicBezTo>
                <a:cubicBezTo>
                  <a:pt x="1384" y="432"/>
                  <a:pt x="1528" y="392"/>
                  <a:pt x="1632" y="336"/>
                </a:cubicBezTo>
                <a:cubicBezTo>
                  <a:pt x="1736" y="280"/>
                  <a:pt x="1828" y="164"/>
                  <a:pt x="192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pache using tcpcrypt performs well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9760" y="5645160"/>
            <a:ext cx="84898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Hardware: 8-core, 2.66GHz Xeon (2008-era). 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marL="164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Software: Linux kernel implementation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30360" y="1905120"/>
            <a:ext cx="788184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uthentication over Tcpcrypt is fast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65240" y="2133720"/>
            <a:ext cx="881352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9760" y="2133360"/>
            <a:ext cx="8489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What would it take to encrypt all the traffic on the Internet, by default, all the time?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y tcpcrypt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6880" y="1752480"/>
            <a:ext cx="849024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Want to protect TCP packet headers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a6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Defend against insertion attacks, etc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a6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But still traverse NATs, firewalls that rewrite sequence numbers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66096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Want on-by-default encryption for existing unmodified apps to protect against passive easesdropping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a6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Fast enough to enable on all servers by default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a6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Won’t break - downgrades to TCP if necessary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6609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Easy incremental deployment story due to negotiation in TCP handshake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y tcpcrypt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6880" y="1676160"/>
            <a:ext cx="849024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Want to enable and encourage appropriate authentication above tcpcrypt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a6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Cert-based, mutual auth, PAKE, etc, as appropriate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a6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Eg. can support connectbyname() in a shim library, and leverage DANE for auth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Separation of layering provides flexibility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a6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Eg. allows corporate firewall to do encryption and app to still do authentication, so corporate IDS still works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tcpcryptd on firewall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RPC to get session ID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observation on layering of cryp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cryption</a:t>
            </a: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 is a generic function.  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1" marL="743040" indent="-285840">
              <a:spcBef>
                <a:spcPts val="700"/>
              </a:spcBef>
              <a:buClr>
                <a:srgbClr val="000a6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Independent of the semantics of the application.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Integrity Protection</a:t>
            </a: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 is a generic function.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1" marL="743040" indent="-285840">
              <a:spcBef>
                <a:spcPts val="700"/>
              </a:spcBef>
              <a:buClr>
                <a:srgbClr val="000a6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What arrives should be what is sent.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uthentication</a:t>
            </a: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 is strongly application-specific.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1" marL="743040" indent="-285840">
              <a:spcBef>
                <a:spcPts val="700"/>
              </a:spcBef>
              <a:buClr>
                <a:srgbClr val="000a6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Depends on the semantics of the application.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9760" y="2286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ummary: </a:t>
            </a:r>
            <a:r>
              <a:rPr b="0" i="1" lang="en-US" sz="4400" spc="-1" strike="noStrike">
                <a:solidFill>
                  <a:srgbClr val="808080"/>
                </a:solidFill>
                <a:latin typeface="Gill Sans"/>
              </a:rPr>
              <a:t>tcpcrypt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 can enable ubiquitous transport level encryption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High server performance makes encryption a realistic default. 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43080" indent="-343080"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Applications can leverage Tcpcrypt to maximize communication security in every setting.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43080" indent="-343080"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Incrementally deployable, compatible with legacy apps, TCP and NATs.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tcpcrypt.org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pare slid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nection setup latency is slightly increased due to client-side RSA decrypt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362320" y="1600200"/>
          <a:ext cx="4724280" cy="4772160"/>
        </p:xfrm>
        <a:graphic>
          <a:graphicData uri="http://schemas.openxmlformats.org/drawingml/2006/table">
            <a:tbl>
              <a:tblPr/>
              <a:tblGrid>
                <a:gridCol w="2797200"/>
                <a:gridCol w="192708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rotoc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LAN connect time (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TC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Gill Sans Light"/>
                        </a:rPr>
                        <a:t>tcpcrypt cach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Gill Sans Light"/>
                        </a:rPr>
                        <a:t>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40000"/>
                          </a:solidFill>
                          <a:latin typeface="Gill Sans Light"/>
                        </a:rPr>
                        <a:t>tcpcrypt not cach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40000"/>
                          </a:solidFill>
                          <a:latin typeface="Gill Sans Light"/>
                        </a:rPr>
                        <a:t>11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Gill Sans Light"/>
                        </a:rPr>
                        <a:t>SSL cach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Gill Sans Light"/>
                        </a:rPr>
                        <a:t>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40000"/>
                          </a:solidFill>
                          <a:latin typeface="Gill Sans Light"/>
                        </a:rPr>
                        <a:t>SSL not cach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40000"/>
                          </a:solidFill>
                          <a:latin typeface="Gill Sans Light"/>
                        </a:rPr>
                        <a:t>1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tcpcrypt batch 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1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tcpcrypt CMA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11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tcpcrypt PA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15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1016172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st authentication can be done very cheaply, once the Tcpcrypt session is established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362320" y="1600200"/>
          <a:ext cx="4724280" cy="4772160"/>
        </p:xfrm>
        <a:graphic>
          <a:graphicData uri="http://schemas.openxmlformats.org/drawingml/2006/table">
            <a:tbl>
              <a:tblPr/>
              <a:tblGrid>
                <a:gridCol w="2797200"/>
                <a:gridCol w="192708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rotoc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LAN connect time (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TC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tcpcrypt cach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40000"/>
                          </a:solidFill>
                          <a:latin typeface="Gill Sans Light"/>
                        </a:rPr>
                        <a:t>tcpcrypt not cach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40000"/>
                          </a:solidFill>
                          <a:latin typeface="Gill Sans Light"/>
                        </a:rPr>
                        <a:t>11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SSL cach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SSL not cach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1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Gill Sans Light"/>
                        </a:rPr>
                        <a:t>tcpcrypt batch 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Gill Sans Light"/>
                        </a:rPr>
                        <a:t>1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Gill Sans Light"/>
                        </a:rPr>
                        <a:t>tcpcrypt CMA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Gill Sans Light"/>
                        </a:rPr>
                        <a:t>11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Gill Sans Light"/>
                        </a:rPr>
                        <a:t>tcpcrypt PA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Gill Sans Light"/>
                        </a:rPr>
                        <a:t>15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1016172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tch signing does not add additional latenc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0" t="9205" r="0" b="0"/>
          <a:stretch/>
        </p:blipFill>
        <p:spPr>
          <a:xfrm>
            <a:off x="263520" y="1905120"/>
            <a:ext cx="8615520" cy="3746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ata encryption is very fast on today’s CPU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09480" y="2147760"/>
            <a:ext cx="774072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observation on layering of cryp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bservation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Encryption</a:t>
            </a: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grity Protection</a:t>
            </a: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 are lower-layer functions than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uthentication</a:t>
            </a: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ncryption</a:t>
            </a: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 and Integrity Protection are natura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Light"/>
              </a:rPr>
              <a:t>transport-layer</a:t>
            </a: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 functions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a6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Cannot integrity-protect transport protocol from above it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a6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Different transport sessions have different security requirements so cannot share encryption keys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uthentication</a:t>
            </a: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Light"/>
              </a:rPr>
              <a:t>application-layer</a:t>
            </a: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9760" y="198108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808080"/>
                </a:solidFill>
                <a:latin typeface="Gill Sans"/>
              </a:rPr>
              <a:t>Tcpcrypt</a:t>
            </a:r>
            <a:endParaRPr b="0" lang="en-US" sz="1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cpcrypt uses TCP options to provide deployable transport-level encryption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9760" y="2666880"/>
            <a:ext cx="8489880" cy="32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High server performance - push complexity to clients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25800" indent="-325800"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Allow applications to authenticate endpoints.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25800" indent="-325800"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Backwards compatibility:  all TCP apps, all networks, all authentication settings.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cpcrypt over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Extend TCP in a compatible way us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Light"/>
              </a:rPr>
              <a:t>TCP options</a:t>
            </a: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22200" indent="-322200"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Light"/>
              </a:rPr>
              <a:t>Existing applications</a:t>
            </a: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 use standard socket API, just like regular TCP. 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1" marL="698400" indent="-268560">
              <a:spcBef>
                <a:spcPts val="700"/>
              </a:spcBef>
              <a:buClr>
                <a:srgbClr val="000a6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Encrypt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Light"/>
              </a:rPr>
              <a:t>automatically enabled</a:t>
            </a: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 if both end points support Tcpcrypt. 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marL="322200" indent="-322200">
              <a:spcBef>
                <a:spcPts val="700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Light"/>
              </a:rPr>
              <a:t>Extended applications</a:t>
            </a: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 can use a new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sockopt()</a:t>
            </a: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 for authentication.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ush expensive operations to the clien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2760" y="1447560"/>
            <a:ext cx="439416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Public-key operations can be quite assymetric.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Light"/>
              </a:rPr>
              <a:t>RSA-exp3-2048 performance:</a:t>
            </a:r>
            <a:endParaRPr b="0" lang="en-US" sz="2800" spc="-1" strike="noStrike">
              <a:solidFill>
                <a:srgbClr val="000000"/>
              </a:solidFill>
              <a:latin typeface="Gill Sans Light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029200" y="1517760"/>
          <a:ext cx="3276720" cy="1366560"/>
        </p:xfrm>
        <a:graphic>
          <a:graphicData uri="http://schemas.openxmlformats.org/drawingml/2006/table">
            <a:tbl>
              <a:tblPr/>
              <a:tblGrid>
                <a:gridCol w="1638360"/>
                <a:gridCol w="1638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Ope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Lat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Encry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0.26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Decry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10.42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4" name=""/>
          <p:cNvGrpSpPr/>
          <p:nvPr/>
        </p:nvGrpSpPr>
        <p:grpSpPr>
          <a:xfrm>
            <a:off x="41040" y="3200400"/>
            <a:ext cx="9128880" cy="2671560"/>
            <a:chOff x="41040" y="3200400"/>
            <a:chExt cx="9128880" cy="2671560"/>
          </a:xfrm>
        </p:grpSpPr>
        <p:sp>
          <p:nvSpPr>
            <p:cNvPr id="105" name=""/>
            <p:cNvSpPr/>
            <p:nvPr/>
          </p:nvSpPr>
          <p:spPr>
            <a:xfrm>
              <a:off x="304920" y="3205080"/>
              <a:ext cx="8610480" cy="2666880"/>
            </a:xfrm>
            <a:prstGeom prst="rect">
              <a:avLst/>
            </a:prstGeom>
            <a:solidFill>
              <a:srgbClr val="ece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040" y="3200400"/>
              <a:ext cx="446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</a:rPr>
                <a:t>Perform decrypt on the clien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7680" y="3828960"/>
              <a:ext cx="359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Light"/>
                </a:rPr>
                <a:t>Generate emphemeral key pai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26960" y="4591080"/>
              <a:ext cx="33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Light"/>
                </a:rPr>
                <a:t>Generate random master 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97600">
              <a:off x="4020120" y="3966840"/>
              <a:ext cx="131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ublic ke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1325800">
              <a:off x="3450600" y="4653000"/>
              <a:ext cx="2485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c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pub_k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master_ke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24080" y="41194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72200" y="41194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24080" y="4271760"/>
              <a:ext cx="3048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123720" y="4957560"/>
              <a:ext cx="3048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38000" y="5262480"/>
              <a:ext cx="95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Light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34000" y="526248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Light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33520" y="838080"/>
            <a:ext cx="5029200" cy="2895840"/>
          </a:xfrm>
          <a:prstGeom prst="wedgeRoundRectCallout">
            <a:avLst>
              <a:gd name="adj1" fmla="val -1199"/>
              <a:gd name="adj2" fmla="val 7527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itial handsh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No authent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Client decry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Lets servers accept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36x faster than S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9760" y="304920"/>
            <a:ext cx="8489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fter initial handshake, tcpcrypt’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Session I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provides the hook to link application authentication to the session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9760" y="2057040"/>
            <a:ext cx="8489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tsockopt()</a:t>
            </a: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 returns non-secret Session ID value. 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marL="343080" indent="-343080">
              <a:spcBef>
                <a:spcPts val="601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Unique for every connection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  <a:p>
            <a:pPr marL="343080" indent="-343080">
              <a:spcBef>
                <a:spcPts val="601"/>
              </a:spcBef>
              <a:buClr>
                <a:srgbClr val="000a6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If same on both ends, guaranteed there’s no man-in-the-middle.</a:t>
            </a:r>
            <a:endParaRPr b="0" lang="en-US" sz="2400" spc="-1" strike="noStrike">
              <a:solidFill>
                <a:srgbClr val="000000"/>
              </a:solidFill>
              <a:latin typeface="Gill Sans Ligh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713736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k Handley</cp:lastModifiedBy>
  <dcterms:modified xsi:type="dcterms:W3CDTF">2011-07-26T10:07:05Z</dcterms:modified>
  <cp:revision>11</cp:revision>
  <dc:subject/>
  <dc:title>The case for ubiquitous transport level encryption </dc:title>
</cp:coreProperties>
</file>