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9413-15A3-43CD-AD29-EC2B0D2D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05E3-9E21-4617-A2EA-1503C34F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5AC34-6DC8-48C3-AA1C-EC471AAD1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BB091-511D-4D40-B814-F83E22607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2351F-EBD8-4814-846D-9DD3ABCF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DEB5B-1D25-49D2-BE3E-FF86D2D6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A50B-2D2E-4FDF-B6A2-8BAED142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E7E72-977F-4BCA-A6D4-06CAE74B7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6147-AFB0-4E3E-A892-85359A5A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3348-5BE1-493C-BC92-DFAD24BC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433D-34BD-441C-B3EA-F9E5EDC3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D828-0D1A-458E-97B9-DE4E36AC1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FE5-B102-4A2E-BF7A-F7732E275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837720"/>
            <a:ext cx="762012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ort and Services Area</a:t>
            </a:r>
            <a:br>
              <a:rPr sz="4000"/>
            </a:br>
            <a:r>
              <a:rPr b="1" lang="en-US" sz="4000" spc="-1" strike="noStrike">
                <a:solidFill>
                  <a:srgbClr val="000000"/>
                </a:solidFill>
                <a:latin typeface="Arial"/>
              </a:rPr>
              <a:t>Open Meeting</a:t>
            </a:r>
            <a:br>
              <a:rPr sz="4000"/>
            </a:br>
            <a:r>
              <a:rPr b="0" lang="en-US" sz="4000" spc="-1" strike="noStrike">
                <a:solidFill>
                  <a:srgbClr val="000000"/>
                </a:solidFill>
                <a:latin typeface="Arial"/>
              </a:rPr>
              <a:t>IETF-81, Quebec, Canada </a:t>
            </a:r>
            <a:br>
              <a:rPr sz="4000"/>
            </a:br>
            <a:r>
              <a:rPr b="0" lang="en-US" sz="4000" spc="-1" strike="noStrike">
                <a:solidFill>
                  <a:srgbClr val="000000"/>
                </a:solidFill>
                <a:latin typeface="Arial"/>
              </a:rPr>
              <a:t>July 28, 2011</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3886200"/>
            <a:ext cx="7924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Harrington, HuaweiSymantec</a:t>
            </a:r>
            <a:br>
              <a:rPr sz="3200"/>
            </a:br>
            <a:r>
              <a:rPr b="0" lang="en-US" sz="3200" spc="-1" strike="noStrike">
                <a:solidFill>
                  <a:srgbClr val="000000"/>
                </a:solidFill>
                <a:latin typeface="Arial"/>
              </a:rPr>
              <a:t>Wes Eddy, MTI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DED39F-9624-4089-934C-C3762CEE34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72 Deprecation of Internet Fibre Channel protocol Address Translation M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73 MIB for Internet Fibre Channel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1 Threat Analysis for TCP Extensions for Multipath Operation with Multiple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2 Architectural Guidelines for Multipath TCP Develop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B59979-81AD-4DC3-947F-49CCF5F1C2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91 Reducing TIME-WAIT State Using TCP Timestam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47 Moving Undeployed TCP Extension RFCs to Histor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48 IPPM Registry of Metrics is Obso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97 Survey of Lower-than-Best-Effort Transport Protoc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98 Computing TCP’s Retransmission Tim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11C947-8298-40EA-960A-24608533EFB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Such statements include oral statements in IETF sessions, as well as written and electronic communications</a:t>
            </a:r>
            <a:r>
              <a:rPr b="1" lang="en-US" sz="1600" spc="-1" strike="noStrike">
                <a:solidFill>
                  <a:srgbClr val="000000"/>
                </a:solidFill>
                <a:latin typeface="Arial"/>
              </a:rPr>
              <a:t> </a:t>
            </a:r>
            <a:r>
              <a:rPr b="0" lang="en-US" sz="1600" spc="-1" strike="noStrike">
                <a:solidFill>
                  <a:srgbClr val="000000"/>
                </a:solidFill>
                <a:latin typeface="Arial"/>
              </a:rPr>
              <a:t>made at any time or place, which are addressed to:</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All IETF Contributions are subject to the rules of RFC 5378 and RFC 3979 (updated by RFC 48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7C0A3EB-190A-4F0E-9773-0C89BC43C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nutes, Slides, Audio &amp; Jabber</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 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1/materials.htm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ideolab.uoregon.edu/events/iet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jabber.ietf.or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634FDF-07CB-4959-8444-B297CB8DB7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9:15 Transport Services Area Statu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ve Harrington, Wes Ed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5 – 9:55 P2P Transport Servic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 Eddy, David Bryan, Rich Woun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5 – 10:20 TCP-minion: A network-compatible substrate for new transport servic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ardhan Iyenga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0 – 11:00 TCP-cryp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Handle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 – 11:20 Migrating policies in virtual data center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 Yingjie (Yingji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638320" y="16765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73D2CFB-6A4E-4191-9043-EDB8EB271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Area </a:t>
            </a:r>
            <a:br>
              <a:rPr sz="4000"/>
            </a:br>
            <a:r>
              <a:rPr b="1" lang="en-US" sz="4000" spc="-1" strike="noStrike">
                <a:solidFill>
                  <a:srgbClr val="000000"/>
                </a:solidFill>
                <a:latin typeface="Arial"/>
              </a:rPr>
              <a:t>Working Group Action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Seventeen Working Group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DNI Appro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Distribution Network Interconnection</a:t>
            </a:r>
            <a:endParaRPr b="0" lang="en-US" sz="28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charter Appro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VWG</a:t>
            </a:r>
            <a:endParaRPr b="0" lang="en-US" sz="28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charter under Discu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S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8E706F-2EBA-415E-A2C3-B1BD1A46F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Area </a:t>
            </a:r>
            <a:br>
              <a:rPr sz="4000"/>
            </a:br>
            <a:r>
              <a:rPr b="1" lang="en-US" sz="4000" spc="-1" strike="noStrike">
                <a:solidFill>
                  <a:srgbClr val="000000"/>
                </a:solidFill>
                <a:latin typeface="Arial"/>
              </a:rPr>
              <a:t>Working Group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inding dow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CP 1 doc in RFC Q, 1 doc to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CFRAME 3 in AD Eval; 1 remaining do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BAT major doc in WGL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N 2 in AD Eval; 3 remai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7078B3-693A-4432-B6F2-7D0BA9FB1D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graphicFrame>
        <p:nvGraphicFramePr>
          <p:cNvPr id="55" name=""/>
          <p:cNvGraphicFramePr/>
          <p:nvPr/>
        </p:nvGraphicFramePr>
        <p:xfrm>
          <a:off x="457200" y="1541520"/>
          <a:ext cx="8205840" cy="4841640"/>
        </p:xfrm>
        <a:graphic>
          <a:graphicData uri="http://schemas.openxmlformats.org/presentationml/2006/ole">
            <p:oleObj r:id="rId1" spid="">
              <p:embed/>
              <p:pic>
                <p:nvPicPr>
                  <p:cNvPr id="56" name="" descr=""/>
                  <p:cNvPicPr/>
                  <p:nvPr/>
                </p:nvPicPr>
                <p:blipFill>
                  <a:blip r:embed="rId2"/>
                  <a:stretch/>
                </p:blipFill>
                <p:spPr>
                  <a:xfrm>
                    <a:off x="457200" y="1541520"/>
                    <a:ext cx="8205840" cy="4841640"/>
                  </a:xfrm>
                  <a:prstGeom prst="rect">
                    <a:avLst/>
                  </a:prstGeom>
                  <a:ln w="0">
                    <a:noFill/>
                  </a:ln>
                </p:spPr>
              </p:pic>
            </p:oleObj>
          </a:graphicData>
        </a:graphic>
      </p:graphicFrame>
      <p:sp>
        <p:nvSpPr>
          <p:cNvPr id="3" name="PlaceHolder 2"/>
          <p:cNvSpPr>
            <a:spLocks noGrp="1"/>
          </p:cNvSpPr>
          <p:nvPr>
            <p:ph type="sldNum" idx="3"/>
          </p:nvPr>
        </p:nvSpPr>
        <p:spPr/>
        <p:txBody>
          <a:bodyPr/>
          <a:p>
            <a:fld id="{A57803C3-823C-4133-AF8F-E77303D87F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s Approv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A Procedures for Service Name and Port Number Registry (tsvw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er RTT Estimate Option for DCCP (dcc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TCP’s Retransmission Timer * (tcp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torQ Forward Error Correction (rm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TCP throughput testing (ipp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of Lower-than-Best-Effort Transport Protocols * (ledb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E4296B-C896-41AE-B451-8566447CA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4 Framework for IPv4/IPv6 Tran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5 IP/ICMP Translation Algorith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6 Stateful NAT6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7 DNS6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56 TURN Extension for IPv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4D39ED-E603-48EB-BED2-83CC56E8B0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20:25:29Z</dcterms:created>
  <dc:creator>david</dc:creator>
  <dc:description/>
  <dc:language>en-US</dc:language>
  <cp:lastModifiedBy>dbh</cp:lastModifiedBy>
  <dcterms:modified xsi:type="dcterms:W3CDTF">2011-07-13T02:45:3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