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01F93-0387-48C4-8032-791FDB64F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BE56-8700-450B-AC0B-3E95DD393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F5068-B35A-421A-97F1-3FFEB6D11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CB3FB-F8DF-422D-8AF9-6F9F69EE8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0CC4-B69A-42AC-A822-0278A0D0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216F5-BE9A-4A9E-87FA-5D6CFE5F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DCA3-7C0C-4D1D-A8F8-D7490483C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53A89-8301-43C5-8A4E-78C2EAC3D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D988E-3D3F-4AB4-81AB-47A945020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A04F5-5765-4E02-9CA0-1086B43DA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186A4-6C69-4545-B4B4-E2766C663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7BEF5-595E-48D6-943A-994301A49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F3B2-6BA6-4B1C-9AEE-1DE068A7E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837720"/>
            <a:ext cx="762012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ort and Services Area</a:t>
            </a:r>
            <a:br>
              <a:rPr sz="4000"/>
            </a:br>
            <a:r>
              <a:rPr b="1" lang="en-US" sz="4000" spc="-1" strike="noStrike">
                <a:solidFill>
                  <a:srgbClr val="000000"/>
                </a:solidFill>
                <a:latin typeface="Arial"/>
              </a:rPr>
              <a:t>Open Meeting</a:t>
            </a:r>
            <a:br>
              <a:rPr sz="4000"/>
            </a:br>
            <a:r>
              <a:rPr b="0" lang="en-US" sz="4000" spc="-1" strike="noStrike">
                <a:solidFill>
                  <a:srgbClr val="000000"/>
                </a:solidFill>
                <a:latin typeface="Arial"/>
              </a:rPr>
              <a:t>IETF-81, Quebec, Canada </a:t>
            </a:r>
            <a:br>
              <a:rPr sz="4000"/>
            </a:br>
            <a:r>
              <a:rPr b="0" lang="en-US" sz="4000" spc="-1" strike="noStrike">
                <a:solidFill>
                  <a:srgbClr val="000000"/>
                </a:solidFill>
                <a:latin typeface="Arial"/>
              </a:rPr>
              <a:t>July 28, 2011</a:t>
            </a: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3886200"/>
            <a:ext cx="7924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Harrington, HuaweiSymantec</a:t>
            </a:r>
            <a:br>
              <a:rPr sz="3200"/>
            </a:br>
            <a:r>
              <a:rPr b="0" lang="en-US" sz="3200" spc="-1" strike="noStrike">
                <a:solidFill>
                  <a:srgbClr val="000000"/>
                </a:solidFill>
                <a:latin typeface="Arial"/>
              </a:rPr>
              <a:t>Wes Eddy, MTI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AF6D70-D6D6-4DFE-8FFE-60C889D957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s 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72 Deprecation of Internet Fibre Channel protocol Address Translation M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73 MIB for Internet Fibre Channel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81 Threat Analysis for TCP Extensions for Multipath Operation with Multiple Addr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82 Architectural Guidelines for Multipath TCP Develop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16C632-0D1E-44F8-A2FA-BBE0D1688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s 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91 Reducing TIME-WAIT State Using TCP Timestam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47 Moving Undeployed TCP Extension RFCs to Histor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48 IPPM Registry of Metrics is Obsole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97 Survey of Lower-than-Best-Effort Transport Protoc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98 Computing TCP’s Retransmission Tim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46B8D6-8DBE-42EB-A585-C341D027C7E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Such statements include oral statements in IETF sessions, as well as written and electronic communications</a:t>
            </a:r>
            <a:r>
              <a:rPr b="1" lang="en-US" sz="1600" spc="-1" strike="noStrike">
                <a:solidFill>
                  <a:srgbClr val="000000"/>
                </a:solidFill>
                <a:latin typeface="Arial"/>
              </a:rPr>
              <a:t> </a:t>
            </a:r>
            <a:r>
              <a:rPr b="0" lang="en-US" sz="1600" spc="-1" strike="noStrike">
                <a:solidFill>
                  <a:srgbClr val="000000"/>
                </a:solidFill>
                <a:latin typeface="Arial"/>
              </a:rPr>
              <a:t>made at any time or place, which are addressed to:</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TF plenary sess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working group or portion thereo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SG or any member thereof on behalf of the IES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B or any member thereof on behalf of the IAB,</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mailing list, including the IETF list itself, any working group or design team list, or any other list functioning under IETF ausp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C Editor or the Internet-Drafts fun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All IETF Contributions are subject to the rules of RFC 5378 and RFC 3979 (updated by RFC 48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BF38AA3-4BE3-4327-9966-5149A23B82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nutes, Slides, Audio &amp; Jabber</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 t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datatracker.ietf.org/meeting/81/materials.htm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ideolab.uoregon.edu/events/ietf/</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jabber.ietf.or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967602-083B-4186-8551-8FE6BD5D6B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 9:15 Transport Services Area Statu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ve Harrington, Wes Ed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5 – 9:55 P2P Transport Servic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 Eddy, David Bryan, Rich Woun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5 – 10:20 TCP-minion: A network-compatible substrate for new transport servic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ardhan Iyenga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0 – 11:00 TCP-cryp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Handley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 – 11:20 Migrating policies in virtual data center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 Yingjie (Yingji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638320" y="16765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D7C65E8B-4C18-4B36-87B0-3003206CEB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Area </a:t>
            </a:r>
            <a:br>
              <a:rPr sz="4000"/>
            </a:br>
            <a:r>
              <a:rPr b="1" lang="en-US" sz="4000" spc="-1" strike="noStrike">
                <a:solidFill>
                  <a:srgbClr val="000000"/>
                </a:solidFill>
                <a:latin typeface="Arial"/>
              </a:rPr>
              <a:t>Working Group Action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Seventeen Working Group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DNI Appro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Distribution Network Interconnection</a:t>
            </a:r>
            <a:endParaRPr b="0" lang="en-US" sz="28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e-charter Appro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VWG</a:t>
            </a:r>
            <a:endParaRPr b="0" lang="en-US" sz="28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e-charter under Discu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S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F462936-0833-4367-99FB-B9E559D6CB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Area </a:t>
            </a:r>
            <a:br>
              <a:rPr sz="4000"/>
            </a:br>
            <a:r>
              <a:rPr b="1" lang="en-US" sz="4000" spc="-1" strike="noStrike">
                <a:solidFill>
                  <a:srgbClr val="000000"/>
                </a:solidFill>
                <a:latin typeface="Arial"/>
              </a:rPr>
              <a:t>Working Group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Winding dow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CP 1 doc in RFC Q, 1 doc to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CFRAME 3 in AD Eval; 1 remaining do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BAT major doc in WGL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N 2 in AD Eval; 3 remain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C0E7A2-F7C0-445D-991F-0E50E942FE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graphicFrame>
        <p:nvGraphicFramePr>
          <p:cNvPr id="55" name=""/>
          <p:cNvGraphicFramePr/>
          <p:nvPr/>
        </p:nvGraphicFramePr>
        <p:xfrm>
          <a:off x="457200" y="1541520"/>
          <a:ext cx="8205840" cy="4841640"/>
        </p:xfrm>
        <a:graphic>
          <a:graphicData uri="http://schemas.openxmlformats.org/presentationml/2006/ole">
            <p:oleObj r:id="rId1" spid="">
              <p:embed/>
              <p:pic>
                <p:nvPicPr>
                  <p:cNvPr id="56" name="" descr=""/>
                  <p:cNvPicPr/>
                  <p:nvPr/>
                </p:nvPicPr>
                <p:blipFill>
                  <a:blip r:embed="rId2"/>
                  <a:stretch/>
                </p:blipFill>
                <p:spPr>
                  <a:xfrm>
                    <a:off x="457200" y="1541520"/>
                    <a:ext cx="8205840" cy="4841640"/>
                  </a:xfrm>
                  <a:prstGeom prst="rect">
                    <a:avLst/>
                  </a:prstGeom>
                  <a:ln w="0">
                    <a:noFill/>
                  </a:ln>
                </p:spPr>
              </p:pic>
            </p:oleObj>
          </a:graphicData>
        </a:graphic>
      </p:graphicFrame>
      <p:sp>
        <p:nvSpPr>
          <p:cNvPr id="3" name="PlaceHolder 2"/>
          <p:cNvSpPr>
            <a:spLocks noGrp="1"/>
          </p:cNvSpPr>
          <p:nvPr>
            <p:ph type="sldNum" idx="3"/>
          </p:nvPr>
        </p:nvSpPr>
        <p:spPr/>
        <p:txBody>
          <a:bodyPr/>
          <a:p>
            <a:fld id="{BABF90B5-5671-421D-ACD7-78748E601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s Approv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NA Procedures for Service Name and Port Number Registry (tsvw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er RTT Estimate Option for DCCP (dcc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TCP’s Retransmission Timer * (tcp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torQ Forward Error Correction (rm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TCP throughput testing (ipp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of Lower-than-Best-Effort Transport Protocols * (ledb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B0A40E-29DD-4902-A22E-9A1D77768F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Area - Docu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s 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4 Framework for IPv4/IPv6 Tran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5 IP/ICMP Translation Algorith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6 Stateful NAT6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47 DNS6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56 TURN Extension for IPv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E86BF4-B242-4C3A-9818-751B429284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20:25:29Z</dcterms:created>
  <dc:creator>david</dc:creator>
  <dc:description/>
  <dc:language>en-US</dc:language>
  <cp:lastModifiedBy>dbh</cp:lastModifiedBy>
  <dcterms:modified xsi:type="dcterms:W3CDTF">2011-07-13T02:45:3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