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4693-4CB9-41D5-8509-45E59E6E9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3765-FBF0-4A24-80BF-68FEA6679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1B1B-EB9F-4C72-A673-539C2AE1E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FFF3-F861-4E83-A9E8-CF1571EE3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VP Sec Group Key – SecDir: It has a LOT of problems – need to work with the reviewer to resolve these – James is Shepherd</a:t>
            </a: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3354-22C1-4AC8-8A1B-909EC6743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C86B-25F9-483B-AB5F-9C9E28368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4A886-FE76-4BC7-B5F2-5705B088F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34BC4-0E90-4F8B-9E7A-CFC58CDAB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0EF6E-54B7-4CAB-9014-0A1C9538B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CDEF4-036F-42FA-9447-9695A35E6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2065-A876-4217-BC80-57865F45B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9337-3613-4FD0-818E-9FB6C0136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EADC-21B4-4463-82ED-465D496C9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4A241-90D4-4BF8-8626-9C543592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7FBE-EF4C-4BC1-B050-10B241621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6FA4-F7DF-4DAF-850D-520E646F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9153-00B7-495B-97B8-4B28BBAB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E139-7C56-47CC-A778-9E6598621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05D8-5D8D-43C3-A5B1-9B9B2C2AE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a:t>
            </a:r>
            <a:br>
              <a:rPr sz="4400"/>
            </a:br>
            <a:r>
              <a:rPr b="0" lang="en-US" sz="3200" spc="-1" strike="noStrike">
                <a:solidFill>
                  <a:srgbClr val="000000"/>
                </a:solidFill>
                <a:latin typeface="Arial"/>
              </a:rPr>
              <a:t>IETF-81 (Quebec Cit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Pol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rry Fairhu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1" name="Rectangle 7"/>
          <p:cNvSpPr/>
          <p:nvPr/>
        </p:nvSpPr>
        <p:spPr>
          <a:xfrm>
            <a:off x="152280" y="1219320"/>
            <a:ext cx="8839440" cy="533376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ny working group or design team list, or any other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acknowledges that written, audio and video records of meetings may be made and may be available to the public.</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N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nother Note Tak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scribe for Jabber ses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SVWG Auth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add “-tsvwg-” to any ID sub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s Agenda Bash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WEL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 Status and Accomplish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lestones Revi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n RSVP Directorate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t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7" name="PlaceHolder 2"/>
          <p:cNvSpPr>
            <a:spLocks noGrp="1"/>
          </p:cNvSpPr>
          <p:nvPr>
            <p:ph/>
          </p:nvPr>
        </p:nvSpPr>
        <p:spPr>
          <a:xfrm>
            <a:off x="228600" y="1495080"/>
            <a:ext cx="8763120" cy="5210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RFCs published since IETF 80:</a:t>
            </a:r>
            <a:endParaRPr b="0" lang="en-US" sz="2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s in RFC Editor Queue now:</a:t>
            </a:r>
            <a:endParaRPr b="0" lang="en-US" sz="2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VP Extensions for Emergency Services (MISRE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A Procedures for the Management of the Transport Protocol Port Number and Service Name Registry (AUTH-48)</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in IESG processing</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VP Security Group Ke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9" name="PlaceHolder 2"/>
          <p:cNvSpPr>
            <a:spLocks noGrp="1"/>
          </p:cNvSpPr>
          <p:nvPr>
            <p:ph/>
          </p:nvPr>
        </p:nvSpPr>
        <p:spPr>
          <a:xfrm>
            <a:off x="228600" y="1495080"/>
            <a:ext cx="8763120" cy="505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past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ockets</a:t>
            </a:r>
            <a:endParaRPr b="0" lang="en-US" sz="20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in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tream Reconfiguration</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almost ready for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ion of ICMP Source Quench messag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G I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 and Packet Congestion Notific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Network Address Translation Suppor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Serv MULTI_TSPE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Encapsulation in UD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going to call for WG adop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mmandations for Transport Port Us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2"/>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534520" cy="4876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irs Agenda Bash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WELL                                                                           (15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cument Status and Accomplishment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lestones Review</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SG Feedbac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cability of Keying Methods for RSVP Security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LC Feedbac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Socket AP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1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Reset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 Draft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grated Services Extension to Allow Multiple TSPECs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and Packet Congestion Notification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Quench                                                                       (10 min)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Network Address Translation Support </a:t>
            </a:r>
            <a:r>
              <a:rPr b="0" lang="en-US" sz="1600" spc="-1" strike="noStrike">
                <a:solidFill>
                  <a:srgbClr val="000000"/>
                </a:solidFill>
                <a:latin typeface="Arial"/>
              </a:rPr>
              <a:t>	</a:t>
            </a:r>
            <a:r>
              <a:rPr b="0" lang="en-US" sz="1600" spc="-1" strike="noStrike">
                <a:solidFill>
                  <a:srgbClr val="000000"/>
                </a:solidFill>
                <a:latin typeface="Arial"/>
              </a:rPr>
              <a:t>                      (10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TP UDP encapsulation                                                       (15 mi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65" name="Rectangle 2"/>
          <p:cNvSpPr/>
          <p:nvPr/>
        </p:nvSpPr>
        <p:spPr>
          <a:xfrm>
            <a:off x="45720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WG Draf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ratoga Transport Protocol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ecommandations for Transport Port Us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TP Failov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not presenting)</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TP Multipa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CK IMMEDIATELY for SCTP                                           (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en-US" sz="2000" spc="-1" strike="noStrike">
                <a:solidFill>
                  <a:srgbClr val="000000"/>
                </a:solidFill>
                <a:latin typeface="Arial"/>
              </a:rPr>
              <a:t>Generic aggregation RSVP over PCN                                (15 min)</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SVP Application ID Profiles for Real-Time Classification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DP Traffic Class Attribute                                        (10 mi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2:47:32Z</dcterms:created>
  <dc:creator/>
  <dc:description/>
  <dc:language>en-US</dc:language>
  <cp:lastModifiedBy>James Polk</cp:lastModifiedBy>
  <cp:lastPrinted>2010-03-22T14:31:47Z</cp:lastPrinted>
  <dcterms:modified xsi:type="dcterms:W3CDTF">2011-07-29T04:55:06Z</dcterms:modified>
  <cp:revision>1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