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113-BB21-4292-B2C7-23531F10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80C-36E5-456C-B682-E4DA6F9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5D5-50D0-4286-8CB0-3C771E7A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F56-158B-4B2C-89D6-B58725E0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255-FF93-4D96-A5DE-E5DB0C7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E56-B855-464D-AF83-637CA81A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4FF-A667-478D-9FAF-228E5460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45B-C21E-476E-8A34-2C62AC3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A22-BBBE-4638-B338-EF1AC314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7E0-8064-47DE-98F2-7A29F3CF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7E1-A855-4A84-9779-C4D31DA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B6C-381A-4E7F-9E38-6BE08A1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38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320" y="6384960"/>
            <a:ext cx="6705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EE15-9AC3-4A9B-A090-9B2A7A58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o RSVP App-ID and Traffic Class pr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polk-tsvwg-rsvp-app-id-vv-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polk-mmusic-traffic-class-for-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July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P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ha Dhes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Draft is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ification attribute of session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CP marking (individual or in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pool allocations (per traffic type or per ma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resource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specific types of traffic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with labels created by RFC 45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 are now proposing new labels an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not just RTP, but which type of vide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VP App-ID Object defined in RFC 28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VWG ID defines pro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 hummed 100% for this, but not yet an official WG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9EF-A302-4849-9097-BF7E7A4470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changed in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framework of traffic label,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d (human readable) category (based on characteristics) with applic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optional application ‘adjectives’ to further describe traff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pt the flag for whether traffic is CAC admitt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not understood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49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57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59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A25-5304-41DF-8D83-DBD7F85E3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Attribute Format/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component now breaks from RFC 45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y” for audio, and “multimedia-conferencing” fo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al” does most interactive 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-streaming” can be buffered (a 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” (no longer “Broadcast-video”) is not buffered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omponent defines (hey)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Adjective components further differentiate individu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nd proprietary delimiter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66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74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76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D84-0225-48B7-9008-C4DF01BE7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781680" y="1600200"/>
            <a:ext cx="213372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441936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600200"/>
            <a:ext cx="2210040" cy="304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Component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Confer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-Time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-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(conference) chat/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-desktop (interac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-desk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(e.g., NORAD missil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600200"/>
            <a:ext cx="2133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d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me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time-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 (i.e., combined str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theater quality Netflix mov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YouTu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-events (though not the buffered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0A1-73CA-4632-B2F1-5BF2DD58A4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ssue: label now defined, but do folks agree with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help to reach consensus within RAI/M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Area doesn’t like specific guidance of series of strings put together defining a single DSCP for everyone to use (i.e., “a servi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 RAI think the opposite (is anyone surpri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provide a default that can be overridden within any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7B8-AE19-44BB-84F6-28793F230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this was received in M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m I bleeding too much righ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tsvwg-rsvp-app-id-vv-profiles &amp; 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733-9879-406D-B1F1-DD76E3CE2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Polk</cp:lastModifiedBy>
  <dcterms:modified xsi:type="dcterms:W3CDTF">2011-07-29T05:29:26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