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60A6-4FC8-4BE7-8763-F41BEBFD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B3F7-0F71-48D7-8444-3B1CA14B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46B-A0EC-4322-AAA0-88CA75F6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BE5A-03AE-49BA-8704-88884864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047E-E672-4DAE-AA62-F6217458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137-4B4B-4A8D-BAA5-DB724E85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1F9-C894-4424-B951-E998618B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6161-EB02-43B1-9793-C5BE1336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AA9D-B0CB-4BAA-BA61-0C59796F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E86-5B2B-4502-83AD-4A0480E3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394-E5EB-492E-8029-D04E2916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7EB-1C11-409F-BFD4-3494B71C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38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320" y="6384960"/>
            <a:ext cx="6705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84B4-09BA-4CB6-AB89-F182DE5E2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012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o RSVP App-ID and Traffic Class pre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polk-tsvwg-rsvp-app-id-vv-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polk-mmusic-traffic-class-for-s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 July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P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ha Dhesi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is Draft is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Classification attribute of session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CP marking (individual or in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W pool allocations (per traffic type or per ma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resource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specific types of traffic acros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with labels created by RFC 45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t are now proposing new labels and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not just RTP, but which type of vide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VP App-ID Object defined in RFC 28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VWG ID defines pro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G hummed 100% for this, but not yet an official WG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tsvwg-rsvp-app-id-vv-profiles &amp; 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D61-3E86-4A0D-93A8-3D4F1A0935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changed in -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framework of traffic label, n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ed (human readable) category (based on characteristics) with applicatio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for optional application ‘adjectives’ to further describe traffic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pt the flag for whether traffic is CAC admitted 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s not understood ar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9600" y="5533920"/>
            <a:ext cx="76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=trafficclass Category.application.adjective(s)._foo._bar.ad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120760" y="5065560"/>
            <a:ext cx="5118120" cy="497160"/>
            <a:chOff x="2120760" y="5065560"/>
            <a:chExt cx="5118120" cy="497160"/>
          </a:xfrm>
        </p:grpSpPr>
        <p:sp>
          <p:nvSpPr>
            <p:cNvPr id="49" name=""/>
            <p:cNvSpPr/>
            <p:nvPr/>
          </p:nvSpPr>
          <p:spPr>
            <a:xfrm>
              <a:off x="2120760" y="506556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limi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5257800"/>
              <a:ext cx="40384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0532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0572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3888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356640" y="5881680"/>
            <a:ext cx="3577680" cy="444240"/>
            <a:chOff x="3356640" y="5881680"/>
            <a:chExt cx="3577680" cy="444240"/>
          </a:xfrm>
        </p:grpSpPr>
        <p:sp>
          <p:nvSpPr>
            <p:cNvPr id="57" name=""/>
            <p:cNvSpPr/>
            <p:nvPr/>
          </p:nvSpPr>
          <p:spPr>
            <a:xfrm>
              <a:off x="3356640" y="5957640"/>
              <a:ext cx="222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roprietary delimi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62720" y="5881680"/>
              <a:ext cx="1371600" cy="304560"/>
              <a:chOff x="5562720" y="5881680"/>
              <a:chExt cx="1371600" cy="304560"/>
            </a:xfrm>
          </p:grpSpPr>
          <p:sp>
            <p:nvSpPr>
              <p:cNvPr id="59" name=""/>
              <p:cNvSpPr/>
              <p:nvPr/>
            </p:nvSpPr>
            <p:spPr>
              <a:xfrm>
                <a:off x="5562720" y="6186240"/>
                <a:ext cx="1371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6934320" y="58816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6248520" y="58816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tsvwg-rsvp-app-id-vv-profiles &amp; 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1B8-CB5A-44B1-B5B1-6E03E403BA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Attribute Format/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 component now breaks from RFC 45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ny” for audio, and “multimedia-conferencing” fo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ational” does most interactive 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media-streaming” can be buffered (a l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” (no longer “Broadcast-video”) is not buffered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component defines (hey) th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Adjective components further differentiate individual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and proprietary delimiter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00" y="5533920"/>
            <a:ext cx="76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=trafficclass Category.application.adjective(s)._foo._bar.ad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120760" y="5065560"/>
            <a:ext cx="5118120" cy="497160"/>
            <a:chOff x="2120760" y="5065560"/>
            <a:chExt cx="5118120" cy="497160"/>
          </a:xfrm>
        </p:grpSpPr>
        <p:sp>
          <p:nvSpPr>
            <p:cNvPr id="66" name=""/>
            <p:cNvSpPr/>
            <p:nvPr/>
          </p:nvSpPr>
          <p:spPr>
            <a:xfrm>
              <a:off x="2120760" y="506556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limi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00400" y="5257800"/>
              <a:ext cx="40384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0532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0060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588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0572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3888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356640" y="5881680"/>
            <a:ext cx="3577680" cy="444240"/>
            <a:chOff x="3356640" y="5881680"/>
            <a:chExt cx="3577680" cy="444240"/>
          </a:xfrm>
        </p:grpSpPr>
        <p:sp>
          <p:nvSpPr>
            <p:cNvPr id="74" name=""/>
            <p:cNvSpPr/>
            <p:nvPr/>
          </p:nvSpPr>
          <p:spPr>
            <a:xfrm>
              <a:off x="3356640" y="5957640"/>
              <a:ext cx="222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roprietary delimi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5562720" y="5881680"/>
              <a:ext cx="1371600" cy="304560"/>
              <a:chOff x="5562720" y="5881680"/>
              <a:chExt cx="1371600" cy="304560"/>
            </a:xfrm>
          </p:grpSpPr>
          <p:sp>
            <p:nvSpPr>
              <p:cNvPr id="76" name=""/>
              <p:cNvSpPr/>
              <p:nvPr/>
            </p:nvSpPr>
            <p:spPr>
              <a:xfrm>
                <a:off x="5562720" y="6186240"/>
                <a:ext cx="1371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6934320" y="58816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6248520" y="58816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tsvwg-rsvp-app-id-vv-profiles &amp; 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EDC-368E-4B6F-B3B2-04E2B96912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781680" y="1600200"/>
            <a:ext cx="2133720" cy="2209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600200"/>
            <a:ext cx="441936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1600200"/>
            <a:ext cx="2210040" cy="3048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 Component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vers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ltimedia Confer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l-Time Inter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ltimedia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-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ation-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teboar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(conference) chat/instant mess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-desktop (interact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te-desk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metry (e.g., NORAD missile contr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1600200"/>
            <a:ext cx="2133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d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mer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ltime-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x (i.e., combined strea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mething to cover theater quality Netflix mov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mething to cover YouTu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-events (though not the buffered 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tsvwg-rsvp-app-id-vv-profiles &amp; 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EB00-FA73-4A7D-9C9B-B160B26E41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n 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st issue: label now defined, but do folks agree with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help to reach consensus within RAI/MMUS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Area doesn’t like specific guidance of series of strings put together defining a single DSCP for everyone to use (i.e., “a servic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n RAI think the opposite (is anyone surpris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provide a default that can be overridden within any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tsvwg-rsvp-app-id-vv-profiles &amp; 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4F8-768F-4705-80D1-79EC86858A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how this was received in M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am I bleeding too much right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tsvwg-rsvp-app-id-vv-profiles &amp; 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9CA-1632-4564-AB85-176A971D7D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mes Polk</cp:lastModifiedBy>
  <dcterms:modified xsi:type="dcterms:W3CDTF">2011-07-29T05:29:26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