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81C5-22CE-4D5B-9CEF-DDE9E71E0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CAE9-2E2B-4477-BB1F-AC9683726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0BC7-6436-46FD-B1F1-3368CA935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059A-367D-436D-AD5D-CB358C5B6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239F0-F9C8-49A9-B3AE-87FA99C5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C17DC-E6F0-4B65-972E-566B9CC0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0D734-328C-41E6-A11F-DF095845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91EEB-12E6-44A2-B955-F9462732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EE3BF-2711-41D9-9606-3CCEFE7B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D72A4-2159-4D78-97E3-43ABF9EA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2C749-CEA0-49B0-8561-2FF52D06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3DAA-2E9C-43E7-A18C-D5DDF448F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5548C-9977-4E25-A88C-5A39CF6E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EA779-10EA-4084-B35A-1A87DDA0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8487F-DF4E-4A1B-9C7C-09F1D4B1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22DDA-DA02-4A42-B6A6-6CF7CD9E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BED62-869A-4828-9469-121C2C50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CC41-CE78-4BF4-8E26-5E5FADB38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FEAB-7E47-4477-B205-828FD334E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FF5F-45D6-4C93-B23D-8F76C3CF8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4A9A-5F90-4FF8-A4BE-016A4F804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6273-1DF7-4A10-A789-EB7FABB48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F096-0980-4E81-AD15-E0E23BBCD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8775-DE11-490C-AEC1-47ADC645A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36880"/>
            <a:ext cx="3429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tsvwg-intserv-multiple-tspe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7AA3-D131-41D8-BB43-BDC42EA52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E212-046C-478A-9CD2-43E29058A6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67B0-E27C-4CE7-A481-E3E8F1F3C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ietf-tsvwg-intserv-multiple-tspec-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81 (Quebec 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Po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ha Dhesi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oc creates the optimization of conveying more than one T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6840"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PATH messag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6840"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orresponding RESV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reating an extension to IntS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n, Lou Berger had an ide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1B9E-0820-4255-A995-64C0B6DBC4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VP vs. IntServ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uld make it an RSVP Object for any MULTI_xxSPEC (or “MULTI_X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uld remove the Object from IntSe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uld be the same place where every multiple instance of an Object goes.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_T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_PRE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gic would force every router to read this new Object to see if there are multiple instances of something it cares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B29E-D04A-41D2-9C1C-F88DAC763B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Example of RSVP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kinda what is being thought about for this new RSVP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rdering, this must be single new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867280" y="2362320"/>
            <a:ext cx="1676520" cy="609480"/>
            <a:chOff x="5867280" y="2362320"/>
            <a:chExt cx="1676520" cy="609480"/>
          </a:xfrm>
        </p:grpSpPr>
        <p:sp>
          <p:nvSpPr>
            <p:cNvPr id="90" name=""/>
            <p:cNvSpPr/>
            <p:nvPr/>
          </p:nvSpPr>
          <p:spPr>
            <a:xfrm>
              <a:off x="5867280" y="2362320"/>
              <a:ext cx="1676520" cy="60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21720" y="2478240"/>
              <a:ext cx="137412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ull TSP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867280" y="3200400"/>
            <a:ext cx="1676520" cy="380880"/>
            <a:chOff x="5867280" y="3200400"/>
            <a:chExt cx="1676520" cy="380880"/>
          </a:xfrm>
        </p:grpSpPr>
        <p:sp>
          <p:nvSpPr>
            <p:cNvPr id="93" name=""/>
            <p:cNvSpPr/>
            <p:nvPr/>
          </p:nvSpPr>
          <p:spPr>
            <a:xfrm>
              <a:off x="5867280" y="3200400"/>
              <a:ext cx="167652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45040" y="3200400"/>
              <a:ext cx="1579680" cy="337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emption_P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334120" y="297180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213372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905120"/>
            <a:ext cx="24382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867280" y="3809880"/>
            <a:ext cx="1676520" cy="609480"/>
            <a:chOff x="5867280" y="3809880"/>
            <a:chExt cx="1676520" cy="609480"/>
          </a:xfrm>
        </p:grpSpPr>
        <p:sp>
          <p:nvSpPr>
            <p:cNvPr id="99" name=""/>
            <p:cNvSpPr/>
            <p:nvPr/>
          </p:nvSpPr>
          <p:spPr>
            <a:xfrm>
              <a:off x="5867280" y="3809880"/>
              <a:ext cx="1676520" cy="60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21720" y="3925800"/>
              <a:ext cx="137412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ull TSP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67280" y="4648320"/>
            <a:ext cx="1676520" cy="380880"/>
            <a:chOff x="5867280" y="4648320"/>
            <a:chExt cx="1676520" cy="380880"/>
          </a:xfrm>
        </p:grpSpPr>
        <p:sp>
          <p:nvSpPr>
            <p:cNvPr id="102" name=""/>
            <p:cNvSpPr/>
            <p:nvPr/>
          </p:nvSpPr>
          <p:spPr>
            <a:xfrm>
              <a:off x="5867280" y="4648320"/>
              <a:ext cx="167652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5040" y="4648320"/>
              <a:ext cx="1579680" cy="337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emption_P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334120" y="441972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58128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1905120"/>
            <a:ext cx="24382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02FA-1E91-47CE-8978-9F1A05B764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ly Fixed 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, just changed dates to existing ID and named it a WG filename (as is expected)  ;-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han a few non-technical nits and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570B-5DEF-4C50-A3FB-5519B7F376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ho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n IntServ (and others where they are to be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every “MULTI” blob to single new Object in RSV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es to #2, does new MULTI_X Object document also contain MULTI_TSPEC text, or are they separ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B739-1303-4D28-9221-AFAC38690F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7:23:42Z</dcterms:created>
  <dc:creator/>
  <dc:description/>
  <dc:language>en-US</dc:language>
  <cp:lastModifiedBy>James Polk</cp:lastModifiedBy>
  <dcterms:modified xsi:type="dcterms:W3CDTF">2011-07-29T12:52:32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