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20F4-672A-49E2-8CE1-6A5BDF9BE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C4B3-542E-4F1C-A03C-1D81A53D1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140D-9692-4A23-B834-2EAFDE06F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5B56-BADC-4FB8-B36C-32F884410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35C83-11C8-40E9-93AF-65A5580E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23223-710C-4440-AB74-CF4F0E9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1739C-17A3-43FD-976D-1B4AA150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B913-8FD1-4F80-AE78-5DE6B2CC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37489-ED01-48A1-8787-0324A447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F63B5-0FF7-40D7-A507-1ED07A48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2F996-C4B1-4940-9DBA-1BB177A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07A3-CB37-4EE7-B733-38BFD5B77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BE63A-7B5D-4AE4-ABC4-E48FD610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5E52C-1320-4C97-9F1D-1A5B836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F4CAC-1528-4250-8B87-9D0C3B5A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070AA-5193-4E76-98BE-5C3834DC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3854A-DCA4-4CF1-9EB5-CFA8C20E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8C00-488F-484C-BF90-0287224C6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8803-180B-4900-A27B-DD3D16A7F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D784-EA2F-4EBA-8AEB-212676115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286C-B98E-4414-9562-7B66DB7F7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1D3C-9C59-4DEB-BF75-904951D4A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0CF7-8BD1-450F-96AD-2A399338F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01EF-1819-485A-98B2-29DD93C2A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36880"/>
            <a:ext cx="3429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tsvwg-intserv-multiple-tspe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7468-790F-46F3-B9FA-AEC99CF9D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601-2D9D-4770-B36A-EF79D954132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0AC-CB93-48F4-963F-13DDA5FA6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tsvwg-intserv-multiple-tspec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81 (Quebec 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Po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ha Dhesi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oc creates the optimization of conveying more than one T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6840"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PATH messag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6840"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rresponding RESV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reating an extension to Int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n, Lou Berger had an ide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CB9B-007C-4391-BEED-FE4A20B4C5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VP vs. IntServ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make it an RSVP Object for any MULTI_xxSPEC (or “MULTI_X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uld remove the Object from IntSe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uld be the same place where every multiple instance of an Object goes.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_T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_PRE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ic would force every router to read this new Object to see if there are multiple instances of something it cares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4CA8-4B03-455C-A784-53F8CCB3A1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Example of RSVP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kinda what is being thought about for this new RSVP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rdering, this must be single new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867280" y="2362320"/>
            <a:ext cx="1676520" cy="609480"/>
            <a:chOff x="5867280" y="2362320"/>
            <a:chExt cx="1676520" cy="609480"/>
          </a:xfrm>
        </p:grpSpPr>
        <p:sp>
          <p:nvSpPr>
            <p:cNvPr id="90" name=""/>
            <p:cNvSpPr/>
            <p:nvPr/>
          </p:nvSpPr>
          <p:spPr>
            <a:xfrm>
              <a:off x="5867280" y="2362320"/>
              <a:ext cx="1676520" cy="60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21720" y="2478240"/>
              <a:ext cx="137412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ll TSP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867280" y="3200400"/>
            <a:ext cx="1676520" cy="380880"/>
            <a:chOff x="5867280" y="3200400"/>
            <a:chExt cx="1676520" cy="380880"/>
          </a:xfrm>
        </p:grpSpPr>
        <p:sp>
          <p:nvSpPr>
            <p:cNvPr id="93" name=""/>
            <p:cNvSpPr/>
            <p:nvPr/>
          </p:nvSpPr>
          <p:spPr>
            <a:xfrm>
              <a:off x="5867280" y="3200400"/>
              <a:ext cx="167652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45040" y="3200400"/>
              <a:ext cx="1579680" cy="337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emption_P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334120" y="297180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213372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905120"/>
            <a:ext cx="24382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867280" y="3809880"/>
            <a:ext cx="1676520" cy="609480"/>
            <a:chOff x="5867280" y="3809880"/>
            <a:chExt cx="1676520" cy="609480"/>
          </a:xfrm>
        </p:grpSpPr>
        <p:sp>
          <p:nvSpPr>
            <p:cNvPr id="99" name=""/>
            <p:cNvSpPr/>
            <p:nvPr/>
          </p:nvSpPr>
          <p:spPr>
            <a:xfrm>
              <a:off x="5867280" y="3809880"/>
              <a:ext cx="1676520" cy="60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21720" y="3925800"/>
              <a:ext cx="137412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ll TSP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67280" y="4648320"/>
            <a:ext cx="1676520" cy="380880"/>
            <a:chOff x="5867280" y="4648320"/>
            <a:chExt cx="1676520" cy="380880"/>
          </a:xfrm>
        </p:grpSpPr>
        <p:sp>
          <p:nvSpPr>
            <p:cNvPr id="102" name=""/>
            <p:cNvSpPr/>
            <p:nvPr/>
          </p:nvSpPr>
          <p:spPr>
            <a:xfrm>
              <a:off x="5867280" y="4648320"/>
              <a:ext cx="167652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5040" y="4648320"/>
              <a:ext cx="1579680" cy="337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emption_P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334120" y="441972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58128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1905120"/>
            <a:ext cx="24382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19AE-DD2F-4A41-BF2B-A089A5F9C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ly Fixed 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just changed dates to existing ID and named it a WG filename (as is expected)  ;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an a few non-technical nits and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8032-3EBB-46F9-94E4-E97DAE839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ho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IntServ (and others where they are to b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every “MULTI” blob to single new Object in RSV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es to #2, does new MULTI_X Object document also contain MULTI_TSPEC text, or are they sepa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1F2C-D435-40D4-9C64-558E6A1C16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23:42Z</dcterms:created>
  <dc:creator/>
  <dc:description/>
  <dc:language>en-US</dc:language>
  <cp:lastModifiedBy>James Polk</cp:lastModifiedBy>
  <dcterms:modified xsi:type="dcterms:W3CDTF">2011-07-29T12:52:3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