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55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55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55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55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55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Appl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Apple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Apple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Apple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Apple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Apple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Apple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Apple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yriad App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Myriad App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yriad Apple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Myriad Apple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yriad Appl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Myriad Apple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yriad Apple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Myriad Apple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yriad App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Myriad Apple"/>
            </a:endParaRPr>
          </a:p>
          <a:p>
            <a:pPr lvl="4" marL="1828800" algn="ctr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yriad Apple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Myriad Apple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yriad Apple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Myriad Apple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yriad Apple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Apple"/>
              </a:rPr>
              <a:t>IPv6 Router Advertisement Guard (Ra-Guard) evasion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Myriad Apple"/>
              </a:rPr>
              <a:t>draft-gont-v6ops-ra-guard-evasion</a:t>
            </a:r>
            <a:endParaRPr b="0" lang="en-US" sz="2800" spc="-1" strike="noStrike">
              <a:solidFill>
                <a:srgbClr val="ffffff"/>
              </a:solidFill>
              <a:latin typeface="Myriad App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Myriad Apple"/>
              </a:rPr>
              <a:t>Arturo Servín</a:t>
            </a:r>
            <a:endParaRPr b="0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Myriad Apple"/>
              </a:rPr>
              <a:t>LACNIC</a:t>
            </a:r>
            <a:endParaRPr b="0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81st IETF Meeting, Quebec, Canada</a:t>
            </a:r>
            <a:endParaRPr b="0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July 24-29, 2011</a:t>
            </a:r>
            <a:endParaRPr b="0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Myriad Apple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RFC 6104 introduces the problem statement of Rogue RAs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Focuses on misconfigured routers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Mentions different filtering criteria for filtering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Most basic filtering criterion based on the incomming port for the RA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RFC 6105 specifies RA-Guard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Focuses on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Myriad Apple"/>
              </a:rPr>
              <a:t>malicious</a:t>
            </a: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 routers (security)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Very brief Security Considerations section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In many cases RA-Guard has been deployed and seen as 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Myriad Apple"/>
              </a:rPr>
              <a:t>security</a:t>
            </a: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 mechanism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7d"/>
                </a:solidFill>
                <a:latin typeface="Myriad Apple"/>
              </a:rPr>
              <a:t>It is a desired feature, since it parallells the DHCPv4-snooping of the IPv4 world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Myriad Apple"/>
              </a:rPr>
              <a:t>draft-gont-v6ops-ra-guard-evasion</a:t>
            </a: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Describes RA-Guard evasion techniques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Describes more advanced filtering to mitigate them (operational mitigation)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Formally updates RFC 6105 -&gt; the RA-Guard spec is updated such that these issues are addressed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Enhances the Security Considerations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Mitigates RA-Guard evasion tehniques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Myriad Apple"/>
              </a:rPr>
              <a:t>Evasion technique #1</a:t>
            </a: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RA-Guard implementations fail to process the entire IPv6 header chain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59515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Myriad Apple"/>
              </a:rPr>
              <a:t>Evasion technique #2</a:t>
            </a: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Combination of a Destination Options header and fragmentation: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11" name=""/>
          <p:cNvSpPr/>
          <p:nvPr/>
        </p:nvSpPr>
        <p:spPr>
          <a:xfrm>
            <a:off x="1304280" y="2708280"/>
            <a:ext cx="94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Myriad Apple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Myriad Apple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365720"/>
            <a:ext cx="11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Myriad Apple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Myriad Apple"/>
              </a:rPr>
              <a:t>Fra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5589720"/>
            <a:ext cx="11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Myriad Apple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Myriad Apple"/>
              </a:rPr>
              <a:t>Fra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4630680" cy="1020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56000" y="4076640"/>
            <a:ext cx="3616200" cy="104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56000" y="5373720"/>
            <a:ext cx="41036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Myriad Apple"/>
              </a:rPr>
              <a:t>Mitigation:</a:t>
            </a: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How to filter RAs: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Follow the entire IPv6 header chain (possibly enforcing a limit on number of Ext. Headers) -- drop the packet if it is an RA or the Ext. Header limit is hit.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If the upper layer protocol is not found (e.g. the packet is fragmented), and the IPv6 Src. Addr. is a link-local address, drop the packet </a:t>
            </a:r>
            <a:r>
              <a:rPr b="1" lang="es-AR" sz="2000" spc="-1" strike="noStrike">
                <a:solidFill>
                  <a:srgbClr val="ff0000"/>
                </a:solidFill>
                <a:latin typeface="Myriad Apple"/>
              </a:rPr>
              <a:t>¥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Else, forward the packet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Myriad Apple"/>
              </a:rPr>
              <a:t>¥: </a:t>
            </a: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RAs are required to use a link-local address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Myriad Apple"/>
              </a:rPr>
              <a:t>Discussion on the v6ops mailing-list</a:t>
            </a:r>
            <a:endParaRPr b="0" lang="en-US" sz="3600" spc="-1" strike="noStrike">
              <a:solidFill>
                <a:srgbClr val="000000"/>
              </a:solidFill>
              <a:latin typeface="Myriad App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Was mostly focused on draft-gont-6man-nd-extension-headers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yriad Apple"/>
              </a:rPr>
              <a:t>Related I-D about prohibiting the use of some Ext. Headers with ND</a:t>
            </a:r>
            <a:endParaRPr b="1" lang="en-US" sz="20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There seemed to be general agreement that these evasion techniques can be mitigated as proposed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yriad Apple"/>
              </a:rPr>
              <a:t>Moving forward:</a:t>
            </a: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yriad Apple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Myriad Apple"/>
              </a:rPr>
              <a:t>Adopt this I-D as a v6ops wg item?</a:t>
            </a:r>
            <a:endParaRPr b="1" lang="en-US" sz="2800" spc="-1" strike="noStrike">
              <a:solidFill>
                <a:srgbClr val="000000"/>
              </a:solidFill>
              <a:latin typeface="Myriad App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01:44Z</dcterms:created>
  <dc:creator>Fernando Gont</dc:creator>
  <dc:description/>
  <dc:language>en-US</dc:language>
  <cp:lastModifiedBy>Fernando Gont</cp:lastModifiedBy>
  <dcterms:modified xsi:type="dcterms:W3CDTF">2011-07-25T09:07:49Z</dcterms:modified>
  <cp:revision>6</cp:revision>
  <dc:subject/>
  <dc:title>Defending Against Sequence Number Attacks (draft-gont-tcpm-rfc1948bis-00.txt)</dc:title>
</cp:coreProperties>
</file>