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C9E-7200-4623-A74A-6667F257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A7A-F860-4AB5-A740-ED8BCD5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8DA-820A-4CCD-85C7-2F6074BB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9EA-A5AE-497D-8ACF-35AA160B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E9A-1EA9-4F55-B059-510839CD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241-D207-4F66-AE74-4D86836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0DE-3470-4296-941F-B8D6AC85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8E7-1035-475D-B857-09238EA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ACB-DDBE-466B-87F9-D3CB580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FD6-1708-4E2B-A08C-0B0BE04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2D3-CCAE-4CF8-90E4-598BE77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8FC-7C61-4E60-8662-2AA7D61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F76-2D3F-42FB-842B-7B9C91D5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+P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. Boucadair T.Zheng L.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.Huang Q.Zhao Yan.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PE Parame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25720" cy="41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5960" y="4191120"/>
            <a:ext cx="5288040" cy="8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8208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wo flavor of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rt Range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 Port Sets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3432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(A demo in DS-Lite cas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8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4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5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6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learnt from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e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nP 1.0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are of port allocation mechanism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hing with even/odd ports allocation,which is something matters to RTP/RTC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all for comments on mailing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8T19:59:0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