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A0D09-C9F2-4E4C-A4CA-5B0E678B0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C54FC-7B3B-4D99-A835-B58FD7E70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B7FB-43EB-4B38-B37C-2ACBEBDAD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F7D9-8AD6-4CF6-8797-E805422ED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9546-8696-4358-878F-50240F79C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D007-CC29-4104-BD01-508FDA9CF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C653-50BE-4020-BE19-A6BDA883B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BA69-2D4D-47A0-9336-190CB4B9F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68B0-2A4F-40F9-A7D2-D47D6F895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2911-3961-4628-AB21-D3DAFE50A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0620-6364-48E3-9807-BD8FD8B3A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BD7F-B294-483A-B8CE-23D80B68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D05B-1854-4A40-86DA-E71E48C0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6578-A8A1-4290-977C-A3BA4603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CE7B8-0A09-4214-9BC5-4F90CF2C3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.wmf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Pv6 Practices on China Mobile IP Bearer Network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aft-chen-v6ops-ipv6-bearer-network-trials-00.tx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ETF 81-Quebec, July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9280" y="4648320"/>
            <a:ext cx="8209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. Chen, T. Yang, L. Li and H. De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na Mobile IPv6 trial program started over 3 years a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presentation is mainly focusing on IP bearer network infrastructure for incremental IPv6 de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v6 testing on routers was undertaken in our lab before the pre-commercial trials, where there were 7 vendors involved and six months la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incremental extension, support for IPv6 access network (both mobile and fixed access network) and IPv6 service could be introdu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als for IP bearer announced in June 2011, and BRAS will be announced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sting Methodology on IP bearer network tr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8"/>
          <p:cNvSpPr/>
          <p:nvPr/>
        </p:nvSpPr>
        <p:spPr>
          <a:xfrm>
            <a:off x="958680" y="37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9"/>
          <p:cNvSpPr/>
          <p:nvPr/>
        </p:nvSpPr>
        <p:spPr>
          <a:xfrm>
            <a:off x="3767040" y="37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30"/>
          <p:cNvSpPr/>
          <p:nvPr/>
        </p:nvSpPr>
        <p:spPr>
          <a:xfrm flipV="1">
            <a:off x="887400" y="2349000"/>
            <a:ext cx="93492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31"/>
          <p:cNvSpPr/>
          <p:nvPr/>
        </p:nvSpPr>
        <p:spPr>
          <a:xfrm flipV="1">
            <a:off x="1679400" y="2421000"/>
            <a:ext cx="172728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32"/>
          <p:cNvSpPr/>
          <p:nvPr/>
        </p:nvSpPr>
        <p:spPr>
          <a:xfrm>
            <a:off x="1967040" y="2349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33"/>
          <p:cNvSpPr/>
          <p:nvPr/>
        </p:nvSpPr>
        <p:spPr>
          <a:xfrm>
            <a:off x="1967040" y="2421000"/>
            <a:ext cx="165564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5"/>
          <p:cNvSpPr/>
          <p:nvPr/>
        </p:nvSpPr>
        <p:spPr>
          <a:xfrm>
            <a:off x="3479760" y="2349360"/>
            <a:ext cx="107964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6"/>
          <p:cNvSpPr/>
          <p:nvPr/>
        </p:nvSpPr>
        <p:spPr>
          <a:xfrm>
            <a:off x="887400" y="3933720"/>
            <a:ext cx="431640" cy="9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8"/>
          <p:cNvSpPr/>
          <p:nvPr/>
        </p:nvSpPr>
        <p:spPr>
          <a:xfrm flipV="1">
            <a:off x="1319040" y="3789000"/>
            <a:ext cx="43200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9"/>
          <p:cNvSpPr/>
          <p:nvPr/>
        </p:nvSpPr>
        <p:spPr>
          <a:xfrm>
            <a:off x="3695760" y="3933720"/>
            <a:ext cx="431640" cy="9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0"/>
          <p:cNvSpPr/>
          <p:nvPr/>
        </p:nvSpPr>
        <p:spPr>
          <a:xfrm flipV="1">
            <a:off x="4127400" y="3789000"/>
            <a:ext cx="43200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4"/>
          <p:cNvGrpSpPr/>
          <p:nvPr/>
        </p:nvGrpSpPr>
        <p:grpSpPr>
          <a:xfrm>
            <a:off x="1577880" y="2133720"/>
            <a:ext cx="533520" cy="336600"/>
            <a:chOff x="1577880" y="2133720"/>
            <a:chExt cx="533520" cy="336600"/>
          </a:xfrm>
        </p:grpSpPr>
        <p:graphicFrame>
          <p:nvGraphicFramePr>
            <p:cNvPr id="65" name="Object 5"/>
            <p:cNvGraphicFramePr/>
            <p:nvPr/>
          </p:nvGraphicFramePr>
          <p:xfrm>
            <a:off x="1577880" y="2133720"/>
            <a:ext cx="533520" cy="336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6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77880" y="2133720"/>
                      <a:ext cx="53352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7" name="Oval 6"/>
            <p:cNvSpPr/>
            <p:nvPr/>
          </p:nvSpPr>
          <p:spPr>
            <a:xfrm>
              <a:off x="1819440" y="2173320"/>
              <a:ext cx="72720" cy="1429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7"/>
          <p:cNvGrpSpPr/>
          <p:nvPr/>
        </p:nvGrpSpPr>
        <p:grpSpPr>
          <a:xfrm>
            <a:off x="3233880" y="2133720"/>
            <a:ext cx="533160" cy="336600"/>
            <a:chOff x="3233880" y="2133720"/>
            <a:chExt cx="533160" cy="336600"/>
          </a:xfrm>
        </p:grpSpPr>
        <p:graphicFrame>
          <p:nvGraphicFramePr>
            <p:cNvPr id="69" name="Object 8"/>
            <p:cNvGraphicFramePr/>
            <p:nvPr/>
          </p:nvGraphicFramePr>
          <p:xfrm>
            <a:off x="3233880" y="2133720"/>
            <a:ext cx="533160" cy="336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0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233880" y="2133720"/>
                      <a:ext cx="53316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1" name="Oval 9"/>
            <p:cNvSpPr/>
            <p:nvPr/>
          </p:nvSpPr>
          <p:spPr>
            <a:xfrm>
              <a:off x="3475080" y="2173320"/>
              <a:ext cx="72360" cy="1429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10"/>
          <p:cNvGrpSpPr/>
          <p:nvPr/>
        </p:nvGrpSpPr>
        <p:grpSpPr>
          <a:xfrm>
            <a:off x="598320" y="3597120"/>
            <a:ext cx="533520" cy="336600"/>
            <a:chOff x="598320" y="3597120"/>
            <a:chExt cx="533520" cy="336600"/>
          </a:xfrm>
        </p:grpSpPr>
        <p:graphicFrame>
          <p:nvGraphicFramePr>
            <p:cNvPr id="73" name="Object 11"/>
            <p:cNvGraphicFramePr/>
            <p:nvPr/>
          </p:nvGraphicFramePr>
          <p:xfrm>
            <a:off x="598320" y="3597120"/>
            <a:ext cx="533520" cy="336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4" name="Object 11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98320" y="3597120"/>
                      <a:ext cx="53352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5" name="Oval 12"/>
            <p:cNvSpPr/>
            <p:nvPr/>
          </p:nvSpPr>
          <p:spPr>
            <a:xfrm>
              <a:off x="839880" y="3636720"/>
              <a:ext cx="72720" cy="1429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13"/>
          <p:cNvGrpSpPr/>
          <p:nvPr/>
        </p:nvGrpSpPr>
        <p:grpSpPr>
          <a:xfrm>
            <a:off x="1577880" y="3597120"/>
            <a:ext cx="533520" cy="336600"/>
            <a:chOff x="1577880" y="3597120"/>
            <a:chExt cx="533520" cy="336600"/>
          </a:xfrm>
        </p:grpSpPr>
        <p:graphicFrame>
          <p:nvGraphicFramePr>
            <p:cNvPr id="77" name="Object 14"/>
            <p:cNvGraphicFramePr/>
            <p:nvPr/>
          </p:nvGraphicFramePr>
          <p:xfrm>
            <a:off x="1577880" y="3597120"/>
            <a:ext cx="533520" cy="3366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8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577880" y="3597120"/>
                      <a:ext cx="53352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Oval 15"/>
            <p:cNvSpPr/>
            <p:nvPr/>
          </p:nvSpPr>
          <p:spPr>
            <a:xfrm>
              <a:off x="1819440" y="3636720"/>
              <a:ext cx="72720" cy="1429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16"/>
          <p:cNvGrpSpPr/>
          <p:nvPr/>
        </p:nvGrpSpPr>
        <p:grpSpPr>
          <a:xfrm>
            <a:off x="3406680" y="3597120"/>
            <a:ext cx="533520" cy="336600"/>
            <a:chOff x="3406680" y="3597120"/>
            <a:chExt cx="533520" cy="336600"/>
          </a:xfrm>
        </p:grpSpPr>
        <p:graphicFrame>
          <p:nvGraphicFramePr>
            <p:cNvPr id="81" name="Object 17"/>
            <p:cNvGraphicFramePr/>
            <p:nvPr/>
          </p:nvGraphicFramePr>
          <p:xfrm>
            <a:off x="3406680" y="3597120"/>
            <a:ext cx="533520" cy="3366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82" name="Object 1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406680" y="3597120"/>
                      <a:ext cx="53352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3" name="Oval 18"/>
            <p:cNvSpPr/>
            <p:nvPr/>
          </p:nvSpPr>
          <p:spPr>
            <a:xfrm>
              <a:off x="3648240" y="3636720"/>
              <a:ext cx="72720" cy="1429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19"/>
          <p:cNvGrpSpPr/>
          <p:nvPr/>
        </p:nvGrpSpPr>
        <p:grpSpPr>
          <a:xfrm>
            <a:off x="4386240" y="3597120"/>
            <a:ext cx="533520" cy="336600"/>
            <a:chOff x="4386240" y="3597120"/>
            <a:chExt cx="533520" cy="336600"/>
          </a:xfrm>
        </p:grpSpPr>
        <p:graphicFrame>
          <p:nvGraphicFramePr>
            <p:cNvPr id="85" name="Object 20"/>
            <p:cNvGraphicFramePr/>
            <p:nvPr/>
          </p:nvGraphicFramePr>
          <p:xfrm>
            <a:off x="4386240" y="3597120"/>
            <a:ext cx="533520" cy="3366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86" name="Object 20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386240" y="3597120"/>
                      <a:ext cx="53352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7" name="Oval 21"/>
            <p:cNvSpPr/>
            <p:nvPr/>
          </p:nvSpPr>
          <p:spPr>
            <a:xfrm>
              <a:off x="4627800" y="3636720"/>
              <a:ext cx="72720" cy="1429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22"/>
          <p:cNvGrpSpPr/>
          <p:nvPr/>
        </p:nvGrpSpPr>
        <p:grpSpPr>
          <a:xfrm>
            <a:off x="1073160" y="4797360"/>
            <a:ext cx="533520" cy="336600"/>
            <a:chOff x="1073160" y="4797360"/>
            <a:chExt cx="533520" cy="336600"/>
          </a:xfrm>
        </p:grpSpPr>
        <p:graphicFrame>
          <p:nvGraphicFramePr>
            <p:cNvPr id="89" name="Object 23"/>
            <p:cNvGraphicFramePr/>
            <p:nvPr/>
          </p:nvGraphicFramePr>
          <p:xfrm>
            <a:off x="1073160" y="4797360"/>
            <a:ext cx="533520" cy="3366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90" name="Object 23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73160" y="4797360"/>
                      <a:ext cx="53352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1" name="Oval 24"/>
            <p:cNvSpPr/>
            <p:nvPr/>
          </p:nvSpPr>
          <p:spPr>
            <a:xfrm>
              <a:off x="1314720" y="4836960"/>
              <a:ext cx="72720" cy="1429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25"/>
          <p:cNvGrpSpPr/>
          <p:nvPr/>
        </p:nvGrpSpPr>
        <p:grpSpPr>
          <a:xfrm>
            <a:off x="3881520" y="4797360"/>
            <a:ext cx="533160" cy="336600"/>
            <a:chOff x="3881520" y="4797360"/>
            <a:chExt cx="533160" cy="336600"/>
          </a:xfrm>
        </p:grpSpPr>
        <p:graphicFrame>
          <p:nvGraphicFramePr>
            <p:cNvPr id="93" name="Object 26"/>
            <p:cNvGraphicFramePr/>
            <p:nvPr/>
          </p:nvGraphicFramePr>
          <p:xfrm>
            <a:off x="3881520" y="4797360"/>
            <a:ext cx="533160" cy="3366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94" name="Object 26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3881520" y="4797360"/>
                      <a:ext cx="53316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5" name="Oval 27"/>
            <p:cNvSpPr/>
            <p:nvPr/>
          </p:nvSpPr>
          <p:spPr>
            <a:xfrm>
              <a:off x="4122720" y="4836960"/>
              <a:ext cx="72360" cy="1429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Line 50"/>
          <p:cNvSpPr/>
          <p:nvPr/>
        </p:nvSpPr>
        <p:spPr>
          <a:xfrm>
            <a:off x="1319040" y="5157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1"/>
          <p:cNvSpPr/>
          <p:nvPr/>
        </p:nvSpPr>
        <p:spPr>
          <a:xfrm>
            <a:off x="4127400" y="5157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2"/>
          <p:cNvSpPr/>
          <p:nvPr/>
        </p:nvSpPr>
        <p:spPr>
          <a:xfrm>
            <a:off x="456840" y="5516640"/>
            <a:ext cx="6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3"/>
          <p:cNvSpPr/>
          <p:nvPr/>
        </p:nvSpPr>
        <p:spPr>
          <a:xfrm>
            <a:off x="3264840" y="5516640"/>
            <a:ext cx="6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4"/>
          <p:cNvSpPr/>
          <p:nvPr/>
        </p:nvSpPr>
        <p:spPr>
          <a:xfrm>
            <a:off x="114480" y="1976400"/>
            <a:ext cx="157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 backbone rou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5"/>
          <p:cNvSpPr/>
          <p:nvPr/>
        </p:nvSpPr>
        <p:spPr>
          <a:xfrm>
            <a:off x="2206800" y="3467160"/>
            <a:ext cx="106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 core rou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6"/>
          <p:cNvSpPr/>
          <p:nvPr/>
        </p:nvSpPr>
        <p:spPr>
          <a:xfrm>
            <a:off x="2185920" y="470052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 access rou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57"/>
          <p:cNvSpPr/>
          <p:nvPr/>
        </p:nvSpPr>
        <p:spPr>
          <a:xfrm>
            <a:off x="1803240" y="4983120"/>
            <a:ext cx="1920960" cy="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8"/>
          <p:cNvSpPr/>
          <p:nvPr/>
        </p:nvSpPr>
        <p:spPr>
          <a:xfrm>
            <a:off x="2170080" y="3759120"/>
            <a:ext cx="1112760" cy="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9"/>
          <p:cNvSpPr/>
          <p:nvPr/>
        </p:nvSpPr>
        <p:spPr>
          <a:xfrm>
            <a:off x="414360" y="2308320"/>
            <a:ext cx="11127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1"/>
          <p:cNvSpPr/>
          <p:nvPr/>
        </p:nvSpPr>
        <p:spPr>
          <a:xfrm>
            <a:off x="4917960" y="1782720"/>
            <a:ext cx="40816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rial was taken place on hierarchical IP bearer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router testers generate routing information and inject into the under-testing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Pv6 routing protocol : BGP4+, OSPFv3 and 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ual-stack routing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unnel protocol: 6PE/6vPE and configured 6in4 tu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Pv6 ACL, policy routing capabilities and IPsec suppo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Pv6 routing MI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2" descr="wps_clip_image-11044"/>
          <p:cNvPicPr/>
          <p:nvPr/>
        </p:nvPicPr>
        <p:blipFill>
          <a:blip r:embed="rId17"/>
          <a:stretch/>
        </p:blipFill>
        <p:spPr>
          <a:xfrm>
            <a:off x="1082520" y="5445000"/>
            <a:ext cx="457200" cy="419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3" descr="wps_clip_image-11044"/>
          <p:cNvPicPr/>
          <p:nvPr/>
        </p:nvPicPr>
        <p:blipFill>
          <a:blip r:embed="rId18"/>
          <a:stretch/>
        </p:blipFill>
        <p:spPr>
          <a:xfrm>
            <a:off x="3927600" y="5438880"/>
            <a:ext cx="457200" cy="4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sting results and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30040" y="1395360"/>
          <a:ext cx="8718840" cy="4425840"/>
        </p:xfrm>
        <a:graphic>
          <a:graphicData uri="http://schemas.openxmlformats.org/drawingml/2006/table">
            <a:tbl>
              <a:tblPr/>
              <a:tblGrid>
                <a:gridCol w="1398600"/>
                <a:gridCol w="1508400"/>
                <a:gridCol w="2904840"/>
                <a:gridCol w="290700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a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v6 routing protocol testin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PFv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PFv3 can't establish adjacencies due to inconsistent IPv6 MTU between neighboring rout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unified MTU configuration is recommend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 Routing in IS-IS is recommended to be enable or disable simultaneous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GP4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GP4+ can’t support AS routing loop error processes due to private implement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al-stack routing protoc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ting paths have been computed by IPv4 and IPv6 routing algorithm independent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sting results and observations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511280"/>
          <a:ext cx="8229600" cy="4425840"/>
        </p:xfrm>
        <a:graphic>
          <a:graphicData uri="http://schemas.openxmlformats.org/drawingml/2006/table">
            <a:tbl>
              <a:tblPr/>
              <a:tblGrid>
                <a:gridCol w="1320840"/>
                <a:gridCol w="1422360"/>
                <a:gridCol w="2743200"/>
                <a:gridCol w="274320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a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48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nneling protoc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PE/6v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caution has been raised by MTU configuration since intermediate routers would drop big package surpassing network M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igured 6in4 tunn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ters are failed to support encapsulation package going through MPLS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PE/6vPE are recommended when MPLS is widely enabl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sec suppor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sec capabilities is missing in most rout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‘s expected to be supported along with IPv6 deploy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ting MIB suppor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v6 MIBs supporting varied significantly from vendor to vend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vate MIB have appeared to be difficult to build an integrated OAM platform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ing Methodology on B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Object 4"/>
          <p:cNvGraphicFramePr/>
          <p:nvPr/>
        </p:nvGraphicFramePr>
        <p:xfrm>
          <a:off x="695160" y="1619280"/>
          <a:ext cx="3430800" cy="15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160" y="1619280"/>
                    <a:ext cx="3430800" cy="15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Rectangle 6"/>
          <p:cNvSpPr/>
          <p:nvPr/>
        </p:nvSpPr>
        <p:spPr>
          <a:xfrm>
            <a:off x="315000" y="1839960"/>
            <a:ext cx="665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wps_clip_image-11044"/>
          <p:cNvPicPr/>
          <p:nvPr/>
        </p:nvPicPr>
        <p:blipFill>
          <a:blip r:embed="rId3"/>
          <a:stretch/>
        </p:blipFill>
        <p:spPr>
          <a:xfrm>
            <a:off x="896760" y="3828960"/>
            <a:ext cx="695520" cy="63828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10"/>
          <p:cNvGrpSpPr/>
          <p:nvPr/>
        </p:nvGrpSpPr>
        <p:grpSpPr>
          <a:xfrm>
            <a:off x="777960" y="2081160"/>
            <a:ext cx="533160" cy="623520"/>
            <a:chOff x="777960" y="2081160"/>
            <a:chExt cx="533160" cy="623520"/>
          </a:xfrm>
        </p:grpSpPr>
        <p:graphicFrame>
          <p:nvGraphicFramePr>
            <p:cNvPr id="119" name="Object 11"/>
            <p:cNvGraphicFramePr/>
            <p:nvPr/>
          </p:nvGraphicFramePr>
          <p:xfrm>
            <a:off x="777960" y="2081160"/>
            <a:ext cx="533160" cy="6235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20" name="Object 11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77960" y="2081160"/>
                      <a:ext cx="533160" cy="62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1" name="Oval 12"/>
            <p:cNvSpPr/>
            <p:nvPr/>
          </p:nvSpPr>
          <p:spPr>
            <a:xfrm>
              <a:off x="1006200" y="2326320"/>
              <a:ext cx="70920" cy="119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13"/>
          <p:cNvGrpSpPr/>
          <p:nvPr/>
        </p:nvGrpSpPr>
        <p:grpSpPr>
          <a:xfrm>
            <a:off x="2316240" y="3824280"/>
            <a:ext cx="533160" cy="623520"/>
            <a:chOff x="2316240" y="3824280"/>
            <a:chExt cx="533160" cy="623520"/>
          </a:xfrm>
        </p:grpSpPr>
        <p:graphicFrame>
          <p:nvGraphicFramePr>
            <p:cNvPr id="123" name="Object 14"/>
            <p:cNvGraphicFramePr/>
            <p:nvPr/>
          </p:nvGraphicFramePr>
          <p:xfrm>
            <a:off x="2316240" y="3824280"/>
            <a:ext cx="533160" cy="6235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24" name="Object 14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316240" y="3824280"/>
                      <a:ext cx="533160" cy="62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Oval 15"/>
            <p:cNvSpPr/>
            <p:nvPr/>
          </p:nvSpPr>
          <p:spPr>
            <a:xfrm>
              <a:off x="2544480" y="4069440"/>
              <a:ext cx="70920" cy="119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Rectangle 16"/>
          <p:cNvSpPr/>
          <p:nvPr/>
        </p:nvSpPr>
        <p:spPr>
          <a:xfrm>
            <a:off x="2253240" y="3556080"/>
            <a:ext cx="100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S(IPv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17"/>
          <p:cNvGrpSpPr/>
          <p:nvPr/>
        </p:nvGrpSpPr>
        <p:grpSpPr>
          <a:xfrm>
            <a:off x="2336760" y="5646600"/>
            <a:ext cx="533520" cy="623520"/>
            <a:chOff x="2336760" y="5646600"/>
            <a:chExt cx="533520" cy="623520"/>
          </a:xfrm>
        </p:grpSpPr>
        <p:graphicFrame>
          <p:nvGraphicFramePr>
            <p:cNvPr id="128" name="Object 18"/>
            <p:cNvGraphicFramePr/>
            <p:nvPr/>
          </p:nvGraphicFramePr>
          <p:xfrm>
            <a:off x="2336760" y="5646600"/>
            <a:ext cx="533520" cy="6235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29" name="Object 18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336760" y="5646600"/>
                      <a:ext cx="533520" cy="62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0" name="Oval 19"/>
            <p:cNvSpPr/>
            <p:nvPr/>
          </p:nvSpPr>
          <p:spPr>
            <a:xfrm>
              <a:off x="2565360" y="5891760"/>
              <a:ext cx="71280" cy="119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Rectangle 20"/>
          <p:cNvSpPr/>
          <p:nvPr/>
        </p:nvSpPr>
        <p:spPr>
          <a:xfrm>
            <a:off x="2325600" y="6213600"/>
            <a:ext cx="134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S(IPv4/iPv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21"/>
          <p:cNvSpPr/>
          <p:nvPr/>
        </p:nvSpPr>
        <p:spPr>
          <a:xfrm>
            <a:off x="2496960" y="4452840"/>
            <a:ext cx="184320" cy="1193760"/>
          </a:xfrm>
          <a:prstGeom prst="can">
            <a:avLst>
              <a:gd name="adj" fmla="val 112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2"/>
          <p:cNvSpPr/>
          <p:nvPr/>
        </p:nvSpPr>
        <p:spPr>
          <a:xfrm>
            <a:off x="2703600" y="482292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3"/>
          <p:cNvSpPr/>
          <p:nvPr/>
        </p:nvSpPr>
        <p:spPr>
          <a:xfrm>
            <a:off x="1582560" y="4148280"/>
            <a:ext cx="7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4"/>
          <p:cNvSpPr/>
          <p:nvPr/>
        </p:nvSpPr>
        <p:spPr>
          <a:xfrm>
            <a:off x="1158840" y="4465800"/>
            <a:ext cx="0" cy="164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5"/>
          <p:cNvSpPr/>
          <p:nvPr/>
        </p:nvSpPr>
        <p:spPr>
          <a:xfrm>
            <a:off x="1171440" y="6135840"/>
            <a:ext cx="1179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6"/>
          <p:cNvSpPr/>
          <p:nvPr/>
        </p:nvSpPr>
        <p:spPr>
          <a:xfrm>
            <a:off x="4533120" y="1628640"/>
            <a:ext cx="3503160" cy="10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e1: BRAS standalone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IPv6 protocols suppo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7"/>
          <p:cNvSpPr/>
          <p:nvPr/>
        </p:nvSpPr>
        <p:spPr>
          <a:xfrm>
            <a:off x="4595040" y="3822840"/>
            <a:ext cx="3490920" cy="10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e2: BRAS networking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TP tu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criber profi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sting results and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30040" y="1395360"/>
          <a:ext cx="8718840" cy="4819680"/>
        </p:xfrm>
        <a:graphic>
          <a:graphicData uri="http://schemas.openxmlformats.org/drawingml/2006/table">
            <a:tbl>
              <a:tblPr/>
              <a:tblGrid>
                <a:gridCol w="1398600"/>
                <a:gridCol w="1508400"/>
                <a:gridCol w="2904840"/>
                <a:gridCol w="290700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a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lone tes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v6 protoc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 Can’t integrate DHCPv6 functionalities; 2) Can’t support MLD and PIM/S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 Operator has to build separate DHCPv6 server; 2) multicast-based services are hardly develope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ance tes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 IPv6 FIB capacity is only 10% of its IPv4 FIB capacity; 2) Line card throughput is much less than the nominal values when data packages  length shorter than 128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IPv6 data packages are increasing, it is expected that performance should be upgrade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4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2TP networking tes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  BRAS can’t support IPv6 address delivery through L2TP tunnel; 2) BRAS can’t distinguish IP flow in term of IPv4/IPv6 traffic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 IPv6CP signaling is not supported in the case of  L2TP tunnel deployed; 2) operator can’t carry out custom charging policy based on different IP families  charact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general, the tests on several aspects indicate that the network has basically qualified for IPv6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mmunity should pay more attentions to increase IPv6 supporting maturity. IPv6 normative features becoming stable &amp; scalable will take more time than you expec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ors still need to accumulate experiences on IPv6 network configuration and provisioning during the transition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355760" y="5805360"/>
            <a:ext cx="6664320" cy="6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6699"/>
                </a:solidFill>
                <a:latin typeface="FrutigerNext LT Regular"/>
                <a:ea typeface="MS PGothic"/>
              </a:rPr>
              <a:t>Comments are welcomed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MCC</cp:lastModifiedBy>
  <dcterms:modified xsi:type="dcterms:W3CDTF">2011-07-24T17:53:07Z</dcterms:modified>
  <cp:revision>56</cp:revision>
  <dc:subject/>
  <dc:title>Happy Eyeballs Extension for Multiple Interfaces   draft-chen-mif-happy-eyeballs-extension-02.txt  IETF 81-Quebec, July 2011</dc:title>
</cp:coreProperties>
</file>