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F170-A700-4E79-AB7F-862DC050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CA4-EDA3-4CB8-805C-B454E4DB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71C-A090-4E68-A8DC-2B15DA61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993-CA96-471F-BD02-A1D2D450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AC2-83C0-4FFD-9C81-3604ED05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15F-6EBF-40CA-B656-7506FE4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5A7-50DC-4CE0-BFAF-94BE2881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4C1-9279-482E-A3DE-55ABA3B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5B4-44EA-4754-BFB7-1A30995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348-26B4-43C3-8B5B-27E2227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0BC-BCA0-4E26-8DA6-0BDF4EE0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A7C-8A8D-499A-B88C-0873312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5D4-F891-4F1D-890C-5F2652F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826-5301-4639-89BD-B9025A0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FAE6-1007-4158-A202-6CA25D55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v6 Practices on China Mobile IP Bearer Network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chen-v6ops-ipv6-bearer-network-trials-00.tx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46483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 Chen, T. Yang, L. Li and H. D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 Mobile IPv6 trial program started over 3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mainly focusing on IP bearer network infrastructure for incremental IPv6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testing on routers was undertaken in our lab before the pre-commercial trials, where there were 7 vendors involved and six months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cremental extension, support for IPv6 access network (both mobile and fixed access network) and IPv6 service could b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for IP bearer announced in June 2011, and BRAS will be announc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Methodology on IP bearer network t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>
            <a:off x="95868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376704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0"/>
          <p:cNvSpPr/>
          <p:nvPr/>
        </p:nvSpPr>
        <p:spPr>
          <a:xfrm flipV="1">
            <a:off x="887400" y="2349000"/>
            <a:ext cx="9349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1"/>
          <p:cNvSpPr/>
          <p:nvPr/>
        </p:nvSpPr>
        <p:spPr>
          <a:xfrm flipV="1">
            <a:off x="1679400" y="2421000"/>
            <a:ext cx="1727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2"/>
          <p:cNvSpPr/>
          <p:nvPr/>
        </p:nvSpPr>
        <p:spPr>
          <a:xfrm>
            <a:off x="19670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3"/>
          <p:cNvSpPr/>
          <p:nvPr/>
        </p:nvSpPr>
        <p:spPr>
          <a:xfrm>
            <a:off x="1967040" y="2421000"/>
            <a:ext cx="165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5"/>
          <p:cNvSpPr/>
          <p:nvPr/>
        </p:nvSpPr>
        <p:spPr>
          <a:xfrm>
            <a:off x="3479760" y="2349360"/>
            <a:ext cx="1079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887400" y="393372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8"/>
          <p:cNvSpPr/>
          <p:nvPr/>
        </p:nvSpPr>
        <p:spPr>
          <a:xfrm flipV="1">
            <a:off x="1319040" y="3789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9"/>
          <p:cNvSpPr/>
          <p:nvPr/>
        </p:nvSpPr>
        <p:spPr>
          <a:xfrm>
            <a:off x="3695760" y="393372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0"/>
          <p:cNvSpPr/>
          <p:nvPr/>
        </p:nvSpPr>
        <p:spPr>
          <a:xfrm flipV="1">
            <a:off x="4127400" y="3789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1577880" y="2133720"/>
            <a:ext cx="533520" cy="336600"/>
            <a:chOff x="1577880" y="2133720"/>
            <a:chExt cx="533520" cy="336600"/>
          </a:xfrm>
        </p:grpSpPr>
        <p:graphicFrame>
          <p:nvGraphicFramePr>
            <p:cNvPr id="65" name="Object 5"/>
            <p:cNvGraphicFramePr/>
            <p:nvPr/>
          </p:nvGraphicFramePr>
          <p:xfrm>
            <a:off x="1577880" y="2133720"/>
            <a:ext cx="533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7880" y="21337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Oval 6"/>
            <p:cNvSpPr/>
            <p:nvPr/>
          </p:nvSpPr>
          <p:spPr>
            <a:xfrm>
              <a:off x="1819440" y="21733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"/>
          <p:cNvGrpSpPr/>
          <p:nvPr/>
        </p:nvGrpSpPr>
        <p:grpSpPr>
          <a:xfrm>
            <a:off x="3233880" y="2133720"/>
            <a:ext cx="533160" cy="336600"/>
            <a:chOff x="3233880" y="2133720"/>
            <a:chExt cx="533160" cy="336600"/>
          </a:xfrm>
        </p:grpSpPr>
        <p:graphicFrame>
          <p:nvGraphicFramePr>
            <p:cNvPr id="69" name="Object 8"/>
            <p:cNvGraphicFramePr/>
            <p:nvPr/>
          </p:nvGraphicFramePr>
          <p:xfrm>
            <a:off x="3233880" y="2133720"/>
            <a:ext cx="533160" cy="33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33880" y="2133720"/>
                      <a:ext cx="533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Oval 9"/>
            <p:cNvSpPr/>
            <p:nvPr/>
          </p:nvSpPr>
          <p:spPr>
            <a:xfrm>
              <a:off x="3475080" y="2173320"/>
              <a:ext cx="7236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"/>
          <p:cNvGrpSpPr/>
          <p:nvPr/>
        </p:nvGrpSpPr>
        <p:grpSpPr>
          <a:xfrm>
            <a:off x="598320" y="3597120"/>
            <a:ext cx="533520" cy="336600"/>
            <a:chOff x="598320" y="3597120"/>
            <a:chExt cx="533520" cy="336600"/>
          </a:xfrm>
        </p:grpSpPr>
        <p:graphicFrame>
          <p:nvGraphicFramePr>
            <p:cNvPr id="73" name="Object 11"/>
            <p:cNvGraphicFramePr/>
            <p:nvPr/>
          </p:nvGraphicFramePr>
          <p:xfrm>
            <a:off x="598320" y="3597120"/>
            <a:ext cx="53352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832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Oval 12"/>
            <p:cNvSpPr/>
            <p:nvPr/>
          </p:nvSpPr>
          <p:spPr>
            <a:xfrm>
              <a:off x="83988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3"/>
          <p:cNvGrpSpPr/>
          <p:nvPr/>
        </p:nvGrpSpPr>
        <p:grpSpPr>
          <a:xfrm>
            <a:off x="1577880" y="3597120"/>
            <a:ext cx="533520" cy="336600"/>
            <a:chOff x="1577880" y="3597120"/>
            <a:chExt cx="533520" cy="336600"/>
          </a:xfrm>
        </p:grpSpPr>
        <p:graphicFrame>
          <p:nvGraphicFramePr>
            <p:cNvPr id="77" name="Object 14"/>
            <p:cNvGraphicFramePr/>
            <p:nvPr/>
          </p:nvGraphicFramePr>
          <p:xfrm>
            <a:off x="1577880" y="3597120"/>
            <a:ext cx="533520" cy="33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7788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Oval 15"/>
            <p:cNvSpPr/>
            <p:nvPr/>
          </p:nvSpPr>
          <p:spPr>
            <a:xfrm>
              <a:off x="181944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3406680" y="3597120"/>
            <a:ext cx="533520" cy="336600"/>
            <a:chOff x="3406680" y="3597120"/>
            <a:chExt cx="533520" cy="336600"/>
          </a:xfrm>
        </p:grpSpPr>
        <p:graphicFrame>
          <p:nvGraphicFramePr>
            <p:cNvPr id="81" name="Object 17"/>
            <p:cNvGraphicFramePr/>
            <p:nvPr/>
          </p:nvGraphicFramePr>
          <p:xfrm>
            <a:off x="3406680" y="3597120"/>
            <a:ext cx="533520" cy="33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0668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Oval 18"/>
            <p:cNvSpPr/>
            <p:nvPr/>
          </p:nvSpPr>
          <p:spPr>
            <a:xfrm>
              <a:off x="364824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4386240" y="3597120"/>
            <a:ext cx="533520" cy="336600"/>
            <a:chOff x="4386240" y="3597120"/>
            <a:chExt cx="533520" cy="336600"/>
          </a:xfrm>
        </p:grpSpPr>
        <p:graphicFrame>
          <p:nvGraphicFramePr>
            <p:cNvPr id="85" name="Object 20"/>
            <p:cNvGraphicFramePr/>
            <p:nvPr/>
          </p:nvGraphicFramePr>
          <p:xfrm>
            <a:off x="4386240" y="3597120"/>
            <a:ext cx="533520" cy="336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8624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Oval 21"/>
            <p:cNvSpPr/>
            <p:nvPr/>
          </p:nvSpPr>
          <p:spPr>
            <a:xfrm>
              <a:off x="462780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1073160" y="4797360"/>
            <a:ext cx="533520" cy="336600"/>
            <a:chOff x="1073160" y="4797360"/>
            <a:chExt cx="533520" cy="336600"/>
          </a:xfrm>
        </p:grpSpPr>
        <p:graphicFrame>
          <p:nvGraphicFramePr>
            <p:cNvPr id="89" name="Object 23"/>
            <p:cNvGraphicFramePr/>
            <p:nvPr/>
          </p:nvGraphicFramePr>
          <p:xfrm>
            <a:off x="1073160" y="4797360"/>
            <a:ext cx="533520" cy="336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0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73160" y="479736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Oval 24"/>
            <p:cNvSpPr/>
            <p:nvPr/>
          </p:nvSpPr>
          <p:spPr>
            <a:xfrm>
              <a:off x="1314720" y="483696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5"/>
          <p:cNvGrpSpPr/>
          <p:nvPr/>
        </p:nvGrpSpPr>
        <p:grpSpPr>
          <a:xfrm>
            <a:off x="3881520" y="4797360"/>
            <a:ext cx="533160" cy="336600"/>
            <a:chOff x="3881520" y="4797360"/>
            <a:chExt cx="533160" cy="336600"/>
          </a:xfrm>
        </p:grpSpPr>
        <p:graphicFrame>
          <p:nvGraphicFramePr>
            <p:cNvPr id="93" name="Object 26"/>
            <p:cNvGraphicFramePr/>
            <p:nvPr/>
          </p:nvGraphicFramePr>
          <p:xfrm>
            <a:off x="3881520" y="4797360"/>
            <a:ext cx="533160" cy="336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4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881520" y="4797360"/>
                      <a:ext cx="533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Oval 27"/>
            <p:cNvSpPr/>
            <p:nvPr/>
          </p:nvSpPr>
          <p:spPr>
            <a:xfrm>
              <a:off x="4122720" y="4836960"/>
              <a:ext cx="7236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0"/>
          <p:cNvSpPr/>
          <p:nvPr/>
        </p:nvSpPr>
        <p:spPr>
          <a:xfrm>
            <a:off x="131904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41274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456840" y="5516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3264840" y="5516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114480" y="1976400"/>
            <a:ext cx="157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backbone ro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2206800" y="3467160"/>
            <a:ext cx="106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ore ro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2185920" y="47005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ccess ro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>
            <a:off x="1803240" y="4983120"/>
            <a:ext cx="19209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2170080" y="3759120"/>
            <a:ext cx="11127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414360" y="2308320"/>
            <a:ext cx="1112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4917960" y="1782720"/>
            <a:ext cx="4081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ial was taken place on hierarchical IP bear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router testers generate routing information and inject into the under-test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routing protocol : BGP4+, OSPFv3 and 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al-stack rout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unnel protocol: 6PE/6vPE and configured 6in4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ACL, policy routing capabilities and IPsec sup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routing M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2" descr="wps_clip_image-11044"/>
          <p:cNvPicPr/>
          <p:nvPr/>
        </p:nvPicPr>
        <p:blipFill>
          <a:blip r:embed="rId17"/>
          <a:stretch/>
        </p:blipFill>
        <p:spPr>
          <a:xfrm>
            <a:off x="1082520" y="544500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" descr="wps_clip_image-11044"/>
          <p:cNvPicPr/>
          <p:nvPr/>
        </p:nvPicPr>
        <p:blipFill>
          <a:blip r:embed="rId18"/>
          <a:stretch/>
        </p:blipFill>
        <p:spPr>
          <a:xfrm>
            <a:off x="3927600" y="543888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results and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0040" y="1395360"/>
          <a:ext cx="8718840" cy="4425840"/>
        </p:xfrm>
        <a:graphic>
          <a:graphicData uri="http://schemas.openxmlformats.org/drawingml/2006/table">
            <a:tbl>
              <a:tblPr/>
              <a:tblGrid>
                <a:gridCol w="1398600"/>
                <a:gridCol w="1508400"/>
                <a:gridCol w="2904840"/>
                <a:gridCol w="29070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 routing protocol tes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v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v3 can't establish adjacencies due to inconsistent IPv6 MTU between neighboring rou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nified MTU configuration is recommen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Routing in IS-IS is recommended to be enable or disable simultaneous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P4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P4+ can’t support AS routing loop error processes due to private implemen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-stack routing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paths have been computed by IPv4 and IPv6 routing algorithm independe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ing results and observatio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11280"/>
          <a:ext cx="8229600" cy="4425840"/>
        </p:xfrm>
        <a:graphic>
          <a:graphicData uri="http://schemas.openxmlformats.org/drawingml/2006/table">
            <a:tbl>
              <a:tblPr/>
              <a:tblGrid>
                <a:gridCol w="1320840"/>
                <a:gridCol w="1422360"/>
                <a:gridCol w="2743200"/>
                <a:gridCol w="27432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ing protoc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E/6v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ution has been raised by MTU configuration since intermediate routers would drop big package surpassing network M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ed 6in4 tu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s are failed to support encapsulation package going through MPLS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E/6vPE are recommended when MPLS is widely en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ec sup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ec capabilities is missing in most rou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‘s expected to be supported along with IPv6 deplo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MIB sup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 MIBs supporting varied significantly from vendor to ven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MIB have appeared to be difficult to build an integrated OAM platfor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Methodology on 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95160" y="1619280"/>
          <a:ext cx="343080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619280"/>
                    <a:ext cx="34308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315000" y="1839960"/>
            <a:ext cx="66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wps_clip_image-11044"/>
          <p:cNvPicPr/>
          <p:nvPr/>
        </p:nvPicPr>
        <p:blipFill>
          <a:blip r:embed="rId3"/>
          <a:stretch/>
        </p:blipFill>
        <p:spPr>
          <a:xfrm>
            <a:off x="896760" y="3828960"/>
            <a:ext cx="695520" cy="6382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0"/>
          <p:cNvGrpSpPr/>
          <p:nvPr/>
        </p:nvGrpSpPr>
        <p:grpSpPr>
          <a:xfrm>
            <a:off x="777960" y="2081160"/>
            <a:ext cx="533160" cy="623520"/>
            <a:chOff x="777960" y="2081160"/>
            <a:chExt cx="533160" cy="623520"/>
          </a:xfrm>
        </p:grpSpPr>
        <p:graphicFrame>
          <p:nvGraphicFramePr>
            <p:cNvPr id="119" name="Object 11"/>
            <p:cNvGraphicFramePr/>
            <p:nvPr/>
          </p:nvGraphicFramePr>
          <p:xfrm>
            <a:off x="777960" y="2081160"/>
            <a:ext cx="533160" cy="623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7960" y="2081160"/>
                      <a:ext cx="533160" cy="6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Oval 12"/>
            <p:cNvSpPr/>
            <p:nvPr/>
          </p:nvSpPr>
          <p:spPr>
            <a:xfrm>
              <a:off x="1006200" y="2326320"/>
              <a:ext cx="7092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3"/>
          <p:cNvGrpSpPr/>
          <p:nvPr/>
        </p:nvGrpSpPr>
        <p:grpSpPr>
          <a:xfrm>
            <a:off x="2316240" y="3824280"/>
            <a:ext cx="533160" cy="623520"/>
            <a:chOff x="2316240" y="3824280"/>
            <a:chExt cx="533160" cy="623520"/>
          </a:xfrm>
        </p:grpSpPr>
        <p:graphicFrame>
          <p:nvGraphicFramePr>
            <p:cNvPr id="123" name="Object 14"/>
            <p:cNvGraphicFramePr/>
            <p:nvPr/>
          </p:nvGraphicFramePr>
          <p:xfrm>
            <a:off x="2316240" y="3824280"/>
            <a:ext cx="533160" cy="623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16240" y="3824280"/>
                      <a:ext cx="533160" cy="6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Oval 15"/>
            <p:cNvSpPr/>
            <p:nvPr/>
          </p:nvSpPr>
          <p:spPr>
            <a:xfrm>
              <a:off x="2544480" y="4069440"/>
              <a:ext cx="7092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6"/>
          <p:cNvSpPr/>
          <p:nvPr/>
        </p:nvSpPr>
        <p:spPr>
          <a:xfrm>
            <a:off x="2253240" y="35560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(IPv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2336760" y="5646600"/>
            <a:ext cx="533520" cy="623520"/>
            <a:chOff x="2336760" y="5646600"/>
            <a:chExt cx="533520" cy="623520"/>
          </a:xfrm>
        </p:grpSpPr>
        <p:graphicFrame>
          <p:nvGraphicFramePr>
            <p:cNvPr id="128" name="Object 18"/>
            <p:cNvGraphicFramePr/>
            <p:nvPr/>
          </p:nvGraphicFramePr>
          <p:xfrm>
            <a:off x="2336760" y="5646600"/>
            <a:ext cx="533520" cy="623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9" name="Object 1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36760" y="5646600"/>
                      <a:ext cx="533520" cy="6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Oval 19"/>
            <p:cNvSpPr/>
            <p:nvPr/>
          </p:nvSpPr>
          <p:spPr>
            <a:xfrm>
              <a:off x="2565360" y="5891760"/>
              <a:ext cx="712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0"/>
          <p:cNvSpPr/>
          <p:nvPr/>
        </p:nvSpPr>
        <p:spPr>
          <a:xfrm>
            <a:off x="2325600" y="621360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(IPv4/iPv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496960" y="4452840"/>
            <a:ext cx="184320" cy="1193760"/>
          </a:xfrm>
          <a:prstGeom prst="can">
            <a:avLst>
              <a:gd name="adj" fmla="val 11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2703600" y="4822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1582560" y="4148280"/>
            <a:ext cx="7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1158840" y="4465800"/>
            <a:ext cx="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1171440" y="613584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4533120" y="1628640"/>
            <a:ext cx="35031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1: BRAS standalon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Pv6 protocols sup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4595040" y="3822840"/>
            <a:ext cx="3490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2: BRAS network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TP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ber profi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results and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30040" y="1395360"/>
          <a:ext cx="8718840" cy="4819680"/>
        </p:xfrm>
        <a:graphic>
          <a:graphicData uri="http://schemas.openxmlformats.org/drawingml/2006/table">
            <a:tbl>
              <a:tblPr/>
              <a:tblGrid>
                <a:gridCol w="1398600"/>
                <a:gridCol w="1508400"/>
                <a:gridCol w="2904840"/>
                <a:gridCol w="29070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lone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Can’t integrate DHCPv6 functionalities; 2) Can’t support MLD and PIM/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Operator has to build separate DHCPv6 server; 2) multicast-based services are hardly develop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IPv6 FIB capacity is only 10% of its IPv4 FIB capacity; 2) Line card throughput is much less than the nominal values when data packages  length shorter than 128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Pv6 data packages are increasing, it is expected that performance should be upgrad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TP networking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 BRAS can’t support IPv6 address delivery through L2TP tunnel; 2) BRAS can’t distinguish IP flow in term of IPv4/IPv6 traffic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IPv6CP signaling is not supported in the case of  L2TP tunnel deployed; 2) operator can’t carry out custom charging policy based on different IP families  charac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tests on several aspects indicate that the network has basically qualified for IPv6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unity should pay more attentions to increase IPv6 supporting maturity. IPv6 normative features becoming stable &amp; scalable will take more time than you ex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still need to accumulate experiences on IPv6 network configuration and provisioning during the transi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355760" y="5805360"/>
            <a:ext cx="666432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FrutigerNext LT Regular"/>
                <a:ea typeface="MS PGothic"/>
              </a:rPr>
              <a:t>Comments are welcome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4T17:53:07Z</dcterms:modified>
  <cp:revision>56</cp:revision>
  <dc:subject/>
  <dc:title>Happy Eyeballs Extension for Multiple Interfaces   draft-chen-mif-happy-eyeballs-extension-02.txt  IETF 81-Quebec, July 2011</dc:title>
</cp:coreProperties>
</file>