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AutoShape 1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2"/>
          <p:cNvSpPr/>
          <p:nvPr/>
        </p:nvSpPr>
        <p:spPr>
          <a:xfrm>
            <a:off x="6249960" y="8609040"/>
            <a:ext cx="44928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57240" y="8785080"/>
            <a:ext cx="2619360" cy="3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50040" bIns="50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© 2006, Cisco Systems, Inc. All rights reserved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resentation_ID.scr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4"/>
          <p:cNvSpPr/>
          <p:nvPr/>
        </p:nvSpPr>
        <p:spPr>
          <a:xfrm>
            <a:off x="152280" y="8799480"/>
            <a:ext cx="66531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Num" idx="1"/>
          </p:nvPr>
        </p:nvSpPr>
        <p:spPr>
          <a:xfrm>
            <a:off x="5929200" y="8678880"/>
            <a:ext cx="811440" cy="2872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09F97AA-A3D0-4438-B4CF-E729213A4D38}" type="slidenum">
              <a:rPr b="0" lang="en-GB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ldImg"/>
          </p:nvPr>
        </p:nvSpPr>
        <p:spPr>
          <a:xfrm>
            <a:off x="872640" y="244440"/>
            <a:ext cx="5319720" cy="398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body"/>
          </p:nvPr>
        </p:nvSpPr>
        <p:spPr>
          <a:xfrm>
            <a:off x="767880" y="4378320"/>
            <a:ext cx="5467320" cy="4253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50040" bIns="500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5"/>
          <p:cNvSpPr/>
          <p:nvPr/>
        </p:nvSpPr>
        <p:spPr>
          <a:xfrm>
            <a:off x="5929200" y="8678880"/>
            <a:ext cx="811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96897C5-28CB-47D9-BC5C-4283074AFCD0}" type="slidenum">
              <a:rPr b="0" lang="en-GB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1"/>
          <p:cNvSpPr/>
          <p:nvPr/>
        </p:nvSpPr>
        <p:spPr>
          <a:xfrm>
            <a:off x="5929200" y="8678880"/>
            <a:ext cx="8128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A1D8181-8492-4708-9D97-A2D8167748BC}" type="slidenum">
              <a:rPr b="0" lang="en-GB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Text Box 2"/>
          <p:cNvSpPr/>
          <p:nvPr/>
        </p:nvSpPr>
        <p:spPr>
          <a:xfrm>
            <a:off x="873000" y="244440"/>
            <a:ext cx="5321520" cy="3990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body"/>
          </p:nvPr>
        </p:nvSpPr>
        <p:spPr>
          <a:xfrm>
            <a:off x="768240" y="4378320"/>
            <a:ext cx="5469120" cy="425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5"/>
          <p:cNvSpPr/>
          <p:nvPr/>
        </p:nvSpPr>
        <p:spPr>
          <a:xfrm>
            <a:off x="5929200" y="8678880"/>
            <a:ext cx="811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E4AD061-8BFC-46DF-8B1D-FC8E11C0C019}" type="slidenum">
              <a:rPr b="0" lang="en-GB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2"/>
          <p:cNvSpPr/>
          <p:nvPr/>
        </p:nvSpPr>
        <p:spPr>
          <a:xfrm>
            <a:off x="5929200" y="8678880"/>
            <a:ext cx="8128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0D4C1A3-CCFF-4010-B5FC-96D74299655D}" type="slidenum">
              <a:rPr b="0" lang="en-GB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768240" y="4378320"/>
            <a:ext cx="5469120" cy="425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1"/>
          <p:cNvSpPr/>
          <p:nvPr/>
        </p:nvSpPr>
        <p:spPr>
          <a:xfrm>
            <a:off x="5929200" y="8678880"/>
            <a:ext cx="811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2B7B38D-DF90-410D-8FAF-75D11656C3A1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876240" y="244440"/>
            <a:ext cx="5321520" cy="399276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03200" y="4376520"/>
            <a:ext cx="6120000" cy="425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11"/>
          <p:cNvSpPr/>
          <p:nvPr/>
        </p:nvSpPr>
        <p:spPr>
          <a:xfrm>
            <a:off x="5929200" y="8678880"/>
            <a:ext cx="811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7BEEC11-660F-4620-AD33-8450BE06F226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873000" y="244440"/>
            <a:ext cx="5319720" cy="398952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404640" y="4376520"/>
            <a:ext cx="6118560" cy="42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5"/>
          <p:cNvSpPr/>
          <p:nvPr/>
        </p:nvSpPr>
        <p:spPr>
          <a:xfrm>
            <a:off x="5929200" y="8678880"/>
            <a:ext cx="811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47F98F4-304D-49A0-9F68-867549901D41}" type="slidenum">
              <a:rPr b="0" lang="en-GB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 Box 2"/>
          <p:cNvSpPr/>
          <p:nvPr/>
        </p:nvSpPr>
        <p:spPr>
          <a:xfrm>
            <a:off x="5929200" y="8678880"/>
            <a:ext cx="8128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74376CD-042A-48D1-A7F6-B96A20FDEF78}" type="slidenum">
              <a:rPr b="0" lang="en-GB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ext Box 3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body"/>
          </p:nvPr>
        </p:nvSpPr>
        <p:spPr>
          <a:xfrm>
            <a:off x="768240" y="4378320"/>
            <a:ext cx="5469120" cy="425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5"/>
          <p:cNvSpPr/>
          <p:nvPr/>
        </p:nvSpPr>
        <p:spPr>
          <a:xfrm>
            <a:off x="5929200" y="8678880"/>
            <a:ext cx="811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433CE2A-C7E1-4C22-964D-C2E34FE00BFC}" type="slidenum">
              <a:rPr b="0" lang="en-GB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 Box 2"/>
          <p:cNvSpPr/>
          <p:nvPr/>
        </p:nvSpPr>
        <p:spPr>
          <a:xfrm>
            <a:off x="5929200" y="8678880"/>
            <a:ext cx="8128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884A32F-6424-45E4-8114-D4339CFDE449}" type="slidenum">
              <a:rPr b="0" lang="en-GB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 Box 3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768240" y="4378320"/>
            <a:ext cx="5469120" cy="425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5"/>
          <p:cNvSpPr/>
          <p:nvPr/>
        </p:nvSpPr>
        <p:spPr>
          <a:xfrm>
            <a:off x="5929200" y="8678880"/>
            <a:ext cx="811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7A0B541-E414-43EE-83EA-65D7D17B4BF8}" type="slidenum">
              <a:rPr b="0" lang="en-GB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 Box 1"/>
          <p:cNvSpPr/>
          <p:nvPr/>
        </p:nvSpPr>
        <p:spPr>
          <a:xfrm>
            <a:off x="873000" y="244440"/>
            <a:ext cx="5321520" cy="3990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body"/>
          </p:nvPr>
        </p:nvSpPr>
        <p:spPr>
          <a:xfrm>
            <a:off x="768240" y="4378320"/>
            <a:ext cx="5469120" cy="425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55560" y="304920"/>
            <a:ext cx="8143920" cy="836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55200" y="1520640"/>
            <a:ext cx="7939080" cy="1731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55200" y="3417120"/>
            <a:ext cx="7939080" cy="1731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55560" y="304920"/>
            <a:ext cx="8143920" cy="836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55200" y="1520640"/>
            <a:ext cx="3873960" cy="1731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23200" y="1520640"/>
            <a:ext cx="3873960" cy="1731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55200" y="3417120"/>
            <a:ext cx="3873960" cy="1731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23200" y="3417120"/>
            <a:ext cx="3873960" cy="1731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55560" y="304920"/>
            <a:ext cx="8143920" cy="836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55200" y="1520640"/>
            <a:ext cx="2556000" cy="1731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39360" y="1520640"/>
            <a:ext cx="2556000" cy="1731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3520" y="1520640"/>
            <a:ext cx="2556000" cy="1731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55200" y="3417120"/>
            <a:ext cx="2556000" cy="1731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39360" y="3417120"/>
            <a:ext cx="2556000" cy="1731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3520" y="3417120"/>
            <a:ext cx="2556000" cy="1731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55560" y="304920"/>
            <a:ext cx="8143920" cy="836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55200" y="1520640"/>
            <a:ext cx="7939080" cy="36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55560" y="304920"/>
            <a:ext cx="8143920" cy="836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55200" y="1520640"/>
            <a:ext cx="7939080" cy="3630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55560" y="304920"/>
            <a:ext cx="8143920" cy="836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55200" y="1520640"/>
            <a:ext cx="3873960" cy="3630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23200" y="1520640"/>
            <a:ext cx="3873960" cy="3630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5560" y="304920"/>
            <a:ext cx="8143920" cy="836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55560" y="304920"/>
            <a:ext cx="814392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55560" y="304920"/>
            <a:ext cx="8143920" cy="836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55200" y="1520640"/>
            <a:ext cx="3873960" cy="1731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23200" y="1520640"/>
            <a:ext cx="3873960" cy="3630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55200" y="3417120"/>
            <a:ext cx="3873960" cy="1731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55560" y="304920"/>
            <a:ext cx="8143920" cy="836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55200" y="1520640"/>
            <a:ext cx="7939080" cy="36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55560" y="304920"/>
            <a:ext cx="8143920" cy="836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55200" y="1520640"/>
            <a:ext cx="3873960" cy="3630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23200" y="1520640"/>
            <a:ext cx="3873960" cy="1731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723200" y="3417120"/>
            <a:ext cx="3873960" cy="1731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55560" y="304920"/>
            <a:ext cx="8143920" cy="836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55200" y="1520640"/>
            <a:ext cx="3873960" cy="1731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23200" y="1520640"/>
            <a:ext cx="3873960" cy="1731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55200" y="3417120"/>
            <a:ext cx="7939080" cy="1731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55560" y="304920"/>
            <a:ext cx="8143920" cy="836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55200" y="1520640"/>
            <a:ext cx="7939080" cy="1731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55200" y="3417120"/>
            <a:ext cx="7939080" cy="1731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55560" y="304920"/>
            <a:ext cx="8143920" cy="836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55200" y="1520640"/>
            <a:ext cx="3873960" cy="1731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723200" y="1520640"/>
            <a:ext cx="3873960" cy="1731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55200" y="3417120"/>
            <a:ext cx="3873960" cy="1731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723200" y="3417120"/>
            <a:ext cx="3873960" cy="1731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55560" y="304920"/>
            <a:ext cx="8143920" cy="836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55200" y="1520640"/>
            <a:ext cx="2556000" cy="1731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39360" y="1520640"/>
            <a:ext cx="2556000" cy="1731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3520" y="1520640"/>
            <a:ext cx="2556000" cy="1731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55200" y="3417120"/>
            <a:ext cx="2556000" cy="1731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39360" y="3417120"/>
            <a:ext cx="2556000" cy="1731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3520" y="3417120"/>
            <a:ext cx="2556000" cy="1731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55560" y="304920"/>
            <a:ext cx="8143920" cy="836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55200" y="1520640"/>
            <a:ext cx="7939080" cy="3630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5560" y="304920"/>
            <a:ext cx="8143920" cy="836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55200" y="1520640"/>
            <a:ext cx="3873960" cy="3630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23200" y="1520640"/>
            <a:ext cx="3873960" cy="3630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55560" y="304920"/>
            <a:ext cx="8143920" cy="836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55560" y="304920"/>
            <a:ext cx="814392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5560" y="304920"/>
            <a:ext cx="8143920" cy="836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55200" y="1520640"/>
            <a:ext cx="3873960" cy="1731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23200" y="1520640"/>
            <a:ext cx="3873960" cy="3630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55200" y="3417120"/>
            <a:ext cx="3873960" cy="1731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55560" y="304920"/>
            <a:ext cx="8143920" cy="836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55200" y="1520640"/>
            <a:ext cx="3873960" cy="3630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23200" y="1520640"/>
            <a:ext cx="3873960" cy="1731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23200" y="3417120"/>
            <a:ext cx="3873960" cy="1731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55560" y="304920"/>
            <a:ext cx="8143920" cy="836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55200" y="1520640"/>
            <a:ext cx="3873960" cy="1731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23200" y="1520640"/>
            <a:ext cx="3873960" cy="1731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55200" y="3417120"/>
            <a:ext cx="7939080" cy="1731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5560" y="304920"/>
            <a:ext cx="8143920" cy="836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" name="Rectangle 2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3"/>
          <p:cNvSpPr/>
          <p:nvPr/>
        </p:nvSpPr>
        <p:spPr>
          <a:xfrm>
            <a:off x="0" y="0"/>
            <a:ext cx="9144000" cy="17784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4"/>
          <p:cNvSpPr/>
          <p:nvPr/>
        </p:nvSpPr>
        <p:spPr>
          <a:xfrm>
            <a:off x="658800" y="6669000"/>
            <a:ext cx="457200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IETF 81: V6OPS Working Group – Proxy Mobile IPv6 – Address Reservations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5"/>
          <p:cNvSpPr/>
          <p:nvPr/>
        </p:nvSpPr>
        <p:spPr>
          <a:xfrm>
            <a:off x="866484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B57FFFA-0310-4FF7-B70C-667F6DB72C3E}" type="slidenum">
              <a:rPr b="0" lang="en-GB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55200" y="1520640"/>
            <a:ext cx="7939080" cy="3630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5080" indent="-235080">
              <a:lnSpc>
                <a:spcPct val="93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115920">
              <a:lnSpc>
                <a:spcPct val="93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52440" indent="119160">
              <a:lnSpc>
                <a:spcPct val="93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603440" indent="225360">
              <a:lnSpc>
                <a:spcPct val="93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603440" indent="225360">
              <a:lnSpc>
                <a:spcPct val="93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603440" indent="225360">
              <a:lnSpc>
                <a:spcPct val="93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1"/>
          <p:cNvSpPr/>
          <p:nvPr/>
        </p:nvSpPr>
        <p:spPr>
          <a:xfrm rot="16200000">
            <a:off x="3198960" y="-1600200"/>
            <a:ext cx="2743200" cy="914400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Rectangle 2"/>
          <p:cNvSpPr/>
          <p:nvPr/>
        </p:nvSpPr>
        <p:spPr>
          <a:xfrm>
            <a:off x="116172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700" spc="-1" strike="noStrike">
                <a:solidFill>
                  <a:srgbClr val="d3d3d3"/>
                </a:solidFill>
                <a:latin typeface="Arial"/>
              </a:rPr>
              <a:t>© 2006 Cisco Systems, Inc. All rights reserved.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93680" y="6672240"/>
            <a:ext cx="30830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700" spc="-1" strike="noStrike">
                <a:solidFill>
                  <a:srgbClr val="d3d3d3"/>
                </a:solidFill>
                <a:latin typeface="Arial"/>
              </a:rPr>
              <a:t>IETF-75:  NETEXT Presentation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866484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F3D1A85-C93A-4142-8A59-C11C65F419BF}" type="slidenum">
              <a:rPr b="0" lang="en-GB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" name="Group 5"/>
          <p:cNvGrpSpPr/>
          <p:nvPr/>
        </p:nvGrpSpPr>
        <p:grpSpPr>
          <a:xfrm>
            <a:off x="609480" y="525600"/>
            <a:ext cx="1446480" cy="768240"/>
            <a:chOff x="609480" y="525600"/>
            <a:chExt cx="1446480" cy="768240"/>
          </a:xfrm>
        </p:grpSpPr>
        <p:sp>
          <p:nvSpPr>
            <p:cNvPr id="47" name="AutoShape 6"/>
            <p:cNvSpPr/>
            <p:nvPr/>
          </p:nvSpPr>
          <p:spPr>
            <a:xfrm>
              <a:off x="609480" y="525600"/>
              <a:ext cx="1446480" cy="768240"/>
            </a:xfrm>
            <a:prstGeom prst="roundRect">
              <a:avLst>
                <a:gd name="adj" fmla="val 204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Rectangle 7"/>
            <p:cNvSpPr/>
            <p:nvPr/>
          </p:nvSpPr>
          <p:spPr>
            <a:xfrm>
              <a:off x="1015200" y="1033920"/>
              <a:ext cx="66240" cy="248400"/>
            </a:xfrm>
            <a:prstGeom prst="rect">
              <a:avLst/>
            </a:pr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Freeform 8"/>
            <p:cNvSpPr/>
            <p:nvPr/>
          </p:nvSpPr>
          <p:spPr>
            <a:xfrm>
              <a:off x="1398960" y="1027800"/>
              <a:ext cx="190440" cy="262800"/>
            </a:xfrm>
            <a:prstGeom prst="pie">
              <a:avLst/>
            </a:pr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Freeform 9"/>
            <p:cNvSpPr/>
            <p:nvPr/>
          </p:nvSpPr>
          <p:spPr>
            <a:xfrm>
              <a:off x="739440" y="1027800"/>
              <a:ext cx="190080" cy="262800"/>
            </a:xfrm>
            <a:prstGeom prst="pie">
              <a:avLst/>
            </a:pr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10"/>
            <p:cNvSpPr/>
            <p:nvPr/>
          </p:nvSpPr>
          <p:spPr>
            <a:xfrm>
              <a:off x="1659600" y="1027800"/>
              <a:ext cx="261360" cy="262800"/>
            </a:xfrm>
            <a:prstGeom prst="pie">
              <a:avLst/>
            </a:pr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11"/>
            <p:cNvSpPr/>
            <p:nvPr/>
          </p:nvSpPr>
          <p:spPr>
            <a:xfrm>
              <a:off x="1166040" y="1027800"/>
              <a:ext cx="171000" cy="262800"/>
            </a:xfrm>
            <a:prstGeom prst="pie">
              <a:avLst/>
            </a:pr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12"/>
            <p:cNvSpPr/>
            <p:nvPr/>
          </p:nvSpPr>
          <p:spPr>
            <a:xfrm>
              <a:off x="609480" y="732600"/>
              <a:ext cx="61560" cy="128160"/>
            </a:xfrm>
            <a:prstGeom prst="pie">
              <a:avLst/>
            </a:pr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13"/>
            <p:cNvSpPr/>
            <p:nvPr/>
          </p:nvSpPr>
          <p:spPr>
            <a:xfrm>
              <a:off x="782280" y="647280"/>
              <a:ext cx="61560" cy="213480"/>
            </a:xfrm>
            <a:prstGeom prst="pie">
              <a:avLst/>
            </a:pr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14"/>
            <p:cNvSpPr/>
            <p:nvPr/>
          </p:nvSpPr>
          <p:spPr>
            <a:xfrm>
              <a:off x="953640" y="528120"/>
              <a:ext cx="61560" cy="394200"/>
            </a:xfrm>
            <a:prstGeom prst="pie">
              <a:avLst/>
            </a:pr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15"/>
            <p:cNvSpPr/>
            <p:nvPr/>
          </p:nvSpPr>
          <p:spPr>
            <a:xfrm>
              <a:off x="1127880" y="647280"/>
              <a:ext cx="61560" cy="213480"/>
            </a:xfrm>
            <a:prstGeom prst="pie">
              <a:avLst/>
            </a:pr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Freeform 16"/>
            <p:cNvSpPr/>
            <p:nvPr/>
          </p:nvSpPr>
          <p:spPr>
            <a:xfrm>
              <a:off x="1297800" y="732600"/>
              <a:ext cx="66240" cy="128160"/>
            </a:xfrm>
            <a:prstGeom prst="pie">
              <a:avLst/>
            </a:pr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Freeform 17"/>
            <p:cNvSpPr/>
            <p:nvPr/>
          </p:nvSpPr>
          <p:spPr>
            <a:xfrm>
              <a:off x="1470600" y="647280"/>
              <a:ext cx="63000" cy="213480"/>
            </a:xfrm>
            <a:prstGeom prst="pie">
              <a:avLst/>
            </a:pr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8"/>
            <p:cNvSpPr/>
            <p:nvPr/>
          </p:nvSpPr>
          <p:spPr>
            <a:xfrm>
              <a:off x="1645200" y="528120"/>
              <a:ext cx="63000" cy="394200"/>
            </a:xfrm>
            <a:prstGeom prst="pie">
              <a:avLst/>
            </a:pr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9"/>
            <p:cNvSpPr/>
            <p:nvPr/>
          </p:nvSpPr>
          <p:spPr>
            <a:xfrm>
              <a:off x="1816200" y="647280"/>
              <a:ext cx="63360" cy="213480"/>
            </a:xfrm>
            <a:prstGeom prst="pie">
              <a:avLst/>
            </a:pr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20"/>
            <p:cNvSpPr/>
            <p:nvPr/>
          </p:nvSpPr>
          <p:spPr>
            <a:xfrm>
              <a:off x="1990800" y="732600"/>
              <a:ext cx="63360" cy="128160"/>
            </a:xfrm>
            <a:prstGeom prst="pie">
              <a:avLst/>
            </a:pr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50880" y="2273400"/>
            <a:ext cx="3767040" cy="1396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pic>
        <p:nvPicPr>
          <p:cNvPr id="63" name="Picture 22" descr=""/>
          <p:cNvPicPr/>
          <p:nvPr/>
        </p:nvPicPr>
        <p:blipFill>
          <a:blip r:embed="rId2"/>
          <a:stretch/>
        </p:blipFill>
        <p:spPr>
          <a:xfrm>
            <a:off x="4573440" y="1600200"/>
            <a:ext cx="4570560" cy="2743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6.wmf"/><Relationship Id="rId8" Type="http://schemas.openxmlformats.org/officeDocument/2006/relationships/image" Target="../media/image9.png"/><Relationship Id="rId9" Type="http://schemas.openxmlformats.org/officeDocument/2006/relationships/image" Target="../media/image6.wmf"/><Relationship Id="rId10" Type="http://schemas.openxmlformats.org/officeDocument/2006/relationships/image" Target="../media/image6.wmf"/><Relationship Id="rId11" Type="http://schemas.openxmlformats.org/officeDocument/2006/relationships/image" Target="../media/image5.wmf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Group 1"/>
          <p:cNvGrpSpPr/>
          <p:nvPr/>
        </p:nvGrpSpPr>
        <p:grpSpPr>
          <a:xfrm>
            <a:off x="1440" y="2438280"/>
            <a:ext cx="9142560" cy="4818240"/>
            <a:chOff x="1440" y="2438280"/>
            <a:chExt cx="9142560" cy="4818240"/>
          </a:xfrm>
        </p:grpSpPr>
        <p:pic>
          <p:nvPicPr>
            <p:cNvPr id="109" name="Picture 2" descr=""/>
            <p:cNvPicPr/>
            <p:nvPr/>
          </p:nvPicPr>
          <p:blipFill>
            <a:blip r:embed="rId1"/>
            <a:stretch/>
          </p:blipFill>
          <p:spPr>
            <a:xfrm>
              <a:off x="1440" y="2438280"/>
              <a:ext cx="9142560" cy="481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3" descr=""/>
            <p:cNvPicPr/>
            <p:nvPr/>
          </p:nvPicPr>
          <p:blipFill>
            <a:blip r:embed="rId2"/>
            <a:stretch/>
          </p:blipFill>
          <p:spPr>
            <a:xfrm>
              <a:off x="1440" y="2438280"/>
              <a:ext cx="9142560" cy="4818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" name="Rectangle 4"/>
          <p:cNvSpPr/>
          <p:nvPr/>
        </p:nvSpPr>
        <p:spPr>
          <a:xfrm>
            <a:off x="380880" y="2346480"/>
            <a:ext cx="8305920" cy="21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 marL="163440" indent="-163440" algn="ctr">
              <a:lnSpc>
                <a:spcPct val="110000"/>
              </a:lnSpc>
              <a:tabLst>
                <a:tab algn="l" pos="0"/>
                <a:tab algn="l" pos="163440"/>
                <a:tab algn="l" pos="1077840"/>
                <a:tab algn="l" pos="1992240"/>
                <a:tab algn="l" pos="2906640"/>
                <a:tab algn="l" pos="3821040"/>
                <a:tab algn="l" pos="4735440"/>
                <a:tab algn="l" pos="5649840"/>
                <a:tab algn="l" pos="6564240"/>
                <a:tab algn="l" pos="7478640"/>
                <a:tab algn="l" pos="8393040"/>
                <a:tab algn="l" pos="9307440"/>
                <a:tab algn="l" pos="1022184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served IPv6 Interface Identifier for Proxy Mobile IPv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63440" indent="-163440" algn="ctr">
              <a:lnSpc>
                <a:spcPct val="110000"/>
              </a:lnSpc>
              <a:tabLst>
                <a:tab algn="l" pos="0"/>
                <a:tab algn="l" pos="163440"/>
                <a:tab algn="l" pos="1077840"/>
                <a:tab algn="l" pos="1992240"/>
                <a:tab algn="l" pos="2906640"/>
                <a:tab algn="l" pos="3821040"/>
                <a:tab algn="l" pos="4735440"/>
                <a:tab algn="l" pos="5649840"/>
                <a:tab algn="l" pos="6564240"/>
                <a:tab algn="l" pos="7478640"/>
                <a:tab algn="l" pos="8393040"/>
                <a:tab algn="l" pos="9307440"/>
                <a:tab algn="l" pos="1022184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ri Gundavelli (Cisco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8418240" y="6604920"/>
            <a:ext cx="68760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544B981-4D98-4406-A2F0-0B002823FD7A}" type="slidenum">
              <a:rPr b="0" lang="en-GB" sz="9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8418240" y="6604920"/>
            <a:ext cx="68760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48161D4-46D8-49A3-A88A-44D80A58B539}" type="slidenum">
              <a:rPr b="0" lang="en-GB" sz="9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8418240" y="6604920"/>
            <a:ext cx="68760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FAE534B-0890-402F-B19D-A847B66AAE67}" type="slidenum">
              <a:rPr b="0" lang="en-GB" sz="9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8"/>
          <p:cNvSpPr/>
          <p:nvPr/>
        </p:nvSpPr>
        <p:spPr>
          <a:xfrm>
            <a:off x="3052800" y="4572000"/>
            <a:ext cx="587376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en-GB" sz="1200" spc="-1" strike="noStrike">
                <a:solidFill>
                  <a:srgbClr val="808080"/>
                </a:solidFill>
                <a:latin typeface="Arial"/>
              </a:rPr>
              <a:t>draft-gundavelli-v6ops-pmipv6-address-reservations-00.tx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Rectangle 9"/>
          <p:cNvSpPr/>
          <p:nvPr/>
        </p:nvSpPr>
        <p:spPr>
          <a:xfrm>
            <a:off x="14400" y="9360"/>
            <a:ext cx="9129600" cy="184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Rectangle 10"/>
          <p:cNvSpPr/>
          <p:nvPr/>
        </p:nvSpPr>
        <p:spPr>
          <a:xfrm>
            <a:off x="609480" y="6858000"/>
            <a:ext cx="457200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700" spc="-1" strike="noStrike">
                <a:solidFill>
                  <a:srgbClr val="d3d3d3"/>
                </a:solidFill>
                <a:latin typeface="Arial"/>
              </a:rPr>
              <a:t>IETF 80: NETEXT Working Group – Access Network Information Option for Proxy Mobile IPv6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145720" cy="6094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2880"/>
                <a:tab algn="l" pos="1627200"/>
                <a:tab algn="l" pos="2441520"/>
                <a:tab algn="l" pos="3255840"/>
                <a:tab algn="l" pos="4070520"/>
                <a:tab algn="l" pos="4884840"/>
                <a:tab algn="l" pos="5699160"/>
                <a:tab algn="l" pos="6513480"/>
                <a:tab algn="l" pos="7327800"/>
                <a:tab algn="l" pos="8142120"/>
                <a:tab algn="l" pos="8956800"/>
                <a:tab algn="l" pos="9771120"/>
                <a:tab algn="l" pos="10585440"/>
              </a:tabLst>
            </a:pPr>
            <a:r>
              <a:rPr b="1" lang="en-GB" sz="3200" spc="-1" strike="noStrike">
                <a:solidFill>
                  <a:srgbClr val="0183b7"/>
                </a:solidFill>
                <a:latin typeface="Arial"/>
              </a:rPr>
              <a:t>Problem Statement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382240" cy="53341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5080" indent="-235080">
              <a:lnSpc>
                <a:spcPct val="80000"/>
              </a:lnSpc>
              <a:spcBef>
                <a:spcPts val="125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1080"/>
                <a:tab algn="l" pos="1625760"/>
                <a:tab algn="l" pos="2440080"/>
                <a:tab algn="l" pos="3254400"/>
                <a:tab algn="l" pos="4068720"/>
                <a:tab algn="l" pos="4883040"/>
                <a:tab algn="l" pos="5697360"/>
                <a:tab algn="l" pos="6512040"/>
                <a:tab algn="l" pos="7326360"/>
                <a:tab algn="l" pos="8140680"/>
                <a:tab algn="l" pos="8955000"/>
                <a:tab algn="l" pos="9769320"/>
                <a:tab algn="l" pos="1058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xy Mobile IPv6 base specification, RFC 5213, requires the following configuration on every access lin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811080"/>
                <a:tab algn="l" pos="1625760"/>
                <a:tab algn="l" pos="2440080"/>
                <a:tab algn="l" pos="3254400"/>
                <a:tab algn="l" pos="4068720"/>
                <a:tab algn="l" pos="4883040"/>
                <a:tab algn="l" pos="5697360"/>
                <a:tab algn="l" pos="6512040"/>
                <a:tab algn="l" pos="7326360"/>
                <a:tab algn="l" pos="8140680"/>
                <a:tab algn="l" pos="8955000"/>
                <a:tab algn="l" pos="9769320"/>
                <a:tab algn="l" pos="1058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the use of a fixed link-layer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811080"/>
                <a:tab algn="l" pos="1625760"/>
                <a:tab algn="l" pos="2440080"/>
                <a:tab algn="l" pos="3254400"/>
                <a:tab algn="l" pos="4068720"/>
                <a:tab algn="l" pos="4883040"/>
                <a:tab algn="l" pos="5697360"/>
                <a:tab algn="l" pos="6512040"/>
                <a:tab algn="l" pos="7326360"/>
                <a:tab algn="l" pos="8140680"/>
                <a:tab algn="l" pos="8955000"/>
                <a:tab algn="l" pos="9769320"/>
                <a:tab algn="l" pos="1058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the use of a fixed interface-identif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125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1080"/>
                <a:tab algn="l" pos="1625760"/>
                <a:tab algn="l" pos="2440080"/>
                <a:tab algn="l" pos="3254400"/>
                <a:tab algn="l" pos="4068720"/>
                <a:tab algn="l" pos="4883040"/>
                <a:tab algn="l" pos="5697360"/>
                <a:tab algn="l" pos="6512040"/>
                <a:tab algn="l" pos="7326360"/>
                <a:tab algn="l" pos="8140680"/>
                <a:tab algn="l" pos="8955000"/>
                <a:tab algn="l" pos="9769320"/>
                <a:tab algn="l" pos="1058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pecification did not reserve any specific addresses for this purpos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125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1080"/>
                <a:tab algn="l" pos="1625760"/>
                <a:tab algn="l" pos="2440080"/>
                <a:tab algn="l" pos="3254400"/>
                <a:tab algn="l" pos="4068720"/>
                <a:tab algn="l" pos="4883040"/>
                <a:tab algn="l" pos="5697360"/>
                <a:tab algn="l" pos="6512040"/>
                <a:tab algn="l" pos="7326360"/>
                <a:tab algn="l" pos="8140680"/>
                <a:tab algn="l" pos="8955000"/>
                <a:tab algn="l" pos="9769320"/>
                <a:tab algn="l" pos="1058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absence of any reserved addresses, it is now requiring coordination across vendors and a manual configuration of these addresses on all the mobility elements in a Proxy Mobile IPv6 domain. This is proving to be an operational headach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811080"/>
                <a:tab algn="l" pos="1625760"/>
                <a:tab algn="l" pos="2440080"/>
                <a:tab algn="l" pos="3254400"/>
                <a:tab algn="l" pos="4068720"/>
                <a:tab algn="l" pos="4883040"/>
                <a:tab algn="l" pos="5697360"/>
                <a:tab algn="l" pos="6512040"/>
                <a:tab algn="l" pos="7326360"/>
                <a:tab algn="l" pos="8140680"/>
                <a:tab algn="l" pos="8955000"/>
                <a:tab algn="l" pos="9769320"/>
                <a:tab algn="l" pos="1058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811080"/>
                <a:tab algn="l" pos="1625760"/>
                <a:tab algn="l" pos="2440080"/>
                <a:tab algn="l" pos="3254400"/>
                <a:tab algn="l" pos="4068720"/>
                <a:tab algn="l" pos="4883040"/>
                <a:tab algn="l" pos="5697360"/>
                <a:tab algn="l" pos="6512040"/>
                <a:tab algn="l" pos="7326360"/>
                <a:tab algn="l" pos="8140680"/>
                <a:tab algn="l" pos="8955000"/>
                <a:tab algn="l" pos="9769320"/>
                <a:tab algn="l" pos="1058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419120" y="34383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3812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Proxy Mobile IPv6 Domain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pic>
        <p:nvPicPr>
          <p:cNvPr id="122" name="Picture 3" descr=""/>
          <p:cNvPicPr/>
          <p:nvPr/>
        </p:nvPicPr>
        <p:blipFill>
          <a:blip r:embed="rId1"/>
          <a:stretch/>
        </p:blipFill>
        <p:spPr>
          <a:xfrm>
            <a:off x="2743200" y="2743200"/>
            <a:ext cx="3962520" cy="182880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4"/>
          <p:cNvSpPr/>
          <p:nvPr/>
        </p:nvSpPr>
        <p:spPr>
          <a:xfrm>
            <a:off x="3895560" y="3886200"/>
            <a:ext cx="172908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680" rIns="103680" tIns="51840" bIns="51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969696"/>
                </a:solidFill>
                <a:latin typeface="Arial"/>
              </a:rPr>
              <a:t>PMIPv6 Dom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5" descr=""/>
          <p:cNvPicPr/>
          <p:nvPr/>
        </p:nvPicPr>
        <p:blipFill>
          <a:blip r:embed="rId2"/>
          <a:stretch/>
        </p:blipFill>
        <p:spPr>
          <a:xfrm>
            <a:off x="1316160" y="5002200"/>
            <a:ext cx="685800" cy="53352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6"/>
          <p:cNvSpPr/>
          <p:nvPr/>
        </p:nvSpPr>
        <p:spPr>
          <a:xfrm>
            <a:off x="1278360" y="5513400"/>
            <a:ext cx="579960" cy="2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680" rIns="103680" tIns="51840" bIns="51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N-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7" descr=""/>
          <p:cNvPicPr/>
          <p:nvPr/>
        </p:nvPicPr>
        <p:blipFill>
          <a:blip r:embed="rId3"/>
          <a:stretch/>
        </p:blipFill>
        <p:spPr>
          <a:xfrm>
            <a:off x="5084640" y="5257800"/>
            <a:ext cx="685800" cy="53352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8"/>
          <p:cNvSpPr/>
          <p:nvPr/>
        </p:nvSpPr>
        <p:spPr>
          <a:xfrm>
            <a:off x="5120280" y="5770440"/>
            <a:ext cx="579960" cy="2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680" rIns="103680" tIns="51840" bIns="51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N-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Picture 9" descr=""/>
          <p:cNvPicPr/>
          <p:nvPr/>
        </p:nvPicPr>
        <p:blipFill>
          <a:blip r:embed="rId4"/>
          <a:stretch/>
        </p:blipFill>
        <p:spPr>
          <a:xfrm>
            <a:off x="4495680" y="2486160"/>
            <a:ext cx="698760" cy="40932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10"/>
          <p:cNvSpPr/>
          <p:nvPr/>
        </p:nvSpPr>
        <p:spPr>
          <a:xfrm>
            <a:off x="4498560" y="2133720"/>
            <a:ext cx="70344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680" rIns="103680" tIns="51840" bIns="51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LM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Line 11"/>
          <p:cNvSpPr/>
          <p:nvPr/>
        </p:nvSpPr>
        <p:spPr>
          <a:xfrm>
            <a:off x="5194440" y="2697120"/>
            <a:ext cx="304560" cy="0"/>
          </a:xfrm>
          <a:prstGeom prst="line">
            <a:avLst/>
          </a:prstGeom>
          <a:ln w="57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Line 12"/>
          <p:cNvSpPr/>
          <p:nvPr/>
        </p:nvSpPr>
        <p:spPr>
          <a:xfrm>
            <a:off x="5486400" y="2441520"/>
            <a:ext cx="0" cy="282600"/>
          </a:xfrm>
          <a:prstGeom prst="line">
            <a:avLst/>
          </a:prstGeom>
          <a:ln w="57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2" name="AutoShape 13"/>
          <p:cNvGrpSpPr/>
          <p:nvPr/>
        </p:nvGrpSpPr>
        <p:grpSpPr>
          <a:xfrm>
            <a:off x="3206880" y="2886120"/>
            <a:ext cx="1596960" cy="1625040"/>
            <a:chOff x="3206880" y="2886120"/>
            <a:chExt cx="1596960" cy="1625040"/>
          </a:xfrm>
        </p:grpSpPr>
        <p:pic>
          <p:nvPicPr>
            <p:cNvPr id="133" name="AutoShape 13" descr=""/>
            <p:cNvPicPr/>
            <p:nvPr/>
          </p:nvPicPr>
          <p:blipFill>
            <a:blip r:embed="rId5"/>
            <a:stretch/>
          </p:blipFill>
          <p:spPr>
            <a:xfrm>
              <a:off x="3206880" y="2886120"/>
              <a:ext cx="1596960" cy="162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 rot="13441800">
              <a:off x="3917520" y="2865600"/>
              <a:ext cx="312840" cy="152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ctr" rot="10800000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5" name="AutoShape 14"/>
          <p:cNvGrpSpPr/>
          <p:nvPr/>
        </p:nvGrpSpPr>
        <p:grpSpPr>
          <a:xfrm>
            <a:off x="4754520" y="2835360"/>
            <a:ext cx="1408320" cy="1608120"/>
            <a:chOff x="4754520" y="2835360"/>
            <a:chExt cx="1408320" cy="1608120"/>
          </a:xfrm>
        </p:grpSpPr>
        <p:pic>
          <p:nvPicPr>
            <p:cNvPr id="136" name="AutoShape 14" descr=""/>
            <p:cNvPicPr/>
            <p:nvPr/>
          </p:nvPicPr>
          <p:blipFill>
            <a:blip r:embed="rId6"/>
            <a:stretch/>
          </p:blipFill>
          <p:spPr>
            <a:xfrm>
              <a:off x="4754520" y="2835360"/>
              <a:ext cx="1408320" cy="160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 rot="8383200">
              <a:off x="5243040" y="2855520"/>
              <a:ext cx="312840" cy="142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8" name="Line 15"/>
          <p:cNvSpPr/>
          <p:nvPr/>
        </p:nvSpPr>
        <p:spPr>
          <a:xfrm flipH="1">
            <a:off x="5605560" y="4819680"/>
            <a:ext cx="503280" cy="42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Line 16"/>
          <p:cNvSpPr/>
          <p:nvPr/>
        </p:nvSpPr>
        <p:spPr>
          <a:xfrm flipH="1">
            <a:off x="2011320" y="4745160"/>
            <a:ext cx="960480" cy="56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17"/>
          <p:cNvSpPr/>
          <p:nvPr/>
        </p:nvSpPr>
        <p:spPr>
          <a:xfrm flipH="1">
            <a:off x="3276360" y="43434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18"/>
          <p:cNvSpPr/>
          <p:nvPr/>
        </p:nvSpPr>
        <p:spPr>
          <a:xfrm flipH="1" flipV="1">
            <a:off x="3580920" y="2590920"/>
            <a:ext cx="12193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Rectangle 19"/>
          <p:cNvSpPr/>
          <p:nvPr/>
        </p:nvSpPr>
        <p:spPr>
          <a:xfrm>
            <a:off x="2971800" y="2286000"/>
            <a:ext cx="860400" cy="2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680" rIns="103680" tIns="51840" bIns="51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MA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Rectangle 20"/>
          <p:cNvSpPr/>
          <p:nvPr/>
        </p:nvSpPr>
        <p:spPr>
          <a:xfrm>
            <a:off x="1446120" y="3962520"/>
            <a:ext cx="1124280" cy="2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680" rIns="103680" tIns="51840" bIns="51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roxy-Co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Line 21"/>
          <p:cNvSpPr/>
          <p:nvPr/>
        </p:nvSpPr>
        <p:spPr>
          <a:xfrm>
            <a:off x="2590920" y="4191120"/>
            <a:ext cx="76176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Picture 22" descr=""/>
          <p:cNvPicPr/>
          <p:nvPr/>
        </p:nvPicPr>
        <p:blipFill>
          <a:blip r:embed="rId7"/>
          <a:stretch/>
        </p:blipFill>
        <p:spPr>
          <a:xfrm>
            <a:off x="6510240" y="2952720"/>
            <a:ext cx="698760" cy="409680"/>
          </a:xfrm>
          <a:prstGeom prst="rect">
            <a:avLst/>
          </a:prstGeom>
          <a:ln w="0">
            <a:noFill/>
          </a:ln>
        </p:spPr>
      </p:pic>
      <p:sp>
        <p:nvSpPr>
          <p:cNvPr id="146" name="Line 23"/>
          <p:cNvSpPr/>
          <p:nvPr/>
        </p:nvSpPr>
        <p:spPr>
          <a:xfrm>
            <a:off x="6838920" y="2697120"/>
            <a:ext cx="0" cy="247680"/>
          </a:xfrm>
          <a:prstGeom prst="line">
            <a:avLst/>
          </a:prstGeom>
          <a:ln w="57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Rectangle 24"/>
          <p:cNvSpPr/>
          <p:nvPr/>
        </p:nvSpPr>
        <p:spPr>
          <a:xfrm>
            <a:off x="6659280" y="3319560"/>
            <a:ext cx="76752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680" rIns="103680" tIns="51840" bIns="51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LM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8" name="AutoShape 25"/>
          <p:cNvGrpSpPr/>
          <p:nvPr/>
        </p:nvGrpSpPr>
        <p:grpSpPr>
          <a:xfrm>
            <a:off x="6156360" y="3316320"/>
            <a:ext cx="585720" cy="1109520"/>
            <a:chOff x="6156360" y="3316320"/>
            <a:chExt cx="585720" cy="1109520"/>
          </a:xfrm>
        </p:grpSpPr>
        <p:pic>
          <p:nvPicPr>
            <p:cNvPr id="149" name="AutoShape 25" descr=""/>
            <p:cNvPicPr/>
            <p:nvPr/>
          </p:nvPicPr>
          <p:blipFill>
            <a:blip r:embed="rId8"/>
            <a:stretch/>
          </p:blipFill>
          <p:spPr>
            <a:xfrm>
              <a:off x="6156360" y="3316320"/>
              <a:ext cx="585720" cy="11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 rot="11764800">
              <a:off x="6304680" y="3423960"/>
              <a:ext cx="31284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1" name="Line 26"/>
          <p:cNvSpPr/>
          <p:nvPr/>
        </p:nvSpPr>
        <p:spPr>
          <a:xfrm>
            <a:off x="5413320" y="2697120"/>
            <a:ext cx="1609920" cy="36720"/>
          </a:xfrm>
          <a:prstGeom prst="line">
            <a:avLst/>
          </a:prstGeom>
          <a:ln w="57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360" bIns="36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Rectangle 27"/>
          <p:cNvSpPr/>
          <p:nvPr/>
        </p:nvSpPr>
        <p:spPr>
          <a:xfrm>
            <a:off x="2307600" y="4965840"/>
            <a:ext cx="1741320" cy="2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680" rIns="103680" tIns="51840" bIns="51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oint-to-Point Link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Picture 28" descr=""/>
          <p:cNvPicPr/>
          <p:nvPr/>
        </p:nvPicPr>
        <p:blipFill>
          <a:blip r:embed="rId9"/>
          <a:stretch/>
        </p:blipFill>
        <p:spPr>
          <a:xfrm>
            <a:off x="2706840" y="4452840"/>
            <a:ext cx="698400" cy="40968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29"/>
          <p:cNvSpPr/>
          <p:nvPr/>
        </p:nvSpPr>
        <p:spPr>
          <a:xfrm>
            <a:off x="3368520" y="4489560"/>
            <a:ext cx="7416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680" rIns="103680" tIns="51840" bIns="51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MA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30" descr=""/>
          <p:cNvPicPr/>
          <p:nvPr/>
        </p:nvPicPr>
        <p:blipFill>
          <a:blip r:embed="rId10"/>
          <a:stretch/>
        </p:blipFill>
        <p:spPr>
          <a:xfrm>
            <a:off x="5815080" y="4416480"/>
            <a:ext cx="698400" cy="40968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31"/>
          <p:cNvSpPr/>
          <p:nvPr/>
        </p:nvSpPr>
        <p:spPr>
          <a:xfrm>
            <a:off x="6440040" y="4452840"/>
            <a:ext cx="7416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680" rIns="103680" tIns="51840" bIns="51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MA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Line 32"/>
          <p:cNvSpPr/>
          <p:nvPr/>
        </p:nvSpPr>
        <p:spPr>
          <a:xfrm flipH="1" flipV="1">
            <a:off x="6108840" y="4819680"/>
            <a:ext cx="730080" cy="47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Rectangle 33"/>
          <p:cNvSpPr/>
          <p:nvPr/>
        </p:nvSpPr>
        <p:spPr>
          <a:xfrm>
            <a:off x="6436440" y="5807160"/>
            <a:ext cx="579960" cy="2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680" rIns="103680" tIns="51840" bIns="51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N-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Picture 34" descr=""/>
          <p:cNvPicPr/>
          <p:nvPr/>
        </p:nvPicPr>
        <p:blipFill>
          <a:blip r:embed="rId11"/>
          <a:stretch/>
        </p:blipFill>
        <p:spPr>
          <a:xfrm>
            <a:off x="6473880" y="5294160"/>
            <a:ext cx="685800" cy="533520"/>
          </a:xfrm>
          <a:prstGeom prst="rect">
            <a:avLst/>
          </a:prstGeom>
          <a:ln w="0">
            <a:noFill/>
          </a:ln>
        </p:spPr>
      </p:pic>
      <p:sp>
        <p:nvSpPr>
          <p:cNvPr id="160" name="Line 35"/>
          <p:cNvSpPr/>
          <p:nvPr/>
        </p:nvSpPr>
        <p:spPr>
          <a:xfrm flipH="1">
            <a:off x="6218280" y="4270320"/>
            <a:ext cx="109440" cy="22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Line 36"/>
          <p:cNvSpPr/>
          <p:nvPr/>
        </p:nvSpPr>
        <p:spPr>
          <a:xfrm>
            <a:off x="5961240" y="4270320"/>
            <a:ext cx="220320" cy="25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Rectangle 37"/>
          <p:cNvSpPr/>
          <p:nvPr/>
        </p:nvSpPr>
        <p:spPr>
          <a:xfrm>
            <a:off x="2971080" y="3200400"/>
            <a:ext cx="1508040" cy="2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680" rIns="103680" tIns="51840" bIns="51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MIPv6 Tunne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 Box 38"/>
          <p:cNvSpPr/>
          <p:nvPr/>
        </p:nvSpPr>
        <p:spPr>
          <a:xfrm>
            <a:off x="146160" y="1673280"/>
            <a:ext cx="146340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98000"/>
              </a:lnSpc>
              <a:spcBef>
                <a:spcPts val="15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Text Box 39"/>
          <p:cNvSpPr/>
          <p:nvPr/>
        </p:nvSpPr>
        <p:spPr>
          <a:xfrm>
            <a:off x="182520" y="1600200"/>
            <a:ext cx="277992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marL="457200" indent="-457200">
              <a:lnSpc>
                <a:spcPct val="98000"/>
              </a:lnSpc>
              <a:spcBef>
                <a:spcPts val="751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bility Entities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LMA &amp; MA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8000"/>
              </a:lnSpc>
              <a:spcBef>
                <a:spcPts val="751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nsport Network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Pv4/IPv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8000"/>
              </a:lnSpc>
              <a:spcBef>
                <a:spcPts val="751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N Addressing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Pv4/IPv6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8000"/>
              </a:lnSpc>
              <a:spcBef>
                <a:spcPts val="751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unneling Modes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8000"/>
              </a:lnSpc>
              <a:spcBef>
                <a:spcPts val="751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IPv4/IPv6-over-IPv4/IPv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8000"/>
              </a:lnSpc>
              <a:spcBef>
                <a:spcPts val="751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IPv4/IPv6-over-IPv4/IPv6-G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8000"/>
              </a:lnSpc>
              <a:spcBef>
                <a:spcPts val="751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IPv4/IPv6-over-IPv4-UD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86800" cy="736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Requirements on the Access Link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66" name="Rectangle 50"/>
          <p:cNvSpPr/>
          <p:nvPr/>
        </p:nvSpPr>
        <p:spPr>
          <a:xfrm>
            <a:off x="457200" y="1066680"/>
            <a:ext cx="84582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6520" indent="-236520">
              <a:lnSpc>
                <a:spcPct val="98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xy Mobile IPv6 protocol requires the MAG to configure the same IPv6 interface identifier, link-layer address and advertise the mobile node’s home network prefixes on every access link, so the mobile node does not detect any change with respect to its layer-3 configuration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7" name="Group 7"/>
          <p:cNvGrpSpPr/>
          <p:nvPr/>
        </p:nvGrpSpPr>
        <p:grpSpPr>
          <a:xfrm>
            <a:off x="685800" y="3276720"/>
            <a:ext cx="6629400" cy="2666880"/>
            <a:chOff x="685800" y="3276720"/>
            <a:chExt cx="6629400" cy="2666880"/>
          </a:xfrm>
        </p:grpSpPr>
        <p:pic>
          <p:nvPicPr>
            <p:cNvPr id="168" name="Picture 36" descr="j0235964"/>
            <p:cNvPicPr/>
            <p:nvPr/>
          </p:nvPicPr>
          <p:blipFill>
            <a:blip r:embed="rId1"/>
            <a:stretch/>
          </p:blipFill>
          <p:spPr>
            <a:xfrm>
              <a:off x="685800" y="3276720"/>
              <a:ext cx="85392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Rectangle 39"/>
            <p:cNvSpPr/>
            <p:nvPr/>
          </p:nvSpPr>
          <p:spPr>
            <a:xfrm>
              <a:off x="6629400" y="4343400"/>
              <a:ext cx="685800" cy="609480"/>
            </a:xfrm>
            <a:prstGeom prst="rect">
              <a:avLst/>
            </a:prstGeom>
            <a:solidFill>
              <a:srgbClr val="2d2db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LM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70" name="Straight Arrow Connector 44"/>
            <p:cNvCxnSpPr/>
            <p:nvPr/>
          </p:nvCxnSpPr>
          <p:spPr>
            <a:xfrm>
              <a:off x="1142640" y="4114800"/>
              <a:ext cx="1080" cy="838800"/>
            </a:xfrm>
            <a:prstGeom prst="straightConnector1">
              <a:avLst/>
            </a:prstGeom>
            <a:ln w="9360">
              <a:solidFill>
                <a:srgbClr val="7f7f7f"/>
              </a:solidFill>
              <a:prstDash val="sysDash"/>
              <a:miter/>
              <a:tailEnd len="med" type="arrow" w="med"/>
            </a:ln>
          </p:spPr>
        </p:cxnSp>
        <p:grpSp>
          <p:nvGrpSpPr>
            <p:cNvPr id="171" name="Group 4"/>
            <p:cNvGrpSpPr/>
            <p:nvPr/>
          </p:nvGrpSpPr>
          <p:grpSpPr>
            <a:xfrm>
              <a:off x="3886200" y="3505320"/>
              <a:ext cx="2423160" cy="1142640"/>
              <a:chOff x="3886200" y="3505320"/>
              <a:chExt cx="2423160" cy="1142640"/>
            </a:xfrm>
          </p:grpSpPr>
          <p:sp>
            <p:nvSpPr>
              <p:cNvPr id="172" name="Rectangle 5"/>
              <p:cNvSpPr/>
              <p:nvPr/>
            </p:nvSpPr>
            <p:spPr>
              <a:xfrm rot="1354800">
                <a:off x="3912840" y="3971520"/>
                <a:ext cx="2287440" cy="17640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3080" rIns="73080" tIns="36360" bIns="3636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Oval 6"/>
              <p:cNvSpPr/>
              <p:nvPr/>
            </p:nvSpPr>
            <p:spPr>
              <a:xfrm rot="1354800">
                <a:off x="6021360" y="4427280"/>
                <a:ext cx="263880" cy="1764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3080" rIns="73080" tIns="36360" bIns="3636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Oval 7"/>
              <p:cNvSpPr/>
              <p:nvPr/>
            </p:nvSpPr>
            <p:spPr>
              <a:xfrm rot="1354800">
                <a:off x="3909600" y="3548880"/>
                <a:ext cx="263880" cy="17640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3080" rIns="73080" tIns="36360" bIns="3636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75" name="Line 19"/>
            <p:cNvSpPr/>
            <p:nvPr/>
          </p:nvSpPr>
          <p:spPr>
            <a:xfrm flipH="1">
              <a:off x="6324840" y="464832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-36360" bIns="-36360" anchor="t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Rectangle 39"/>
            <p:cNvSpPr/>
            <p:nvPr/>
          </p:nvSpPr>
          <p:spPr>
            <a:xfrm>
              <a:off x="3200400" y="5334120"/>
              <a:ext cx="685800" cy="609480"/>
            </a:xfrm>
            <a:prstGeom prst="rect">
              <a:avLst/>
            </a:prstGeom>
            <a:solidFill>
              <a:srgbClr val="2d2db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MAG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Rectangle 49"/>
            <p:cNvSpPr/>
            <p:nvPr/>
          </p:nvSpPr>
          <p:spPr>
            <a:xfrm rot="5400000">
              <a:off x="1962000" y="3448080"/>
              <a:ext cx="761760" cy="419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ccess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etwork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Line 19"/>
            <p:cNvSpPr/>
            <p:nvPr/>
          </p:nvSpPr>
          <p:spPr>
            <a:xfrm flipH="1">
              <a:off x="1523520" y="3657600"/>
              <a:ext cx="609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-36360" bIns="-36360" anchor="t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Rectangle 39"/>
            <p:cNvSpPr/>
            <p:nvPr/>
          </p:nvSpPr>
          <p:spPr>
            <a:xfrm>
              <a:off x="3200400" y="3352680"/>
              <a:ext cx="685800" cy="609480"/>
            </a:xfrm>
            <a:prstGeom prst="rect">
              <a:avLst/>
            </a:prstGeom>
            <a:solidFill>
              <a:srgbClr val="2d2db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MAG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Line 19"/>
            <p:cNvSpPr/>
            <p:nvPr/>
          </p:nvSpPr>
          <p:spPr>
            <a:xfrm flipH="1">
              <a:off x="2514240" y="365760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-36360" bIns="-36360" anchor="t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Line 19"/>
            <p:cNvSpPr/>
            <p:nvPr/>
          </p:nvSpPr>
          <p:spPr>
            <a:xfrm flipH="1">
              <a:off x="3885840" y="365760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-36360" bIns="-36360" anchor="t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2" name="Group 4"/>
            <p:cNvGrpSpPr/>
            <p:nvPr/>
          </p:nvGrpSpPr>
          <p:grpSpPr>
            <a:xfrm>
              <a:off x="3886200" y="4648320"/>
              <a:ext cx="2435400" cy="1106640"/>
              <a:chOff x="3886200" y="4648320"/>
              <a:chExt cx="2435400" cy="1106640"/>
            </a:xfrm>
          </p:grpSpPr>
          <p:sp>
            <p:nvSpPr>
              <p:cNvPr id="183" name="Rectangle 5"/>
              <p:cNvSpPr/>
              <p:nvPr/>
            </p:nvSpPr>
            <p:spPr>
              <a:xfrm rot="20298600">
                <a:off x="3918960" y="5129640"/>
                <a:ext cx="2287440" cy="17640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3080" rIns="73080" tIns="36360" bIns="3636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Oval 6"/>
              <p:cNvSpPr/>
              <p:nvPr/>
            </p:nvSpPr>
            <p:spPr>
              <a:xfrm rot="20298600">
                <a:off x="6034320" y="4690800"/>
                <a:ext cx="263880" cy="1764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3080" rIns="73080" tIns="36360" bIns="3636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Oval 7"/>
              <p:cNvSpPr/>
              <p:nvPr/>
            </p:nvSpPr>
            <p:spPr>
              <a:xfrm rot="20298600">
                <a:off x="3909240" y="5536080"/>
                <a:ext cx="263880" cy="17640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3080" rIns="73080" tIns="36360" bIns="3636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6" name="Line 19"/>
            <p:cNvSpPr/>
            <p:nvPr/>
          </p:nvSpPr>
          <p:spPr>
            <a:xfrm flipH="1">
              <a:off x="3885840" y="563904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-36360" bIns="-36360" anchor="t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87" name="Straight Arrow Connector 41"/>
            <p:cNvCxnSpPr/>
            <p:nvPr/>
          </p:nvCxnSpPr>
          <p:spPr>
            <a:xfrm>
              <a:off x="2895120" y="3657240"/>
              <a:ext cx="1080" cy="61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88" name="Line 19"/>
            <p:cNvSpPr/>
            <p:nvPr/>
          </p:nvSpPr>
          <p:spPr>
            <a:xfrm flipH="1">
              <a:off x="2514240" y="571500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-36360" bIns="-36360" anchor="t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89" name="Straight Arrow Connector 46"/>
            <p:cNvCxnSpPr/>
            <p:nvPr/>
          </p:nvCxnSpPr>
          <p:spPr>
            <a:xfrm flipV="1">
              <a:off x="2895120" y="5333760"/>
              <a:ext cx="1080" cy="381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190" name="TextBox 5"/>
            <p:cNvSpPr/>
            <p:nvPr/>
          </p:nvSpPr>
          <p:spPr>
            <a:xfrm>
              <a:off x="1676160" y="4343400"/>
              <a:ext cx="4496040" cy="72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Pv6 Interface Identifier: X (Fixed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ink-layer Identifier: Y (Fixed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Global IPv6 Prefixes: IP1, IP2 .. IPn (Fixed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145720" cy="6094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2880"/>
                <a:tab algn="l" pos="1627200"/>
                <a:tab algn="l" pos="2441520"/>
                <a:tab algn="l" pos="3255840"/>
                <a:tab algn="l" pos="4070520"/>
                <a:tab algn="l" pos="4884840"/>
                <a:tab algn="l" pos="5699160"/>
                <a:tab algn="l" pos="6513480"/>
                <a:tab algn="l" pos="7327800"/>
                <a:tab algn="l" pos="8142120"/>
                <a:tab algn="l" pos="8956800"/>
                <a:tab algn="l" pos="9771120"/>
                <a:tab algn="l" pos="10585440"/>
              </a:tabLst>
            </a:pPr>
            <a:r>
              <a:rPr b="1" lang="en-GB" sz="3200" spc="-1" strike="noStrike">
                <a:solidFill>
                  <a:srgbClr val="0183b7"/>
                </a:solidFill>
                <a:latin typeface="Arial"/>
              </a:rPr>
              <a:t>Proposal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811080"/>
                <a:tab algn="l" pos="1625760"/>
                <a:tab algn="l" pos="2440080"/>
                <a:tab algn="l" pos="3254400"/>
                <a:tab algn="l" pos="4068720"/>
                <a:tab algn="l" pos="4883040"/>
                <a:tab algn="l" pos="5697360"/>
                <a:tab algn="l" pos="6512040"/>
                <a:tab algn="l" pos="7326360"/>
                <a:tab algn="l" pos="8140680"/>
                <a:tab algn="l" pos="8955000"/>
                <a:tab algn="l" pos="9769320"/>
                <a:tab algn="l" pos="1058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is document proposes the following two IANA actions for reserving a fixed interface-identifier and link-layer address for the use of Proxy Mobile IPv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811080"/>
                <a:tab algn="l" pos="1625760"/>
                <a:tab algn="l" pos="2440080"/>
                <a:tab algn="l" pos="3254400"/>
                <a:tab algn="l" pos="4068720"/>
                <a:tab algn="l" pos="4883040"/>
                <a:tab algn="l" pos="5697360"/>
                <a:tab algn="l" pos="6512040"/>
                <a:tab algn="l" pos="7326360"/>
                <a:tab algn="l" pos="8140680"/>
                <a:tab algn="l" pos="8955000"/>
                <a:tab algn="l" pos="9769320"/>
                <a:tab algn="l" pos="1058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Action-1: This specification reserves an IPv6 interface identifier for Proxy Mobile IPv6 [RFC5213].  This fixed identifier needs to be reserved from the registry, "Reserved IPv6 Interface Identifiers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811080"/>
                <a:tab algn="l" pos="1625760"/>
                <a:tab algn="l" pos="2440080"/>
                <a:tab algn="l" pos="3254400"/>
                <a:tab algn="l" pos="4068720"/>
                <a:tab algn="l" pos="4883040"/>
                <a:tab algn="l" pos="5697360"/>
                <a:tab algn="l" pos="6512040"/>
                <a:tab algn="l" pos="7326360"/>
                <a:tab algn="l" pos="8140680"/>
                <a:tab algn="l" pos="8955000"/>
                <a:tab algn="l" pos="9769320"/>
                <a:tab algn="l" pos="1058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Action-2: This specification reserves a IANA Ethernet unicast address for Proxy Mobile IPv6.  This address needs to be reserved from the block.  "IANA Ethernet Address block - Unicast Use"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811080"/>
                <a:tab algn="l" pos="1625760"/>
                <a:tab algn="l" pos="2440080"/>
                <a:tab algn="l" pos="3254400"/>
                <a:tab algn="l" pos="4068720"/>
                <a:tab algn="l" pos="4883040"/>
                <a:tab algn="l" pos="5697360"/>
                <a:tab algn="l" pos="6512040"/>
                <a:tab algn="l" pos="7326360"/>
                <a:tab algn="l" pos="8140680"/>
                <a:tab algn="l" pos="8955000"/>
                <a:tab algn="l" pos="9769320"/>
                <a:tab algn="l" pos="1058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4"/>
          <p:cNvSpPr/>
          <p:nvPr/>
        </p:nvSpPr>
        <p:spPr>
          <a:xfrm>
            <a:off x="1419120" y="34383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5"/>
          <p:cNvSpPr/>
          <p:nvPr/>
        </p:nvSpPr>
        <p:spPr>
          <a:xfrm>
            <a:off x="838080" y="3048120"/>
            <a:ext cx="7391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145720" cy="6094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2880"/>
                <a:tab algn="l" pos="1627200"/>
                <a:tab algn="l" pos="2441520"/>
                <a:tab algn="l" pos="3255840"/>
                <a:tab algn="l" pos="4070520"/>
                <a:tab algn="l" pos="4884840"/>
                <a:tab algn="l" pos="5699160"/>
                <a:tab algn="l" pos="6513480"/>
                <a:tab algn="l" pos="7327800"/>
                <a:tab algn="l" pos="8142120"/>
                <a:tab algn="l" pos="8956800"/>
                <a:tab algn="l" pos="9771120"/>
                <a:tab algn="l" pos="10585440"/>
              </a:tabLst>
            </a:pPr>
            <a:r>
              <a:rPr b="1" lang="en-GB" sz="3200" spc="-1" strike="noStrike">
                <a:solidFill>
                  <a:srgbClr val="0183b7"/>
                </a:solidFill>
                <a:latin typeface="Arial"/>
              </a:rPr>
              <a:t>Next Steps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5080" indent="-235080">
              <a:lnSpc>
                <a:spcPct val="80000"/>
              </a:lnSpc>
              <a:spcBef>
                <a:spcPts val="125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1080"/>
                <a:tab algn="l" pos="1625760"/>
                <a:tab algn="l" pos="2440080"/>
                <a:tab algn="l" pos="3254400"/>
                <a:tab algn="l" pos="4068720"/>
                <a:tab algn="l" pos="4883040"/>
                <a:tab algn="l" pos="5697360"/>
                <a:tab algn="l" pos="6512040"/>
                <a:tab algn="l" pos="7326360"/>
                <a:tab algn="l" pos="8140680"/>
                <a:tab algn="l" pos="8955000"/>
                <a:tab algn="l" pos="9769320"/>
                <a:tab algn="l" pos="1058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pose to take the draft to IESG review for initiating the IANA 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1419120" y="34383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 Box 5"/>
          <p:cNvSpPr/>
          <p:nvPr/>
        </p:nvSpPr>
        <p:spPr>
          <a:xfrm>
            <a:off x="838080" y="3048120"/>
            <a:ext cx="7391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" name="Group 1"/>
          <p:cNvGrpSpPr/>
          <p:nvPr/>
        </p:nvGrpSpPr>
        <p:grpSpPr>
          <a:xfrm>
            <a:off x="0" y="0"/>
            <a:ext cx="9142560" cy="4269960"/>
            <a:chOff x="0" y="0"/>
            <a:chExt cx="9142560" cy="4269960"/>
          </a:xfrm>
        </p:grpSpPr>
        <p:sp>
          <p:nvSpPr>
            <p:cNvPr id="200" name="Rectangle 2"/>
            <p:cNvSpPr/>
            <p:nvPr/>
          </p:nvSpPr>
          <p:spPr>
            <a:xfrm>
              <a:off x="0" y="2118240"/>
              <a:ext cx="8913960" cy="2151720"/>
            </a:xfrm>
            <a:prstGeom prst="rect">
              <a:avLst/>
            </a:prstGeom>
            <a:solidFill>
              <a:srgbClr val="3067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Rectangle 3"/>
            <p:cNvSpPr/>
            <p:nvPr/>
          </p:nvSpPr>
          <p:spPr>
            <a:xfrm>
              <a:off x="0" y="0"/>
              <a:ext cx="9142560" cy="136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02" name="Picture 4" descr=""/>
          <p:cNvPicPr/>
          <p:nvPr/>
        </p:nvPicPr>
        <p:blipFill>
          <a:blip r:embed="rId1"/>
          <a:srcRect l="13815" t="0" r="0" b="13714"/>
          <a:stretch/>
        </p:blipFill>
        <p:spPr>
          <a:xfrm>
            <a:off x="5638680" y="2119320"/>
            <a:ext cx="3505320" cy="215100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5"/>
          <p:cNvSpPr/>
          <p:nvPr/>
        </p:nvSpPr>
        <p:spPr>
          <a:xfrm>
            <a:off x="57240" y="2919240"/>
            <a:ext cx="5557680" cy="6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 anchorCtr="1">
            <a:noAutofit/>
          </a:bodyPr>
          <a:p>
            <a:pPr algn="ctr">
              <a:lnSpc>
                <a:spcPct val="9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hank Yo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nter Van de Velde</dc:creator>
  <dc:description/>
  <dc:language>en-US</dc:language>
  <cp:lastModifiedBy>Sri Gundavelli</cp:lastModifiedBy>
  <dcterms:modified xsi:type="dcterms:W3CDTF">2011-07-24T03:45:33Z</dcterms:modified>
  <cp:revision>80</cp:revision>
  <dc:subject/>
  <dc:title>IPv6</dc:title>
</cp:coreProperties>
</file>