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6249960" y="860904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57240" y="8785080"/>
            <a:ext cx="2619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© 2006, Cisco Systems, Inc. All rights reserved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152280" y="8799480"/>
            <a:ext cx="6653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Num" idx="1"/>
          </p:nvPr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9DC83E-EA9F-4840-8B58-D2404621EE92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ldImg"/>
          </p:nvPr>
        </p:nvSpPr>
        <p:spPr>
          <a:xfrm>
            <a:off x="872640" y="244440"/>
            <a:ext cx="5319720" cy="398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body"/>
          </p:nvPr>
        </p:nvSpPr>
        <p:spPr>
          <a:xfrm>
            <a:off x="767880" y="4378320"/>
            <a:ext cx="54673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9A2C9E-4855-4354-95CC-1CE059C1890B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5929200" y="8678880"/>
            <a:ext cx="812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F90135-A03B-42B4-AF89-7716B4915D7F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873000" y="244440"/>
            <a:ext cx="532152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B947E1-9586-4D81-83E7-5742C4F9861A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5929200" y="8678880"/>
            <a:ext cx="812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2DA653-8009-4455-BC85-EF8338E35EEA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1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9655EA-7473-4439-BA72-87FE19947B1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6240" y="244440"/>
            <a:ext cx="5321520" cy="399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03200" y="4376520"/>
            <a:ext cx="6120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1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2629F7-98B6-4D7A-8AA5-0E738418AB4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19720" cy="398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04640" y="4376520"/>
            <a:ext cx="611856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4F7F28-AB8C-4F55-8F6D-128252BFFDB6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5929200" y="8678880"/>
            <a:ext cx="812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19339C-BFC5-47F2-94D7-C7BF8650F84A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5F333-323B-4C26-BDA7-C015033F5794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5929200" y="8678880"/>
            <a:ext cx="812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BE9DA6-5116-40B4-A19E-C433C546C576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87F102-3C12-4628-9375-0CED410BCF56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873000" y="244440"/>
            <a:ext cx="532152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200" y="341712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3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352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20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352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55560" y="304920"/>
            <a:ext cx="81439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23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55200" y="341712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23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3936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352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5520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3936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352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560" y="304920"/>
            <a:ext cx="81439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3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658800" y="6669000"/>
            <a:ext cx="457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ETF 81: V6OPS Working Group – Proxy Mobile IPv6 – Address Reservation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86648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5ADF20-AD4E-403A-ACCB-F323ABE749CA}" type="slidenum">
              <a:rPr b="0" lang="en-GB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5080" indent="-235080">
              <a:lnSpc>
                <a:spcPct val="93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1592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3440" indent="22536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3440" indent="22536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3440" indent="22536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 rot="16200000">
            <a:off x="3198960" y="-160020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16172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93680" y="6672240"/>
            <a:ext cx="308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d3d3d3"/>
                </a:solidFill>
                <a:latin typeface="Arial"/>
              </a:rPr>
              <a:t>IETF-75:  NETEXT Presentatio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6648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97F4DB-20BF-4D76-B59B-46C9E96CB8DA}" type="slidenum">
              <a:rPr b="0" lang="en-GB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5"/>
          <p:cNvGrpSpPr/>
          <p:nvPr/>
        </p:nvGrpSpPr>
        <p:grpSpPr>
          <a:xfrm>
            <a:off x="609480" y="525600"/>
            <a:ext cx="1446480" cy="768240"/>
            <a:chOff x="609480" y="525600"/>
            <a:chExt cx="1446480" cy="768240"/>
          </a:xfrm>
        </p:grpSpPr>
        <p:sp>
          <p:nvSpPr>
            <p:cNvPr id="47" name="AutoShape 6"/>
            <p:cNvSpPr/>
            <p:nvPr/>
          </p:nvSpPr>
          <p:spPr>
            <a:xfrm>
              <a:off x="609480" y="525600"/>
              <a:ext cx="1446480" cy="76824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1015200" y="1033920"/>
              <a:ext cx="66240" cy="24840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1398960" y="1027800"/>
              <a:ext cx="190440" cy="26280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39440" y="1027800"/>
              <a:ext cx="190080" cy="26280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1659600" y="1027800"/>
              <a:ext cx="261360" cy="26280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1166040" y="1027800"/>
              <a:ext cx="171000" cy="262800"/>
            </a:xfrm>
            <a:prstGeom prst="pie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609480" y="732600"/>
              <a:ext cx="6156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782280" y="647280"/>
              <a:ext cx="61560" cy="21348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953640" y="528120"/>
              <a:ext cx="61560" cy="39420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1127880" y="647280"/>
              <a:ext cx="61560" cy="21348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1297800" y="732600"/>
              <a:ext cx="6624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1470600" y="647280"/>
              <a:ext cx="63000" cy="21348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1645200" y="528120"/>
              <a:ext cx="63000" cy="39420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1816200" y="647280"/>
              <a:ext cx="63360" cy="21348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1990800" y="732600"/>
              <a:ext cx="63360" cy="128160"/>
            </a:xfrm>
            <a:prstGeom prst="pie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880" y="2273400"/>
            <a:ext cx="3767040" cy="1396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573440" y="1600200"/>
            <a:ext cx="45705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wmf"/><Relationship Id="rId8" Type="http://schemas.openxmlformats.org/officeDocument/2006/relationships/image" Target="../media/image9.png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1"/>
          <p:cNvGrpSpPr/>
          <p:nvPr/>
        </p:nvGrpSpPr>
        <p:grpSpPr>
          <a:xfrm>
            <a:off x="1440" y="2438280"/>
            <a:ext cx="9142560" cy="4818240"/>
            <a:chOff x="1440" y="2438280"/>
            <a:chExt cx="9142560" cy="481824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tretch/>
          </p:blipFill>
          <p:spPr>
            <a:xfrm>
              <a:off x="1440" y="2438280"/>
              <a:ext cx="9142560" cy="481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"/>
            <p:cNvPicPr/>
            <p:nvPr/>
          </p:nvPicPr>
          <p:blipFill>
            <a:blip r:embed="rId2"/>
            <a:stretch/>
          </p:blipFill>
          <p:spPr>
            <a:xfrm>
              <a:off x="1440" y="2438280"/>
              <a:ext cx="9142560" cy="481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4"/>
          <p:cNvSpPr/>
          <p:nvPr/>
        </p:nvSpPr>
        <p:spPr>
          <a:xfrm>
            <a:off x="380880" y="2346480"/>
            <a:ext cx="8305920" cy="21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marL="163440" indent="-163440" algn="ctr">
              <a:lnSpc>
                <a:spcPct val="110000"/>
              </a:lnSpc>
              <a:tabLst>
                <a:tab algn="l" pos="0"/>
                <a:tab algn="l" pos="16344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rved IPv6 Interface Identifier for Proxy Mobile IPv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 algn="ctr">
              <a:lnSpc>
                <a:spcPct val="110000"/>
              </a:lnSpc>
              <a:tabLst>
                <a:tab algn="l" pos="0"/>
                <a:tab algn="l" pos="16344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ri Gundavelli (Cisc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8418240" y="660492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C485A7-60BE-4A6B-8922-DD963F9917F3}" type="slidenum">
              <a:rPr b="0" lang="en-GB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8418240" y="660492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72C60D-416C-4E30-8D32-9E6A421D1044}" type="slidenum">
              <a:rPr b="0" lang="en-GB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8418240" y="660492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8420A3-996B-4644-A2F7-304E90FE4D23}" type="slidenum">
              <a:rPr b="0" lang="en-GB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052800" y="4572000"/>
            <a:ext cx="5873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draft-gundavelli-v6ops-pmipv6-address-reservations-00.t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14400" y="9360"/>
            <a:ext cx="912960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09480" y="6858000"/>
            <a:ext cx="457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d3d3d3"/>
                </a:solidFill>
                <a:latin typeface="Arial"/>
              </a:rPr>
              <a:t>IETF 80: NETEXT Working Group – Access Network Information Option for Proxy Mobile IPv6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4572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7200"/>
                <a:tab algn="l" pos="2441520"/>
                <a:tab algn="l" pos="3255840"/>
                <a:tab algn="l" pos="4070520"/>
                <a:tab algn="l" pos="4884840"/>
                <a:tab algn="l" pos="5699160"/>
                <a:tab algn="l" pos="6513480"/>
                <a:tab algn="l" pos="7327800"/>
                <a:tab algn="l" pos="8142120"/>
                <a:tab algn="l" pos="8956800"/>
                <a:tab algn="l" pos="9771120"/>
                <a:tab algn="l" pos="10585440"/>
              </a:tabLst>
            </a:pPr>
            <a:r>
              <a:rPr b="1" lang="en-GB" sz="3200" spc="-1" strike="noStrike">
                <a:solidFill>
                  <a:srgbClr val="0183b7"/>
                </a:solidFill>
                <a:latin typeface="Arial"/>
              </a:rPr>
              <a:t>Problem Statemen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5080" indent="-23508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y Mobile IPv6 base specification, RFC 5213, requires the following configuration on every access l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use of a fixed link-layer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use of a fixed interface-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ecification did not reserve any specific addresses for this purpo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bsence of any reserved addresses, it is now requiring coordination across vendors and a manual configuration of these addresses on all the mobility elements in a Proxy Mobile IPv6 domain. This is proving to be an operational head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419120" y="3438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Proxy Mobile IPv6 Domai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3962520" cy="1828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3895560" y="3886200"/>
            <a:ext cx="172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PMIPv6 Dom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316160" y="500220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1278360" y="5513400"/>
            <a:ext cx="5799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N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5084640" y="525780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5120280" y="5770440"/>
            <a:ext cx="5799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N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4"/>
          <a:stretch/>
        </p:blipFill>
        <p:spPr>
          <a:xfrm>
            <a:off x="4495680" y="2486160"/>
            <a:ext cx="698760" cy="4093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4498560" y="2133720"/>
            <a:ext cx="7034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5194440" y="2697120"/>
            <a:ext cx="30456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5486400" y="2441520"/>
            <a:ext cx="0" cy="28260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AutoShape 13"/>
          <p:cNvGrpSpPr/>
          <p:nvPr/>
        </p:nvGrpSpPr>
        <p:grpSpPr>
          <a:xfrm>
            <a:off x="3206880" y="2886120"/>
            <a:ext cx="1596960" cy="1625040"/>
            <a:chOff x="3206880" y="2886120"/>
            <a:chExt cx="1596960" cy="1625040"/>
          </a:xfrm>
        </p:grpSpPr>
        <p:pic>
          <p:nvPicPr>
            <p:cNvPr id="133" name="AutoShape 13" descr=""/>
            <p:cNvPicPr/>
            <p:nvPr/>
          </p:nvPicPr>
          <p:blipFill>
            <a:blip r:embed="rId5"/>
            <a:stretch/>
          </p:blipFill>
          <p:spPr>
            <a:xfrm>
              <a:off x="3206880" y="2886120"/>
              <a:ext cx="1596960" cy="162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rot="13441800">
              <a:off x="3917520" y="2865600"/>
              <a:ext cx="312840" cy="15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 rot="10800000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AutoShape 14"/>
          <p:cNvGrpSpPr/>
          <p:nvPr/>
        </p:nvGrpSpPr>
        <p:grpSpPr>
          <a:xfrm>
            <a:off x="4754520" y="2835360"/>
            <a:ext cx="1408320" cy="1608120"/>
            <a:chOff x="4754520" y="2835360"/>
            <a:chExt cx="1408320" cy="1608120"/>
          </a:xfrm>
        </p:grpSpPr>
        <p:pic>
          <p:nvPicPr>
            <p:cNvPr id="136" name="AutoShape 14" descr=""/>
            <p:cNvPicPr/>
            <p:nvPr/>
          </p:nvPicPr>
          <p:blipFill>
            <a:blip r:embed="rId6"/>
            <a:stretch/>
          </p:blipFill>
          <p:spPr>
            <a:xfrm>
              <a:off x="4754520" y="2835360"/>
              <a:ext cx="140832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rot="8383200">
              <a:off x="5243040" y="2855520"/>
              <a:ext cx="312840" cy="14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Line 15"/>
          <p:cNvSpPr/>
          <p:nvPr/>
        </p:nvSpPr>
        <p:spPr>
          <a:xfrm flipH="1">
            <a:off x="5605560" y="4819680"/>
            <a:ext cx="5032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2011320" y="4745160"/>
            <a:ext cx="96048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3276360" y="4343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 flipH="1" flipV="1">
            <a:off x="3580920" y="25909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2971800" y="2286000"/>
            <a:ext cx="86040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MA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1446120" y="3962520"/>
            <a:ext cx="112428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xy-C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2590920" y="419112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2" descr=""/>
          <p:cNvPicPr/>
          <p:nvPr/>
        </p:nvPicPr>
        <p:blipFill>
          <a:blip r:embed="rId7"/>
          <a:stretch/>
        </p:blipFill>
        <p:spPr>
          <a:xfrm>
            <a:off x="6510240" y="2952720"/>
            <a:ext cx="698760" cy="409680"/>
          </a:xfrm>
          <a:prstGeom prst="rect">
            <a:avLst/>
          </a:prstGeom>
          <a:ln w="0">
            <a:noFill/>
          </a:ln>
        </p:spPr>
      </p:pic>
      <p:sp>
        <p:nvSpPr>
          <p:cNvPr id="146" name="Line 23"/>
          <p:cNvSpPr/>
          <p:nvPr/>
        </p:nvSpPr>
        <p:spPr>
          <a:xfrm>
            <a:off x="6838920" y="2697120"/>
            <a:ext cx="0" cy="24768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6659280" y="3319560"/>
            <a:ext cx="7675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AutoShape 25"/>
          <p:cNvGrpSpPr/>
          <p:nvPr/>
        </p:nvGrpSpPr>
        <p:grpSpPr>
          <a:xfrm>
            <a:off x="6156360" y="3316320"/>
            <a:ext cx="585720" cy="1109520"/>
            <a:chOff x="6156360" y="3316320"/>
            <a:chExt cx="585720" cy="1109520"/>
          </a:xfrm>
        </p:grpSpPr>
        <p:pic>
          <p:nvPicPr>
            <p:cNvPr id="149" name="AutoShape 25" descr=""/>
            <p:cNvPicPr/>
            <p:nvPr/>
          </p:nvPicPr>
          <p:blipFill>
            <a:blip r:embed="rId8"/>
            <a:stretch/>
          </p:blipFill>
          <p:spPr>
            <a:xfrm>
              <a:off x="6156360" y="3316320"/>
              <a:ext cx="5857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 rot="11764800">
              <a:off x="6304680" y="3423960"/>
              <a:ext cx="3128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Line 26"/>
          <p:cNvSpPr/>
          <p:nvPr/>
        </p:nvSpPr>
        <p:spPr>
          <a:xfrm>
            <a:off x="5413320" y="2697120"/>
            <a:ext cx="1609920" cy="3672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0" bIns="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307600" y="4965840"/>
            <a:ext cx="17413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int-to-Point Lin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8" descr=""/>
          <p:cNvPicPr/>
          <p:nvPr/>
        </p:nvPicPr>
        <p:blipFill>
          <a:blip r:embed="rId9"/>
          <a:stretch/>
        </p:blipFill>
        <p:spPr>
          <a:xfrm>
            <a:off x="2706840" y="4452840"/>
            <a:ext cx="698400" cy="4096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9"/>
          <p:cNvSpPr/>
          <p:nvPr/>
        </p:nvSpPr>
        <p:spPr>
          <a:xfrm>
            <a:off x="3368520" y="4489560"/>
            <a:ext cx="741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0" descr=""/>
          <p:cNvPicPr/>
          <p:nvPr/>
        </p:nvPicPr>
        <p:blipFill>
          <a:blip r:embed="rId10"/>
          <a:stretch/>
        </p:blipFill>
        <p:spPr>
          <a:xfrm>
            <a:off x="5815080" y="4416480"/>
            <a:ext cx="698400" cy="409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1"/>
          <p:cNvSpPr/>
          <p:nvPr/>
        </p:nvSpPr>
        <p:spPr>
          <a:xfrm>
            <a:off x="6440040" y="4452840"/>
            <a:ext cx="741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32"/>
          <p:cNvSpPr/>
          <p:nvPr/>
        </p:nvSpPr>
        <p:spPr>
          <a:xfrm flipH="1" flipV="1">
            <a:off x="6108840" y="4819680"/>
            <a:ext cx="730080" cy="47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6436440" y="5807160"/>
            <a:ext cx="5799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N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4" descr=""/>
          <p:cNvPicPr/>
          <p:nvPr/>
        </p:nvPicPr>
        <p:blipFill>
          <a:blip r:embed="rId11"/>
          <a:stretch/>
        </p:blipFill>
        <p:spPr>
          <a:xfrm>
            <a:off x="6473880" y="529416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160" name="Line 35"/>
          <p:cNvSpPr/>
          <p:nvPr/>
        </p:nvSpPr>
        <p:spPr>
          <a:xfrm flipH="1">
            <a:off x="6218280" y="4270320"/>
            <a:ext cx="10944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36"/>
          <p:cNvSpPr/>
          <p:nvPr/>
        </p:nvSpPr>
        <p:spPr>
          <a:xfrm>
            <a:off x="5961240" y="4270320"/>
            <a:ext cx="22032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37"/>
          <p:cNvSpPr/>
          <p:nvPr/>
        </p:nvSpPr>
        <p:spPr>
          <a:xfrm>
            <a:off x="2971080" y="3200400"/>
            <a:ext cx="150804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MIPv6 Tun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146160" y="1673280"/>
            <a:ext cx="1463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8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182520" y="1600200"/>
            <a:ext cx="27799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bility Entiti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MA &amp; MA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ort Networ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4/IPv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N Addres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Pv4/IPv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nneling Mod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Pv4/IPv6-over-IPv4/IPv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Pv4/IPv6-over-IPv4/IPv6-G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Pv4/IPv6-over-IPv4-UD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736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equirements on the Access Lin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457200" y="106668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6520" indent="-236520">
              <a:lnSpc>
                <a:spcPct val="98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y Mobile IPv6 protocol requires the MAG to configure the same IPv6 interface identifier, link-layer address and advertise the mobile node’s home network prefixes on every access link, so the mobile node does not detect any change with respect to its layer-3 configuratio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685800" y="3276720"/>
            <a:ext cx="6629400" cy="2666880"/>
            <a:chOff x="685800" y="3276720"/>
            <a:chExt cx="6629400" cy="2666880"/>
          </a:xfrm>
        </p:grpSpPr>
        <p:pic>
          <p:nvPicPr>
            <p:cNvPr id="168" name="Picture 36" descr="j0235964"/>
            <p:cNvPicPr/>
            <p:nvPr/>
          </p:nvPicPr>
          <p:blipFill>
            <a:blip r:embed="rId1"/>
            <a:stretch/>
          </p:blipFill>
          <p:spPr>
            <a:xfrm>
              <a:off x="685800" y="3276720"/>
              <a:ext cx="85392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9"/>
            <p:cNvSpPr/>
            <p:nvPr/>
          </p:nvSpPr>
          <p:spPr>
            <a:xfrm>
              <a:off x="6629400" y="4343400"/>
              <a:ext cx="685800" cy="609480"/>
            </a:xfrm>
            <a:prstGeom prst="rect">
              <a:avLst/>
            </a:prstGeom>
            <a:solidFill>
              <a:srgbClr val="2d2d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0" name="Straight Arrow Connector 44"/>
            <p:cNvCxnSpPr/>
            <p:nvPr/>
          </p:nvCxnSpPr>
          <p:spPr>
            <a:xfrm>
              <a:off x="1142640" y="4114800"/>
              <a:ext cx="1080" cy="838800"/>
            </a:xfrm>
            <a:prstGeom prst="straightConnector1">
              <a:avLst/>
            </a:prstGeom>
            <a:ln w="9360">
              <a:solidFill>
                <a:srgbClr val="7f7f7f"/>
              </a:solidFill>
              <a:prstDash val="sysDash"/>
              <a:miter/>
              <a:tailEnd len="med" type="arrow" w="med"/>
            </a:ln>
          </p:spPr>
        </p:cxnSp>
        <p:grpSp>
          <p:nvGrpSpPr>
            <p:cNvPr id="171" name="Group 4"/>
            <p:cNvGrpSpPr/>
            <p:nvPr/>
          </p:nvGrpSpPr>
          <p:grpSpPr>
            <a:xfrm>
              <a:off x="3886200" y="3505320"/>
              <a:ext cx="2423160" cy="1142640"/>
              <a:chOff x="3886200" y="3505320"/>
              <a:chExt cx="2423160" cy="1142640"/>
            </a:xfrm>
          </p:grpSpPr>
          <p:sp>
            <p:nvSpPr>
              <p:cNvPr id="172" name="Rectangle 5"/>
              <p:cNvSpPr/>
              <p:nvPr/>
            </p:nvSpPr>
            <p:spPr>
              <a:xfrm rot="1354800">
                <a:off x="3912840" y="3971520"/>
                <a:ext cx="2287440" cy="1764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6"/>
              <p:cNvSpPr/>
              <p:nvPr/>
            </p:nvSpPr>
            <p:spPr>
              <a:xfrm rot="1354800">
                <a:off x="6021360" y="4427280"/>
                <a:ext cx="263880" cy="17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7"/>
              <p:cNvSpPr/>
              <p:nvPr/>
            </p:nvSpPr>
            <p:spPr>
              <a:xfrm rot="1354800">
                <a:off x="3909600" y="3548880"/>
                <a:ext cx="263880" cy="1764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Line 19"/>
            <p:cNvSpPr/>
            <p:nvPr/>
          </p:nvSpPr>
          <p:spPr>
            <a:xfrm flipH="1">
              <a:off x="6324840" y="4648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39"/>
            <p:cNvSpPr/>
            <p:nvPr/>
          </p:nvSpPr>
          <p:spPr>
            <a:xfrm>
              <a:off x="3200400" y="5334120"/>
              <a:ext cx="685800" cy="609480"/>
            </a:xfrm>
            <a:prstGeom prst="rect">
              <a:avLst/>
            </a:prstGeom>
            <a:solidFill>
              <a:srgbClr val="2d2d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A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49"/>
            <p:cNvSpPr/>
            <p:nvPr/>
          </p:nvSpPr>
          <p:spPr>
            <a:xfrm rot="5400000">
              <a:off x="1962000" y="3448080"/>
              <a:ext cx="7617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s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9"/>
            <p:cNvSpPr/>
            <p:nvPr/>
          </p:nvSpPr>
          <p:spPr>
            <a:xfrm flipH="1">
              <a:off x="1523520" y="3657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39"/>
            <p:cNvSpPr/>
            <p:nvPr/>
          </p:nvSpPr>
          <p:spPr>
            <a:xfrm>
              <a:off x="3200400" y="3352680"/>
              <a:ext cx="685800" cy="609480"/>
            </a:xfrm>
            <a:prstGeom prst="rect">
              <a:avLst/>
            </a:prstGeom>
            <a:solidFill>
              <a:srgbClr val="2d2d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A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 flipH="1">
              <a:off x="2514240" y="36576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 flipH="1">
              <a:off x="3885840" y="3657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Group 4"/>
            <p:cNvGrpSpPr/>
            <p:nvPr/>
          </p:nvGrpSpPr>
          <p:grpSpPr>
            <a:xfrm>
              <a:off x="3886200" y="4648320"/>
              <a:ext cx="2435400" cy="1106640"/>
              <a:chOff x="3886200" y="4648320"/>
              <a:chExt cx="2435400" cy="1106640"/>
            </a:xfrm>
          </p:grpSpPr>
          <p:sp>
            <p:nvSpPr>
              <p:cNvPr id="183" name="Rectangle 5"/>
              <p:cNvSpPr/>
              <p:nvPr/>
            </p:nvSpPr>
            <p:spPr>
              <a:xfrm rot="20298600">
                <a:off x="3918960" y="5129640"/>
                <a:ext cx="2287440" cy="1764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Oval 6"/>
              <p:cNvSpPr/>
              <p:nvPr/>
            </p:nvSpPr>
            <p:spPr>
              <a:xfrm rot="20298600">
                <a:off x="6034320" y="4690800"/>
                <a:ext cx="263880" cy="17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Oval 7"/>
              <p:cNvSpPr/>
              <p:nvPr/>
            </p:nvSpPr>
            <p:spPr>
              <a:xfrm rot="20298600">
                <a:off x="3909240" y="5536080"/>
                <a:ext cx="263880" cy="1764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" name="Line 19"/>
            <p:cNvSpPr/>
            <p:nvPr/>
          </p:nvSpPr>
          <p:spPr>
            <a:xfrm flipH="1">
              <a:off x="3885840" y="56390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7" name="Straight Arrow Connector 41"/>
            <p:cNvCxnSpPr/>
            <p:nvPr/>
          </p:nvCxnSpPr>
          <p:spPr>
            <a:xfrm>
              <a:off x="2895120" y="3657240"/>
              <a:ext cx="1080" cy="61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Line 19"/>
            <p:cNvSpPr/>
            <p:nvPr/>
          </p:nvSpPr>
          <p:spPr>
            <a:xfrm flipH="1">
              <a:off x="2514240" y="5715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9" name="Straight Arrow Connector 46"/>
            <p:cNvCxnSpPr/>
            <p:nvPr/>
          </p:nvCxnSpPr>
          <p:spPr>
            <a:xfrm flipV="1">
              <a:off x="2895120" y="5333760"/>
              <a:ext cx="1080" cy="381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0" name="TextBox 5"/>
            <p:cNvSpPr/>
            <p:nvPr/>
          </p:nvSpPr>
          <p:spPr>
            <a:xfrm>
              <a:off x="1676160" y="4343400"/>
              <a:ext cx="449604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Pv6 Interface Identifier: X (Fixed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-layer Identifier: Y (Fixed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obal IPv6 Prefixes: IP1, IP2 .. IPn (Fixed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4572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7200"/>
                <a:tab algn="l" pos="2441520"/>
                <a:tab algn="l" pos="3255840"/>
                <a:tab algn="l" pos="4070520"/>
                <a:tab algn="l" pos="4884840"/>
                <a:tab algn="l" pos="5699160"/>
                <a:tab algn="l" pos="6513480"/>
                <a:tab algn="l" pos="7327800"/>
                <a:tab algn="l" pos="8142120"/>
                <a:tab algn="l" pos="8956800"/>
                <a:tab algn="l" pos="9771120"/>
                <a:tab algn="l" pos="10585440"/>
              </a:tabLst>
            </a:pPr>
            <a:r>
              <a:rPr b="1" lang="en-GB" sz="3200" spc="-1" strike="noStrike">
                <a:solidFill>
                  <a:srgbClr val="0183b7"/>
                </a:solidFill>
                <a:latin typeface="Arial"/>
              </a:rPr>
              <a:t>Proposal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document proposes the following two IANA actions for reserving a fixed interface-identifier and link-layer address for the use of Proxy Mobile IPv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ction-1: This specification reserves an IPv6 interface identifier for Proxy Mobile IPv6 [RFC5213].  This fixed identifier needs to be reserved from the registry, "Reserved IPv6 Interface Identifier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ction-2: This specification reserves a IANA Ethernet unicast address for Proxy Mobile IPv6.  This address needs to be reserved from the block.  "IANA Ethernet Address block - Unicast Use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419120" y="3438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38080" y="3048120"/>
            <a:ext cx="739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4572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7200"/>
                <a:tab algn="l" pos="2441520"/>
                <a:tab algn="l" pos="3255840"/>
                <a:tab algn="l" pos="4070520"/>
                <a:tab algn="l" pos="4884840"/>
                <a:tab algn="l" pos="5699160"/>
                <a:tab algn="l" pos="6513480"/>
                <a:tab algn="l" pos="7327800"/>
                <a:tab algn="l" pos="8142120"/>
                <a:tab algn="l" pos="8956800"/>
                <a:tab algn="l" pos="9771120"/>
                <a:tab algn="l" pos="10585440"/>
              </a:tabLst>
            </a:pPr>
            <a:r>
              <a:rPr b="1" lang="en-GB" sz="3200" spc="-1" strike="noStrike">
                <a:solidFill>
                  <a:srgbClr val="0183b7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5080" indent="-23508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1080"/>
                <a:tab algn="l" pos="1625760"/>
                <a:tab algn="l" pos="2440080"/>
                <a:tab algn="l" pos="3254400"/>
                <a:tab algn="l" pos="4068720"/>
                <a:tab algn="l" pos="4883040"/>
                <a:tab algn="l" pos="5697360"/>
                <a:tab algn="l" pos="6512040"/>
                <a:tab algn="l" pos="7326360"/>
                <a:tab algn="l" pos="8140680"/>
                <a:tab algn="l" pos="8955000"/>
                <a:tab algn="l" pos="9769320"/>
                <a:tab algn="l" pos="1058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 to take the draft to IESG review for initiating the IANA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419120" y="3438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838080" y="3048120"/>
            <a:ext cx="739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"/>
          <p:cNvGrpSpPr/>
          <p:nvPr/>
        </p:nvGrpSpPr>
        <p:grpSpPr>
          <a:xfrm>
            <a:off x="0" y="0"/>
            <a:ext cx="9142560" cy="4269960"/>
            <a:chOff x="0" y="0"/>
            <a:chExt cx="9142560" cy="4269960"/>
          </a:xfrm>
        </p:grpSpPr>
        <p:sp>
          <p:nvSpPr>
            <p:cNvPr id="200" name="Rectangle 2"/>
            <p:cNvSpPr/>
            <p:nvPr/>
          </p:nvSpPr>
          <p:spPr>
            <a:xfrm>
              <a:off x="0" y="2118240"/>
              <a:ext cx="8913960" cy="2151720"/>
            </a:xfrm>
            <a:prstGeom prst="rect">
              <a:avLst/>
            </a:prstGeom>
            <a:solidFill>
              <a:srgbClr val="306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3"/>
            <p:cNvSpPr/>
            <p:nvPr/>
          </p:nvSpPr>
          <p:spPr>
            <a:xfrm>
              <a:off x="0" y="0"/>
              <a:ext cx="9142560" cy="136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2" name="Picture 4" descr=""/>
          <p:cNvPicPr/>
          <p:nvPr/>
        </p:nvPicPr>
        <p:blipFill>
          <a:blip r:embed="rId1"/>
          <a:srcRect l="13815" t="0" r="0" b="13714"/>
          <a:stretch/>
        </p:blipFill>
        <p:spPr>
          <a:xfrm>
            <a:off x="5638680" y="2119320"/>
            <a:ext cx="3505320" cy="2151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57240" y="2919240"/>
            <a:ext cx="55576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nter Van de Velde</dc:creator>
  <dc:description/>
  <dc:language>en-US</dc:language>
  <cp:lastModifiedBy>Sri Gundavelli</cp:lastModifiedBy>
  <dcterms:modified xsi:type="dcterms:W3CDTF">2011-07-24T03:45:33Z</dcterms:modified>
  <cp:revision>80</cp:revision>
  <dc:subject/>
  <dc:title>IPv6</dc:title>
</cp:coreProperties>
</file>