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A4F3-7DFA-4573-A126-7E948ACD5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E322-EE20-41F4-8371-987538C2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B25F-0349-4C91-8E02-C90BE812F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B50F-2541-4E3B-BA1A-F6C262FF8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E2AE-0577-462B-B1ED-1F16018D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6212-3CBB-4086-9D43-096732A8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29A6-1EB0-4865-90F0-6EA159D2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8334-9293-4176-B257-CBDC05CA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813E-294C-43FE-80CA-F7F69E23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E4A6-6660-4D0C-BB79-70D2F201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220C-837E-4FFC-AEBD-CB96B427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87CB-7A3D-4796-9502-8A4CF632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4D1C-8342-49DF-91E3-8B912FB11D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hengang@chinamobile.com" TargetMode="External"/><Relationship Id="rId2" Type="http://schemas.openxmlformats.org/officeDocument/2006/relationships/hyperlink" Target="mailto:denghui@chinamobile.com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NAT64 Operational Usages and Requirements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raft-chen-v6ops-nat64-cpe-02.txt</a:t>
            </a:r>
            <a:br>
              <a:rPr sz="9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ETF 81-Quebec, July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4648320"/>
            <a:ext cx="792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Gang Chen (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engang@chinamobile.co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ui Deng(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enghui@chinamobile.co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500" spc="-1" strike="noStrike">
                <a:solidFill>
                  <a:srgbClr val="000000"/>
                </a:solidFill>
                <a:latin typeface="Arial"/>
              </a:rPr>
              <a:t>Changes since IETF#80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dded and categorized NAT64 usages to propose NAT64 operational requirements on different m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1" descr=""/>
          <p:cNvPicPr/>
          <p:nvPr/>
        </p:nvPicPr>
        <p:blipFill>
          <a:blip r:embed="rId1"/>
          <a:stretch/>
        </p:blipFill>
        <p:spPr>
          <a:xfrm>
            <a:off x="6807240" y="2863800"/>
            <a:ext cx="2163600" cy="2184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64-C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64-C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loud"/>
          <p:cNvSpPr/>
          <p:nvPr/>
        </p:nvSpPr>
        <p:spPr>
          <a:xfrm>
            <a:off x="179280" y="3357720"/>
            <a:ext cx="1944720" cy="13017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loud"/>
          <p:cNvSpPr/>
          <p:nvPr/>
        </p:nvSpPr>
        <p:spPr>
          <a:xfrm>
            <a:off x="2340000" y="3357720"/>
            <a:ext cx="1944720" cy="13017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loud"/>
          <p:cNvSpPr/>
          <p:nvPr/>
        </p:nvSpPr>
        <p:spPr>
          <a:xfrm>
            <a:off x="4932360" y="3357720"/>
            <a:ext cx="1800360" cy="1204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16360" y="3789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364500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v6 Int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8840" y="3789360"/>
            <a:ext cx="360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43120" y="42991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92720" y="3645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v6 Int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297080" y="3379680"/>
            <a:ext cx="672840" cy="287280"/>
            <a:chOff x="1297080" y="3379680"/>
            <a:chExt cx="672840" cy="287280"/>
          </a:xfrm>
        </p:grpSpPr>
        <p:sp>
          <p:nvSpPr>
            <p:cNvPr id="58" name=""/>
            <p:cNvSpPr/>
            <p:nvPr/>
          </p:nvSpPr>
          <p:spPr>
            <a:xfrm>
              <a:off x="1380960" y="3379680"/>
              <a:ext cx="5029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7080" y="337968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S6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Rectangle 3"/>
          <p:cNvSpPr/>
          <p:nvPr/>
        </p:nvSpPr>
        <p:spPr>
          <a:xfrm>
            <a:off x="6521400" y="2876400"/>
            <a:ext cx="2317680" cy="22464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loud"/>
          <p:cNvSpPr/>
          <p:nvPr/>
        </p:nvSpPr>
        <p:spPr>
          <a:xfrm>
            <a:off x="7121520" y="3583080"/>
            <a:ext cx="1482840" cy="992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24560" y="34066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34200" y="3753000"/>
            <a:ext cx="1044360" cy="520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6" descr=""/>
          <p:cNvPicPr/>
          <p:nvPr/>
        </p:nvPicPr>
        <p:blipFill>
          <a:blip r:embed="rId3"/>
          <a:stretch/>
        </p:blipFill>
        <p:spPr>
          <a:xfrm>
            <a:off x="7940520" y="4098960"/>
            <a:ext cx="45252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1600200"/>
            <a:ext cx="712152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package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jus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wording draft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MCC</cp:lastModifiedBy>
  <dcterms:modified xsi:type="dcterms:W3CDTF">2011-07-27T16:29:29Z</dcterms:modified>
  <cp:revision>10</cp:revision>
  <dc:subject/>
  <dc:title>NAT64 Operational Modes   draft-chen-v6ops-nat64-cpe-02.txt  IETF 81-Quebec, July 2011</dc:title>
</cp:coreProperties>
</file>