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ADA-ED9A-4712-B82A-95EFD3A5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3C1-7F01-486D-9D22-534ECC32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055-6F39-45B2-8B65-8E79CFD3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CBA-507B-4E32-AE97-3AE84F9E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B0B-A214-4986-923B-8A4F33D1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7CB-BB52-46AE-A094-0E79C695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019-6472-4C7D-B01D-E8A46D9E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900-1B83-44AE-B6D3-B99B798D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C63-2CDF-4D6B-AEA2-E04CCA20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B65-0011-4721-A24A-0C11811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190-7CCB-41D2-8959-D590EFD1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CE7-D759-4965-B100-A2E1BF0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125-6D88-467C-AA3B-F603A05873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engang@chinamobile.com" TargetMode="External"/><Relationship Id="rId2" Type="http://schemas.openxmlformats.org/officeDocument/2006/relationships/hyperlink" Target="mailto:denghui@chinamobile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AT64 Operational Usages and Requirements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raft-chen-v6ops-nat64-cpe-02.txt</a:t>
            </a:r>
            <a:br>
              <a:rPr sz="9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64832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ang Chen (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ngang@chinamobile.c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ui Deng(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nghui@chinamobile.c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500" spc="-1" strike="noStrike">
                <a:solidFill>
                  <a:srgbClr val="000000"/>
                </a:solidFill>
                <a:latin typeface="Arial"/>
              </a:rPr>
              <a:t>Changes since IETF#8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dded and categorized NAT64 usages to propose NAT64 operational requirements on different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1" descr=""/>
          <p:cNvPicPr/>
          <p:nvPr/>
        </p:nvPicPr>
        <p:blipFill>
          <a:blip r:embed="rId1"/>
          <a:stretch/>
        </p:blipFill>
        <p:spPr>
          <a:xfrm>
            <a:off x="6807240" y="2863800"/>
            <a:ext cx="2163600" cy="2184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64-C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64-C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"/>
          <p:cNvSpPr/>
          <p:nvPr/>
        </p:nvSpPr>
        <p:spPr>
          <a:xfrm>
            <a:off x="179280" y="3357720"/>
            <a:ext cx="1944720" cy="1301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2340000" y="3357720"/>
            <a:ext cx="1944720" cy="1301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/>
          <p:cNvSpPr/>
          <p:nvPr/>
        </p:nvSpPr>
        <p:spPr>
          <a:xfrm>
            <a:off x="4932360" y="3357720"/>
            <a:ext cx="1800360" cy="1204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378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6450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8840" y="3789360"/>
            <a:ext cx="36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43120" y="42991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3645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97080" y="3379680"/>
            <a:ext cx="672840" cy="287280"/>
            <a:chOff x="1297080" y="3379680"/>
            <a:chExt cx="672840" cy="287280"/>
          </a:xfrm>
        </p:grpSpPr>
        <p:sp>
          <p:nvSpPr>
            <p:cNvPr id="58" name=""/>
            <p:cNvSpPr/>
            <p:nvPr/>
          </p:nvSpPr>
          <p:spPr>
            <a:xfrm>
              <a:off x="1380960" y="3379680"/>
              <a:ext cx="5029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7080" y="3379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S6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3"/>
          <p:cNvSpPr/>
          <p:nvPr/>
        </p:nvSpPr>
        <p:spPr>
          <a:xfrm>
            <a:off x="6521400" y="2876400"/>
            <a:ext cx="2317680" cy="22464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/>
          <p:cNvSpPr/>
          <p:nvPr/>
        </p:nvSpPr>
        <p:spPr>
          <a:xfrm>
            <a:off x="7121520" y="3583080"/>
            <a:ext cx="1482840" cy="992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24560" y="34066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34200" y="3753000"/>
            <a:ext cx="1044360" cy="52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"/>
          <p:cNvPicPr/>
          <p:nvPr/>
        </p:nvPicPr>
        <p:blipFill>
          <a:blip r:embed="rId3"/>
          <a:stretch/>
        </p:blipFill>
        <p:spPr>
          <a:xfrm>
            <a:off x="7940520" y="4098960"/>
            <a:ext cx="45252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600200"/>
            <a:ext cx="71215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ackag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jus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ording draft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MCC</cp:lastModifiedBy>
  <dcterms:modified xsi:type="dcterms:W3CDTF">2011-07-27T16:29:29Z</dcterms:modified>
  <cp:revision>10</cp:revision>
  <dc:subject/>
  <dc:title>NAT64 Operational Modes   draft-chen-v6ops-nat64-cpe-02.txt  IETF 81-Quebec, July 2011</dc:title>
</cp:coreProperties>
</file>