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86A-667C-4C57-B243-F33BBC2A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369-D200-4610-94C2-FDC34542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0B9F1-5B4E-4E0D-8466-B1C73A92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6677-2A68-4F9B-876E-3375321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6921-A2D9-481D-BF16-946A584D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F068-46A5-4BB9-91E8-BC8BB2FE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28FB-8DAF-4C79-938D-47071EA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E8768-EFAE-4833-BA70-3416562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EC542-EB50-4F47-8003-BEA89B3A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CF713-9B0F-457C-B7BB-274FEB0C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764CC-8782-4A0D-BC70-E15C85D6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D6390-3B29-4A13-9FA5-74C9EA30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F5D-9B87-48DF-8CE1-B93D6CA2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D1630-B286-4F0E-9170-C9976B7B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4152-F47D-4543-8D4C-C4A1B815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2ED9F-3127-4425-8126-633EC40C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57C12-BFE1-4F26-B8A1-1C82EF48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ED16D-A5CD-4AA1-A227-E169AB91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BD3C2-3A34-4094-9348-8BE339E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3D1D2-2036-4E8D-94BE-36297F5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5BDC0-CB21-437A-8984-8719D65D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23810-8D7B-484F-859F-5B6277D9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02CF8-630A-4878-AC80-CD80D8FB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7BC-9EEE-45DC-BC80-56DA33D2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77CD0-E2E3-442B-B9A0-173973DB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2782B-9E53-4B03-A344-A102B261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3EFC4-18C3-489E-BCAA-6F02796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FED40-2E1F-486E-9E84-989E26D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F1945-EAED-432B-A2E3-5263CB52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BB84F-AF48-4E3C-B10B-E15C79E5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14B96-50C7-40AB-9B33-9D070D36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64419-E550-4AAC-9AA5-92A7163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64F80-171E-4644-A08A-CCD90ECD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1FD29-E301-4674-9122-5ED157E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85031-74EC-422B-93B6-C5CA279A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507D6-D0A6-4BCD-824E-CF278736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E0D9-D7BA-482B-ADD2-8BD775BF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15DA-FAE3-4EA2-8303-D57A75F7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F9280-F5F3-4B5A-80D7-1600E51C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72E84-11E5-43D7-97AB-480F8F6B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14363-A70B-4C5B-88B3-2D53A12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01B3B-785E-4B93-AABE-B0CFF1B7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E7163-9809-47B5-BD0B-1420A033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BAFE0-8AB5-412C-BDB8-DECB3B5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9B95F-DD8B-4260-858A-6319277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5A46E-75CC-4713-B78C-2B2F27B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303FF-F0A7-4796-8344-39AF4363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7EE1-89C7-41D6-8578-28E747B6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74B47-E682-4F58-B1D0-9BAAD0F3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C49-9215-49FD-ACB7-3703721A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4869-70C8-4DA4-8365-7F24E0A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A59-2EBF-49B7-A27A-3BE366CB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0738-BFA4-4F32-9376-69EF8C21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A138-5129-4668-BB19-545A7E03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2F1-8737-49E0-870F-216E801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05E-DCB1-482F-9BFC-62521ED9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E7D1-5E37-4502-A4DA-4C329801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B20-B1BF-4FD4-8011-A1E79B1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2FBD-16B8-4E7B-8F7C-E080FF8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C47-4C16-42CA-B0C0-9F1FD77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CE7-0278-48BE-8480-451E9FA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ECEB-5EE2-41FE-9229-47F9A007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7665-2831-4409-A045-51A5C10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0F5E-552B-48BD-AF69-990B8B23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F8BD-A1CD-4922-99BF-399630F3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BA78-C9F5-4E4D-B33D-9F38CF8F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4B8-08C7-4AF2-9E24-036045C6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7315-BEDB-4A3D-94A1-AF36C71C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B5B1-D0C7-46CD-B873-5B35B59F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F1AC-7CBA-4983-8BE7-BAC97D0B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F301-67A4-4996-9DEA-BEFAF05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2AEA-7F04-486B-8B25-BF011D2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B599-722E-4FA7-9A07-31E15E7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2180-8DDC-4635-9333-AA55542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71E3-5124-40DC-A05C-3D96F6C9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B0EC-0966-4D8C-8FA2-A0034E33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1100-567A-4BB0-A935-7278FC50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C01-2DD7-4AD1-9BDB-27B4958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F43E-0BA3-4945-B1CC-2121D8FD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916D-B6BB-4587-8923-63EA61D1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BA1D-F0AF-4C60-8C6D-9B32F0F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7FB9C-4A54-4D5B-9AE8-A608D581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E8AF-2ADE-43DE-AEBF-44DF214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2598-25A3-4464-A09F-7D79B2AF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1572-ADB8-4852-AF6A-A130B3EE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79FC-F8FA-4C9A-B8A1-A71B12F9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7B2F-FA67-4C35-BD0C-5901BF8D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6306-2E70-405C-8DCF-1BCCD050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39D-D23E-4CBC-B57D-1DE3B76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BF52-C8C1-412F-B59F-A2A3328D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A2B8A-8CC9-453D-8569-335811E2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91CBC-2FC0-4701-9181-D902BD8D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ED3F-25E3-4C82-AB9E-4853683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2CC3-13F6-42A8-BFFE-E695499D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78262-A132-4E0B-B871-F8018038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C36A-8665-4EBC-92E0-93598E3A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0AD20-05AC-44CA-840E-2901605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A412-9BBD-43A3-954B-BD4B0649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DC219-2385-4EA9-8A86-5FC7F26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196-EC43-4877-812F-D91B9AB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6F3D-D3F0-4D75-959A-E2928146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54D2-3EAE-49EF-9CDC-FD025060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3FBB0-4254-4C42-8613-EA56D0D0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BD30C-EF72-4803-9977-77584E24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5CEF-5CEC-44F7-BD09-6EAB0CD0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23D1-DCE5-4F40-BD75-1815D15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CEE5-FB9D-4D79-9A73-E8066F3C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6CAB-FE60-42A6-BD38-1D291E8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DF865-FFA8-4D71-A67E-6DB1E78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22C9B-C79E-47A4-BB22-C177C57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A49-EA00-4AA2-B005-192FE83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82FD-08E5-444D-92A4-342B34D3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8AD5C-5706-41E8-A683-710AE935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D2D25-89DB-48DB-9A2D-4E51F1F2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7B8F-3CA3-45F3-8F9A-2299136D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AF411-925A-44E3-8DBA-0ACED003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C006-7C00-473B-8B43-AF842B78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3644-4AA6-41CF-9947-D880B57F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C5CA9-C8B4-4B1D-9223-A7D11FD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C656E-7756-4715-A07F-62D1AABA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5C7D8-97A5-434A-BA37-A067553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EFD-EE4C-4C29-A6AA-4E29DF5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86840" y="13284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07B1-9C95-4AE3-AAC3-E15E4F1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E2EE-A253-46AC-991E-E08468C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82861-FA67-47E5-B97B-5000782B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356C2-F6BD-4344-B34E-8C8F63C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3600" y="4079160"/>
            <a:ext cx="82328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A726-916F-447B-92B1-5A7C7CA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440" y="187308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360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440" y="4079160"/>
            <a:ext cx="40176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594B-97B3-4105-93C2-1D6FCA61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712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0640" y="187308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360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712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0640" y="4079160"/>
            <a:ext cx="26506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DE2C-D05F-4065-887F-B07615D2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66D06-4C71-4E91-A471-5F4E1B65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2F30A-C046-428F-8684-E6048DF0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3FB4F-5ECB-4433-8181-E6530529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0F5B-9C7B-44B9-9319-2461BFD6C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A164-2E22-4EA4-B36D-6531B9A03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AB1A-332A-4F41-BD3C-D372E3B6D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6DD-D584-4993-9466-1C43EA1FC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4a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BottomCurve_541"/>
          <p:cNvPicPr/>
          <p:nvPr/>
        </p:nvPicPr>
        <p:blipFill>
          <a:blip r:embed="rId2"/>
          <a:stretch/>
        </p:blipFill>
        <p:spPr>
          <a:xfrm>
            <a:off x="0" y="4554360"/>
            <a:ext cx="914544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0" y="6469200"/>
            <a:ext cx="9144000" cy="39672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ross and Shield_541c"/>
          <p:cNvPicPr/>
          <p:nvPr/>
        </p:nvPicPr>
        <p:blipFill>
          <a:blip r:embed="rId3"/>
          <a:stretch/>
        </p:blipFill>
        <p:spPr>
          <a:xfrm>
            <a:off x="6826320" y="5176800"/>
            <a:ext cx="1789200" cy="879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0" y="65898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Blue Cross Blue Shield of Michigan is a nonprofit corporation and independent licensee of the Blue Cross and Blue Shield Associ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766-CCD5-408A-9EBA-A4606AD08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96EA-6D7F-4535-97F7-D85A5A7F5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001-6926-48F9-A550-DE5512956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DF5-D4E8-47F1-ADF5-3EAFF668B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F76-ADEF-453C-87DE-4A45D34AA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D96B-D93D-4AD7-B082-94A4269EB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TopCurve_542"/>
          <p:cNvPicPr/>
          <p:nvPr/>
        </p:nvPicPr>
        <p:blipFill>
          <a:blip r:embed="rId2"/>
          <a:stretch/>
        </p:blipFill>
        <p:spPr>
          <a:xfrm>
            <a:off x="0" y="0"/>
            <a:ext cx="9144000" cy="1693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ross and Shield_541c"/>
          <p:cNvPicPr/>
          <p:nvPr/>
        </p:nvPicPr>
        <p:blipFill>
          <a:blip r:embed="rId3"/>
          <a:stretch/>
        </p:blipFill>
        <p:spPr>
          <a:xfrm>
            <a:off x="7723080" y="130320"/>
            <a:ext cx="1173240" cy="576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304560" y="661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557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768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0A2-691C-4A0B-9EEC-67EEEDC98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ckermann@bcbsm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9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net Engineering Task For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228600" y="33523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 July 26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Ackermann: BCBS Michiga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ckermann@bcbsm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lini Elkins: Inside Products, Inc. (Nalini.elkins@insidethestack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92120" y="2057400"/>
            <a:ext cx="508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C for IPv6 IP Identification (IPID)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elkins-6man-ipv6-diagnostic-header-00.t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3600" y="1873080"/>
            <a:ext cx="823284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ID FIELD IN IPv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ID FIELD IN IPv6 – CURREN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 FOR IPID FIELD IN IPv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707724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105-217D-421B-B5E2-28A8A8C6F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86840" y="13284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ID FIELD IN IPv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9120" y="1143000"/>
            <a:ext cx="8232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PID: Internet Protocol Identification.  Provides a unique identifying number for a given IP packet within a flow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called Datagram numbe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ated Us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able Fragment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 Facto Us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gically associate packets across complex network situ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 particular value in matching traces taken at multiple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708660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0851-CE65-499C-89CC-D50E21A53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ID FIELD IN IPv6 – CURRENT STATE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520" y="1219320"/>
            <a:ext cx="8232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ed in Fragment Extension Header (Type 4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2 bit field at offset 4 in FE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y used if Fragmentation requi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a 32 bit field large enough?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PID not always available to facilitate network diagnostics. ***********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707724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7239-1609-4655-ACFF-80722A5DD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ATION FOR IPID FIELD IN IPv6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09120" y="1294920"/>
            <a:ext cx="8232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in Destination Options Extension Header (Type 6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Option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 or 64 bit field at offset 8 in DOH. (Options Fiel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er sent by implementations upon reque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ent in Diagnostic Mode, header MUST be ignored by receiver (intended for packet trace systems only)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DOH Option is propos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ture: Additional Options could be added for other diagnostic or security purposes as deemed appropriat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707724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0C29-1769-4604-A05B-F60814682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4:16:18Z</dcterms:created>
  <dc:creator>e120832</dc:creator>
  <dc:description/>
  <dc:language>en-US</dc:language>
  <cp:lastModifiedBy>Nalini Joshi</cp:lastModifiedBy>
  <dcterms:modified xsi:type="dcterms:W3CDTF">2011-07-23T18:13:42Z</dcterms:modified>
  <cp:revision>196</cp:revision>
  <dc:subject/>
  <dc:title>All Team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Presentations</vt:lpwstr>
  </property>
  <property fmtid="{D5CDD505-2E9C-101B-9397-08002B2CF9AE}" pid="3" name="ContentTypeId">
    <vt:lpwstr>0x010100CC69FDEEE20DF64D81C34FFA6D4E497C</vt:lpwstr>
  </property>
  <property fmtid="{D5CDD505-2E9C-101B-9397-08002B2CF9AE}" pid="4" name="Function 2">
    <vt:lpwstr/>
  </property>
  <property fmtid="{D5CDD505-2E9C-101B-9397-08002B2CF9AE}" pid="5" name="SME">
    <vt:lpwstr>196;#Irick, Liz</vt:lpwstr>
  </property>
  <property fmtid="{D5CDD505-2E9C-101B-9397-08002B2CF9AE}" pid="6" name="Target Audiences">
    <vt:lpwstr/>
  </property>
</Properties>
</file>