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662-AD45-42FB-A24E-6C20477E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274-B58C-4344-B6CB-C3891802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97FEA-CCE9-41AA-8A7F-206A86D0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E05FE-993E-4D3B-BCF5-107267FA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B8B01-AA9F-4945-9203-94607102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4E207-D543-4D31-9508-AFEBBF72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698F9-2BC5-427F-AAC7-4B743251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EEE84-057C-4B21-BC0F-2D8CEA24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11400-21B7-4A85-8C00-2706F69B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63CA2-BAC3-4CB5-B4F2-C240943C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020A9-2FFF-4D88-8349-272DE1D2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06B70-312D-4DA9-8442-B1F3C2F5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585-58FC-4846-90F0-2CE90CE5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396E5-029D-45EC-AE9E-5B128522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1D623-85E5-4C6E-9AA2-F94B4E89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E5A68-53AD-4927-A1CE-37A7D0DC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C7194-FCFB-4FBB-AFB3-F3673192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10147-0DDC-42A2-8B4D-A34B0D3C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55C29-05B5-4937-990E-1353EC63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58EC5-D88F-4E74-B8EF-BB3A0340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9E5EA-7F3A-4C33-A873-D946B2B4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E3674-58B7-4836-9437-CAA6BD24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F071E-6899-4A41-85C2-7C2156F7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CC9-CD9F-4230-8045-6AB062E6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9B297-ECF3-4812-ADE6-B8ABACFC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544AD-4866-44CD-B205-C8A20853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CA323-A575-4D1D-A936-06757E1C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06EDF-0A8E-4732-8F19-EE659D6E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879AB-9EBB-43AB-B4B9-7BB26D31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00137-8FA1-42C2-9E61-C1B1ACFD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2C36D-06ED-4979-A958-5421728F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1DCAB-39BF-4D97-946C-B43459D8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34EF5-1FCF-4659-BD5F-B082F354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42DFF-577C-4BE6-A529-74FF8342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3C4EF-B86E-4270-9864-C06978E6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6041F-45A7-45BE-BC69-8092DA8E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15216-C781-4ADB-AC87-2D676BB7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5ABF3-746C-47B1-ACE8-81144856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65438-897B-4174-AA07-347CE8C2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8F1FC-97FE-4A1E-AC97-48F6D1E4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7EEE8-7EF0-4570-81CF-B2EF7472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93A59-8F52-4436-BA6E-717BB4A6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50E92-DA4A-4139-B110-243A0A4E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4C3D3-98A8-42EB-AAFB-2392D80B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C91FF-464D-4E3F-A0FA-75314D68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A2C96-2CE6-4594-B75E-303DE41B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51FC0-13AF-44DC-8D9F-413EC604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AFD0C-C1F7-49CC-9BD5-A80DB70E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6070C-069F-4DA6-BBD0-2C35E1B3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ED0-730F-4497-8702-3C99F14B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7A2E-F444-4CCC-8A45-41106C3D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DA07-17B7-4AC3-9FF7-3204ABC6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5CCB-4370-491A-8899-4888EDB5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91B4-2B2B-41FB-ADDE-8C7C6031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555B-E092-4781-8DE7-54636D6C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859-6C4D-445B-8116-FD17B363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AA0D-EB70-474A-88D3-684582BA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CCE5-BE85-47A1-A302-23678469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9B2D-4571-4C7A-AB9C-8C150B23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B39F-BE2D-4369-B23E-5223B879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89B7-7A49-4212-BF24-9DE01D29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9282-F0E5-4BA3-A545-1897D5D9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53BC-82B2-4F2D-94F5-4A57F88C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C6CB6-DD98-409B-977E-6A9062F3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B95A-8E87-4B4C-943E-C6FEFF60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77E6F-0678-4A37-82F9-2CD2F95E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A47-F7F3-44E9-AF39-53804704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14D4-8E34-4989-9650-44B3B1A9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10028-D8EC-4C63-ADCC-D36A32A2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D3CF3-112C-4CCE-9CFE-77832D68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42AEB-18EF-4988-A27E-1446E6F1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C9161-37C0-439B-ADA5-41EAE7E4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FA552-4512-40D3-8AE2-8552E4EF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990FD-9694-4B7C-97D0-7632549C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75BBE-01FE-42CA-8AA1-E1B0DED2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9781-480A-4B69-AB43-7ADA3D0C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F5FC2-E9AA-41E0-BA9C-ECE9D4E3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2AC-69A5-4A38-AC56-7D398034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963B0-BAA9-4D98-9F27-73752CDA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0C45A-C148-4930-A616-8B4E1644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F0B88-D20F-4DFE-9CF3-57DD4F3D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CABFA-C38B-4752-8A97-D89463B5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6C50A-0134-4DB6-8D49-A5C2F54F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31BA6-7973-459F-BFC1-DB668E14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BC577-5410-4F95-BF6B-2950DB15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D518E-9985-4FFE-B92C-9DA806D9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69CF8-768F-4DDF-974E-535F0209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8B4DA-6E0F-4778-9D9C-CCE016F2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8E13-FEE7-47F8-B2D3-F74D5F16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EB518-2D81-42AA-8C5D-C030A1F8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76A46-A813-44C4-8CEB-90EF7F35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E4F67-756D-42D1-96F2-FC25899A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3854F-75F5-4EF6-AABC-B1311DD4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06994-13DE-4033-BA18-2D13FCB3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44372-C7EA-4756-8CF3-407C912E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4BE70-D4E3-4125-9F6B-CD0126ED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884A3-5A9A-436E-A564-CF8CD607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67BA1-E8DB-43E2-93B5-D7656717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3F9B3-A0C3-436B-A41A-0E8C5E56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15E-3BAE-48CA-9548-8DBA4916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32698-7B9E-4D1E-954B-5DEDDF22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8C298-0363-411C-A221-5ABCE5D4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9C1DE-FDA1-4048-8702-DBC2310A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D8F4A-CED6-4356-8AEC-7437E887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D1399-F5EA-470F-8305-0BF1C3B3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5C3D1-77EE-4B7E-9CC9-D498A0EA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2AE20-3071-49E2-9C2F-6FBED470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CD726-8E44-4A97-9713-C4D45818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4C546-76E5-452E-9BCA-8F9EFD74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04B9A-0027-4850-89D7-1A3F4515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E79-836C-4003-A2CD-62E7E0A4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61812-1E59-49B9-939F-DE703497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A2E7E-A90E-4E24-95AC-12671196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E71D1-F618-42AB-A800-BCE9E1F0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E75C5-B466-4821-939E-0C73ACEF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87B26-377A-411E-985E-7DD3CCF9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79BCD-A848-40AA-9907-3C6B92DB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1CC43-EF75-4E32-91F2-814924AB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CC321-EEC5-4D0C-A32A-32C8BAF0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21AA5-5F20-4D05-9DC3-D452D810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A124B-0C04-4DA3-B44D-8C80F8C6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41C-2DB6-457E-8C89-16302110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5C0A6-1962-46D4-A168-9D0AB608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DD742-C020-47A1-B832-47914F79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DB89C-16B7-487E-BD0E-DB65E9D6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D0583-EAFB-4198-B946-8BD66D12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93376-73DD-4FD5-BFB0-3197DAF6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796B8-0BA5-4C52-B69B-640CA069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FACDF-648C-47E3-A2CE-B91BB936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E7E8A-9D1E-420D-A4C4-8BBB076D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6969C-7476-49A1-A270-9AFE0EB4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2A91A-5C5C-4C30-BE5D-0ED4DD5A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83A2-6EDF-4F0C-A3A0-0F0957A34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6628-E4CA-4774-91CA-1C2307D0D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B834-AC17-49B7-981A-6744EB0F1E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7AB9-003C-4449-95AD-2C9A0D394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4a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BottomCurve_541"/>
          <p:cNvPicPr/>
          <p:nvPr/>
        </p:nvPicPr>
        <p:blipFill>
          <a:blip r:embed="rId2"/>
          <a:stretch/>
        </p:blipFill>
        <p:spPr>
          <a:xfrm>
            <a:off x="0" y="4554360"/>
            <a:ext cx="9145440" cy="2303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0" y="6469200"/>
            <a:ext cx="9144000" cy="39672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ross and Shield_541c"/>
          <p:cNvPicPr/>
          <p:nvPr/>
        </p:nvPicPr>
        <p:blipFill>
          <a:blip r:embed="rId3"/>
          <a:stretch/>
        </p:blipFill>
        <p:spPr>
          <a:xfrm>
            <a:off x="6826320" y="5176800"/>
            <a:ext cx="1789200" cy="879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0" y="65898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Blue Cross Blue Shield of Michigan is a nonprofit corporation and independent licensee of the Blue Cross and Blue Shield Associ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43DA-9B09-47D2-9C93-CED00D493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A244-FCEE-47F9-883A-DCF0C1C18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BFF3-D05E-4747-931D-3BC90F06D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878F-3DFC-4817-BED0-64086E1E8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057A-E9AF-4725-802D-02CFE6ECBD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E17B-0E6B-4C98-A056-78E41EA5E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2446-C943-4074-B9AD-1839E097D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ckermann@bcbsm.com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1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ernet Engineering Task For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228600" y="33523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 July 26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e Ackermann: BCBS Michigan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ckermann@bcbsm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lini Elkins: Inside Products, Inc. (Nalini.elkins@insidethestack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92120" y="2057400"/>
            <a:ext cx="508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C for IPv6 IP Identification (IPID)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elkins-6man-ipv6-diagnostic-header-00.t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Y’S 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ID FIELD IN IPv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ID FIELD IN IPv6 – CURREN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ATION FOR IPID FIELD IN IPv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707724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2728-6059-4B10-B599-DB33BBAC8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ID FIELD IN IPv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09120" y="1143000"/>
            <a:ext cx="8232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PID: Internet Protocol Identification.  Provides a unique identifying number for a given IP packet within a flow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 called Datagram numbe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tated Us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able Fragment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 Facto Us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gically associate packets across complex network situation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f particular value in matching traces taken at multiple poi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7086600" y="6629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DCE7-EEAC-48D7-92F1-FA923839EC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ID FIELD IN IPv6 – CURRENT STATE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33520" y="1219320"/>
            <a:ext cx="8232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ed in Fragment Extension Header (Type 4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2 bit field at offset 4 in FE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ly used if Fragmentation requir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a 32 bit field large enough?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PID not always available to facilitate network diagnostics. ***********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707724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FB94-B1E6-404B-ADA0-257E2E503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MMENDATION FOR IPID FIELD IN IPv6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09120" y="1294920"/>
            <a:ext cx="8232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 in Destination Options Extension Header (Type 6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Option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2 or 64 bit field at offset 8 in DOH. (Options Fiel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der sent by implementations upon reque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ent in Diagnostic Mode, header MUST be ignored by receiver (intended for packet trace systems only)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DOH Option is propos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ture: Additional Options could be added for other diagnostic or security purposes as deemed appropriate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707724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9C09-1764-4820-AE78-B018BE312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4:16:18Z</dcterms:created>
  <dc:creator>e120832</dc:creator>
  <dc:description/>
  <dc:language>en-US</dc:language>
  <cp:lastModifiedBy>Nalini Joshi</cp:lastModifiedBy>
  <dcterms:modified xsi:type="dcterms:W3CDTF">2011-07-23T18:13:42Z</dcterms:modified>
  <cp:revision>196</cp:revision>
  <dc:subject/>
  <dc:title>All Team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">
    <vt:lpwstr>Presentations</vt:lpwstr>
  </property>
  <property fmtid="{D5CDD505-2E9C-101B-9397-08002B2CF9AE}" pid="3" name="ContentTypeId">
    <vt:lpwstr>0x010100CC69FDEEE20DF64D81C34FFA6D4E497C</vt:lpwstr>
  </property>
  <property fmtid="{D5CDD505-2E9C-101B-9397-08002B2CF9AE}" pid="4" name="Function 2">
    <vt:lpwstr/>
  </property>
  <property fmtid="{D5CDD505-2E9C-101B-9397-08002B2CF9AE}" pid="5" name="SME">
    <vt:lpwstr>196;#Irick, Liz</vt:lpwstr>
  </property>
  <property fmtid="{D5CDD505-2E9C-101B-9397-08002B2CF9AE}" pid="6" name="Target Audiences">
    <vt:lpwstr/>
  </property>
</Properties>
</file>