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157-1278-42E8-B8F4-A6BFFDC7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4DD-3BDF-47E4-82B0-B2A5B9E6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9AA-A3B8-42A5-A2AF-585EBBBD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E80-6328-4C50-A3F3-8252D85E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DE8-115E-49C3-9838-B12F7252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66B-4871-4A48-A3A5-792BFE29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69D-FFA9-4755-888B-79F8435A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0CD-36A5-46D0-BA65-2EF00DF4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C85-5706-4614-81ED-09E491B0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2A2-79BA-43E6-A8C8-E12C8A5D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61C-3B8A-4D45-948C-E28D7DF3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D11-9DC8-48E3-ACB7-04DEF34A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5591-876C-4A56-898C-31327D3EB7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7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9.png"/><Relationship Id="rId20" Type="http://schemas.openxmlformats.org/officeDocument/2006/relationships/image" Target="../media/image16.png"/><Relationship Id="rId21" Type="http://schemas.openxmlformats.org/officeDocument/2006/relationships/image" Target="../media/image7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7.png"/><Relationship Id="rId18" Type="http://schemas.openxmlformats.org/officeDocument/2006/relationships/image" Target="../media/image17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9.png"/><Relationship Id="rId22" Type="http://schemas.openxmlformats.org/officeDocument/2006/relationships/image" Target="../media/image16.png"/><Relationship Id="rId23" Type="http://schemas.openxmlformats.org/officeDocument/2006/relationships/image" Target="../media/image7.png"/><Relationship Id="rId24" Type="http://schemas.openxmlformats.org/officeDocument/2006/relationships/image" Target="../media/image18.png"/><Relationship Id="rId25" Type="http://schemas.openxmlformats.org/officeDocument/2006/relationships/image" Target="../media/image7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V6 – stateless 4Via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581280"/>
            <a:ext cx="6716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http://tools.ietf.org/html/draft-dec-stateless-4v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neva"/>
                <a:ea typeface="Geneva"/>
              </a:rPr>
              <a:t>W. Dec (wdec@cisco.c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neva"/>
                <a:ea typeface="Geneva"/>
              </a:rPr>
              <a:t>R. Asati (rajiva@cisco.c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. Bao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ongxiao@cernet.edu.c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. Deng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ghui@chinamobile.c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neva"/>
                <a:ea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DE86-B128-44C5-A0DF-0E442D4DDE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V6 in PCM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Table 4" descr=""/>
          <p:cNvPicPr/>
          <p:nvPr/>
        </p:nvPicPr>
        <p:blipFill>
          <a:blip r:embed="rId1"/>
          <a:stretch/>
        </p:blipFill>
        <p:spPr>
          <a:xfrm>
            <a:off x="182520" y="969840"/>
            <a:ext cx="8753400" cy="59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5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 critical technical issues with 4V6 and either the 4V6 mapped-tunnel or translation based mod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th approaches represent valid cho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anslated (non encapsulated) transport appears to be operationally less impactful to broader systems and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-uses native IPv6 network features and system 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es not require numerous IPv4 extensions to standard architectures that already support IPv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al impact of both approaches should be documented and trade-offs outlined/clarifi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B01B-F9BB-475F-9FF6-27F2D46742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160" y="1676520"/>
            <a:ext cx="774684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otivation for stateless solutions can be found in: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raft-operators-softwire-stateless-4v6-moti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stateless solutions have been propos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rd, 4v6 (encapsulated or translated mo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-PD (translated mo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se stateless solutions have shared characteristics; commonly termed stateless 4V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in differences lies in algorithm and form of transport: v4-v6 Mapped-Encapsulation or v4-v6 Trans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presentation focuses on the operational considerations of Stateless4V6 and its forms of trans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t also looks at the 4V6 impact when applied to wider industry standard architec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F4AC-3A2B-433D-8ADE-390E6232A3B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V6 IPv6 Add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200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 IPv6 subnet is assigned announced via DHCPv6-PD or RA (/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NOT in addition to another PD or RA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V6 index encodes all or part of the IPv4 address + a port inde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5B17-EDFE-465E-9C4F-D27D839C97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1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9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7029360" y="1465200"/>
            <a:ext cx="1670040" cy="12272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2293920" y="1219320"/>
            <a:ext cx="614520" cy="1218960"/>
          </a:xfrm>
          <a:custGeom>
            <a:avLst/>
            <a:gdLst>
              <a:gd name="textAreaLeft" fmla="*/ 29880 w 614520"/>
              <a:gd name="textAreaRight" fmla="*/ 584640 w 614520"/>
              <a:gd name="textAreaTop" fmla="*/ 29880 h 1218960"/>
              <a:gd name="textAreaBottom" fmla="*/ 1189080 h 1218960"/>
            </a:gdLst>
            <a:ahLst/>
            <a:rect l="textAreaLeft" t="textAreaTop" r="textAreaRight" b="textAreaBottom"/>
            <a:pathLst>
              <a:path w="21600" h="42833">
                <a:moveTo>
                  <a:pt x="3600" y="0"/>
                </a:moveTo>
                <a:arcTo wR="3600" hR="3600" stAng="16200000" swAng="-5400000"/>
                <a:lnTo>
                  <a:pt x="0" y="39233"/>
                </a:lnTo>
                <a:arcTo wR="3600" hR="3600" stAng="10800000" swAng="-5400000"/>
                <a:lnTo>
                  <a:pt x="18000" y="42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2ff"/>
          </a:solidFill>
          <a:ln w="9360">
            <a:solidFill>
              <a:srgbClr val="c2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319120" y="1231920"/>
            <a:ext cx="561240" cy="410760"/>
          </a:xfrm>
          <a:prstGeom prst="rect">
            <a:avLst/>
          </a:prstGeom>
          <a:solidFill>
            <a:srgbClr val="eaeaea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AT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+4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2428920" y="1574640"/>
            <a:ext cx="352440" cy="412920"/>
            <a:chOff x="2428920" y="1574640"/>
            <a:chExt cx="352440" cy="412920"/>
          </a:xfrm>
        </p:grpSpPr>
        <p:grpSp>
          <p:nvGrpSpPr>
            <p:cNvPr id="55" name="Group 13"/>
            <p:cNvGrpSpPr/>
            <p:nvPr/>
          </p:nvGrpSpPr>
          <p:grpSpPr>
            <a:xfrm>
              <a:off x="2454120" y="1574640"/>
              <a:ext cx="289800" cy="412920"/>
              <a:chOff x="2454120" y="1574640"/>
              <a:chExt cx="289800" cy="412920"/>
            </a:xfrm>
          </p:grpSpPr>
          <p:sp>
            <p:nvSpPr>
              <p:cNvPr id="56" name="AutoShape 14"/>
              <p:cNvSpPr/>
              <p:nvPr/>
            </p:nvSpPr>
            <p:spPr>
              <a:xfrm>
                <a:off x="2454120" y="1601640"/>
                <a:ext cx="174600" cy="385920"/>
              </a:xfrm>
              <a:custGeom>
                <a:avLst/>
                <a:gdLst>
                  <a:gd name="textAreaLeft" fmla="*/ 23400 w 174600"/>
                  <a:gd name="textAreaRight" fmla="*/ 151200 w 174600"/>
                  <a:gd name="textAreaTop" fmla="*/ 61200 h 385920"/>
                  <a:gd name="textAreaBottom" fmla="*/ 27792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12117"/>
                    </a:lnTo>
                    <a:arcTo wR="21600" hR="6848" stAng="10800000" swAng="-2512986"/>
                    <a:lnTo>
                      <a:pt x="14400" y="21208"/>
                    </a:lnTo>
                    <a:lnTo>
                      <a:pt x="21600" y="16331"/>
                    </a:lnTo>
                    <a:lnTo>
                      <a:pt x="14400" y="10669"/>
                    </a:lnTo>
                    <a:lnTo>
                      <a:pt x="14400" y="13304"/>
                    </a:lnTo>
                    <a:arcTo wR="21600" hR="6848" stAng="8287014" swAng="2061348"/>
                    <a:lnTo>
                      <a:pt x="1662" y="9483"/>
                    </a:lnTo>
                    <a:arcTo wR="21600" hR="6848" stAng="-10348362" swAng="494836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6848"/>
                    </a:lnTo>
                    <a:arcTo wR="21600" hR="6848" stAng="10800000" swAng="-451638"/>
                    <a:lnTo>
                      <a:pt x="1662" y="9483"/>
                    </a:lnTo>
                    <a:arcTo wR="21600" hR="6848" stAng="-10348362" swAng="4948362"/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15"/>
              <p:cNvSpPr/>
              <p:nvPr/>
            </p:nvSpPr>
            <p:spPr>
              <a:xfrm rot="10800000">
                <a:off x="2569320" y="1574640"/>
                <a:ext cx="174600" cy="385920"/>
              </a:xfrm>
              <a:custGeom>
                <a:avLst/>
                <a:gdLst>
                  <a:gd name="textAreaLeft" fmla="*/ 23400 w 174600"/>
                  <a:gd name="textAreaRight" fmla="*/ 151200 w 174600"/>
                  <a:gd name="textAreaTop" fmla="*/ 61200 h 385920"/>
                  <a:gd name="textAreaBottom" fmla="*/ 27792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12117"/>
                    </a:lnTo>
                    <a:arcTo wR="21600" hR="6848" stAng="10800000" swAng="-2512986"/>
                    <a:lnTo>
                      <a:pt x="14400" y="21208"/>
                    </a:lnTo>
                    <a:lnTo>
                      <a:pt x="21600" y="16331"/>
                    </a:lnTo>
                    <a:lnTo>
                      <a:pt x="14400" y="10669"/>
                    </a:lnTo>
                    <a:lnTo>
                      <a:pt x="14400" y="13304"/>
                    </a:lnTo>
                    <a:arcTo wR="21600" hR="6848" stAng="8287014" swAng="2061348"/>
                    <a:lnTo>
                      <a:pt x="1662" y="9483"/>
                    </a:lnTo>
                    <a:arcTo wR="21600" hR="6848" stAng="-10348362" swAng="494836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6848"/>
                    </a:lnTo>
                    <a:arcTo wR="21600" hR="6848" stAng="10800000" swAng="-451638"/>
                    <a:lnTo>
                      <a:pt x="1662" y="9483"/>
                    </a:lnTo>
                    <a:arcTo wR="21600" hR="6848" stAng="-10348362" swAng="4948362"/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 rot="10800000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16"/>
            <p:cNvSpPr/>
            <p:nvPr/>
          </p:nvSpPr>
          <p:spPr>
            <a:xfrm>
              <a:off x="2428920" y="1698480"/>
              <a:ext cx="3524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ＭＳ Ｐゴシック"/>
                </a:rPr>
                <a:t>N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AutoShape 18"/>
          <p:cNvSpPr/>
          <p:nvPr/>
        </p:nvSpPr>
        <p:spPr>
          <a:xfrm>
            <a:off x="6294600" y="1216080"/>
            <a:ext cx="579240" cy="1298520"/>
          </a:xfrm>
          <a:custGeom>
            <a:avLst/>
            <a:gdLst>
              <a:gd name="textAreaLeft" fmla="*/ 28080 w 579240"/>
              <a:gd name="textAreaRight" fmla="*/ 551160 w 579240"/>
              <a:gd name="textAreaTop" fmla="*/ 28080 h 1298520"/>
              <a:gd name="textAreaBottom" fmla="*/ 1270440 h 1298520"/>
            </a:gdLst>
            <a:ahLst/>
            <a:rect l="textAreaLeft" t="textAreaTop" r="textAreaRight" b="textAreaBottom"/>
            <a:pathLst>
              <a:path w="21600" h="48405">
                <a:moveTo>
                  <a:pt x="3600" y="0"/>
                </a:moveTo>
                <a:arcTo wR="3600" hR="3600" stAng="16200000" swAng="-5400000"/>
                <a:lnTo>
                  <a:pt x="0" y="44805"/>
                </a:lnTo>
                <a:arcTo wR="3600" hR="3600" stAng="10800000" swAng="-5400000"/>
                <a:lnTo>
                  <a:pt x="18000" y="484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2ff"/>
          </a:solidFill>
          <a:ln w="9360">
            <a:solidFill>
              <a:srgbClr val="c2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6788160" y="1168560"/>
            <a:ext cx="1670040" cy="1326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2916360" y="1339920"/>
            <a:ext cx="3425760" cy="1174680"/>
          </a:xfrm>
          <a:prstGeom prst="rect">
            <a:avLst/>
          </a:prstGeom>
          <a:ln w="0">
            <a:noFill/>
          </a:ln>
        </p:spPr>
      </p:pic>
      <p:sp>
        <p:nvSpPr>
          <p:cNvPr id="62" name="Line 31"/>
          <p:cNvSpPr/>
          <p:nvPr/>
        </p:nvSpPr>
        <p:spPr>
          <a:xfrm flipH="1">
            <a:off x="4987800" y="990720"/>
            <a:ext cx="449280" cy="198360"/>
          </a:xfrm>
          <a:prstGeom prst="line">
            <a:avLst/>
          </a:prstGeom>
          <a:ln w="19080">
            <a:solidFill>
              <a:srgbClr val="eeece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9"/>
          <p:cNvSpPr/>
          <p:nvPr/>
        </p:nvSpPr>
        <p:spPr>
          <a:xfrm>
            <a:off x="6248880" y="2057400"/>
            <a:ext cx="6814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0"/>
          <p:cNvSpPr/>
          <p:nvPr/>
        </p:nvSpPr>
        <p:spPr>
          <a:xfrm>
            <a:off x="5292720" y="2046240"/>
            <a:ext cx="4240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4"/>
          <p:cNvSpPr/>
          <p:nvPr/>
        </p:nvSpPr>
        <p:spPr>
          <a:xfrm>
            <a:off x="2720880" y="1782720"/>
            <a:ext cx="3762360" cy="0"/>
          </a:xfrm>
          <a:prstGeom prst="line">
            <a:avLst/>
          </a:prstGeom>
          <a:ln w="19080">
            <a:solidFill>
              <a:srgbClr val="008f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5" descr=""/>
          <p:cNvPicPr/>
          <p:nvPr/>
        </p:nvPicPr>
        <p:blipFill>
          <a:blip r:embed="rId4"/>
          <a:stretch/>
        </p:blipFill>
        <p:spPr>
          <a:xfrm>
            <a:off x="738360" y="1266840"/>
            <a:ext cx="1618920" cy="113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6"/>
          <p:cNvSpPr/>
          <p:nvPr/>
        </p:nvSpPr>
        <p:spPr>
          <a:xfrm>
            <a:off x="1080360" y="1725480"/>
            <a:ext cx="11509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caff"/>
                </a:solidFill>
                <a:latin typeface="Arial Narrow"/>
                <a:ea typeface="ＭＳ Ｐゴシック"/>
              </a:rPr>
              <a:t>IPv4-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caff"/>
                </a:solidFill>
                <a:latin typeface="Arial Narrow"/>
                <a:ea typeface="ＭＳ Ｐゴシック"/>
              </a:rPr>
              <a:t>Customer + 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9" descr="user1"/>
          <p:cNvPicPr/>
          <p:nvPr/>
        </p:nvPicPr>
        <p:blipFill>
          <a:blip r:embed="rId5"/>
          <a:stretch/>
        </p:blipFill>
        <p:spPr>
          <a:xfrm>
            <a:off x="1474920" y="1432080"/>
            <a:ext cx="363240" cy="315720"/>
          </a:xfrm>
          <a:prstGeom prst="rect">
            <a:avLst/>
          </a:prstGeom>
          <a:ln w="0">
            <a:noFill/>
          </a:ln>
        </p:spPr>
      </p:pic>
      <p:sp>
        <p:nvSpPr>
          <p:cNvPr id="69" name="Line 50"/>
          <p:cNvSpPr/>
          <p:nvPr/>
        </p:nvSpPr>
        <p:spPr>
          <a:xfrm>
            <a:off x="1996920" y="1782720"/>
            <a:ext cx="489240" cy="0"/>
          </a:xfrm>
          <a:prstGeom prst="line">
            <a:avLst/>
          </a:prstGeom>
          <a:ln w="19080">
            <a:solidFill>
              <a:srgbClr val="4dc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308320" y="1978200"/>
            <a:ext cx="1648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3" descr="Gateway"/>
          <p:cNvPicPr/>
          <p:nvPr/>
        </p:nvPicPr>
        <p:blipFill>
          <a:blip r:embed="rId6"/>
          <a:stretch/>
        </p:blipFill>
        <p:spPr>
          <a:xfrm>
            <a:off x="6477120" y="1655640"/>
            <a:ext cx="323640" cy="363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6"/>
          <p:cNvSpPr/>
          <p:nvPr/>
        </p:nvSpPr>
        <p:spPr>
          <a:xfrm>
            <a:off x="7329600" y="1973160"/>
            <a:ext cx="8416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Narrow"/>
                <a:ea typeface="ＭＳ Ｐゴシック"/>
              </a:rPr>
              <a:t>IPv4-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2" descr="icon_house"/>
          <p:cNvPicPr/>
          <p:nvPr/>
        </p:nvPicPr>
        <p:blipFill>
          <a:blip r:embed="rId7">
            <a:grayscl/>
          </a:blip>
          <a:stretch/>
        </p:blipFill>
        <p:spPr>
          <a:xfrm>
            <a:off x="817560" y="1397160"/>
            <a:ext cx="477720" cy="301320"/>
          </a:xfrm>
          <a:prstGeom prst="rect">
            <a:avLst/>
          </a:prstGeom>
          <a:ln w="0">
            <a:noFill/>
          </a:ln>
        </p:spPr>
      </p:pic>
      <p:sp>
        <p:nvSpPr>
          <p:cNvPr id="74" name="Line 54"/>
          <p:cNvSpPr/>
          <p:nvPr/>
        </p:nvSpPr>
        <p:spPr>
          <a:xfrm flipH="1" flipV="1">
            <a:off x="2809440" y="1797120"/>
            <a:ext cx="343080" cy="28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67"/>
          <p:cNvGrpSpPr/>
          <p:nvPr/>
        </p:nvGrpSpPr>
        <p:grpSpPr>
          <a:xfrm>
            <a:off x="971640" y="2813040"/>
            <a:ext cx="1295280" cy="311040"/>
            <a:chOff x="971640" y="2813040"/>
            <a:chExt cx="1295280" cy="311040"/>
          </a:xfrm>
        </p:grpSpPr>
        <p:grpSp>
          <p:nvGrpSpPr>
            <p:cNvPr id="76" name="Rectangle 52"/>
            <p:cNvGrpSpPr/>
            <p:nvPr/>
          </p:nvGrpSpPr>
          <p:grpSpPr>
            <a:xfrm>
              <a:off x="971640" y="2813040"/>
              <a:ext cx="590760" cy="311040"/>
              <a:chOff x="971640" y="2813040"/>
              <a:chExt cx="590760" cy="311040"/>
            </a:xfrm>
          </p:grpSpPr>
          <p:pic>
            <p:nvPicPr>
              <p:cNvPr id="77" name="Rectangle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71640" y="2813040"/>
                <a:ext cx="5907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985680" y="2827080"/>
                <a:ext cx="56196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Rectangle 53"/>
            <p:cNvGrpSpPr/>
            <p:nvPr/>
          </p:nvGrpSpPr>
          <p:grpSpPr>
            <a:xfrm>
              <a:off x="1526760" y="2813040"/>
              <a:ext cx="740160" cy="311040"/>
              <a:chOff x="1526760" y="2813040"/>
              <a:chExt cx="740160" cy="311040"/>
            </a:xfrm>
          </p:grpSpPr>
          <p:pic>
            <p:nvPicPr>
              <p:cNvPr id="80" name="Rectangle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6760" y="281304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540080" y="282636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192.168.0.1:144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67"/>
          <p:cNvGrpSpPr/>
          <p:nvPr/>
        </p:nvGrpSpPr>
        <p:grpSpPr>
          <a:xfrm>
            <a:off x="2419200" y="3270240"/>
            <a:ext cx="1295640" cy="311040"/>
            <a:chOff x="2419200" y="3270240"/>
            <a:chExt cx="1295640" cy="311040"/>
          </a:xfrm>
        </p:grpSpPr>
        <p:grpSp>
          <p:nvGrpSpPr>
            <p:cNvPr id="83" name="Rectangle 60"/>
            <p:cNvGrpSpPr/>
            <p:nvPr/>
          </p:nvGrpSpPr>
          <p:grpSpPr>
            <a:xfrm>
              <a:off x="2419200" y="3270240"/>
              <a:ext cx="594360" cy="311040"/>
              <a:chOff x="2419200" y="3270240"/>
              <a:chExt cx="594360" cy="311040"/>
            </a:xfrm>
          </p:grpSpPr>
          <p:pic>
            <p:nvPicPr>
              <p:cNvPr id="84" name="Rectangle 60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19200" y="3270240"/>
                <a:ext cx="5943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2436120" y="3284280"/>
                <a:ext cx="55980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Rectangle 61"/>
            <p:cNvGrpSpPr/>
            <p:nvPr/>
          </p:nvGrpSpPr>
          <p:grpSpPr>
            <a:xfrm>
              <a:off x="2971800" y="3270240"/>
              <a:ext cx="743040" cy="311040"/>
              <a:chOff x="2971800" y="3270240"/>
              <a:chExt cx="743040" cy="311040"/>
            </a:xfrm>
          </p:grpSpPr>
          <p:pic>
            <p:nvPicPr>
              <p:cNvPr id="87" name="Rectangle 6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71800" y="3270240"/>
                <a:ext cx="74304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2988000" y="3283560"/>
                <a:ext cx="71136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67"/>
          <p:cNvGrpSpPr/>
          <p:nvPr/>
        </p:nvGrpSpPr>
        <p:grpSpPr>
          <a:xfrm>
            <a:off x="3048120" y="3816360"/>
            <a:ext cx="2589120" cy="304920"/>
            <a:chOff x="3048120" y="3816360"/>
            <a:chExt cx="2589120" cy="304920"/>
          </a:xfrm>
        </p:grpSpPr>
        <p:grpSp>
          <p:nvGrpSpPr>
            <p:cNvPr id="90" name="Rectangle 65"/>
            <p:cNvGrpSpPr/>
            <p:nvPr/>
          </p:nvGrpSpPr>
          <p:grpSpPr>
            <a:xfrm>
              <a:off x="3048120" y="3816360"/>
              <a:ext cx="1364040" cy="304920"/>
              <a:chOff x="3048120" y="3816360"/>
              <a:chExt cx="1364040" cy="304920"/>
            </a:xfrm>
          </p:grpSpPr>
          <p:pic>
            <p:nvPicPr>
              <p:cNvPr id="91" name="Rectangle 65" descr=""/>
              <p:cNvPicPr/>
              <p:nvPr/>
            </p:nvPicPr>
            <p:blipFill>
              <a:blip r:embed="rId12"/>
              <a:stretch/>
            </p:blipFill>
            <p:spPr>
              <a:xfrm>
                <a:off x="3048120" y="3816360"/>
                <a:ext cx="13640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3060000" y="3827880"/>
                <a:ext cx="1339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8.8.8.8: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ectangle 66"/>
            <p:cNvGrpSpPr/>
            <p:nvPr/>
          </p:nvGrpSpPr>
          <p:grpSpPr>
            <a:xfrm>
              <a:off x="4381920" y="3816360"/>
              <a:ext cx="1255320" cy="304920"/>
              <a:chOff x="4381920" y="3816360"/>
              <a:chExt cx="1255320" cy="304920"/>
            </a:xfrm>
          </p:grpSpPr>
          <p:pic>
            <p:nvPicPr>
              <p:cNvPr id="94" name="Rectangle 66" descr=""/>
              <p:cNvPicPr/>
              <p:nvPr/>
            </p:nvPicPr>
            <p:blipFill>
              <a:blip r:embed="rId13"/>
              <a:stretch/>
            </p:blipFill>
            <p:spPr>
              <a:xfrm>
                <a:off x="4381920" y="3816360"/>
                <a:ext cx="12553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399200" y="3827520"/>
                <a:ext cx="1224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1.1.1.1.f: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Group 67"/>
          <p:cNvGrpSpPr/>
          <p:nvPr/>
        </p:nvGrpSpPr>
        <p:grpSpPr>
          <a:xfrm>
            <a:off x="7372440" y="4260960"/>
            <a:ext cx="1295280" cy="311040"/>
            <a:chOff x="7372440" y="4260960"/>
            <a:chExt cx="1295280" cy="311040"/>
          </a:xfrm>
        </p:grpSpPr>
        <p:grpSp>
          <p:nvGrpSpPr>
            <p:cNvPr id="97" name="Rectangle 69"/>
            <p:cNvGrpSpPr/>
            <p:nvPr/>
          </p:nvGrpSpPr>
          <p:grpSpPr>
            <a:xfrm>
              <a:off x="7372440" y="4266360"/>
              <a:ext cx="590760" cy="305640"/>
              <a:chOff x="7372440" y="4266360"/>
              <a:chExt cx="590760" cy="305640"/>
            </a:xfrm>
          </p:grpSpPr>
          <p:pic>
            <p:nvPicPr>
              <p:cNvPr id="98" name="Rectangle 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72440" y="4266360"/>
                <a:ext cx="590760" cy="30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7386480" y="4277520"/>
                <a:ext cx="56196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Rectangle 70"/>
            <p:cNvGrpSpPr/>
            <p:nvPr/>
          </p:nvGrpSpPr>
          <p:grpSpPr>
            <a:xfrm>
              <a:off x="7927560" y="4260960"/>
              <a:ext cx="740160" cy="311040"/>
              <a:chOff x="7927560" y="4260960"/>
              <a:chExt cx="740160" cy="311040"/>
            </a:xfrm>
          </p:grpSpPr>
          <p:pic>
            <p:nvPicPr>
              <p:cNvPr id="101" name="Rectangle 70" descr=""/>
              <p:cNvPicPr/>
              <p:nvPr/>
            </p:nvPicPr>
            <p:blipFill>
              <a:blip r:embed="rId15"/>
              <a:stretch/>
            </p:blipFill>
            <p:spPr>
              <a:xfrm>
                <a:off x="7927560" y="426096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7940880" y="427716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Bent-Up Arrow 72"/>
          <p:cNvSpPr/>
          <p:nvPr/>
        </p:nvSpPr>
        <p:spPr>
          <a:xfrm flipV="1">
            <a:off x="2266920" y="2889360"/>
            <a:ext cx="1143000" cy="30456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228600"/>
                </a:moveTo>
                <a:lnTo>
                  <a:pt x="1028700" y="228600"/>
                </a:lnTo>
                <a:lnTo>
                  <a:pt x="1028700" y="76200"/>
                </a:lnTo>
                <a:lnTo>
                  <a:pt x="990600" y="76200"/>
                </a:lnTo>
                <a:lnTo>
                  <a:pt x="1066800" y="0"/>
                </a:lnTo>
                <a:lnTo>
                  <a:pt x="1143000" y="76200"/>
                </a:lnTo>
                <a:lnTo>
                  <a:pt x="1104900" y="76200"/>
                </a:lnTo>
                <a:lnTo>
                  <a:pt x="11049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2"/>
          <p:cNvSpPr/>
          <p:nvPr/>
        </p:nvSpPr>
        <p:spPr>
          <a:xfrm flipH="1">
            <a:off x="3429000" y="2514600"/>
            <a:ext cx="1828800" cy="533520"/>
          </a:xfrm>
          <a:prstGeom prst="wedgeEllipseCallout">
            <a:avLst>
              <a:gd name="adj1" fmla="val 76990"/>
              <a:gd name="adj2" fmla="val 17365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NAT44 Source IP Address +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Bent-Up Arrow 77"/>
          <p:cNvSpPr/>
          <p:nvPr/>
        </p:nvSpPr>
        <p:spPr>
          <a:xfrm flipV="1">
            <a:off x="3790800" y="3435480"/>
            <a:ext cx="1219320" cy="304560"/>
          </a:xfrm>
          <a:custGeom>
            <a:avLst/>
            <a:gdLst/>
            <a:ahLst/>
            <a:rect l="l" t="t" r="r" b="b"/>
            <a:pathLst>
              <a:path w="1219200" h="304800">
                <a:moveTo>
                  <a:pt x="0" y="228600"/>
                </a:moveTo>
                <a:lnTo>
                  <a:pt x="1104900" y="228600"/>
                </a:lnTo>
                <a:lnTo>
                  <a:pt x="1104900" y="76200"/>
                </a:lnTo>
                <a:lnTo>
                  <a:pt x="1066800" y="76200"/>
                </a:lnTo>
                <a:lnTo>
                  <a:pt x="1143000" y="0"/>
                </a:lnTo>
                <a:lnTo>
                  <a:pt x="1219200" y="76200"/>
                </a:lnTo>
                <a:lnTo>
                  <a:pt x="1181100" y="76200"/>
                </a:lnTo>
                <a:lnTo>
                  <a:pt x="11811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2"/>
          <p:cNvSpPr/>
          <p:nvPr/>
        </p:nvSpPr>
        <p:spPr>
          <a:xfrm flipH="1">
            <a:off x="5162400" y="2743200"/>
            <a:ext cx="2610000" cy="609480"/>
          </a:xfrm>
          <a:prstGeom prst="wedgeEllipseCallout">
            <a:avLst>
              <a:gd name="adj1" fmla="val 63245"/>
              <a:gd name="adj2" fmla="val 49314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Stateless v4-v6 address mapp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Bent-Up Arrow 80"/>
          <p:cNvSpPr/>
          <p:nvPr/>
        </p:nvSpPr>
        <p:spPr>
          <a:xfrm flipV="1">
            <a:off x="5867280" y="3898080"/>
            <a:ext cx="2419560" cy="304920"/>
          </a:xfrm>
          <a:custGeom>
            <a:avLst/>
            <a:gdLst/>
            <a:ahLst/>
            <a:rect l="l" t="t" r="r" b="b"/>
            <a:pathLst>
              <a:path w="2419350" h="304800">
                <a:moveTo>
                  <a:pt x="0" y="228600"/>
                </a:moveTo>
                <a:lnTo>
                  <a:pt x="2305050" y="228600"/>
                </a:lnTo>
                <a:lnTo>
                  <a:pt x="2305050" y="76200"/>
                </a:lnTo>
                <a:lnTo>
                  <a:pt x="2266950" y="76200"/>
                </a:lnTo>
                <a:lnTo>
                  <a:pt x="2343150" y="0"/>
                </a:lnTo>
                <a:lnTo>
                  <a:pt x="2419350" y="76200"/>
                </a:lnTo>
                <a:lnTo>
                  <a:pt x="2381250" y="76200"/>
                </a:lnTo>
                <a:lnTo>
                  <a:pt x="23812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2"/>
          <p:cNvSpPr/>
          <p:nvPr/>
        </p:nvSpPr>
        <p:spPr>
          <a:xfrm flipH="1">
            <a:off x="7162920" y="3352680"/>
            <a:ext cx="1828800" cy="381240"/>
          </a:xfrm>
          <a:prstGeom prst="wedgeEllipseCallout">
            <a:avLst>
              <a:gd name="adj1" fmla="val 62847"/>
              <a:gd name="adj2" fmla="val 97925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Stateless NAT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84"/>
          <p:cNvSpPr/>
          <p:nvPr/>
        </p:nvSpPr>
        <p:spPr>
          <a:xfrm flipH="1" flipV="1">
            <a:off x="456840" y="4648320"/>
            <a:ext cx="8534520" cy="1440"/>
          </a:xfrm>
          <a:prstGeom prst="line">
            <a:avLst/>
          </a:prstGeom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-457200" y="4869000"/>
            <a:ext cx="832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7"/>
          <p:cNvGrpSpPr/>
          <p:nvPr/>
        </p:nvGrpSpPr>
        <p:grpSpPr>
          <a:xfrm>
            <a:off x="7238880" y="4869000"/>
            <a:ext cx="1447920" cy="311040"/>
            <a:chOff x="7238880" y="4869000"/>
            <a:chExt cx="1447920" cy="311040"/>
          </a:xfrm>
        </p:grpSpPr>
        <p:grpSp>
          <p:nvGrpSpPr>
            <p:cNvPr id="112" name="Rectangle 87"/>
            <p:cNvGrpSpPr/>
            <p:nvPr/>
          </p:nvGrpSpPr>
          <p:grpSpPr>
            <a:xfrm>
              <a:off x="7238880" y="4869000"/>
              <a:ext cx="697320" cy="311040"/>
              <a:chOff x="7238880" y="4869000"/>
              <a:chExt cx="697320" cy="311040"/>
            </a:xfrm>
          </p:grpSpPr>
          <p:pic>
            <p:nvPicPr>
              <p:cNvPr id="113" name="Rectangle 87" descr=""/>
              <p:cNvPicPr/>
              <p:nvPr/>
            </p:nvPicPr>
            <p:blipFill>
              <a:blip r:embed="rId16"/>
              <a:stretch/>
            </p:blipFill>
            <p:spPr>
              <a:xfrm>
                <a:off x="7238880" y="4869000"/>
                <a:ext cx="69732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7253640" y="4884120"/>
                <a:ext cx="66888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Rectangle 88"/>
            <p:cNvGrpSpPr/>
            <p:nvPr/>
          </p:nvGrpSpPr>
          <p:grpSpPr>
            <a:xfrm>
              <a:off x="7900200" y="4869000"/>
              <a:ext cx="786600" cy="311040"/>
              <a:chOff x="7900200" y="4869000"/>
              <a:chExt cx="786600" cy="311040"/>
            </a:xfrm>
          </p:grpSpPr>
          <p:pic>
            <p:nvPicPr>
              <p:cNvPr id="116" name="Rectangle 88" descr=""/>
              <p:cNvPicPr/>
              <p:nvPr/>
            </p:nvPicPr>
            <p:blipFill>
              <a:blip r:embed="rId17"/>
              <a:stretch/>
            </p:blipFill>
            <p:spPr>
              <a:xfrm>
                <a:off x="7900200" y="4869000"/>
                <a:ext cx="78660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7913880" y="4883760"/>
                <a:ext cx="75492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67"/>
          <p:cNvGrpSpPr/>
          <p:nvPr/>
        </p:nvGrpSpPr>
        <p:grpSpPr>
          <a:xfrm>
            <a:off x="2438280" y="5867280"/>
            <a:ext cx="1428840" cy="311400"/>
            <a:chOff x="2438280" y="5867280"/>
            <a:chExt cx="1428840" cy="311400"/>
          </a:xfrm>
        </p:grpSpPr>
        <p:grpSp>
          <p:nvGrpSpPr>
            <p:cNvPr id="119" name="Rectangle 90"/>
            <p:cNvGrpSpPr/>
            <p:nvPr/>
          </p:nvGrpSpPr>
          <p:grpSpPr>
            <a:xfrm>
              <a:off x="2438280" y="5867280"/>
              <a:ext cx="723240" cy="311400"/>
              <a:chOff x="2438280" y="5867280"/>
              <a:chExt cx="723240" cy="311400"/>
            </a:xfrm>
          </p:grpSpPr>
          <p:pic>
            <p:nvPicPr>
              <p:cNvPr id="120" name="Rectangle 90" descr=""/>
              <p:cNvPicPr/>
              <p:nvPr/>
            </p:nvPicPr>
            <p:blipFill>
              <a:blip r:embed="rId18"/>
              <a:stretch/>
            </p:blipFill>
            <p:spPr>
              <a:xfrm>
                <a:off x="2438280" y="5867280"/>
                <a:ext cx="72324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2450160" y="5881320"/>
                <a:ext cx="69372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Rectangle 91"/>
            <p:cNvGrpSpPr/>
            <p:nvPr/>
          </p:nvGrpSpPr>
          <p:grpSpPr>
            <a:xfrm>
              <a:off x="3119760" y="5867280"/>
              <a:ext cx="747360" cy="311400"/>
              <a:chOff x="3119760" y="5867280"/>
              <a:chExt cx="747360" cy="311400"/>
            </a:xfrm>
          </p:grpSpPr>
          <p:pic>
            <p:nvPicPr>
              <p:cNvPr id="123" name="Rectangle 91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19760" y="5867280"/>
                <a:ext cx="74736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3135960" y="5880960"/>
                <a:ext cx="715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67"/>
          <p:cNvGrpSpPr/>
          <p:nvPr/>
        </p:nvGrpSpPr>
        <p:grpSpPr>
          <a:xfrm>
            <a:off x="990720" y="6316560"/>
            <a:ext cx="1447560" cy="311400"/>
            <a:chOff x="990720" y="6316560"/>
            <a:chExt cx="1447560" cy="311400"/>
          </a:xfrm>
        </p:grpSpPr>
        <p:grpSp>
          <p:nvGrpSpPr>
            <p:cNvPr id="126" name="Rectangle 99"/>
            <p:cNvGrpSpPr/>
            <p:nvPr/>
          </p:nvGrpSpPr>
          <p:grpSpPr>
            <a:xfrm>
              <a:off x="990720" y="6316560"/>
              <a:ext cx="741600" cy="311400"/>
              <a:chOff x="990720" y="6316560"/>
              <a:chExt cx="741600" cy="311400"/>
            </a:xfrm>
          </p:grpSpPr>
          <p:pic>
            <p:nvPicPr>
              <p:cNvPr id="127" name="Rectangle 99" descr=""/>
              <p:cNvPicPr/>
              <p:nvPr/>
            </p:nvPicPr>
            <p:blipFill>
              <a:blip r:embed="rId20"/>
              <a:stretch/>
            </p:blipFill>
            <p:spPr>
              <a:xfrm>
                <a:off x="990720" y="6316560"/>
                <a:ext cx="7416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1005480" y="6329160"/>
                <a:ext cx="71280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92.168.0.1:144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Rectangle 100"/>
            <p:cNvGrpSpPr/>
            <p:nvPr/>
          </p:nvGrpSpPr>
          <p:grpSpPr>
            <a:xfrm>
              <a:off x="1696680" y="6316560"/>
              <a:ext cx="741600" cy="311400"/>
              <a:chOff x="1696680" y="6316560"/>
              <a:chExt cx="741600" cy="311400"/>
            </a:xfrm>
          </p:grpSpPr>
          <p:pic>
            <p:nvPicPr>
              <p:cNvPr id="130" name="Rectangle 10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96680" y="6316560"/>
                <a:ext cx="7416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710720" y="6328440"/>
                <a:ext cx="715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AutoShape 42"/>
          <p:cNvSpPr/>
          <p:nvPr/>
        </p:nvSpPr>
        <p:spPr>
          <a:xfrm>
            <a:off x="2209680" y="4876920"/>
            <a:ext cx="1627200" cy="380880"/>
          </a:xfrm>
          <a:prstGeom prst="wedgeEllipseCallout">
            <a:avLst>
              <a:gd name="adj1" fmla="val 2361"/>
              <a:gd name="adj2" fmla="val 117370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2"/>
          <p:cNvSpPr/>
          <p:nvPr/>
        </p:nvSpPr>
        <p:spPr>
          <a:xfrm>
            <a:off x="1657440" y="4495680"/>
            <a:ext cx="2666880" cy="762120"/>
          </a:xfrm>
          <a:prstGeom prst="wedgeEllipseCallout">
            <a:avLst>
              <a:gd name="adj1" fmla="val 59277"/>
              <a:gd name="adj2" fmla="val 24314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Stateless IPv6 to IPv4 mapping (NAT64) + port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Bent-Up Arrow 106"/>
          <p:cNvSpPr/>
          <p:nvPr/>
        </p:nvSpPr>
        <p:spPr>
          <a:xfrm flipH="1" flipV="1">
            <a:off x="1523160" y="5954040"/>
            <a:ext cx="895320" cy="304920"/>
          </a:xfrm>
          <a:custGeom>
            <a:avLst/>
            <a:gdLst/>
            <a:ahLst/>
            <a:rect l="l" t="t" r="r" b="b"/>
            <a:pathLst>
              <a:path w="895350" h="304800">
                <a:moveTo>
                  <a:pt x="0" y="228600"/>
                </a:moveTo>
                <a:lnTo>
                  <a:pt x="781050" y="228600"/>
                </a:lnTo>
                <a:lnTo>
                  <a:pt x="781050" y="76200"/>
                </a:lnTo>
                <a:lnTo>
                  <a:pt x="742950" y="76200"/>
                </a:lnTo>
                <a:lnTo>
                  <a:pt x="819150" y="0"/>
                </a:lnTo>
                <a:lnTo>
                  <a:pt x="895350" y="76200"/>
                </a:lnTo>
                <a:lnTo>
                  <a:pt x="857250" y="76200"/>
                </a:lnTo>
                <a:lnTo>
                  <a:pt x="8572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1047600" y="5408640"/>
            <a:ext cx="1086120" cy="380880"/>
          </a:xfrm>
          <a:prstGeom prst="wedgeEllipseCallout">
            <a:avLst>
              <a:gd name="adj1" fmla="val 32634"/>
              <a:gd name="adj2" fmla="val 89592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NA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13"/>
          <p:cNvGrpSpPr/>
          <p:nvPr/>
        </p:nvGrpSpPr>
        <p:grpSpPr>
          <a:xfrm>
            <a:off x="3352680" y="5340240"/>
            <a:ext cx="2589480" cy="304920"/>
            <a:chOff x="3352680" y="5340240"/>
            <a:chExt cx="2589480" cy="304920"/>
          </a:xfrm>
        </p:grpSpPr>
        <p:grpSp>
          <p:nvGrpSpPr>
            <p:cNvPr id="137" name="Rectangle 114"/>
            <p:cNvGrpSpPr/>
            <p:nvPr/>
          </p:nvGrpSpPr>
          <p:grpSpPr>
            <a:xfrm>
              <a:off x="3352680" y="5340240"/>
              <a:ext cx="1364040" cy="304920"/>
              <a:chOff x="3352680" y="5340240"/>
              <a:chExt cx="1364040" cy="304920"/>
            </a:xfrm>
          </p:grpSpPr>
          <p:pic>
            <p:nvPicPr>
              <p:cNvPr id="138" name="Rectangle 114" descr=""/>
              <p:cNvPicPr/>
              <p:nvPr/>
            </p:nvPicPr>
            <p:blipFill>
              <a:blip r:embed="rId22"/>
              <a:stretch/>
            </p:blipFill>
            <p:spPr>
              <a:xfrm>
                <a:off x="3352680" y="5340240"/>
                <a:ext cx="13640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3364560" y="5351760"/>
                <a:ext cx="1339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1.1.1.1.f: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Rectangle 115"/>
            <p:cNvGrpSpPr/>
            <p:nvPr/>
          </p:nvGrpSpPr>
          <p:grpSpPr>
            <a:xfrm>
              <a:off x="4686480" y="5340240"/>
              <a:ext cx="1255680" cy="304920"/>
              <a:chOff x="4686480" y="5340240"/>
              <a:chExt cx="1255680" cy="304920"/>
            </a:xfrm>
          </p:grpSpPr>
          <p:pic>
            <p:nvPicPr>
              <p:cNvPr id="141" name="Rectangle 115" descr=""/>
              <p:cNvPicPr/>
              <p:nvPr/>
            </p:nvPicPr>
            <p:blipFill>
              <a:blip r:embed="rId23"/>
              <a:stretch/>
            </p:blipFill>
            <p:spPr>
              <a:xfrm>
                <a:off x="4686480" y="5340240"/>
                <a:ext cx="125568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4703760" y="5351400"/>
                <a:ext cx="122472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8.8.8.8: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Bent-Up Arrow 116"/>
          <p:cNvSpPr/>
          <p:nvPr/>
        </p:nvSpPr>
        <p:spPr>
          <a:xfrm flipH="1" flipV="1">
            <a:off x="4552200" y="4952160"/>
            <a:ext cx="2685960" cy="304920"/>
          </a:xfrm>
          <a:custGeom>
            <a:avLst/>
            <a:gdLst/>
            <a:ahLst/>
            <a:rect l="l" t="t" r="r" b="b"/>
            <a:pathLst>
              <a:path w="2686050" h="304800">
                <a:moveTo>
                  <a:pt x="0" y="228600"/>
                </a:moveTo>
                <a:lnTo>
                  <a:pt x="2571750" y="228600"/>
                </a:lnTo>
                <a:lnTo>
                  <a:pt x="2571750" y="76200"/>
                </a:lnTo>
                <a:lnTo>
                  <a:pt x="2533650" y="76200"/>
                </a:lnTo>
                <a:lnTo>
                  <a:pt x="2609850" y="0"/>
                </a:lnTo>
                <a:lnTo>
                  <a:pt x="2686050" y="76200"/>
                </a:lnTo>
                <a:lnTo>
                  <a:pt x="2647950" y="76200"/>
                </a:lnTo>
                <a:lnTo>
                  <a:pt x="26479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Brace 118"/>
          <p:cNvSpPr/>
          <p:nvPr/>
        </p:nvSpPr>
        <p:spPr>
          <a:xfrm>
            <a:off x="693720" y="2743200"/>
            <a:ext cx="206280" cy="1333440"/>
          </a:xfrm>
          <a:custGeom>
            <a:avLst/>
            <a:gdLst>
              <a:gd name="textAreaLeft" fmla="*/ 131760 w 206280"/>
              <a:gd name="textAreaRight" fmla="*/ 206640 w 206280"/>
              <a:gd name="textAreaTop" fmla="*/ 5040 h 1333440"/>
              <a:gd name="textAreaBottom" fmla="*/ 13284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0"/>
                  <a:pt x="10800" y="279"/>
                </a:cubicBezTo>
                <a:lnTo>
                  <a:pt x="10800" y="10521"/>
                </a:lnTo>
                <a:cubicBezTo>
                  <a:pt x="10800" y="10661"/>
                  <a:pt x="5400" y="10800"/>
                  <a:pt x="0" y="10800"/>
                </a:cubicBezTo>
                <a:cubicBezTo>
                  <a:pt x="5400" y="10800"/>
                  <a:pt x="10800" y="10940"/>
                  <a:pt x="10800" y="11079"/>
                </a:cubicBezTo>
                <a:lnTo>
                  <a:pt x="10800" y="21321"/>
                </a:lnTo>
                <a:cubicBezTo>
                  <a:pt x="10800" y="2146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119"/>
          <p:cNvSpPr/>
          <p:nvPr/>
        </p:nvSpPr>
        <p:spPr>
          <a:xfrm>
            <a:off x="838080" y="5715000"/>
            <a:ext cx="198720" cy="83808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838080"/>
              <a:gd name="textAreaBottom" fmla="*/ 833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3"/>
                  <a:pt x="10800" y="426"/>
                </a:cubicBezTo>
                <a:lnTo>
                  <a:pt x="10800" y="10374"/>
                </a:lnTo>
                <a:cubicBezTo>
                  <a:pt x="10800" y="10587"/>
                  <a:pt x="5400" y="10800"/>
                  <a:pt x="0" y="10800"/>
                </a:cubicBezTo>
                <a:cubicBezTo>
                  <a:pt x="5400" y="10800"/>
                  <a:pt x="10800" y="11013"/>
                  <a:pt x="10800" y="11226"/>
                </a:cubicBezTo>
                <a:lnTo>
                  <a:pt x="10800" y="21174"/>
                </a:lnTo>
                <a:cubicBezTo>
                  <a:pt x="10800" y="2138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0"/>
          <p:cNvSpPr/>
          <p:nvPr/>
        </p:nvSpPr>
        <p:spPr>
          <a:xfrm>
            <a:off x="-14436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0"/>
          <p:cNvSpPr/>
          <p:nvPr/>
        </p:nvSpPr>
        <p:spPr>
          <a:xfrm>
            <a:off x="0" y="5791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Bent-Up Arrow 83"/>
          <p:cNvSpPr/>
          <p:nvPr/>
        </p:nvSpPr>
        <p:spPr>
          <a:xfrm flipH="1" flipV="1">
            <a:off x="2894760" y="5409360"/>
            <a:ext cx="438120" cy="304920"/>
          </a:xfrm>
          <a:custGeom>
            <a:avLst/>
            <a:gdLst/>
            <a:ahLst/>
            <a:rect l="l" t="t" r="r" b="b"/>
            <a:pathLst>
              <a:path w="438150" h="304800">
                <a:moveTo>
                  <a:pt x="0" y="228600"/>
                </a:moveTo>
                <a:lnTo>
                  <a:pt x="323850" y="228600"/>
                </a:lnTo>
                <a:lnTo>
                  <a:pt x="323850" y="76200"/>
                </a:lnTo>
                <a:lnTo>
                  <a:pt x="285750" y="76200"/>
                </a:lnTo>
                <a:lnTo>
                  <a:pt x="361950" y="0"/>
                </a:lnTo>
                <a:lnTo>
                  <a:pt x="438150" y="76200"/>
                </a:lnTo>
                <a:lnTo>
                  <a:pt x="400050" y="76200"/>
                </a:lnTo>
                <a:lnTo>
                  <a:pt x="4000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2986200" y="1828800"/>
            <a:ext cx="1433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 Narrow"/>
                <a:ea typeface="ＭＳ Ｐゴシック"/>
              </a:rPr>
              <a:t>4V6 address= 2001:beef:(1.1.1.1.f)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2"/>
          <p:cNvSpPr/>
          <p:nvPr/>
        </p:nvSpPr>
        <p:spPr>
          <a:xfrm flipH="1">
            <a:off x="3199680" y="990720"/>
            <a:ext cx="1981080" cy="533160"/>
          </a:xfrm>
          <a:prstGeom prst="wedgeEllipseCallout">
            <a:avLst>
              <a:gd name="adj1" fmla="val 79185"/>
              <a:gd name="adj2" fmla="val 66972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ndex - f = Ports 2000-2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5334120" y="1905120"/>
            <a:ext cx="1033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 Narrow"/>
                <a:ea typeface="ＭＳ Ｐゴシック"/>
              </a:rPr>
              <a:t>2001:beef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9680" y="228600"/>
            <a:ext cx="858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tateless 4V6</a:t>
            </a:r>
            <a:br>
              <a:rPr sz="29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lation Mode (example only – NOT numerically accu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eft Brace 85"/>
          <p:cNvSpPr/>
          <p:nvPr/>
        </p:nvSpPr>
        <p:spPr>
          <a:xfrm>
            <a:off x="684360" y="4221000"/>
            <a:ext cx="204480" cy="1079640"/>
          </a:xfrm>
          <a:custGeom>
            <a:avLst/>
            <a:gdLst>
              <a:gd name="textAreaLeft" fmla="*/ 130680 w 204480"/>
              <a:gd name="textAreaRight" fmla="*/ 204840 w 204480"/>
              <a:gd name="textAreaTop" fmla="*/ 5040 h 1079640"/>
              <a:gd name="textAreaBottom" fmla="*/ 10746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1"/>
                </a:cubicBezTo>
                <a:lnTo>
                  <a:pt x="10800" y="10459"/>
                </a:lnTo>
                <a:cubicBezTo>
                  <a:pt x="10800" y="10630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1"/>
                </a:cubicBezTo>
                <a:lnTo>
                  <a:pt x="10800" y="21259"/>
                </a:lnTo>
                <a:cubicBezTo>
                  <a:pt x="10800" y="214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0"/>
          <p:cNvSpPr/>
          <p:nvPr/>
        </p:nvSpPr>
        <p:spPr>
          <a:xfrm>
            <a:off x="-87480" y="4437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G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0"/>
          <p:cNvSpPr/>
          <p:nvPr/>
        </p:nvSpPr>
        <p:spPr>
          <a:xfrm>
            <a:off x="6858000" y="1773360"/>
            <a:ext cx="488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6"/>
          <p:cNvSpPr/>
          <p:nvPr/>
        </p:nvSpPr>
        <p:spPr>
          <a:xfrm>
            <a:off x="990720" y="25146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:port  SA: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6"/>
          <p:cNvSpPr/>
          <p:nvPr/>
        </p:nvSpPr>
        <p:spPr>
          <a:xfrm>
            <a:off x="3733920" y="3581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:port         SA: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6"/>
          <p:cNvSpPr/>
          <p:nvPr/>
        </p:nvSpPr>
        <p:spPr>
          <a:xfrm>
            <a:off x="3657600" y="51055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:port                 SA: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4419720" y="60199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’s native IPv6 traffic not shown – travels as ships in the night using native IPv6 forw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94"/>
          <p:cNvSpPr/>
          <p:nvPr/>
        </p:nvSpPr>
        <p:spPr>
          <a:xfrm>
            <a:off x="4419720" y="60199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’s native IPv6 traffic not shown – travels as ships in the night using native IPv6 forw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0" descr=""/>
          <p:cNvPicPr/>
          <p:nvPr/>
        </p:nvPicPr>
        <p:blipFill>
          <a:blip r:embed="rId1"/>
          <a:stretch/>
        </p:blipFill>
        <p:spPr>
          <a:xfrm>
            <a:off x="7029360" y="1465200"/>
            <a:ext cx="1670040" cy="12272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6"/>
          <p:cNvSpPr/>
          <p:nvPr/>
        </p:nvSpPr>
        <p:spPr>
          <a:xfrm>
            <a:off x="2293920" y="1219320"/>
            <a:ext cx="614520" cy="1218960"/>
          </a:xfrm>
          <a:custGeom>
            <a:avLst/>
            <a:gdLst>
              <a:gd name="textAreaLeft" fmla="*/ 29880 w 614520"/>
              <a:gd name="textAreaRight" fmla="*/ 584640 w 614520"/>
              <a:gd name="textAreaTop" fmla="*/ 29880 h 1218960"/>
              <a:gd name="textAreaBottom" fmla="*/ 1189080 h 1218960"/>
            </a:gdLst>
            <a:ahLst/>
            <a:rect l="textAreaLeft" t="textAreaTop" r="textAreaRight" b="textAreaBottom"/>
            <a:pathLst>
              <a:path w="21600" h="42833">
                <a:moveTo>
                  <a:pt x="3600" y="0"/>
                </a:moveTo>
                <a:arcTo wR="3600" hR="3600" stAng="16200000" swAng="-5400000"/>
                <a:lnTo>
                  <a:pt x="0" y="39233"/>
                </a:lnTo>
                <a:arcTo wR="3600" hR="3600" stAng="10800000" swAng="-5400000"/>
                <a:lnTo>
                  <a:pt x="18000" y="42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2ff"/>
          </a:solidFill>
          <a:ln w="9360">
            <a:solidFill>
              <a:srgbClr val="c2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2277000" y="1231920"/>
            <a:ext cx="645120" cy="410760"/>
          </a:xfrm>
          <a:prstGeom prst="rect">
            <a:avLst/>
          </a:prstGeom>
          <a:solidFill>
            <a:srgbClr val="eaeaea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NAPT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+4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2428920" y="1574640"/>
            <a:ext cx="352440" cy="412920"/>
            <a:chOff x="2428920" y="1574640"/>
            <a:chExt cx="352440" cy="412920"/>
          </a:xfrm>
        </p:grpSpPr>
        <p:grpSp>
          <p:nvGrpSpPr>
            <p:cNvPr id="165" name="Group 13"/>
            <p:cNvGrpSpPr/>
            <p:nvPr/>
          </p:nvGrpSpPr>
          <p:grpSpPr>
            <a:xfrm>
              <a:off x="2454120" y="1574640"/>
              <a:ext cx="289800" cy="412920"/>
              <a:chOff x="2454120" y="1574640"/>
              <a:chExt cx="289800" cy="412920"/>
            </a:xfrm>
          </p:grpSpPr>
          <p:sp>
            <p:nvSpPr>
              <p:cNvPr id="166" name="AutoShape 14"/>
              <p:cNvSpPr/>
              <p:nvPr/>
            </p:nvSpPr>
            <p:spPr>
              <a:xfrm>
                <a:off x="2454120" y="1601640"/>
                <a:ext cx="174600" cy="385920"/>
              </a:xfrm>
              <a:custGeom>
                <a:avLst/>
                <a:gdLst>
                  <a:gd name="textAreaLeft" fmla="*/ 23400 w 174600"/>
                  <a:gd name="textAreaRight" fmla="*/ 151200 w 174600"/>
                  <a:gd name="textAreaTop" fmla="*/ 61200 h 385920"/>
                  <a:gd name="textAreaBottom" fmla="*/ 27792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12117"/>
                    </a:lnTo>
                    <a:arcTo wR="21600" hR="6848" stAng="10800000" swAng="-2512986"/>
                    <a:lnTo>
                      <a:pt x="14400" y="21208"/>
                    </a:lnTo>
                    <a:lnTo>
                      <a:pt x="21600" y="16331"/>
                    </a:lnTo>
                    <a:lnTo>
                      <a:pt x="14400" y="10669"/>
                    </a:lnTo>
                    <a:lnTo>
                      <a:pt x="14400" y="13304"/>
                    </a:lnTo>
                    <a:arcTo wR="21600" hR="6848" stAng="8287014" swAng="2061348"/>
                    <a:lnTo>
                      <a:pt x="1662" y="9483"/>
                    </a:lnTo>
                    <a:arcTo wR="21600" hR="6848" stAng="-10348362" swAng="494836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6848"/>
                    </a:lnTo>
                    <a:arcTo wR="21600" hR="6848" stAng="10800000" swAng="-451638"/>
                    <a:lnTo>
                      <a:pt x="1662" y="9483"/>
                    </a:lnTo>
                    <a:arcTo wR="21600" hR="6848" stAng="-10348362" swAng="4948362"/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15"/>
              <p:cNvSpPr/>
              <p:nvPr/>
            </p:nvSpPr>
            <p:spPr>
              <a:xfrm rot="10800000">
                <a:off x="2569320" y="1574640"/>
                <a:ext cx="174600" cy="385920"/>
              </a:xfrm>
              <a:custGeom>
                <a:avLst/>
                <a:gdLst>
                  <a:gd name="textAreaLeft" fmla="*/ 23400 w 174600"/>
                  <a:gd name="textAreaRight" fmla="*/ 151200 w 174600"/>
                  <a:gd name="textAreaTop" fmla="*/ 61200 h 385920"/>
                  <a:gd name="textAreaBottom" fmla="*/ 277920 h 3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12117"/>
                    </a:lnTo>
                    <a:arcTo wR="21600" hR="6848" stAng="10800000" swAng="-2512986"/>
                    <a:lnTo>
                      <a:pt x="14400" y="21208"/>
                    </a:lnTo>
                    <a:lnTo>
                      <a:pt x="21600" y="16331"/>
                    </a:lnTo>
                    <a:lnTo>
                      <a:pt x="14400" y="10669"/>
                    </a:lnTo>
                    <a:lnTo>
                      <a:pt x="14400" y="13304"/>
                    </a:lnTo>
                    <a:arcTo wR="21600" hR="6848" stAng="8287014" swAng="2061348"/>
                    <a:lnTo>
                      <a:pt x="1662" y="9483"/>
                    </a:lnTo>
                    <a:arcTo wR="21600" hR="6848" stAng="-10348362" swAng="494836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848" stAng="-5400000" swAng="-5400000"/>
                    <a:lnTo>
                      <a:pt x="0" y="6848"/>
                    </a:lnTo>
                    <a:arcTo wR="21600" hR="6848" stAng="10800000" swAng="-451638"/>
                    <a:lnTo>
                      <a:pt x="1662" y="9483"/>
                    </a:lnTo>
                    <a:arcTo wR="21600" hR="6848" stAng="-10348362" swAng="4948362"/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 rot="10800000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 Box 16"/>
            <p:cNvSpPr/>
            <p:nvPr/>
          </p:nvSpPr>
          <p:spPr>
            <a:xfrm>
              <a:off x="2428920" y="1698480"/>
              <a:ext cx="3524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18"/>
          <p:cNvSpPr/>
          <p:nvPr/>
        </p:nvSpPr>
        <p:spPr>
          <a:xfrm>
            <a:off x="6294600" y="1216080"/>
            <a:ext cx="579240" cy="1298520"/>
          </a:xfrm>
          <a:custGeom>
            <a:avLst/>
            <a:gdLst>
              <a:gd name="textAreaLeft" fmla="*/ 28080 w 579240"/>
              <a:gd name="textAreaRight" fmla="*/ 551160 w 579240"/>
              <a:gd name="textAreaTop" fmla="*/ 28080 h 1298520"/>
              <a:gd name="textAreaBottom" fmla="*/ 1270440 h 1298520"/>
            </a:gdLst>
            <a:ahLst/>
            <a:rect l="textAreaLeft" t="textAreaTop" r="textAreaRight" b="textAreaBottom"/>
            <a:pathLst>
              <a:path w="21600" h="48405">
                <a:moveTo>
                  <a:pt x="3600" y="0"/>
                </a:moveTo>
                <a:arcTo wR="3600" hR="3600" stAng="16200000" swAng="-5400000"/>
                <a:lnTo>
                  <a:pt x="0" y="44805"/>
                </a:lnTo>
                <a:arcTo wR="3600" hR="3600" stAng="10800000" swAng="-5400000"/>
                <a:lnTo>
                  <a:pt x="18000" y="484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2ff"/>
          </a:solidFill>
          <a:ln w="9360">
            <a:solidFill>
              <a:srgbClr val="c2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0" descr=""/>
          <p:cNvPicPr/>
          <p:nvPr/>
        </p:nvPicPr>
        <p:blipFill>
          <a:blip r:embed="rId2"/>
          <a:stretch/>
        </p:blipFill>
        <p:spPr>
          <a:xfrm>
            <a:off x="6788160" y="1168560"/>
            <a:ext cx="1670040" cy="1326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3"/>
          <a:stretch/>
        </p:blipFill>
        <p:spPr>
          <a:xfrm>
            <a:off x="2895480" y="1339920"/>
            <a:ext cx="3446640" cy="1174680"/>
          </a:xfrm>
          <a:prstGeom prst="rect">
            <a:avLst/>
          </a:prstGeom>
          <a:ln w="0">
            <a:noFill/>
          </a:ln>
        </p:spPr>
      </p:pic>
      <p:sp>
        <p:nvSpPr>
          <p:cNvPr id="172" name="Line 31"/>
          <p:cNvSpPr/>
          <p:nvPr/>
        </p:nvSpPr>
        <p:spPr>
          <a:xfrm flipH="1">
            <a:off x="4987800" y="990720"/>
            <a:ext cx="449280" cy="198360"/>
          </a:xfrm>
          <a:prstGeom prst="line">
            <a:avLst/>
          </a:prstGeom>
          <a:ln w="19080">
            <a:solidFill>
              <a:srgbClr val="eeece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6248880" y="2057400"/>
            <a:ext cx="6814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4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5292720" y="2046240"/>
            <a:ext cx="4240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4"/>
          <p:cNvSpPr/>
          <p:nvPr/>
        </p:nvSpPr>
        <p:spPr>
          <a:xfrm>
            <a:off x="2720880" y="1782720"/>
            <a:ext cx="3762360" cy="0"/>
          </a:xfrm>
          <a:prstGeom prst="line">
            <a:avLst/>
          </a:prstGeom>
          <a:ln w="19080">
            <a:solidFill>
              <a:srgbClr val="0a01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5" descr=""/>
          <p:cNvPicPr/>
          <p:nvPr/>
        </p:nvPicPr>
        <p:blipFill>
          <a:blip r:embed="rId4"/>
          <a:stretch/>
        </p:blipFill>
        <p:spPr>
          <a:xfrm>
            <a:off x="738360" y="1266840"/>
            <a:ext cx="1618920" cy="1138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6"/>
          <p:cNvSpPr/>
          <p:nvPr/>
        </p:nvSpPr>
        <p:spPr>
          <a:xfrm>
            <a:off x="1080360" y="1725480"/>
            <a:ext cx="11509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caff"/>
                </a:solidFill>
                <a:latin typeface="Arial Narrow"/>
                <a:ea typeface="MS PGothic"/>
              </a:rPr>
              <a:t>IPv4-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caff"/>
                </a:solidFill>
                <a:latin typeface="Arial Narrow"/>
                <a:ea typeface="MS PGothic"/>
              </a:rPr>
              <a:t>Customer + IPv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9" descr="user1"/>
          <p:cNvPicPr/>
          <p:nvPr/>
        </p:nvPicPr>
        <p:blipFill>
          <a:blip r:embed="rId5"/>
          <a:stretch/>
        </p:blipFill>
        <p:spPr>
          <a:xfrm>
            <a:off x="1474920" y="1432080"/>
            <a:ext cx="363240" cy="315720"/>
          </a:xfrm>
          <a:prstGeom prst="rect">
            <a:avLst/>
          </a:prstGeom>
          <a:ln w="0">
            <a:noFill/>
          </a:ln>
        </p:spPr>
      </p:pic>
      <p:sp>
        <p:nvSpPr>
          <p:cNvPr id="179" name="Line 50"/>
          <p:cNvSpPr/>
          <p:nvPr/>
        </p:nvSpPr>
        <p:spPr>
          <a:xfrm>
            <a:off x="1996920" y="1782720"/>
            <a:ext cx="489240" cy="0"/>
          </a:xfrm>
          <a:prstGeom prst="line">
            <a:avLst/>
          </a:prstGeom>
          <a:ln w="1908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308320" y="1978200"/>
            <a:ext cx="1648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3" descr="Gateway"/>
          <p:cNvPicPr/>
          <p:nvPr/>
        </p:nvPicPr>
        <p:blipFill>
          <a:blip r:embed="rId6"/>
          <a:stretch/>
        </p:blipFill>
        <p:spPr>
          <a:xfrm>
            <a:off x="6477120" y="1655640"/>
            <a:ext cx="323640" cy="3636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6"/>
          <p:cNvSpPr/>
          <p:nvPr/>
        </p:nvSpPr>
        <p:spPr>
          <a:xfrm>
            <a:off x="7329600" y="1973160"/>
            <a:ext cx="8416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Narrow"/>
                <a:ea typeface="MS PGothic"/>
              </a:rPr>
              <a:t>IPv4-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2" descr="icon_house"/>
          <p:cNvPicPr/>
          <p:nvPr/>
        </p:nvPicPr>
        <p:blipFill>
          <a:blip r:embed="rId7">
            <a:grayscl/>
          </a:blip>
          <a:stretch/>
        </p:blipFill>
        <p:spPr>
          <a:xfrm>
            <a:off x="817560" y="1397160"/>
            <a:ext cx="477720" cy="301320"/>
          </a:xfrm>
          <a:prstGeom prst="rect">
            <a:avLst/>
          </a:prstGeom>
          <a:ln w="0">
            <a:noFill/>
          </a:ln>
        </p:spPr>
      </p:pic>
      <p:sp>
        <p:nvSpPr>
          <p:cNvPr id="184" name="Line 54"/>
          <p:cNvSpPr/>
          <p:nvPr/>
        </p:nvSpPr>
        <p:spPr>
          <a:xfrm flipH="1" flipV="1">
            <a:off x="2809440" y="1797120"/>
            <a:ext cx="343080" cy="28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95"/>
          <p:cNvSpPr/>
          <p:nvPr/>
        </p:nvSpPr>
        <p:spPr>
          <a:xfrm rot="16200000">
            <a:off x="4483080" y="-63000"/>
            <a:ext cx="177840" cy="3657600"/>
          </a:xfrm>
          <a:prstGeom prst="can">
            <a:avLst>
              <a:gd name="adj" fmla="val 3481"/>
            </a:avLst>
          </a:prstGeom>
          <a:solidFill>
            <a:srgbClr val="00b05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67"/>
          <p:cNvGrpSpPr/>
          <p:nvPr/>
        </p:nvGrpSpPr>
        <p:grpSpPr>
          <a:xfrm>
            <a:off x="1123920" y="2813040"/>
            <a:ext cx="1295280" cy="311040"/>
            <a:chOff x="1123920" y="2813040"/>
            <a:chExt cx="1295280" cy="311040"/>
          </a:xfrm>
        </p:grpSpPr>
        <p:grpSp>
          <p:nvGrpSpPr>
            <p:cNvPr id="187" name="Rectangle 52"/>
            <p:cNvGrpSpPr/>
            <p:nvPr/>
          </p:nvGrpSpPr>
          <p:grpSpPr>
            <a:xfrm>
              <a:off x="1123920" y="2813040"/>
              <a:ext cx="590760" cy="311040"/>
              <a:chOff x="1123920" y="2813040"/>
              <a:chExt cx="590760" cy="311040"/>
            </a:xfrm>
          </p:grpSpPr>
          <p:pic>
            <p:nvPicPr>
              <p:cNvPr id="188" name="Rectangle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3920" y="2813040"/>
                <a:ext cx="5907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137960" y="2827080"/>
                <a:ext cx="56196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Rectangle 53"/>
            <p:cNvGrpSpPr/>
            <p:nvPr/>
          </p:nvGrpSpPr>
          <p:grpSpPr>
            <a:xfrm>
              <a:off x="1679040" y="2813040"/>
              <a:ext cx="740160" cy="311040"/>
              <a:chOff x="1679040" y="2813040"/>
              <a:chExt cx="740160" cy="311040"/>
            </a:xfrm>
          </p:grpSpPr>
          <p:pic>
            <p:nvPicPr>
              <p:cNvPr id="191" name="Rectangle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1679040" y="281304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1692360" y="282636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192.168.0.1:144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67"/>
          <p:cNvGrpSpPr/>
          <p:nvPr/>
        </p:nvGrpSpPr>
        <p:grpSpPr>
          <a:xfrm>
            <a:off x="2571840" y="3270240"/>
            <a:ext cx="1295280" cy="311040"/>
            <a:chOff x="2571840" y="3270240"/>
            <a:chExt cx="1295280" cy="311040"/>
          </a:xfrm>
        </p:grpSpPr>
        <p:grpSp>
          <p:nvGrpSpPr>
            <p:cNvPr id="194" name="Rectangle 60"/>
            <p:cNvGrpSpPr/>
            <p:nvPr/>
          </p:nvGrpSpPr>
          <p:grpSpPr>
            <a:xfrm>
              <a:off x="2571840" y="3270240"/>
              <a:ext cx="594000" cy="311040"/>
              <a:chOff x="2571840" y="3270240"/>
              <a:chExt cx="594000" cy="311040"/>
            </a:xfrm>
          </p:grpSpPr>
          <p:pic>
            <p:nvPicPr>
              <p:cNvPr id="195" name="Rectangle 60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71840" y="3270240"/>
                <a:ext cx="59400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2588760" y="3284280"/>
                <a:ext cx="5594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Rectangle 61"/>
            <p:cNvGrpSpPr/>
            <p:nvPr/>
          </p:nvGrpSpPr>
          <p:grpSpPr>
            <a:xfrm>
              <a:off x="3124440" y="3270240"/>
              <a:ext cx="742680" cy="311040"/>
              <a:chOff x="3124440" y="3270240"/>
              <a:chExt cx="742680" cy="311040"/>
            </a:xfrm>
          </p:grpSpPr>
          <p:pic>
            <p:nvPicPr>
              <p:cNvPr id="198" name="Rectangle 61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24440" y="3270240"/>
                <a:ext cx="74268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3140640" y="3283560"/>
                <a:ext cx="71100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67"/>
          <p:cNvGrpSpPr/>
          <p:nvPr/>
        </p:nvGrpSpPr>
        <p:grpSpPr>
          <a:xfrm>
            <a:off x="5772240" y="3809880"/>
            <a:ext cx="1295280" cy="311400"/>
            <a:chOff x="5772240" y="3809880"/>
            <a:chExt cx="1295280" cy="311400"/>
          </a:xfrm>
        </p:grpSpPr>
        <p:grpSp>
          <p:nvGrpSpPr>
            <p:cNvPr id="201" name="Rectangle 63"/>
            <p:cNvGrpSpPr/>
            <p:nvPr/>
          </p:nvGrpSpPr>
          <p:grpSpPr>
            <a:xfrm>
              <a:off x="5772240" y="3809880"/>
              <a:ext cx="594000" cy="311400"/>
              <a:chOff x="5772240" y="3809880"/>
              <a:chExt cx="594000" cy="311400"/>
            </a:xfrm>
          </p:grpSpPr>
          <p:pic>
            <p:nvPicPr>
              <p:cNvPr id="202" name="Rectangle 63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72240" y="3809880"/>
                <a:ext cx="5940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5789160" y="3821400"/>
                <a:ext cx="5594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Rectangle 64"/>
            <p:cNvGrpSpPr/>
            <p:nvPr/>
          </p:nvGrpSpPr>
          <p:grpSpPr>
            <a:xfrm>
              <a:off x="6324840" y="3809880"/>
              <a:ext cx="742680" cy="311400"/>
              <a:chOff x="6324840" y="3809880"/>
              <a:chExt cx="742680" cy="311400"/>
            </a:xfrm>
          </p:grpSpPr>
          <p:pic>
            <p:nvPicPr>
              <p:cNvPr id="205" name="Rectangle 64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24840" y="3809880"/>
                <a:ext cx="74268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6341040" y="3820680"/>
                <a:ext cx="711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67"/>
          <p:cNvGrpSpPr/>
          <p:nvPr/>
        </p:nvGrpSpPr>
        <p:grpSpPr>
          <a:xfrm>
            <a:off x="3200400" y="3816360"/>
            <a:ext cx="2589120" cy="304920"/>
            <a:chOff x="3200400" y="3816360"/>
            <a:chExt cx="2589120" cy="304920"/>
          </a:xfrm>
        </p:grpSpPr>
        <p:grpSp>
          <p:nvGrpSpPr>
            <p:cNvPr id="208" name="Rectangle 65"/>
            <p:cNvGrpSpPr/>
            <p:nvPr/>
          </p:nvGrpSpPr>
          <p:grpSpPr>
            <a:xfrm>
              <a:off x="3200400" y="3816360"/>
              <a:ext cx="1364040" cy="304920"/>
              <a:chOff x="3200400" y="3816360"/>
              <a:chExt cx="1364040" cy="304920"/>
            </a:xfrm>
          </p:grpSpPr>
          <p:pic>
            <p:nvPicPr>
              <p:cNvPr id="209" name="Rectangle 65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00400" y="3816360"/>
                <a:ext cx="13640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212280" y="3827880"/>
                <a:ext cx="1339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1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Rectangle 66"/>
            <p:cNvGrpSpPr/>
            <p:nvPr/>
          </p:nvGrpSpPr>
          <p:grpSpPr>
            <a:xfrm>
              <a:off x="4534200" y="3816360"/>
              <a:ext cx="1255320" cy="304920"/>
              <a:chOff x="4534200" y="3816360"/>
              <a:chExt cx="1255320" cy="304920"/>
            </a:xfrm>
          </p:grpSpPr>
          <p:pic>
            <p:nvPicPr>
              <p:cNvPr id="212" name="Rectangle 66" descr=""/>
              <p:cNvPicPr/>
              <p:nvPr/>
            </p:nvPicPr>
            <p:blipFill>
              <a:blip r:embed="rId15"/>
              <a:stretch/>
            </p:blipFill>
            <p:spPr>
              <a:xfrm>
                <a:off x="4534200" y="3816360"/>
                <a:ext cx="12553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4551480" y="3827520"/>
                <a:ext cx="1224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1.1.1.1.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67"/>
          <p:cNvGrpSpPr/>
          <p:nvPr/>
        </p:nvGrpSpPr>
        <p:grpSpPr>
          <a:xfrm>
            <a:off x="7372440" y="4260960"/>
            <a:ext cx="1295280" cy="311040"/>
            <a:chOff x="7372440" y="4260960"/>
            <a:chExt cx="1295280" cy="311040"/>
          </a:xfrm>
        </p:grpSpPr>
        <p:grpSp>
          <p:nvGrpSpPr>
            <p:cNvPr id="215" name="Rectangle 69"/>
            <p:cNvGrpSpPr/>
            <p:nvPr/>
          </p:nvGrpSpPr>
          <p:grpSpPr>
            <a:xfrm>
              <a:off x="7372440" y="4266360"/>
              <a:ext cx="590760" cy="305640"/>
              <a:chOff x="7372440" y="4266360"/>
              <a:chExt cx="590760" cy="305640"/>
            </a:xfrm>
          </p:grpSpPr>
          <p:pic>
            <p:nvPicPr>
              <p:cNvPr id="216" name="Rectangle 6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372440" y="4266360"/>
                <a:ext cx="590760" cy="30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7386480" y="4277520"/>
                <a:ext cx="56196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Rectangle 70"/>
            <p:cNvGrpSpPr/>
            <p:nvPr/>
          </p:nvGrpSpPr>
          <p:grpSpPr>
            <a:xfrm>
              <a:off x="7927560" y="4260960"/>
              <a:ext cx="740160" cy="311040"/>
              <a:chOff x="7927560" y="4260960"/>
              <a:chExt cx="740160" cy="311040"/>
            </a:xfrm>
          </p:grpSpPr>
          <p:pic>
            <p:nvPicPr>
              <p:cNvPr id="219" name="Rectangle 70" descr=""/>
              <p:cNvPicPr/>
              <p:nvPr/>
            </p:nvPicPr>
            <p:blipFill>
              <a:blip r:embed="rId17"/>
              <a:stretch/>
            </p:blipFill>
            <p:spPr>
              <a:xfrm>
                <a:off x="7927560" y="426096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7940880" y="427716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Bent-Up Arrow 72"/>
          <p:cNvSpPr/>
          <p:nvPr/>
        </p:nvSpPr>
        <p:spPr>
          <a:xfrm flipV="1">
            <a:off x="2419200" y="2889360"/>
            <a:ext cx="1143000" cy="30456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228600"/>
                </a:moveTo>
                <a:lnTo>
                  <a:pt x="1028700" y="228600"/>
                </a:lnTo>
                <a:lnTo>
                  <a:pt x="1028700" y="76200"/>
                </a:lnTo>
                <a:lnTo>
                  <a:pt x="990600" y="76200"/>
                </a:lnTo>
                <a:lnTo>
                  <a:pt x="1066800" y="0"/>
                </a:lnTo>
                <a:lnTo>
                  <a:pt x="1143000" y="76200"/>
                </a:lnTo>
                <a:lnTo>
                  <a:pt x="1104900" y="76200"/>
                </a:lnTo>
                <a:lnTo>
                  <a:pt x="11049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2"/>
          <p:cNvSpPr/>
          <p:nvPr/>
        </p:nvSpPr>
        <p:spPr>
          <a:xfrm flipH="1">
            <a:off x="3562200" y="2666880"/>
            <a:ext cx="1447920" cy="533520"/>
          </a:xfrm>
          <a:prstGeom prst="wedgeEllipseCallout">
            <a:avLst>
              <a:gd name="adj1" fmla="val 43657"/>
              <a:gd name="adj2" fmla="val 57050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NAPT Source 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Bent-Up Arrow 77"/>
          <p:cNvSpPr/>
          <p:nvPr/>
        </p:nvSpPr>
        <p:spPr>
          <a:xfrm flipV="1">
            <a:off x="3943440" y="3435480"/>
            <a:ext cx="1218960" cy="304560"/>
          </a:xfrm>
          <a:custGeom>
            <a:avLst/>
            <a:gdLst/>
            <a:ahLst/>
            <a:rect l="l" t="t" r="r" b="b"/>
            <a:pathLst>
              <a:path w="1219200" h="304800">
                <a:moveTo>
                  <a:pt x="0" y="228600"/>
                </a:moveTo>
                <a:lnTo>
                  <a:pt x="1104900" y="228600"/>
                </a:lnTo>
                <a:lnTo>
                  <a:pt x="1104900" y="76200"/>
                </a:lnTo>
                <a:lnTo>
                  <a:pt x="1066800" y="76200"/>
                </a:lnTo>
                <a:lnTo>
                  <a:pt x="1143000" y="0"/>
                </a:lnTo>
                <a:lnTo>
                  <a:pt x="1219200" y="76200"/>
                </a:lnTo>
                <a:lnTo>
                  <a:pt x="1181100" y="76200"/>
                </a:lnTo>
                <a:lnTo>
                  <a:pt x="11811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Bent-Up Arrow 78"/>
          <p:cNvSpPr/>
          <p:nvPr/>
        </p:nvSpPr>
        <p:spPr>
          <a:xfrm flipV="1">
            <a:off x="4172040" y="3435480"/>
            <a:ext cx="2438280" cy="304560"/>
          </a:xfrm>
          <a:custGeom>
            <a:avLst/>
            <a:gdLst/>
            <a:ahLst/>
            <a:rect l="l" t="t" r="r" b="b"/>
            <a:pathLst>
              <a:path w="2438400" h="304800">
                <a:moveTo>
                  <a:pt x="0" y="228600"/>
                </a:moveTo>
                <a:lnTo>
                  <a:pt x="2324100" y="228600"/>
                </a:lnTo>
                <a:lnTo>
                  <a:pt x="2324100" y="76200"/>
                </a:lnTo>
                <a:lnTo>
                  <a:pt x="2286000" y="76200"/>
                </a:lnTo>
                <a:lnTo>
                  <a:pt x="2362200" y="0"/>
                </a:lnTo>
                <a:lnTo>
                  <a:pt x="2438400" y="76200"/>
                </a:lnTo>
                <a:lnTo>
                  <a:pt x="2400300" y="76200"/>
                </a:lnTo>
                <a:lnTo>
                  <a:pt x="24003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2"/>
          <p:cNvSpPr/>
          <p:nvPr/>
        </p:nvSpPr>
        <p:spPr>
          <a:xfrm flipH="1">
            <a:off x="5161680" y="2666880"/>
            <a:ext cx="2667240" cy="762120"/>
          </a:xfrm>
          <a:prstGeom prst="wedgeEllipseCallout">
            <a:avLst>
              <a:gd name="adj1" fmla="val 31814"/>
              <a:gd name="adj2" fmla="val 82648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MAP IPv4 to IPv6 address + Encap. DA=4rd Gatewa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ent-Up Arrow 80"/>
          <p:cNvSpPr/>
          <p:nvPr/>
        </p:nvSpPr>
        <p:spPr>
          <a:xfrm flipV="1">
            <a:off x="7143840" y="3898080"/>
            <a:ext cx="1143000" cy="30492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228600"/>
                </a:moveTo>
                <a:lnTo>
                  <a:pt x="1028700" y="228600"/>
                </a:lnTo>
                <a:lnTo>
                  <a:pt x="1028700" y="76200"/>
                </a:lnTo>
                <a:lnTo>
                  <a:pt x="990600" y="76200"/>
                </a:lnTo>
                <a:lnTo>
                  <a:pt x="1066800" y="0"/>
                </a:lnTo>
                <a:lnTo>
                  <a:pt x="1143000" y="76200"/>
                </a:lnTo>
                <a:lnTo>
                  <a:pt x="1104900" y="76200"/>
                </a:lnTo>
                <a:lnTo>
                  <a:pt x="11049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2"/>
          <p:cNvSpPr/>
          <p:nvPr/>
        </p:nvSpPr>
        <p:spPr>
          <a:xfrm flipH="1">
            <a:off x="7524720" y="3352680"/>
            <a:ext cx="990720" cy="381240"/>
          </a:xfrm>
          <a:prstGeom prst="wedgeEllipseCallout">
            <a:avLst>
              <a:gd name="adj1" fmla="val 4726"/>
              <a:gd name="adj2" fmla="val 162370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Decap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9"/>
          <p:cNvSpPr/>
          <p:nvPr/>
        </p:nvSpPr>
        <p:spPr>
          <a:xfrm>
            <a:off x="2986200" y="1951200"/>
            <a:ext cx="135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 Narrow"/>
                <a:ea typeface="ＭＳ Ｐゴシック"/>
              </a:rPr>
              <a:t>4V6 address = 2001:beef:(1.1.1.1.f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84"/>
          <p:cNvSpPr/>
          <p:nvPr/>
        </p:nvSpPr>
        <p:spPr>
          <a:xfrm flipH="1" flipV="1">
            <a:off x="456840" y="4648320"/>
            <a:ext cx="8534520" cy="1440"/>
          </a:xfrm>
          <a:prstGeom prst="line">
            <a:avLst/>
          </a:prstGeom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-457200" y="4869000"/>
            <a:ext cx="832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7"/>
          <p:cNvGrpSpPr/>
          <p:nvPr/>
        </p:nvGrpSpPr>
        <p:grpSpPr>
          <a:xfrm>
            <a:off x="7315200" y="4869000"/>
            <a:ext cx="1371600" cy="311040"/>
            <a:chOff x="7315200" y="4869000"/>
            <a:chExt cx="1371600" cy="311040"/>
          </a:xfrm>
        </p:grpSpPr>
        <p:grpSp>
          <p:nvGrpSpPr>
            <p:cNvPr id="232" name="Rectangle 87"/>
            <p:cNvGrpSpPr/>
            <p:nvPr/>
          </p:nvGrpSpPr>
          <p:grpSpPr>
            <a:xfrm>
              <a:off x="7315200" y="4869000"/>
              <a:ext cx="620280" cy="311040"/>
              <a:chOff x="7315200" y="4869000"/>
              <a:chExt cx="620280" cy="311040"/>
            </a:xfrm>
          </p:grpSpPr>
          <p:pic>
            <p:nvPicPr>
              <p:cNvPr id="233" name="Rectangle 87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15200" y="4869000"/>
                <a:ext cx="62028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7327080" y="4884120"/>
                <a:ext cx="5947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Rectangle 88"/>
            <p:cNvGrpSpPr/>
            <p:nvPr/>
          </p:nvGrpSpPr>
          <p:grpSpPr>
            <a:xfrm>
              <a:off x="7899480" y="4869000"/>
              <a:ext cx="787320" cy="311040"/>
              <a:chOff x="7899480" y="4869000"/>
              <a:chExt cx="787320" cy="311040"/>
            </a:xfrm>
          </p:grpSpPr>
          <p:pic>
            <p:nvPicPr>
              <p:cNvPr id="236" name="Rectangle 88" descr=""/>
              <p:cNvPicPr/>
              <p:nvPr/>
            </p:nvPicPr>
            <p:blipFill>
              <a:blip r:embed="rId19"/>
              <a:stretch/>
            </p:blipFill>
            <p:spPr>
              <a:xfrm>
                <a:off x="7899480" y="4869000"/>
                <a:ext cx="78732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7913160" y="4883760"/>
                <a:ext cx="7556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67"/>
          <p:cNvGrpSpPr/>
          <p:nvPr/>
        </p:nvGrpSpPr>
        <p:grpSpPr>
          <a:xfrm>
            <a:off x="2438280" y="5867280"/>
            <a:ext cx="1428840" cy="311400"/>
            <a:chOff x="2438280" y="5867280"/>
            <a:chExt cx="1428840" cy="311400"/>
          </a:xfrm>
        </p:grpSpPr>
        <p:grpSp>
          <p:nvGrpSpPr>
            <p:cNvPr id="239" name="Rectangle 90"/>
            <p:cNvGrpSpPr/>
            <p:nvPr/>
          </p:nvGrpSpPr>
          <p:grpSpPr>
            <a:xfrm>
              <a:off x="2438280" y="5867280"/>
              <a:ext cx="723240" cy="311400"/>
              <a:chOff x="2438280" y="5867280"/>
              <a:chExt cx="723240" cy="311400"/>
            </a:xfrm>
          </p:grpSpPr>
          <p:pic>
            <p:nvPicPr>
              <p:cNvPr id="240" name="Rectangle 90" descr=""/>
              <p:cNvPicPr/>
              <p:nvPr/>
            </p:nvPicPr>
            <p:blipFill>
              <a:blip r:embed="rId20"/>
              <a:stretch/>
            </p:blipFill>
            <p:spPr>
              <a:xfrm>
                <a:off x="2438280" y="5867280"/>
                <a:ext cx="72324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450160" y="5881320"/>
                <a:ext cx="69372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Rectangle 91"/>
            <p:cNvGrpSpPr/>
            <p:nvPr/>
          </p:nvGrpSpPr>
          <p:grpSpPr>
            <a:xfrm>
              <a:off x="3119760" y="5867280"/>
              <a:ext cx="747360" cy="311400"/>
              <a:chOff x="3119760" y="5867280"/>
              <a:chExt cx="747360" cy="311400"/>
            </a:xfrm>
          </p:grpSpPr>
          <p:pic>
            <p:nvPicPr>
              <p:cNvPr id="243" name="Rectangle 91" descr=""/>
              <p:cNvPicPr/>
              <p:nvPr/>
            </p:nvPicPr>
            <p:blipFill>
              <a:blip r:embed="rId21"/>
              <a:stretch/>
            </p:blipFill>
            <p:spPr>
              <a:xfrm>
                <a:off x="3119760" y="5867280"/>
                <a:ext cx="74736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3135960" y="5880960"/>
                <a:ext cx="715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67"/>
          <p:cNvGrpSpPr/>
          <p:nvPr/>
        </p:nvGrpSpPr>
        <p:grpSpPr>
          <a:xfrm>
            <a:off x="990720" y="6316560"/>
            <a:ext cx="1447560" cy="311400"/>
            <a:chOff x="990720" y="6316560"/>
            <a:chExt cx="1447560" cy="311400"/>
          </a:xfrm>
        </p:grpSpPr>
        <p:grpSp>
          <p:nvGrpSpPr>
            <p:cNvPr id="246" name="Rectangle 99"/>
            <p:cNvGrpSpPr/>
            <p:nvPr/>
          </p:nvGrpSpPr>
          <p:grpSpPr>
            <a:xfrm>
              <a:off x="990720" y="6316560"/>
              <a:ext cx="741600" cy="311400"/>
              <a:chOff x="990720" y="6316560"/>
              <a:chExt cx="741600" cy="311400"/>
            </a:xfrm>
          </p:grpSpPr>
          <p:pic>
            <p:nvPicPr>
              <p:cNvPr id="247" name="Rectangle 99" descr=""/>
              <p:cNvPicPr/>
              <p:nvPr/>
            </p:nvPicPr>
            <p:blipFill>
              <a:blip r:embed="rId22"/>
              <a:stretch/>
            </p:blipFill>
            <p:spPr>
              <a:xfrm>
                <a:off x="990720" y="6316560"/>
                <a:ext cx="7416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1005480" y="6329160"/>
                <a:ext cx="71280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192.168.0.1:144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Rectangle 100"/>
            <p:cNvGrpSpPr/>
            <p:nvPr/>
          </p:nvGrpSpPr>
          <p:grpSpPr>
            <a:xfrm>
              <a:off x="1696680" y="6316560"/>
              <a:ext cx="741600" cy="311400"/>
              <a:chOff x="1696680" y="6316560"/>
              <a:chExt cx="741600" cy="311400"/>
            </a:xfrm>
          </p:grpSpPr>
          <p:pic>
            <p:nvPicPr>
              <p:cNvPr id="250" name="Rectangle 100" descr=""/>
              <p:cNvPicPr/>
              <p:nvPr/>
            </p:nvPicPr>
            <p:blipFill>
              <a:blip r:embed="rId23"/>
              <a:stretch/>
            </p:blipFill>
            <p:spPr>
              <a:xfrm>
                <a:off x="1696680" y="6316560"/>
                <a:ext cx="741600" cy="31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1710720" y="6328440"/>
                <a:ext cx="715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Bent-Up Arrow 101"/>
          <p:cNvSpPr/>
          <p:nvPr/>
        </p:nvSpPr>
        <p:spPr>
          <a:xfrm flipH="1" flipV="1">
            <a:off x="6171480" y="4944240"/>
            <a:ext cx="1143000" cy="30492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228600"/>
                </a:moveTo>
                <a:lnTo>
                  <a:pt x="1028700" y="228600"/>
                </a:lnTo>
                <a:lnTo>
                  <a:pt x="1028700" y="76200"/>
                </a:lnTo>
                <a:lnTo>
                  <a:pt x="990600" y="76200"/>
                </a:lnTo>
                <a:lnTo>
                  <a:pt x="1066800" y="0"/>
                </a:lnTo>
                <a:lnTo>
                  <a:pt x="1143000" y="76200"/>
                </a:lnTo>
                <a:lnTo>
                  <a:pt x="1104900" y="76200"/>
                </a:lnTo>
                <a:lnTo>
                  <a:pt x="11049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2"/>
          <p:cNvSpPr/>
          <p:nvPr/>
        </p:nvSpPr>
        <p:spPr>
          <a:xfrm>
            <a:off x="5619600" y="6324480"/>
            <a:ext cx="1627200" cy="381240"/>
          </a:xfrm>
          <a:prstGeom prst="wedgeEllipseCallout">
            <a:avLst>
              <a:gd name="adj1" fmla="val -73736"/>
              <a:gd name="adj2" fmla="val -107629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Decap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2"/>
          <p:cNvSpPr/>
          <p:nvPr/>
        </p:nvSpPr>
        <p:spPr>
          <a:xfrm>
            <a:off x="1657440" y="4495680"/>
            <a:ext cx="2666880" cy="762120"/>
          </a:xfrm>
          <a:prstGeom prst="wedgeEllipseCallout">
            <a:avLst>
              <a:gd name="adj1" fmla="val 51898"/>
              <a:gd name="adj2" fmla="val 53203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MAP IPv4 to IPv6 address + index &amp; En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Bent-Up Arrow 106"/>
          <p:cNvSpPr/>
          <p:nvPr/>
        </p:nvSpPr>
        <p:spPr>
          <a:xfrm flipH="1" flipV="1">
            <a:off x="1523160" y="5954040"/>
            <a:ext cx="895320" cy="304920"/>
          </a:xfrm>
          <a:custGeom>
            <a:avLst/>
            <a:gdLst/>
            <a:ahLst/>
            <a:rect l="l" t="t" r="r" b="b"/>
            <a:pathLst>
              <a:path w="895350" h="304800">
                <a:moveTo>
                  <a:pt x="0" y="228600"/>
                </a:moveTo>
                <a:lnTo>
                  <a:pt x="781050" y="228600"/>
                </a:lnTo>
                <a:lnTo>
                  <a:pt x="781050" y="76200"/>
                </a:lnTo>
                <a:lnTo>
                  <a:pt x="742950" y="76200"/>
                </a:lnTo>
                <a:lnTo>
                  <a:pt x="819150" y="0"/>
                </a:lnTo>
                <a:lnTo>
                  <a:pt x="895350" y="76200"/>
                </a:lnTo>
                <a:lnTo>
                  <a:pt x="857250" y="76200"/>
                </a:lnTo>
                <a:lnTo>
                  <a:pt x="85725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2"/>
          <p:cNvSpPr/>
          <p:nvPr/>
        </p:nvSpPr>
        <p:spPr>
          <a:xfrm>
            <a:off x="1047600" y="5408640"/>
            <a:ext cx="1086120" cy="380880"/>
          </a:xfrm>
          <a:prstGeom prst="wedgeEllipseCallout">
            <a:avLst>
              <a:gd name="adj1" fmla="val -18046"/>
              <a:gd name="adj2" fmla="val 165148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NA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7"/>
          <p:cNvGrpSpPr/>
          <p:nvPr/>
        </p:nvGrpSpPr>
        <p:grpSpPr>
          <a:xfrm>
            <a:off x="5924520" y="5334120"/>
            <a:ext cx="1390680" cy="311040"/>
            <a:chOff x="5924520" y="5334120"/>
            <a:chExt cx="1390680" cy="311040"/>
          </a:xfrm>
        </p:grpSpPr>
        <p:grpSp>
          <p:nvGrpSpPr>
            <p:cNvPr id="258" name="Rectangle 111"/>
            <p:cNvGrpSpPr/>
            <p:nvPr/>
          </p:nvGrpSpPr>
          <p:grpSpPr>
            <a:xfrm>
              <a:off x="5924520" y="5334120"/>
              <a:ext cx="722160" cy="311040"/>
              <a:chOff x="5924520" y="5334120"/>
              <a:chExt cx="722160" cy="311040"/>
            </a:xfrm>
          </p:grpSpPr>
          <p:pic>
            <p:nvPicPr>
              <p:cNvPr id="259" name="Rectangle 11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924520" y="5334120"/>
                <a:ext cx="722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5941440" y="5345640"/>
                <a:ext cx="690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1.1.1.1:2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Rectangle 112"/>
            <p:cNvGrpSpPr/>
            <p:nvPr/>
          </p:nvGrpSpPr>
          <p:grpSpPr>
            <a:xfrm>
              <a:off x="6575040" y="5334120"/>
              <a:ext cx="740160" cy="311040"/>
              <a:chOff x="6575040" y="5334120"/>
              <a:chExt cx="740160" cy="311040"/>
            </a:xfrm>
          </p:grpSpPr>
          <p:pic>
            <p:nvPicPr>
              <p:cNvPr id="262" name="Rectangle 11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575040" y="5334120"/>
                <a:ext cx="74016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6589080" y="5344920"/>
                <a:ext cx="714240" cy="2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bbb59"/>
                    </a:solidFill>
                    <a:latin typeface="Arial Narrow"/>
                    <a:ea typeface="ＭＳ Ｐゴシック"/>
                  </a:rPr>
                  <a:t>8.8.8.8: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113"/>
          <p:cNvGrpSpPr/>
          <p:nvPr/>
        </p:nvGrpSpPr>
        <p:grpSpPr>
          <a:xfrm>
            <a:off x="3352680" y="5340240"/>
            <a:ext cx="2589480" cy="304920"/>
            <a:chOff x="3352680" y="5340240"/>
            <a:chExt cx="2589480" cy="304920"/>
          </a:xfrm>
        </p:grpSpPr>
        <p:grpSp>
          <p:nvGrpSpPr>
            <p:cNvPr id="265" name="Rectangle 114"/>
            <p:cNvGrpSpPr/>
            <p:nvPr/>
          </p:nvGrpSpPr>
          <p:grpSpPr>
            <a:xfrm>
              <a:off x="3352680" y="5340240"/>
              <a:ext cx="1364040" cy="304920"/>
              <a:chOff x="3352680" y="5340240"/>
              <a:chExt cx="1364040" cy="304920"/>
            </a:xfrm>
          </p:grpSpPr>
          <p:pic>
            <p:nvPicPr>
              <p:cNvPr id="266" name="Rectangle 114" descr=""/>
              <p:cNvPicPr/>
              <p:nvPr/>
            </p:nvPicPr>
            <p:blipFill>
              <a:blip r:embed="rId26"/>
              <a:stretch/>
            </p:blipFill>
            <p:spPr>
              <a:xfrm>
                <a:off x="3352680" y="5340240"/>
                <a:ext cx="13640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3364560" y="5351760"/>
                <a:ext cx="1339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beef:1.1.1.1.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Rectangle 115"/>
            <p:cNvGrpSpPr/>
            <p:nvPr/>
          </p:nvGrpSpPr>
          <p:grpSpPr>
            <a:xfrm>
              <a:off x="4686480" y="5340240"/>
              <a:ext cx="1255680" cy="304920"/>
              <a:chOff x="4686480" y="5340240"/>
              <a:chExt cx="1255680" cy="304920"/>
            </a:xfrm>
          </p:grpSpPr>
          <p:pic>
            <p:nvPicPr>
              <p:cNvPr id="269" name="Rectangle 115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86480" y="5340240"/>
                <a:ext cx="125568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703760" y="5351400"/>
                <a:ext cx="122472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eece1"/>
                    </a:solidFill>
                    <a:latin typeface="Arial Narrow"/>
                    <a:ea typeface="ＭＳ Ｐゴシック"/>
                  </a:rPr>
                  <a:t>2001:1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Bent-Up Arrow 116"/>
          <p:cNvSpPr/>
          <p:nvPr/>
        </p:nvSpPr>
        <p:spPr>
          <a:xfrm flipH="1" flipV="1">
            <a:off x="4552920" y="4952160"/>
            <a:ext cx="2362320" cy="304920"/>
          </a:xfrm>
          <a:custGeom>
            <a:avLst/>
            <a:gdLst/>
            <a:ahLst/>
            <a:rect l="l" t="t" r="r" b="b"/>
            <a:pathLst>
              <a:path w="2362200" h="304800">
                <a:moveTo>
                  <a:pt x="0" y="228600"/>
                </a:moveTo>
                <a:lnTo>
                  <a:pt x="2247900" y="228600"/>
                </a:lnTo>
                <a:lnTo>
                  <a:pt x="2247900" y="76200"/>
                </a:lnTo>
                <a:lnTo>
                  <a:pt x="2209800" y="76200"/>
                </a:lnTo>
                <a:lnTo>
                  <a:pt x="2286000" y="0"/>
                </a:lnTo>
                <a:lnTo>
                  <a:pt x="2362200" y="76200"/>
                </a:lnTo>
                <a:lnTo>
                  <a:pt x="2324100" y="76200"/>
                </a:lnTo>
                <a:lnTo>
                  <a:pt x="2324100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Bent-Up Arrow 117"/>
          <p:cNvSpPr/>
          <p:nvPr/>
        </p:nvSpPr>
        <p:spPr>
          <a:xfrm flipV="1" rot="5400000">
            <a:off x="4914720" y="4667040"/>
            <a:ext cx="419040" cy="2514600"/>
          </a:xfrm>
          <a:custGeom>
            <a:avLst/>
            <a:gdLst/>
            <a:ahLst/>
            <a:rect l="l" t="t" r="r" b="b"/>
            <a:pathLst>
              <a:path w="419100" h="2514600">
                <a:moveTo>
                  <a:pt x="0" y="2409825"/>
                </a:moveTo>
                <a:lnTo>
                  <a:pt x="261938" y="2409825"/>
                </a:lnTo>
                <a:lnTo>
                  <a:pt x="261938" y="104775"/>
                </a:lnTo>
                <a:lnTo>
                  <a:pt x="209550" y="104775"/>
                </a:lnTo>
                <a:lnTo>
                  <a:pt x="314325" y="0"/>
                </a:lnTo>
                <a:lnTo>
                  <a:pt x="419100" y="104775"/>
                </a:lnTo>
                <a:lnTo>
                  <a:pt x="366713" y="104775"/>
                </a:lnTo>
                <a:lnTo>
                  <a:pt x="366713" y="2514600"/>
                </a:lnTo>
                <a:lnTo>
                  <a:pt x="0" y="2514600"/>
                </a:lnTo>
                <a:lnTo>
                  <a:pt x="0" y="2409825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08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eft Brace 118"/>
          <p:cNvSpPr/>
          <p:nvPr/>
        </p:nvSpPr>
        <p:spPr>
          <a:xfrm>
            <a:off x="838080" y="2743200"/>
            <a:ext cx="198720" cy="83808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838080"/>
              <a:gd name="textAreaBottom" fmla="*/ 833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3"/>
                  <a:pt x="10800" y="426"/>
                </a:cubicBezTo>
                <a:lnTo>
                  <a:pt x="10800" y="10374"/>
                </a:lnTo>
                <a:cubicBezTo>
                  <a:pt x="10800" y="10587"/>
                  <a:pt x="5400" y="10800"/>
                  <a:pt x="0" y="10800"/>
                </a:cubicBezTo>
                <a:cubicBezTo>
                  <a:pt x="5400" y="10800"/>
                  <a:pt x="10800" y="11013"/>
                  <a:pt x="10800" y="11226"/>
                </a:cubicBezTo>
                <a:lnTo>
                  <a:pt x="10800" y="21174"/>
                </a:lnTo>
                <a:cubicBezTo>
                  <a:pt x="10800" y="2138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eft Brace 119"/>
          <p:cNvSpPr/>
          <p:nvPr/>
        </p:nvSpPr>
        <p:spPr>
          <a:xfrm>
            <a:off x="838080" y="5715000"/>
            <a:ext cx="198720" cy="83808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838080"/>
              <a:gd name="textAreaBottom" fmla="*/ 833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3"/>
                  <a:pt x="10800" y="426"/>
                </a:cubicBezTo>
                <a:lnTo>
                  <a:pt x="10800" y="10374"/>
                </a:lnTo>
                <a:cubicBezTo>
                  <a:pt x="10800" y="10587"/>
                  <a:pt x="5400" y="10800"/>
                  <a:pt x="0" y="10800"/>
                </a:cubicBezTo>
                <a:cubicBezTo>
                  <a:pt x="5400" y="10800"/>
                  <a:pt x="10800" y="11013"/>
                  <a:pt x="10800" y="11226"/>
                </a:cubicBezTo>
                <a:lnTo>
                  <a:pt x="10800" y="21174"/>
                </a:lnTo>
                <a:cubicBezTo>
                  <a:pt x="10800" y="2138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0"/>
          <p:cNvSpPr/>
          <p:nvPr/>
        </p:nvSpPr>
        <p:spPr>
          <a:xfrm>
            <a:off x="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0"/>
          <p:cNvSpPr/>
          <p:nvPr/>
        </p:nvSpPr>
        <p:spPr>
          <a:xfrm>
            <a:off x="0" y="5791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2"/>
          <p:cNvSpPr/>
          <p:nvPr/>
        </p:nvSpPr>
        <p:spPr>
          <a:xfrm flipH="1">
            <a:off x="3199680" y="990720"/>
            <a:ext cx="1981080" cy="533160"/>
          </a:xfrm>
          <a:prstGeom prst="wedgeEllipseCallout">
            <a:avLst>
              <a:gd name="adj1" fmla="val 79185"/>
              <a:gd name="adj2" fmla="val 66972"/>
            </a:avLst>
          </a:prstGeom>
          <a:solidFill>
            <a:srgbClr val="e6e3d2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ndex - f = Ports 2000-2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5"/>
          <p:cNvSpPr/>
          <p:nvPr/>
        </p:nvSpPr>
        <p:spPr>
          <a:xfrm>
            <a:off x="1066680" y="35053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Note: IPv4 Port shown for IPv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less46</a:t>
            </a:r>
            <a:br>
              <a:rPr sz="29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ped Tunnel Mode – (Example only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numerically accu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eft Brace 85"/>
          <p:cNvSpPr/>
          <p:nvPr/>
        </p:nvSpPr>
        <p:spPr>
          <a:xfrm>
            <a:off x="684360" y="4221000"/>
            <a:ext cx="204480" cy="1079640"/>
          </a:xfrm>
          <a:custGeom>
            <a:avLst/>
            <a:gdLst>
              <a:gd name="textAreaLeft" fmla="*/ 130680 w 204480"/>
              <a:gd name="textAreaRight" fmla="*/ 204840 w 204480"/>
              <a:gd name="textAreaTop" fmla="*/ 5040 h 1079640"/>
              <a:gd name="textAreaBottom" fmla="*/ 10746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1"/>
                </a:cubicBezTo>
                <a:lnTo>
                  <a:pt x="10800" y="10459"/>
                </a:lnTo>
                <a:cubicBezTo>
                  <a:pt x="10800" y="10630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1"/>
                </a:cubicBezTo>
                <a:lnTo>
                  <a:pt x="10800" y="21259"/>
                </a:lnTo>
                <a:cubicBezTo>
                  <a:pt x="10800" y="214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0"/>
          <p:cNvSpPr/>
          <p:nvPr/>
        </p:nvSpPr>
        <p:spPr>
          <a:xfrm>
            <a:off x="-87480" y="4437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by G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0"/>
          <p:cNvSpPr/>
          <p:nvPr/>
        </p:nvSpPr>
        <p:spPr>
          <a:xfrm>
            <a:off x="6858000" y="1773360"/>
            <a:ext cx="488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334120" y="1905120"/>
            <a:ext cx="1033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 Narrow"/>
                <a:ea typeface="ＭＳ Ｐゴシック"/>
              </a:rPr>
              <a:t>2001:beef::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86"/>
          <p:cNvSpPr/>
          <p:nvPr/>
        </p:nvSpPr>
        <p:spPr>
          <a:xfrm>
            <a:off x="990720" y="25146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:port  SA: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6"/>
          <p:cNvSpPr/>
          <p:nvPr/>
        </p:nvSpPr>
        <p:spPr>
          <a:xfrm>
            <a:off x="3733920" y="3581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               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58852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less 46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ison Summ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Table 3" descr=""/>
          <p:cNvPicPr/>
          <p:nvPr/>
        </p:nvPicPr>
        <p:blipFill>
          <a:blip r:embed="rId1"/>
          <a:stretch/>
        </p:blipFill>
        <p:spPr>
          <a:xfrm>
            <a:off x="182520" y="969840"/>
            <a:ext cx="8753400" cy="577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V6 in a 3GPP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3GPP system functionality is defined to support an extensive set of IP network service requirements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g  Per subscriber QoS, charging, data volume plan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ystem is in common deployment. IPv6 fully supported in Release 8/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Key functionality is the representation and signaling across various interfaces of the user’s virtual connection (Bearer). This is specified in terms of IP Filter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3GPP currently defines IPv4 &amp; IPv6 traffic filter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clearly defined way how to represent IPv4inIPv6 traffic *alongside* regular IPv6 traffi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ossible options are an additional (default) bearer (ie additional session), or a new bearer typ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0B4C-ED67-4C7F-A6D7-9A6BEAA421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52833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V6 in 3GP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Table 4" descr=""/>
          <p:cNvPicPr/>
          <p:nvPr/>
        </p:nvPicPr>
        <p:blipFill>
          <a:blip r:embed="rId1"/>
          <a:stretch/>
        </p:blipFill>
        <p:spPr>
          <a:xfrm>
            <a:off x="182520" y="969840"/>
            <a:ext cx="8753400" cy="58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V6 in a PCMM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ble L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0A25-CB0E-48F0-AE73-68E5BEC7CB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041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8:01:24Z</dcterms:created>
  <dc:creator/>
  <dc:description/>
  <dc:language>en-US</dc:language>
  <cp:lastModifiedBy>Wojciech Dec</cp:lastModifiedBy>
  <dcterms:modified xsi:type="dcterms:W3CDTF">2011-07-28T18:47:06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