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0B5AF7-E0C3-41AC-9461-3A38294D0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60329-1E75-4568-B86E-7A3E7502F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722405-59F2-4F22-8D8F-37B8ED097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C6E235-7188-4E7E-983B-118E4212E6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FCAF6B-F3D1-4A42-9B97-5FC6835103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BA123C27-3B64-4513-9B0B-41A14CA612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79CFEB7B-238A-42EB-99FE-5E0E1E7E82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CDC7E52C-DCE8-4254-823D-B75A946D8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A82E3D1B-C7C2-4A60-ACE3-D75F972AB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6EFA6FB7-54F7-4C2B-BC29-AE7B2806F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FC1B5B5E-EC4D-4FF9-81C8-B42742B4C8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9FA828-6B22-44EF-8169-236830C4BB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49C32F17-B1C2-4EE7-BF76-D9C09DE6E4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49E9A8B6-E368-44A6-8587-6D5CBD0180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B788D740-0D0C-4C7A-A8B7-68702832E2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A402BC7A-2547-4AD5-82DE-5055A2AA21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640D8BCA-00F1-4017-B803-52EBA7548C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DE973-594B-4833-A577-D29099419F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073B3D3F-E553-4F4B-96F2-56D9655ED7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B7074A63-45DF-4A87-B5B0-CE747FECD0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E8DC38C0-3118-4886-936F-29431DA7E2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F350B291-C1AE-4DA4-A306-DA05B6165C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76D541-E8F8-460A-AAA5-54387EC4E1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72BDB1D3-F783-4631-BD4D-2CA23EB568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D7E22C44-D614-4338-978B-D73990BA08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BC48433D-8020-430F-92E1-1D1F49F78C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E80395A1-A4F2-41FE-AA76-2C318616EB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975FF0F6-97B8-4C34-8891-2071A72334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6E66808C-4CCE-4F0B-9C02-82DA176792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E94A6725-2E7B-4581-965D-C37DBDD013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6F043D-E593-44BB-AF1D-FFCEE3D61C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D5A77823-CE76-4583-B868-6B23A24A68F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C3AB5B0B-468B-4618-9BC5-EE86F742A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D0C397-5D69-4158-B41C-419A0F5798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67A12412-1F7A-494A-B0B2-07539A607A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55C180B1-8665-457E-84B6-C8E6377B31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06B016C7-1F30-4969-9F3E-A3BD197C5E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92F3AD9A-017E-469E-8368-A26E2A4FED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9E30D46B-D44B-4D2B-9343-BA25BA3EE2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AEE0B1FE-7CDD-41E0-AB56-BA750925F77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7951B08C-2143-4CF0-ADB3-84F33F328E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4B7389DD-C912-4999-9669-32A419E3B7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02320E19-B931-49FA-A10D-BC892206D6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2AFA594-9787-4C05-A02E-8606D787C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24D9E0-302B-41D9-9C9D-6D501E2B99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143461CE-BD47-4814-9BEF-AE431F7C0C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B05F7369-972E-43FD-BF26-5BEDDB8F66E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8C55C19C-8BA8-4DC4-B54E-10EEBA9F77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F53EB6EA-6F37-41EB-8D45-60BC313D75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A71E2392-40A7-42B1-B2E5-43B6E7B522C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1376E9E0-3B74-43AD-B8A9-AD79A42915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551AE536-283D-479C-B2BE-7EB1352F56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1B63521D-04CB-41A5-B800-D3EB05E26D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C1F33CB8-54BC-485A-90A7-9CC52BBD69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E98B91DF-423E-44FF-9032-5FFC49E195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3254B6-8A3E-4741-A4BB-706E7A9363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CDDF1555-9282-4A43-B8C2-25092CDB46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928641-2B99-4C57-8D8B-3E77B79682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23CF6-665D-4215-ABF5-DAB795DCB6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70C0C-72E2-4628-906E-68D708B56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DFA2-0D96-4B49-A4BA-2AB185C5470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C45D-CEED-4A12-9D76-4DBF3302552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65A1-F786-45AF-AE91-C24460A8595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2CBB-F892-432B-AC3B-75964404624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8CEE-D8EF-4E37-93CF-858031D0F3F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Revision of the Binary Floor Control Protocol (BFCP) </a:t>
            </a:r>
            <a:br>
              <a:rPr sz="2800"/>
            </a:br>
            <a:r>
              <a:rPr b="0" lang="en-US" sz="2800" spc="-1" strike="noStrike">
                <a:solidFill>
                  <a:srgbClr val="000000"/>
                </a:solidFill>
                <a:latin typeface="Bookman Old Style"/>
              </a:rPr>
              <a:t>for use over an unreliable transport</a:t>
            </a:r>
            <a:br>
              <a:rPr sz="2800"/>
            </a:br>
            <a:r>
              <a:rPr b="0" lang="en-US" sz="2800" spc="-1" strike="noStrike">
                <a:solidFill>
                  <a:srgbClr val="000000"/>
                </a:solidFill>
                <a:latin typeface="Bookman Old Style"/>
              </a:rPr>
              <a:t>(draft-sandbakken-dispatch-bfcp-udp-03)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Tom Kristensen, Mark Thompson, Geir Arne Sandbakken, Eoin McLeod</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arge Message Considerations</a:t>
            </a:r>
            <a:endParaRPr b="0" lang="en-US" sz="3200" spc="-1" strike="noStrike">
              <a:solidFill>
                <a:srgbClr val="464653"/>
              </a:solidFill>
              <a:latin typeface="Bookman Old Style"/>
            </a:endParaRPr>
          </a:p>
        </p:txBody>
      </p:sp>
      <p:sp>
        <p:nvSpPr>
          <p:cNvPr id="244"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 messages become a concern when using BFCP if the overall size of a single BFCP message exceeds that representable within the 16-bit Payload Length field of the COMMON-HEADER. </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using UDP, there is the added concern that a single BFCP message can be fragmented at the IP layer if its overall size exceeds the MTU threshold of the network.</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arget use cases for BFCP via UDP typically involve relatively small BFCP messages ... BFCP entities SHOULD ensure that their messages are smaller than the recommended MTU size of 1300 bytes when encoded to minimize the likelihood of fragmentation in route to their peer entity.</a:t>
            </a:r>
            <a:endParaRPr b="0" lang="en-US" sz="2400" spc="-1" strike="noStrike">
              <a:solidFill>
                <a:srgbClr val="000000"/>
              </a:solidFill>
              <a:latin typeface="Gill Sans MT"/>
            </a:endParaRPr>
          </a:p>
        </p:txBody>
      </p:sp>
      <p:sp>
        <p:nvSpPr>
          <p:cNvPr id="24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39C5-AC4E-4C6D-93D2-08D7085F215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4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arge Message Considerations: Options</a:t>
            </a:r>
            <a:endParaRPr b="0" lang="en-US" sz="3200" spc="-1" strike="noStrike">
              <a:solidFill>
                <a:srgbClr val="464653"/>
              </a:solidFill>
              <a:latin typeface="Bookman Old Style"/>
            </a:endParaRPr>
          </a:p>
        </p:txBody>
      </p:sp>
      <p:sp>
        <p:nvSpPr>
          <p:cNvPr id="248" name=""/>
          <p:cNvSpPr txBox="1"/>
          <p:nvPr/>
        </p:nvSpPr>
        <p:spPr>
          <a:xfrm>
            <a:off x="457200" y="1219320"/>
            <a:ext cx="8229600" cy="4937040"/>
          </a:xfrm>
          <a:prstGeom prst="rect">
            <a:avLst/>
          </a:prstGeom>
          <a:noFill/>
          <a:ln w="0">
            <a:noFill/>
          </a:ln>
        </p:spPr>
        <p:txBody>
          <a:bodyPr anchor="t">
            <a:normAutofit fontScale="93000"/>
          </a:bodyPr>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ve as out of scope (as currently defined)</a:t>
            </a:r>
            <a:endParaRPr b="0" lang="en-US" sz="2400" spc="-1" strike="noStrike">
              <a:solidFill>
                <a:srgbClr val="000000"/>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 a mechanism for splitting a single large message into additive messages</a:t>
            </a:r>
            <a:endParaRPr b="0" lang="en-US" sz="2400" spc="-1" strike="noStrike">
              <a:solidFill>
                <a:srgbClr val="000000"/>
              </a:solidFill>
              <a:latin typeface="Gill Sans MT"/>
            </a:endParaRPr>
          </a:p>
          <a:p>
            <a:pPr lvl="1" marL="733680" indent="-478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he mechanism defined for RELOAD in section 5.7 of [I-D.ietf-p2psip-base] has been identified as a good candidate.</a:t>
            </a:r>
            <a:endParaRPr b="0" lang="en-US" sz="2400" spc="-1" strike="noStrike">
              <a:solidFill>
                <a:srgbClr val="464653"/>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 an applicability statement on those BFCP messages and/or attributes deemed as inappropriate for use over transports where fragmentation is a concern</a:t>
            </a:r>
            <a:endParaRPr b="0" lang="en-US" sz="2400" spc="-1" strike="noStrike">
              <a:solidFill>
                <a:srgbClr val="000000"/>
              </a:solidFill>
              <a:latin typeface="Gill Sans MT"/>
            </a:endParaRPr>
          </a:p>
          <a:p>
            <a:pPr marL="478080" indent="-4780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fine SIP event package to deliver information</a:t>
            </a:r>
            <a:endParaRPr b="0" lang="en-US" sz="2400" spc="-1" strike="noStrike">
              <a:solidFill>
                <a:srgbClr val="000000"/>
              </a:solidFill>
              <a:latin typeface="Gill Sans MT"/>
            </a:endParaRPr>
          </a:p>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733680" indent="-478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t an issue for existing deployments/intended use cases</a:t>
            </a:r>
            <a:endParaRPr b="0" lang="en-US" sz="2400" spc="-1" strike="noStrike">
              <a:solidFill>
                <a:srgbClr val="464653"/>
              </a:solidFill>
              <a:latin typeface="Gill Sans MT"/>
            </a:endParaRPr>
          </a:p>
          <a:p>
            <a:pPr marL="478080" indent="-4780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1C41-A4F1-48CB-899E-F540A484118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a:t>
            </a:r>
            <a:endParaRPr b="0" lang="en-US" sz="3200" spc="-1" strike="noStrike">
              <a:solidFill>
                <a:srgbClr val="464653"/>
              </a:solidFill>
              <a:latin typeface="Bookman Old Style"/>
            </a:endParaRPr>
          </a:p>
        </p:txBody>
      </p:sp>
      <p:sp>
        <p:nvSpPr>
          <p:cNvPr id="252" name=""/>
          <p:cNvSpPr txBox="1"/>
          <p:nvPr/>
        </p:nvSpPr>
        <p:spPr>
          <a:xfrm>
            <a:off x="457200" y="1219320"/>
            <a:ext cx="8229600" cy="4937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order to facilitate the initial establishment of NAT bindings, and to maintain those bindings once established, BFCP over UDP entities are RECOMMENDED to use STUN [RFC5389] for keep-alives, as described for SIP [RFC5626].  </a:t>
            </a:r>
            <a:endParaRPr b="0" lang="en-US" sz="24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equently,  implementations need to be able to demultiplex incoming BFCP/STUN packet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p:txBody>
      </p:sp>
      <p:sp>
        <p:nvSpPr>
          <p:cNvPr id="25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1F1E-56F3-4492-85CA-978B010BFA6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STUN</a:t>
            </a:r>
            <a:endParaRPr b="0" lang="en-US" sz="3200" spc="-1" strike="noStrike">
              <a:solidFill>
                <a:srgbClr val="464653"/>
              </a:solidFill>
              <a:latin typeface="Bookman Old Style"/>
            </a:endParaRPr>
          </a:p>
        </p:txBody>
      </p:sp>
      <p:sp>
        <p:nvSpPr>
          <p:cNvPr id="256" name=""/>
          <p:cNvSpPr txBox="1"/>
          <p:nvPr/>
        </p:nvSpPr>
        <p:spPr>
          <a:xfrm>
            <a:off x="457200" y="1219320"/>
            <a:ext cx="8229600" cy="4937040"/>
          </a:xfrm>
          <a:prstGeom prst="rect">
            <a:avLst/>
          </a:prstGeom>
          <a:noFill/>
          <a:ln w="0">
            <a:noFill/>
          </a:ln>
        </p:spPr>
        <p:txBody>
          <a:bodyPr anchor="t">
            <a:normAutofit fontScale="98000"/>
          </a:bodyPr>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at for STUN message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 4 5 6 7 8 9 0 1 2 3 4 5 6 7 8 9 0 1 2 3 4 5 6 7 8 9 0 1</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     STUN Message Type     |         Message Length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Magic Cookie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Transaction ID (96 bits)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Gill Sans MT"/>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504000" indent="-504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Gill Sans MT"/>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 most significant 2 bits of every STUN message MUST be zeroes.  This can be used to differentiate STUN packets from other protocols when STUN is multiplexed with other protocols on the same port.</a:t>
            </a:r>
            <a:endParaRPr b="0" lang="en-US" sz="2400" spc="-1" strike="noStrike">
              <a:solidFill>
                <a:srgbClr val="000000"/>
              </a:solidFill>
              <a:latin typeface="Gill Sans MT"/>
            </a:endParaRPr>
          </a:p>
        </p:txBody>
      </p:sp>
      <p:sp>
        <p:nvSpPr>
          <p:cNvPr id="25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91C5-BFF7-4CD8-86F8-A83863307CF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5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BFCP</a:t>
            </a:r>
            <a:endParaRPr b="0" lang="en-US" sz="3200" spc="-1" strike="noStrike">
              <a:solidFill>
                <a:srgbClr val="464653"/>
              </a:solidFill>
              <a:latin typeface="Bookman Old Style"/>
            </a:endParaRPr>
          </a:p>
        </p:txBody>
      </p:sp>
      <p:sp>
        <p:nvSpPr>
          <p:cNvPr id="260" name=""/>
          <p:cNvSpPr txBox="1"/>
          <p:nvPr/>
        </p:nvSpPr>
        <p:spPr>
          <a:xfrm>
            <a:off x="457200" y="1219320"/>
            <a:ext cx="8229600" cy="4937040"/>
          </a:xfrm>
          <a:prstGeom prst="rect">
            <a:avLst/>
          </a:prstGeom>
          <a:noFill/>
          <a:ln w="0">
            <a:noFill/>
          </a:ln>
        </p:spPr>
        <p:txBody>
          <a:bodyPr anchor="t">
            <a:normAutofit fontScale="92000"/>
          </a:bodyPr>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at for BFCP messages:</a:t>
            </a:r>
            <a:r>
              <a:rPr b="0" lang="en-US" sz="1400" spc="-1" strike="noStrike">
                <a:solidFill>
                  <a:srgbClr val="000000"/>
                </a:solidFill>
                <a:latin typeface="Courier New"/>
                <a:ea typeface="Courier New"/>
              </a:rPr>
              <a:t> </a:t>
            </a:r>
            <a:endParaRPr b="0" lang="en-US" sz="14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1 2 3 4 5 6 7 8 9 0 1 2 3 4 5 6 7 8 9 0 1 2 3 4 5 6 7 8 9 0 1</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Ver |I|  Res  |  Primitive    |        Payload Length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nference ID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Transaction ID        |            User ID            |</a:t>
            </a:r>
            <a:endParaRPr b="0" lang="en-US" sz="1600" spc="-1" strike="noStrike">
              <a:solidFill>
                <a:srgbClr val="000000"/>
              </a:solidFill>
              <a:latin typeface="Gill Sans MT"/>
            </a:endParaRPr>
          </a:p>
          <a:p>
            <a:pPr marL="473040" indent="-47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800" spc="-1" strike="noStrike">
                <a:solidFill>
                  <a:srgbClr val="000000"/>
                </a:solidFill>
                <a:latin typeface="Courier New"/>
                <a:ea typeface="Courier New"/>
              </a:rPr>
              <a:t> </a:t>
            </a:r>
            <a:endParaRPr b="0" lang="en-US" sz="8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 “I” field is added by draft-sandbakken-dispatch-bfcp-ud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But per RFC 4582 as well as draft-sandbakken-dispatch-bfcp-ud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Ver: The 3-bit version field MUST be set to one (i.e. 001) to indicate this version of BFCP.</a:t>
            </a:r>
            <a:endParaRPr b="0" lang="en-US" sz="2400" spc="-1" strike="noStrike">
              <a:solidFill>
                <a:srgbClr val="000000"/>
              </a:solidFill>
              <a:latin typeface="Gill Sans MT"/>
            </a:endParaRPr>
          </a:p>
          <a:p>
            <a:pPr marL="47304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Courier New"/>
              </a:rPr>
              <a:t>Therefore, as with STUN, the first two bits are always zeroes.</a:t>
            </a:r>
            <a:endParaRPr b="0" lang="en-US" sz="2400" spc="-1" strike="noStrike">
              <a:solidFill>
                <a:srgbClr val="000000"/>
              </a:solidFill>
              <a:latin typeface="Gill Sans MT"/>
            </a:endParaRPr>
          </a:p>
        </p:txBody>
      </p:sp>
      <p:sp>
        <p:nvSpPr>
          <p:cNvPr id="26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085F-CCE1-4C83-87EE-BC24C1F4DE8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6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FCP/STUN Demultiplexing: Options</a:t>
            </a:r>
            <a:endParaRPr b="0" lang="en-US" sz="3200" spc="-1" strike="noStrike">
              <a:solidFill>
                <a:srgbClr val="464653"/>
              </a:solidFill>
              <a:latin typeface="Bookman Old Style"/>
            </a:endParaRPr>
          </a:p>
        </p:txBody>
      </p:sp>
      <p:sp>
        <p:nvSpPr>
          <p:cNvPr id="264"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ve as currently defined</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reasonable STUN (RFC 5389) implementation will also check the magic cookie (0x2112A442) and check if the message length is sane (i.e. STUN messages are padded to a multiple of 4 bytes, the last 2 bits of this field is always zero)</a:t>
            </a:r>
            <a:endParaRPr b="0" lang="en-US" sz="2400" spc="-1" strike="noStrike">
              <a:solidFill>
                <a:srgbClr val="464653"/>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the version number for BFPC [via UDP] to a value where one of the first two bits is one</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hile changing the version number may be desirable in the future for other reasons, STUN demultiplexing is not viewed as a sufficient justification for such a change.</a:t>
            </a:r>
            <a:endParaRPr b="0" lang="en-US" sz="2400" spc="-1" strike="noStrike">
              <a:solidFill>
                <a:srgbClr val="464653"/>
              </a:solidFill>
              <a:latin typeface="Gill Sans MT"/>
            </a:endParaRPr>
          </a:p>
        </p:txBody>
      </p:sp>
      <p:sp>
        <p:nvSpPr>
          <p:cNvPr id="26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5CF3-523C-41F7-94FC-797AB4131CD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6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ANK YOU      </a:t>
            </a:r>
            <a:endParaRPr b="0" lang="en-US" sz="2800" spc="-1" strike="noStrike">
              <a:solidFill>
                <a:srgbClr val="464653"/>
              </a:solidFill>
              <a:latin typeface="Bookman Old Style"/>
            </a:endParaRPr>
          </a:p>
        </p:txBody>
      </p:sp>
      <p:sp>
        <p:nvSpPr>
          <p:cNvPr id="268"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Tom Kristensen, Mark Thompson, Geir Arne Sandbakken, Eoin McLeod</a:t>
            </a:r>
            <a:endParaRPr b="0" lang="en-US" sz="2000" spc="-1" strike="noStrike">
              <a:solidFill>
                <a:srgbClr val="000000"/>
              </a:solidFill>
              <a:latin typeface="Gill Sans MT"/>
            </a:endParaRPr>
          </a:p>
        </p:txBody>
      </p:sp>
      <p:sp>
        <p:nvSpPr>
          <p:cNvPr id="269"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otivation</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fontScale="85000"/>
          </a:bodyPr>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isting deployments of SIP based videoconferencing typically:</a:t>
            </a:r>
            <a:endParaRPr b="0" lang="en-US" sz="2400" spc="-1" strike="noStrike">
              <a:solidFill>
                <a:srgbClr val="000000"/>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Consist of RTP media streams for audio and video</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Use ICE and/or other methods for NAT/firewall traversal</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Found in enterprise networks</a:t>
            </a:r>
            <a:endParaRPr b="0" lang="en-US" sz="2100" spc="-1" strike="noStrike">
              <a:solidFill>
                <a:srgbClr val="464653"/>
              </a:solidFill>
              <a:latin typeface="Gill Sans MT"/>
            </a:endParaRPr>
          </a:p>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enhancing with support for content sharing, the BFCP connection often poses a problem</a:t>
            </a:r>
            <a:endParaRPr b="0" lang="en-US" sz="2400" spc="-1" strike="noStrike">
              <a:solidFill>
                <a:srgbClr val="000000"/>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There may be a strong preference for UDP based signaling in general</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Establishment/traversal of the TCP connection involving ephemeral ports, as is typically the case with BFCP over TCP, can be problematic</a:t>
            </a:r>
            <a:endParaRPr b="0" lang="en-US" sz="2100" spc="-1" strike="noStrike">
              <a:solidFill>
                <a:srgbClr val="464653"/>
              </a:solidFill>
              <a:latin typeface="Gill Sans MT"/>
            </a:endParaRPr>
          </a:p>
          <a:p>
            <a:pPr lvl="1" marL="465120" indent="-231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31840" indent="-2318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draft defines UDP as an alternate transport for BFCP, leveraging the mechanisms in place for RTP over UDP media streams for the BFCP communication</a:t>
            </a:r>
            <a:endParaRPr b="0" lang="en-US" sz="2400" spc="-1" strike="noStrike">
              <a:solidFill>
                <a:srgbClr val="000000"/>
              </a:solidFill>
              <a:latin typeface="Gill Sans MT"/>
            </a:endParaRPr>
          </a:p>
        </p:txBody>
      </p:sp>
      <p:sp>
        <p:nvSpPr>
          <p:cNvPr id="21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4"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9133-F19B-4124-BF3A-357BA969BF9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pproach</a:t>
            </a:r>
            <a:endParaRPr b="0" lang="en-US" sz="3200" spc="-1" strike="noStrike">
              <a:solidFill>
                <a:srgbClr val="464653"/>
              </a:solidFill>
              <a:latin typeface="Bookman Old Style"/>
            </a:endParaRPr>
          </a:p>
        </p:txBody>
      </p:sp>
      <p:sp>
        <p:nvSpPr>
          <p:cNvPr id="2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nor changes to transaction model</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ll requests now have a response to complete transaction</a:t>
            </a:r>
            <a:endParaRPr b="0" lang="en-US" sz="2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ed an explicit “Ack” primitive for each case in which none existed</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transmission timer to ensure reliability</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ransaction Initiator flag to indicate a primitive is a response to a previous request</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ne pending transaction per entity (ordering, congestion control)</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F127-01A9-4D9C-B91C-0CE3A72B3A5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1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pproach (cont)</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oodbye/GoodbyeAck dissociate (TCP/BFCP clos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w ERROR-CODEs for following case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Unable to parse messag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Use DTLS</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TLS MUST be supported</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CE/STUN if applicable and needed</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F49F-9938-44E0-A70A-421E14E4B9E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n Items</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TLS connection establishment</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quest Specific ACK vs. Generic Ack</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rge Message Considerations</a:t>
            </a:r>
            <a:endParaRPr b="0" lang="en-US" sz="28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FCP/STUN demultiplexing</a:t>
            </a:r>
            <a:endParaRPr b="0" lang="en-US" sz="28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2FE7-27FE-465F-BDCB-31D122C1E80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TLS Connection Establishment</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Which party, the client or the floor control server, acts as the TLS/DTLS server depends on how the underlying TCP/DTLS connection is established.  For example, when the TCP/DTLS connection is established using an SDP offer/answer exchange [RFC4583], the answerer (which may be the client or the floor control server) always acts as the TLS/DTLS server.</a:t>
            </a:r>
            <a:endParaRPr b="0" lang="en-US" sz="2800" spc="-1" strike="noStrike">
              <a:solidFill>
                <a:srgbClr val="000000"/>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F067-9FA5-47B1-817D-B67D18DC7D1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6868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TLS Connection Establishment: Options</a:t>
            </a:r>
            <a:endParaRPr b="0" lang="en-US" sz="3200" spc="-1" strike="noStrike">
              <a:solidFill>
                <a:srgbClr val="464653"/>
              </a:solidFill>
              <a:latin typeface="Bookman Old Style"/>
            </a:endParaRPr>
          </a:p>
        </p:txBody>
      </p:sp>
      <p:sp>
        <p:nvSpPr>
          <p:cNvPr id="232" name=""/>
          <p:cNvSpPr txBox="1"/>
          <p:nvPr/>
        </p:nvSpPr>
        <p:spPr>
          <a:xfrm>
            <a:off x="457200" y="1219320"/>
            <a:ext cx="8229600" cy="4937040"/>
          </a:xfrm>
          <a:prstGeom prst="rect">
            <a:avLst/>
          </a:prstGeom>
          <a:noFill/>
          <a:ln w="0">
            <a:noFill/>
          </a:ln>
        </p:spPr>
        <p:txBody>
          <a:bodyPr anchor="t">
            <a:normAutofit fontScale="94000"/>
          </a:bodyPr>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answerer always acts as the TLS/DTLS server, per RFC 4583 (as currently defined)</a:t>
            </a:r>
            <a:endParaRPr b="0" lang="en-US" sz="2400" spc="-1" strike="noStrike">
              <a:solidFill>
                <a:srgbClr val="000000"/>
              </a:solidFill>
              <a:latin typeface="Gill Sans MT"/>
            </a:endParaRPr>
          </a:p>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FCP server always acts as the TLS/DTLS server</a:t>
            </a:r>
            <a:endParaRPr b="0" lang="en-US" sz="2400" spc="-1" strike="noStrike">
              <a:solidFill>
                <a:srgbClr val="000000"/>
              </a:solidFill>
              <a:latin typeface="Gill Sans MT"/>
            </a:endParaRPr>
          </a:p>
          <a:p>
            <a:pPr marL="483480" indent="-4834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fferer always offers setup:actpass and the answerer answers either setup:active or setup:passive,  where setup:active is RECOMMENDED (per RFC 5763 and as posted to bfcpbis mailer http://www.ietf.org/mail-archive/web/bfcpbis/current/msg00007.html)</a:t>
            </a:r>
            <a:endParaRPr b="0" lang="en-US" sz="2400" spc="-1" strike="noStrike">
              <a:solidFill>
                <a:srgbClr val="000000"/>
              </a:solidFill>
              <a:latin typeface="Gill Sans MT"/>
            </a:endParaRPr>
          </a:p>
          <a:p>
            <a:pPr marL="483480" indent="-48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483480" indent="-48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3)</a:t>
            </a:r>
            <a:endParaRPr b="0" lang="en-US" sz="2400" spc="-1" strike="noStrike">
              <a:solidFill>
                <a:srgbClr val="000000"/>
              </a:solidFill>
              <a:latin typeface="Gill Sans MT"/>
            </a:endParaRPr>
          </a:p>
          <a:p>
            <a:pPr lvl="1" marL="741600" indent="-4834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dheres to RFC 5763, does not overload offer/answer semantics, works for offerless INVITE with B2BUAs</a:t>
            </a:r>
            <a:endParaRPr b="0" lang="en-US" sz="2400" spc="-1" strike="noStrike">
              <a:solidFill>
                <a:srgbClr val="464653"/>
              </a:solidFill>
              <a:latin typeface="Gill Sans MT"/>
            </a:endParaRPr>
          </a:p>
          <a:p>
            <a:pPr marL="483480" indent="-4834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741600" indent="-4834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83480" indent="-4834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3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5548-DD20-4AE5-ADB6-51B9CB0AE07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equest Specific ACK vs. Generic ACK</a:t>
            </a:r>
            <a:endParaRPr b="0" lang="en-US" sz="3200" spc="-1" strike="noStrike">
              <a:solidFill>
                <a:srgbClr val="464653"/>
              </a:solidFill>
              <a:latin typeface="Bookman Old Style"/>
            </a:endParaRPr>
          </a:p>
        </p:txBody>
      </p:sp>
      <p:sp>
        <p:nvSpPr>
          <p:cNvPr id="236" name=""/>
          <p:cNvSpPr txBox="1"/>
          <p:nvPr/>
        </p:nvSpPr>
        <p:spPr>
          <a:xfrm>
            <a:off x="457200" y="1219320"/>
            <a:ext cx="8229600" cy="4937040"/>
          </a:xfrm>
          <a:prstGeom prst="rect">
            <a:avLst/>
          </a:prstGeom>
          <a:noFill/>
          <a:ln w="0">
            <a:noFill/>
          </a:ln>
        </p:spPr>
        <p:txBody>
          <a:bodyPr anchor="t">
            <a:normAutofit fontScale="97000"/>
          </a:bodyPr>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FC 4582 primitives in </a:t>
            </a:r>
            <a:r>
              <a:rPr b="0" lang="en-US" sz="2400" spc="-1" strike="noStrike">
                <a:solidFill>
                  <a:srgbClr val="0070c0"/>
                </a:solidFill>
                <a:latin typeface="Gill Sans MT"/>
              </a:rPr>
              <a:t>BLUE, </a:t>
            </a:r>
            <a:r>
              <a:rPr b="0" lang="en-US" sz="2400" spc="-1" strike="noStrike">
                <a:solidFill>
                  <a:srgbClr val="000000"/>
                </a:solidFill>
                <a:latin typeface="Gill Sans MT"/>
              </a:rPr>
              <a:t>new primitives in </a:t>
            </a:r>
            <a:r>
              <a:rPr b="0" i="1" lang="en-US" sz="2400" spc="-1" strike="noStrike">
                <a:solidFill>
                  <a:srgbClr val="00b050"/>
                </a:solidFill>
                <a:latin typeface="Gill Sans MT"/>
              </a:rPr>
              <a:t>GREEN ITALICS</a:t>
            </a:r>
            <a:endParaRPr b="0" lang="en-US" sz="24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lease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RequestQuery / FloorRequestStatus / </a:t>
            </a:r>
            <a:r>
              <a:rPr b="0" i="1" lang="en-US" sz="2000" spc="-1" strike="noStrike">
                <a:solidFill>
                  <a:srgbClr val="00b050"/>
                </a:solidFill>
                <a:latin typeface="Gill Sans MT"/>
              </a:rPr>
              <a:t>[FloorRequest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UserQuery / UserStatus</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Query / FloorStatus /</a:t>
            </a:r>
            <a:r>
              <a:rPr b="0" i="1" lang="en-US" sz="2000" spc="-1" strike="noStrike">
                <a:solidFill>
                  <a:srgbClr val="00b050"/>
                </a:solidFill>
                <a:latin typeface="Gill Sans MT"/>
              </a:rPr>
              <a:t> [Floor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FloorStatus / </a:t>
            </a:r>
            <a:r>
              <a:rPr b="0" i="1" lang="en-US" sz="2000" spc="-1" strike="noStrike">
                <a:solidFill>
                  <a:srgbClr val="00b050"/>
                </a:solidFill>
                <a:latin typeface="Gill Sans MT"/>
              </a:rPr>
              <a:t>FloorStatus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ChairAction / ChairAction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Hello / Hello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Gill Sans MT"/>
              </a:rPr>
              <a:t>Error / </a:t>
            </a:r>
            <a:r>
              <a:rPr b="0" i="1" lang="en-US" sz="2000" spc="-1" strike="noStrike">
                <a:solidFill>
                  <a:srgbClr val="00b050"/>
                </a:solidFill>
                <a:latin typeface="Gill Sans MT"/>
              </a:rPr>
              <a:t>Error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Gill Sans MT"/>
              </a:rPr>
              <a:t>Goodbye / GoodbyeAck</a:t>
            </a:r>
            <a:endParaRPr b="0" lang="en-US" sz="20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43160" indent="-4431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37"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8BF3-6EA2-437C-94ED-2CAFADC7DA2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8"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equest Specific ACK vs. Generic ACK:</a:t>
            </a:r>
            <a:br>
              <a:rPr sz="3200"/>
            </a:br>
            <a:r>
              <a:rPr b="0" lang="en-US" sz="3200" spc="-1" strike="noStrike">
                <a:solidFill>
                  <a:srgbClr val="000000"/>
                </a:solidFill>
                <a:latin typeface="Bookman Old Style"/>
              </a:rPr>
              <a:t>Options</a:t>
            </a:r>
            <a:endParaRPr b="0" lang="en-US" sz="3200" spc="-1" strike="noStrike">
              <a:solidFill>
                <a:srgbClr val="464653"/>
              </a:solidFill>
              <a:latin typeface="Bookman Old Style"/>
            </a:endParaRPr>
          </a:p>
        </p:txBody>
      </p:sp>
      <p:sp>
        <p:nvSpPr>
          <p:cNvPr id="240" name=""/>
          <p:cNvSpPr txBox="1"/>
          <p:nvPr/>
        </p:nvSpPr>
        <p:spPr>
          <a:xfrm>
            <a:off x="457200" y="1219320"/>
            <a:ext cx="8229600" cy="4937040"/>
          </a:xfrm>
          <a:prstGeom prst="rect">
            <a:avLst/>
          </a:prstGeom>
          <a:noFill/>
          <a:ln w="0">
            <a:noFill/>
          </a:ln>
        </p:spPr>
        <p:txBody>
          <a:bodyPr anchor="t">
            <a:normAutofit fontScale="91000"/>
          </a:bodyPr>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ways send request specific ACK (as currently defined)</a:t>
            </a:r>
            <a:endParaRPr b="0" lang="en-US" sz="2400" spc="-1" strike="noStrike">
              <a:solidFill>
                <a:srgbClr val="000000"/>
              </a:solidFill>
              <a:latin typeface="Gill Sans MT"/>
            </a:endParaRPr>
          </a:p>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nd  request specific ACK only if transaction initiator flag indicates message is initiating a new transaction</a:t>
            </a:r>
            <a:endParaRPr b="0" lang="en-US" sz="2400" spc="-1" strike="noStrike">
              <a:solidFill>
                <a:srgbClr val="000000"/>
              </a:solidFill>
              <a:latin typeface="Gill Sans MT"/>
            </a:endParaRPr>
          </a:p>
          <a:p>
            <a:pPr marL="415800" indent="-41580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nd a generic ACK at the transport level for every message that exists in RFC 4582</a:t>
            </a:r>
            <a:endParaRPr b="0" lang="en-US" sz="2400" spc="-1" strike="noStrike">
              <a:solidFill>
                <a:srgbClr val="000000"/>
              </a:solidFill>
              <a:latin typeface="Gill Sans MT"/>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ferred option: (1)</a:t>
            </a:r>
            <a:endParaRPr b="0" lang="en-US" sz="2400" spc="-1" strike="noStrike">
              <a:solidFill>
                <a:srgbClr val="000000"/>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2) reduces number of ACK  but requires passing of transaction initiator flag through the protocol stack</a:t>
            </a:r>
            <a:endParaRPr b="0" lang="en-US" sz="2400" spc="-1" strike="noStrike">
              <a:solidFill>
                <a:srgbClr val="464653"/>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3) simplifies the existing transaction model as well as the adding of future BFCP primitives, but more chatty protocol and more churn of existing implementations</a:t>
            </a:r>
            <a:endParaRPr b="0" lang="en-US" sz="2400" spc="-1" strike="noStrike">
              <a:solidFill>
                <a:srgbClr val="464653"/>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66000" indent="-4158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53"/>
              </a:solidFill>
              <a:latin typeface="Gill Sans MT"/>
            </a:endParaRPr>
          </a:p>
          <a:p>
            <a:pPr marL="415800" indent="-4158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24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45F3-52FD-44B0-9890-F71B85CB3A4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4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11-11T22:09:25Z</dcterms:modified>
  <cp:revision>761</cp:revision>
  <dc:subject/>
  <dc:title>Slide 1</dc:title>
</cp:coreProperties>
</file>