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F034-2CEF-4EEC-9152-E303A557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C490-DDB7-4423-BBC1-4DE87826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71E-6D1F-40B9-8850-FC510DE1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F262-D032-4B22-8A33-9B3D6D38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11A5-BAC4-45A1-8B1D-544BEBE8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A9A0-923D-4517-BC09-FB68FEA7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89AB-63FD-43B5-AC23-8184153C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FA58-8497-457B-B7BB-A01C6F56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8262-4735-4A11-872B-B4CE06FE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C9C8-D966-4A75-BB37-0EECC9C4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2350-50DF-4FBE-B9FF-97A6561E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DCA-5FE0-43A0-A7CA-296E6172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AFE6-9B3C-41F1-AD87-3B09C17D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B76E-6A46-45E9-A5ED-8E1E3B78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3928-9572-405F-AE3F-C1D15949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CD89-BFE5-4744-8D36-1BF9DB6F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CCBD-BA25-4232-AD8E-52BF71D8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046F-63BB-41A1-9F73-8FA7701B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6F4-8504-4AF4-9B49-F8B7035D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FB8-C61B-4EF4-B816-A931DEF1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4D9-6C68-4F88-875E-76CDE642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C9CA-7002-4954-89A4-6445A7D3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F3A9-A387-4DC4-BEFF-BDCD0992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239B-DB39-4AD6-8560-7C840BDE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Linux Biolinum O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inux Biolinum 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inux Biolinum 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inux Biolinum 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inux Biolinum 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inux Biolinum 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244920"/>
            <a:ext cx="37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939E-F5C8-4E18-9FF0-B572BB409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Linux Biolinum O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9245-8053-41E9-AB90-7B983D8E4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nux Biolinum 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inux Biolinum 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nux Biolinum 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inux Biolinum 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nux Biolinum 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inux Biolinum 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inux Biolinum 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nux Biolinum 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inux Biolinum 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inux Biolinum 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nux Biolinum 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inux Biolinum 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inux Biolinum 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nux Biolinum 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lya@easynet.com" TargetMode="External"/><Relationship Id="rId2" Type="http://schemas.openxmlformats.org/officeDocument/2006/relationships/hyperlink" Target="mailto:rajiv.papneja@huawei.com" TargetMode="External"/><Relationship Id="rId3" Type="http://schemas.openxmlformats.org/officeDocument/2006/relationships/hyperlink" Target="mailto:bhavani@cisco.com" TargetMode="External"/><Relationship Id="rId4" Type="http://schemas.openxmlformats.org/officeDocument/2006/relationships/hyperlink" Target="mailto:dlee@ixiacom.com" TargetMode="External"/><Relationship Id="rId5" Type="http://schemas.openxmlformats.org/officeDocument/2006/relationships/hyperlink" Target="mailto:skh@ndzh.com" TargetMode="External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Linux Biolinum O"/>
              </a:rPr>
              <a:t>Routers convergence benchmarking</a:t>
            </a: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Linux Biolinum O"/>
              </a:rPr>
              <a:t>draft-papneja-bgp-basic-dp-convergence-02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Linux Biolinum O"/>
              </a:rPr>
              <a:t>draft-varlashkin-router-conv-bench-00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Linux Biolinum O"/>
              </a:rPr>
              <a:t>Ilya Varlashkin </a:t>
            </a:r>
            <a:r>
              <a:rPr b="0" sz="1800" spc="-1" strike="noStrike" u="sng">
                <a:solidFill>
                  <a:srgbClr val="3333cc"/>
                </a:solidFill>
                <a:uFillTx/>
                <a:latin typeface="Linux Biolinum O"/>
                <a:hlinkClick r:id="rId1"/>
              </a:rPr>
              <a:t>ilya@easynet.com</a:t>
            </a:r>
            <a:endParaRPr b="0" lang="en-US" sz="18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Linux Biolinum O"/>
              </a:rPr>
              <a:t>Rajiv Papneja </a:t>
            </a:r>
            <a:r>
              <a:rPr b="0" sz="1800" spc="-1" strike="noStrike" u="sng">
                <a:solidFill>
                  <a:srgbClr val="3333cc"/>
                </a:solidFill>
                <a:uFillTx/>
                <a:latin typeface="Linux Biolinum O"/>
                <a:hlinkClick r:id="rId2"/>
              </a:rPr>
              <a:t>rajiv.papneja@huawei.com</a:t>
            </a:r>
            <a:endParaRPr b="0" lang="en-US" sz="18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Linux Biolinum O"/>
              </a:rPr>
              <a:t>Bhavani Parise </a:t>
            </a:r>
            <a:r>
              <a:rPr b="0" sz="1800" spc="-1" strike="noStrike" u="sng">
                <a:solidFill>
                  <a:srgbClr val="3333cc"/>
                </a:solidFill>
                <a:uFillTx/>
                <a:latin typeface="Linux Biolinum O"/>
                <a:hlinkClick r:id="rId3"/>
              </a:rPr>
              <a:t>bhavani@cisco.com</a:t>
            </a:r>
            <a:endParaRPr b="0" lang="en-US" sz="18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Linux Biolinum O"/>
              </a:rPr>
              <a:t>Dean Lee</a:t>
            </a:r>
            <a:r>
              <a:rPr b="0" lang="de-DE" sz="1800" spc="-1" strike="noStrike">
                <a:solidFill>
                  <a:srgbClr val="000000"/>
                </a:solidFill>
                <a:latin typeface="Linux Biolinum O"/>
              </a:rPr>
              <a:t> </a:t>
            </a:r>
            <a:r>
              <a:rPr b="0" sz="1800" spc="-1" strike="noStrike" u="sng">
                <a:solidFill>
                  <a:srgbClr val="3333cc"/>
                </a:solidFill>
                <a:uFillTx/>
                <a:latin typeface="Linux Biolinum O"/>
                <a:hlinkClick r:id="rId4"/>
              </a:rPr>
              <a:t>dlee@ixiacom.com</a:t>
            </a:r>
            <a:endParaRPr b="0" lang="en-US" sz="18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 O"/>
              </a:rPr>
              <a:t>Sue Hares </a:t>
            </a:r>
            <a:r>
              <a:rPr b="0" sz="1800" spc="-1" strike="noStrike" u="sng">
                <a:solidFill>
                  <a:srgbClr val="3333cc"/>
                </a:solidFill>
                <a:uFillTx/>
                <a:latin typeface="Linux Biolinum O"/>
                <a:hlinkClick r:id="rId5"/>
              </a:rPr>
              <a:t>skh@ndzh.com</a:t>
            </a:r>
            <a:endParaRPr b="0" lang="en-US" sz="18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Linux Biolinum O"/>
              </a:rPr>
              <a:t>Current status</a:t>
            </a: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draft-papneja-bgp-basic-dp-convergence-02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inux Biolinum 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data-plane only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inux Biolinum 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assumes fwd ability implies BGP convergenc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draft-varlashkin-router-conv-bench-00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inux Biolinum 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mentioned @IETF81, now published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inux Biolinum 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works with independent data- and control-planes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The two drafts complement each other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ters convergence benchma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159-B373-44E2-80AF-003FCC89CDE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MWG@IETF8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Linux Biolinum O"/>
              </a:rPr>
              <a:t>Two drafts side-by-side</a:t>
            </a: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430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draft-papneja-bgp-basic-dp-convergence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draft-varlashkin-router-conv-bench-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Assumes: FWD ability == protocol converg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Assumes forwarding ability and protocol convergence are indepen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Data-plane measur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Data-plane for forwarding ability, control-plane for (protocol) status propag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Covers BGP setup; IGP is out of 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Primarily intended for BGP + some IGP, with or without MP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Tests: RIB-In, RIB-Out, iBGP, eBGP (direct and multi-ho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Tests: intrinsic delays of the test setup, generic data-plane, generic control-plane. Both iBGP and eBGP can be test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Failure scenarios: Physical link failure on DUT/Remote end, ECMP Link failure on DUT end, BGP session failure, BGP hard reset, BGP soft reset, BGP route withdrawal, BGP Path attribute change, BGP Graceful re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Failure scenarios: direct link failure with and without LoS, non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-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direct link failure, next-hop failure, best route withdraw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ters convergence benchmark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523F-FF65-46FC-AF45-098C302634C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MWG@IETF8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Linux Biolinum O"/>
              </a:rPr>
              <a:t>Work roadmap</a:t>
            </a: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inux Biolinum O"/>
              </a:rPr>
              <a:t>Reality alignment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inux Biolinum 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inux Biolinum O"/>
              </a:rPr>
              <a:t>ensure methods deliver values that people want to know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inux Biolinum 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inux Biolinum O"/>
              </a:rPr>
              <a:t>assert feasibility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inux Biolinum O"/>
              </a:rPr>
              <a:t>Fine-tune methodology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inux Biolinum 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inux Biolinum O"/>
              </a:rPr>
              <a:t>eliminate (most of) dependency on non-DUT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inux Biolinum 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inux Biolinum O"/>
              </a:rPr>
              <a:t>define equipment config in generic terms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inux Biolinum O"/>
              </a:rPr>
              <a:t>Sort out terminology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ters convergence benchma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BD0D-5014-4C77-A4EB-35EB3448BA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MWG@IETF8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Linux Biolinum O"/>
              </a:rPr>
              <a:t>Test topology</a:t>
            </a: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2781360"/>
            <a:ext cx="719280" cy="71892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nsolas"/>
              </a:rPr>
              <a:t>D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844640"/>
            <a:ext cx="718920" cy="71928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cc"/>
                </a:solidFill>
                <a:latin typeface="Consolas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4000" y="3645000"/>
            <a:ext cx="718920" cy="71892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cc"/>
                </a:solidFill>
                <a:latin typeface="Consolas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1844640"/>
            <a:ext cx="718920" cy="71928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cc"/>
                </a:solidFill>
                <a:latin typeface="Consolas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3645000"/>
            <a:ext cx="718920" cy="71892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cc"/>
                </a:solidFill>
                <a:latin typeface="Consolas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36000" y="2781360"/>
            <a:ext cx="1439640" cy="71892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990033"/>
                </a:solidFill>
                <a:latin typeface="Consolas"/>
              </a:rPr>
              <a:t>N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03640" y="277956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cc"/>
                </a:solidFill>
                <a:latin typeface="Consolas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2779560"/>
            <a:ext cx="1439640" cy="71928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990033"/>
                </a:solidFill>
                <a:latin typeface="Consolas"/>
              </a:rPr>
              <a:t>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1" idx="7"/>
            <a:endCxn id="92" idx="3"/>
          </p:cNvCxnSpPr>
          <p:nvPr/>
        </p:nvCxnSpPr>
        <p:spPr>
          <a:xfrm flipV="1">
            <a:off x="3025800" y="2472480"/>
            <a:ext cx="643320" cy="399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91" idx="5"/>
            <a:endCxn id="93" idx="1"/>
          </p:cNvCxnSpPr>
          <p:nvPr/>
        </p:nvCxnSpPr>
        <p:spPr>
          <a:xfrm>
            <a:off x="3025800" y="3409920"/>
            <a:ext cx="643320" cy="326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4392720" y="4508640"/>
            <a:ext cx="718920" cy="71892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nsolas"/>
              </a:rPr>
              <a:t>E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14920" y="4508640"/>
            <a:ext cx="719280" cy="71892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nsolas"/>
              </a:rPr>
              <a:t>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1" idx="0"/>
            <a:endCxn id="97" idx="2"/>
          </p:cNvCxnSpPr>
          <p:nvPr/>
        </p:nvCxnSpPr>
        <p:spPr>
          <a:xfrm flipV="1">
            <a:off x="4752720" y="3513960"/>
            <a:ext cx="611640" cy="980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102" idx="0"/>
            <a:endCxn id="97" idx="2"/>
          </p:cNvCxnSpPr>
          <p:nvPr/>
        </p:nvCxnSpPr>
        <p:spPr>
          <a:xfrm flipH="1" flipV="1">
            <a:off x="5363640" y="3513960"/>
            <a:ext cx="612000" cy="980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2" idx="6"/>
            <a:endCxn id="94" idx="2"/>
          </p:cNvCxnSpPr>
          <p:nvPr/>
        </p:nvCxnSpPr>
        <p:spPr>
          <a:xfrm>
            <a:off x="4297320" y="2204640"/>
            <a:ext cx="2061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93" idx="7"/>
            <a:endCxn id="97" idx="1"/>
          </p:cNvCxnSpPr>
          <p:nvPr/>
        </p:nvCxnSpPr>
        <p:spPr>
          <a:xfrm flipV="1">
            <a:off x="4178160" y="3139560"/>
            <a:ext cx="812160" cy="596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2" idx="5"/>
            <a:endCxn id="97" idx="1"/>
          </p:cNvCxnSpPr>
          <p:nvPr/>
        </p:nvCxnSpPr>
        <p:spPr>
          <a:xfrm>
            <a:off x="4178160" y="2473200"/>
            <a:ext cx="812160" cy="667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1" idx="2"/>
            <a:endCxn id="98" idx="6"/>
          </p:cNvCxnSpPr>
          <p:nvPr/>
        </p:nvCxnSpPr>
        <p:spPr>
          <a:xfrm flipH="1" flipV="1">
            <a:off x="1921680" y="3139200"/>
            <a:ext cx="4755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7" idx="3"/>
            <a:endCxn id="94" idx="3"/>
          </p:cNvCxnSpPr>
          <p:nvPr/>
        </p:nvCxnSpPr>
        <p:spPr>
          <a:xfrm flipV="1">
            <a:off x="5738400" y="2472840"/>
            <a:ext cx="739080" cy="667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97" idx="3"/>
            <a:endCxn id="95" idx="1"/>
          </p:cNvCxnSpPr>
          <p:nvPr/>
        </p:nvCxnSpPr>
        <p:spPr>
          <a:xfrm>
            <a:off x="5738400" y="3139920"/>
            <a:ext cx="739080" cy="596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94" idx="5"/>
            <a:endCxn id="96" idx="1"/>
          </p:cNvCxnSpPr>
          <p:nvPr/>
        </p:nvCxnSpPr>
        <p:spPr>
          <a:xfrm>
            <a:off x="6986160" y="2472840"/>
            <a:ext cx="461160" cy="399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95" idx="7"/>
            <a:endCxn id="96" idx="3"/>
          </p:cNvCxnSpPr>
          <p:nvPr/>
        </p:nvCxnSpPr>
        <p:spPr>
          <a:xfrm flipV="1">
            <a:off x="6986160" y="3409560"/>
            <a:ext cx="461160" cy="326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3" name=""/>
          <p:cNvSpPr/>
          <p:nvPr/>
        </p:nvSpPr>
        <p:spPr>
          <a:xfrm>
            <a:off x="5148360" y="1916280"/>
            <a:ext cx="2872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cc"/>
                </a:solidFill>
                <a:latin typeface="Consola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2349360"/>
            <a:ext cx="2872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cc"/>
                </a:solidFill>
                <a:latin typeface="Consola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2421000"/>
            <a:ext cx="2872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cc"/>
                </a:solidFill>
                <a:latin typeface="Consola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2421000"/>
            <a:ext cx="2872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990033"/>
                </a:solidFill>
                <a:latin typeface="Consolas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3573360"/>
            <a:ext cx="2872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990033"/>
                </a:solidFill>
                <a:latin typeface="Consolas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645000"/>
            <a:ext cx="2872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cc"/>
                </a:solidFill>
                <a:latin typeface="Consola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3573360"/>
            <a:ext cx="2872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nsola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5626080"/>
            <a:ext cx="1079640" cy="36036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nsolas"/>
              </a:rPr>
              <a:t>Net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35640" y="5624640"/>
            <a:ext cx="1079640" cy="36036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nsolas"/>
              </a:rPr>
              <a:t>Net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01" idx="4"/>
            <a:endCxn id="120" idx="0"/>
          </p:cNvCxnSpPr>
          <p:nvPr/>
        </p:nvCxnSpPr>
        <p:spPr>
          <a:xfrm>
            <a:off x="4752720" y="5241600"/>
            <a:ext cx="1080" cy="37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02" idx="4"/>
            <a:endCxn id="121" idx="0"/>
          </p:cNvCxnSpPr>
          <p:nvPr/>
        </p:nvCxnSpPr>
        <p:spPr>
          <a:xfrm>
            <a:off x="5974920" y="5241600"/>
            <a:ext cx="1080" cy="369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ters convergence benchmark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858-D4CC-41E8-81B4-B03FD46FE01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MWG@IETF8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Linux Biolinum O"/>
              </a:rPr>
              <a:t>TODO list</a:t>
            </a: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Agree on approach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Do we need to change test topology?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Do we need to change failure scenarios?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Input welcome!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Aim for WG-item readiness by next IETF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Consider need for amending RFC4098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ters convergence benchma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7EBC-D354-4E84-99D7-67FBA21545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MWG@IETF8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09:01:41Z</dcterms:created>
  <dc:creator>iLya Varlashkin</dc:creator>
  <dc:description/>
  <dc:language>en-US</dc:language>
  <cp:lastModifiedBy>iLya Varlashkin</cp:lastModifiedBy>
  <dcterms:modified xsi:type="dcterms:W3CDTF">2011-11-11T08:56:53Z</dcterms:modified>
  <cp:revision>8</cp:revision>
  <dc:subject/>
  <dc:title>Routers convergence benchmarking</dc:title>
</cp:coreProperties>
</file>