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D42-1451-435C-9F06-49AF5938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9BA-EB7D-4CC9-914B-536BA342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1B0-DFE1-4A5D-BB70-94B8AB35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12E-EB92-4B82-A61B-5B7891A7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E2E0-6FAA-48C9-811A-C975F43E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440D-B8F4-4808-A897-A1977792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CEDC-122D-4132-B8E4-1E46F5FC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1405-9093-46D7-A6D3-52830A9B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4FE8-395E-40D9-A1AC-A54F6C25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9C3B-D261-4B2A-BE2C-DC393C4E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1F53-8DDF-4DAF-8C4F-C5C0254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03D-AE04-47AC-9241-AB7D329A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ED39-5E79-489E-9FA2-74D5EDB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3CB2-59AA-44CF-A6F6-D3E4489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10D2-D196-43AD-8302-126455C0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99E8-4FC7-47CC-B838-FC950923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D228-71D2-4D5E-8B8D-7BD1043E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8DE-F378-44FA-8E4C-E10B1342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594-6065-4051-80B7-FC94EDF6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54A-17CB-4BD5-B41A-17AB1169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1E0-BE1E-4566-9804-E6E92A9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E8E-02F1-464E-884D-A54D0143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1D7-D55D-487C-B405-CFE23958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437-F817-4059-A9EC-5688B26D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244920"/>
            <a:ext cx="37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DAD6-5819-4069-8754-AE8906638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F02A-302A-4A08-BFD0-7A12D5FC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inux Biolinum 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inux Biolinum 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inux Biolinum 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inux Biolinum 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ya@easynet.com" TargetMode="External"/><Relationship Id="rId2" Type="http://schemas.openxmlformats.org/officeDocument/2006/relationships/hyperlink" Target="mailto:rajiv.papneja@huawei.com" TargetMode="External"/><Relationship Id="rId3" Type="http://schemas.openxmlformats.org/officeDocument/2006/relationships/hyperlink" Target="mailto:bhavani@cisco.com" TargetMode="External"/><Relationship Id="rId4" Type="http://schemas.openxmlformats.org/officeDocument/2006/relationships/hyperlink" Target="mailto:dlee@ixiacom.com" TargetMode="External"/><Relationship Id="rId5" Type="http://schemas.openxmlformats.org/officeDocument/2006/relationships/hyperlink" Target="mailto:skh@ndzh.com" TargetMode="Externa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Routers convergence benchmarking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Linux Biolinum O"/>
              </a:rPr>
              <a:t>draft-papneja-bgp-basic-dp-convergence-02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Linux Biolinum O"/>
              </a:rPr>
              <a:t>draft-varlashkin-router-conv-bench-00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Linux Biolinum O"/>
              </a:rPr>
              <a:t>Ilya Varlashkin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1"/>
              </a:rPr>
              <a:t>ilya@easynet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Linux Biolinum O"/>
              </a:rPr>
              <a:t>Rajiv Papneja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2"/>
              </a:rPr>
              <a:t>rajiv.papneja@huawei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Linux Biolinum O"/>
              </a:rPr>
              <a:t>Bhavani Parise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3"/>
              </a:rPr>
              <a:t>bhavani@cisco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Linux Biolinum O"/>
              </a:rPr>
              <a:t>Dean Lee</a:t>
            </a:r>
            <a:r>
              <a:rPr b="0" lang="de-DE" sz="1800" spc="-1" strike="noStrike">
                <a:solidFill>
                  <a:srgbClr val="000000"/>
                </a:solidFill>
                <a:latin typeface="Linux Biolinum O"/>
              </a:rPr>
              <a:t>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4"/>
              </a:rPr>
              <a:t>dlee@ixiacom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 O"/>
              </a:rPr>
              <a:t>Sue Hares </a:t>
            </a:r>
            <a:r>
              <a:rPr b="0" sz="1800" spc="-1" strike="noStrike" u="sng">
                <a:solidFill>
                  <a:srgbClr val="3333cc"/>
                </a:solidFill>
                <a:uFillTx/>
                <a:latin typeface="Linux Biolinum O"/>
                <a:hlinkClick r:id="rId5"/>
              </a:rPr>
              <a:t>skh@ndzh.com</a:t>
            </a: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Current status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raft-papneja-bgp-basic-dp-convergence-02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data-plane only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assumes fwd ability implies BGP convergenc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raft-varlashkin-router-conv-bench-00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mentioned @IETF81, now published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works with independent data- and control-plane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e two drafts complement each other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77F-EDCF-4BC3-8894-C3C88F5D92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Two drafts side-by-side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430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raft-papneja-bgp-basic-dp-convergence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raft-varlashkin-router-conv-bench-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Assumes: FWD ability == protocol conver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Assumes forwarding ability and protocol convergence are in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ata-plane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ata-plane for forwarding ability, control-plane for (protocol) status propag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Covers BGP setup; IGP is out of 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Primarily intended for BGP + some IGP, with or without MP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Tests: RIB-In, RIB-Out, iBGP, eBGP (direct and multi-ho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Tests: intrinsic delays of the test setup, generic data-plane, generic control-plane. Both iBGP and eBGP can be tes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Failure scenarios: Physical link failure on DUT/Remote end, ECMP Link failure on DUT end, BGP session failure, BGP hard reset, BGP soft reset, BGP route withdrawal, BGP Path attribute change, BGP Graceful re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Failure scenarios: direct link failure with and without LoS, non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-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Linux Biolinum O"/>
                        </a:rPr>
                        <a:t>direct link failure, next-hop failure, best route withdraw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349-BF99-4B10-977F-7B53BEB67D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Work roadmap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inux Biolinum O"/>
              </a:rPr>
              <a:t>Reality alignmen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inux Biolinum O"/>
              </a:rPr>
              <a:t>ensure methods deliver values that people want to know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inux Biolinum O"/>
              </a:rPr>
              <a:t>assert feasibility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inux Biolinum O"/>
              </a:rPr>
              <a:t>Fine-tune methodology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inux Biolinum O"/>
              </a:rPr>
              <a:t>eliminate (most of) dependency on non-DU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inux Biolinum 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inux Biolinum O"/>
              </a:rPr>
              <a:t>define equipment config in generic term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inux Biolinum O"/>
              </a:rPr>
              <a:t>Sort out terminology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388-D791-46C9-AB92-E92D26BDEB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Test topology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781360"/>
            <a:ext cx="719280" cy="7189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D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844640"/>
            <a:ext cx="718920" cy="71928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3645000"/>
            <a:ext cx="718920" cy="71892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1844640"/>
            <a:ext cx="718920" cy="71928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3645000"/>
            <a:ext cx="718920" cy="71892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2781360"/>
            <a:ext cx="1439640" cy="71892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990033"/>
                </a:solidFill>
                <a:latin typeface="Consolas"/>
              </a:rPr>
              <a:t>N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2779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779560"/>
            <a:ext cx="1439640" cy="71928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990033"/>
                </a:solidFill>
                <a:latin typeface="Consolas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1" idx="7"/>
            <a:endCxn id="92" idx="3"/>
          </p:cNvCxnSpPr>
          <p:nvPr/>
        </p:nvCxnSpPr>
        <p:spPr>
          <a:xfrm flipV="1">
            <a:off x="3025800" y="2472480"/>
            <a:ext cx="643320" cy="399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1" idx="5"/>
            <a:endCxn id="93" idx="1"/>
          </p:cNvCxnSpPr>
          <p:nvPr/>
        </p:nvCxnSpPr>
        <p:spPr>
          <a:xfrm>
            <a:off x="3025800" y="3409920"/>
            <a:ext cx="643320" cy="32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4392720" y="4508640"/>
            <a:ext cx="718920" cy="71892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14920" y="4508640"/>
            <a:ext cx="719280" cy="71892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0"/>
            <a:endCxn id="97" idx="2"/>
          </p:cNvCxnSpPr>
          <p:nvPr/>
        </p:nvCxnSpPr>
        <p:spPr>
          <a:xfrm flipV="1">
            <a:off x="4752720" y="3513960"/>
            <a:ext cx="611640" cy="980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102" idx="0"/>
            <a:endCxn id="97" idx="2"/>
          </p:cNvCxnSpPr>
          <p:nvPr/>
        </p:nvCxnSpPr>
        <p:spPr>
          <a:xfrm flipH="1" flipV="1">
            <a:off x="5363640" y="3513960"/>
            <a:ext cx="612000" cy="980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2" idx="6"/>
            <a:endCxn id="94" idx="2"/>
          </p:cNvCxnSpPr>
          <p:nvPr/>
        </p:nvCxnSpPr>
        <p:spPr>
          <a:xfrm>
            <a:off x="4297320" y="2204640"/>
            <a:ext cx="2061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3" idx="7"/>
            <a:endCxn id="97" idx="1"/>
          </p:cNvCxnSpPr>
          <p:nvPr/>
        </p:nvCxnSpPr>
        <p:spPr>
          <a:xfrm flipV="1">
            <a:off x="4178160" y="3139560"/>
            <a:ext cx="81216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2" idx="5"/>
            <a:endCxn id="97" idx="1"/>
          </p:cNvCxnSpPr>
          <p:nvPr/>
        </p:nvCxnSpPr>
        <p:spPr>
          <a:xfrm>
            <a:off x="4178160" y="2473200"/>
            <a:ext cx="812160" cy="667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1" idx="2"/>
            <a:endCxn id="98" idx="6"/>
          </p:cNvCxnSpPr>
          <p:nvPr/>
        </p:nvCxnSpPr>
        <p:spPr>
          <a:xfrm flipH="1" flipV="1">
            <a:off x="1921680" y="3139200"/>
            <a:ext cx="475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7" idx="3"/>
            <a:endCxn id="94" idx="3"/>
          </p:cNvCxnSpPr>
          <p:nvPr/>
        </p:nvCxnSpPr>
        <p:spPr>
          <a:xfrm flipV="1">
            <a:off x="5738400" y="2472840"/>
            <a:ext cx="739080" cy="667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7" idx="3"/>
            <a:endCxn id="95" idx="1"/>
          </p:cNvCxnSpPr>
          <p:nvPr/>
        </p:nvCxnSpPr>
        <p:spPr>
          <a:xfrm>
            <a:off x="5738400" y="3139920"/>
            <a:ext cx="73908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4" idx="5"/>
            <a:endCxn id="96" idx="1"/>
          </p:cNvCxnSpPr>
          <p:nvPr/>
        </p:nvCxnSpPr>
        <p:spPr>
          <a:xfrm>
            <a:off x="6986160" y="2472840"/>
            <a:ext cx="461160" cy="399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95" idx="7"/>
            <a:endCxn id="96" idx="3"/>
          </p:cNvCxnSpPr>
          <p:nvPr/>
        </p:nvCxnSpPr>
        <p:spPr>
          <a:xfrm flipV="1">
            <a:off x="6986160" y="3409560"/>
            <a:ext cx="461160" cy="32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5148360" y="191628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34936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42100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2421000"/>
            <a:ext cx="287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990033"/>
                </a:solidFill>
                <a:latin typeface="Consolas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73360"/>
            <a:ext cx="287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990033"/>
                </a:solidFill>
                <a:latin typeface="Consolas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Consola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573360"/>
            <a:ext cx="287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nsola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5626080"/>
            <a:ext cx="1079640" cy="36036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Ne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5624640"/>
            <a:ext cx="1079640" cy="36036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nsolas"/>
              </a:rPr>
              <a:t>Net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1" idx="4"/>
            <a:endCxn id="120" idx="0"/>
          </p:cNvCxnSpPr>
          <p:nvPr/>
        </p:nvCxnSpPr>
        <p:spPr>
          <a:xfrm>
            <a:off x="4752720" y="5241600"/>
            <a:ext cx="1080" cy="37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02" idx="4"/>
            <a:endCxn id="121" idx="0"/>
          </p:cNvCxnSpPr>
          <p:nvPr/>
        </p:nvCxnSpPr>
        <p:spPr>
          <a:xfrm>
            <a:off x="5974920" y="5241600"/>
            <a:ext cx="1080" cy="369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17A-4ECB-44DB-831D-C1F1062784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Linux Biolinum O"/>
              </a:rPr>
              <a:t>TODO list</a:t>
            </a:r>
            <a:endParaRPr b="0" lang="en-US" sz="4400" spc="-1" strike="noStrike">
              <a:solidFill>
                <a:srgbClr val="990033"/>
              </a:solidFill>
              <a:latin typeface="Linux Biolinum 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Agree on approach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o we need to change test topology?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Do we need to change failure scenarios?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Input welcome!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Aim for WG-item readiness by next IETF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inux Biolinum 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onsider need for amending RFC4098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ters convergence benchma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2BE-EF6C-4445-BC0C-5B2057B0B2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MWG@IETF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01:41Z</dcterms:created>
  <dc:creator>iLya Varlashkin</dc:creator>
  <dc:description/>
  <dc:language>en-US</dc:language>
  <cp:lastModifiedBy>iLya Varlashkin</cp:lastModifiedBy>
  <dcterms:modified xsi:type="dcterms:W3CDTF">2011-11-11T08:56:53Z</dcterms:modified>
  <cp:revision>8</cp:revision>
  <dc:subject/>
  <dc:title>Routers convergence benchmarking</dc:title>
</cp:coreProperties>
</file>