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F80F-74D2-4198-BB8A-7B672AD1D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C394-314A-4586-92DB-9EE7A1BE6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B773-869F-4A2E-B7CA-5E3DF4F2C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8302-D9BE-4CA0-8990-FC9C9F5DB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D704-3E25-42B1-8CAB-93AF5C93A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2E1B-CCBF-45DB-AD20-60181820E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A017-1C8E-41C8-A998-E91B66742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1A85-B7A9-4334-9BC7-84C786F2E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408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06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408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06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77777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9966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8077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2C29-97D3-4DF8-B16D-A2CFD255C834}" type="slidenum">
              <a:rPr b="0" lang="en-US" sz="1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77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77777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9966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2743200" y="57150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82nd IET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Taipei, 13-18 Nov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04920" y="129528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IETF BMWG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Security Effectiveness Benchmark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14400" y="37339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66"/>
                </a:solidFill>
                <a:latin typeface="Tahoma"/>
              </a:rPr>
              <a:t>Kenneth Gre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66"/>
                </a:solidFill>
                <a:latin typeface="Tahoma"/>
              </a:rPr>
              <a:t>Critical Functions of Content Aware Devices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tent-aware security devices perform the following key functions: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tegorise traffic as either legal or illega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g/notify about illegal traffic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in-band/out-of-band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lock illegal traffic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in-band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ward legal traffic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in-band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devices must implement categorisation as it is fundamental to the other functions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66"/>
                </a:solidFill>
                <a:latin typeface="Tahoma"/>
              </a:rPr>
              <a:t>Distinguishing Performance and Effectiveness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ecurity Performance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= how well a content-aware device forwards good traffic with security features enabled and in the presence of illegal traffic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is has begun to be addressed by:</a:t>
            </a:r>
            <a:br>
              <a:rPr sz="24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hamilton-bmwg-ca-bench_xxx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ecurity Effectivenes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= how well the device categorises traffi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o false negatives = accurately identifies all evil traffic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o false positives = never flags good traffic as evil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his is not currently addressed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The Proposed Drafts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0066"/>
                </a:solidFill>
                <a:latin typeface="Tahoma"/>
              </a:rPr>
              <a:t>Two drafts: </a:t>
            </a:r>
            <a:r>
              <a:rPr b="0" lang="sv-SE" sz="2400" spc="-1" strike="noStrike">
                <a:solidFill>
                  <a:srgbClr val="000066"/>
                </a:solidFill>
                <a:latin typeface="Tahoma"/>
              </a:rPr>
              <a:t>Terminology and methodology for Security Effectiveness benchmark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Tahoma"/>
              </a:rPr>
              <a:t>Terminology</a:t>
            </a:r>
            <a:r>
              <a:rPr b="0" lang="sv-SE" sz="2400" spc="-1" strike="noStrike">
                <a:solidFill>
                  <a:srgbClr val="000066"/>
                </a:solidFill>
                <a:latin typeface="Tahoma"/>
              </a:rPr>
              <a:t> draft will cover items specific to Security Effectiveness test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egal traffic, Illegal traffic (taking </a:t>
            </a:r>
            <a:r>
              <a:rPr b="0" lang="en-AU" sz="2000" spc="-1" strike="noStrike">
                <a:solidFill>
                  <a:srgbClr val="000066"/>
                </a:solidFill>
                <a:latin typeface="Tahoma"/>
              </a:rPr>
              <a:t>RFC2647 as a starting point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Vulnerability, Malware, Virus, Trojan, Rootkit …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False positive, false negative …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Wildlis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Others TBD (as required by the Methodology draft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The Proposed Drafts (cont.)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sv-SE" sz="2400" spc="-1" strike="noStrike">
                <a:solidFill>
                  <a:srgbClr val="000066"/>
                </a:solidFill>
                <a:latin typeface="Tahoma"/>
              </a:rPr>
              <a:t>Methodology</a:t>
            </a:r>
            <a:r>
              <a:rPr b="0" lang="sv-SE" sz="2400" spc="-1" strike="noStrike">
                <a:solidFill>
                  <a:srgbClr val="000066"/>
                </a:solidFill>
                <a:latin typeface="Tahoma"/>
              </a:rPr>
              <a:t> draft will provide general information on test setups and test results, then describe the specific benchmark metrics and tes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aximum Attack Blocking Ra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Useful Attack Blocking Ra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Attack Blocking Effectivenes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Others TB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Results to include details of all attacks and identify those blocked and those not blocked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Why Do We Need To Do This?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Tahoma"/>
              </a:rPr>
              <a:t>The nature of this testing is orthogonal to that of performance testing and is not covered by existing RFCs or ID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6"/>
                </a:solidFill>
                <a:latin typeface="Tahoma"/>
              </a:rPr>
              <a:t>A security device with high forwarding performance is of little use if it misses malicious traffic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6"/>
                </a:solidFill>
                <a:latin typeface="Tahoma"/>
              </a:rPr>
              <a:t>Currently there is no standard way to validate effectiveness of security solutions and hence no mechanism exists for realistic apples-to-apples comparisons of the breadth and currency of competing solution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Tahoma"/>
              </a:rPr>
              <a:t>The range of security challenges grows exponentiall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xisting exploits and malware remain a risk and effectiveness against them must be validated for both new and updated product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New exploits and malware appear all the time requiring re-validation of the effectiveness of existing devices and solution update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66"/>
                </a:solidFill>
                <a:latin typeface="Tahoma"/>
              </a:rPr>
              <a:t>Next steps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Continue to solicit comments, feedback, and suppor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Submit initial drafts based on comments and input receiv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399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nitial methodology draft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green-bmwg-seceff-bench-meth-00.txt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ahoma"/>
              </a:rPr>
              <a:t>Comments?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03:44:04Z</dcterms:created>
  <dc:creator>Jerry Perser, Tom Alexander, Muninder Sambi</dc:creator>
  <dc:description/>
  <dc:language>en-US</dc:language>
  <cp:lastModifiedBy>Kenneth Green</cp:lastModifiedBy>
  <dcterms:modified xsi:type="dcterms:W3CDTF">2011-11-11T08:04:10Z</dcterms:modified>
  <cp:revision>257</cp:revision>
  <dc:subject/>
  <dc:title>WLAN benchmarking proposal</dc:title>
</cp:coreProperties>
</file>