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7F6-410C-4577-B90F-1DAD0FBA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D35-1F4E-4CFE-B6C4-A09CAAEE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35D-647E-4939-B8FB-EF6BFF04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260-1585-4D0D-A2B8-7CC41470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CA6-E127-47E9-B3B8-A948C02B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30CD-BF5D-49F5-AECE-96A4D124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7E33-4EE5-4485-B92A-A3E77051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12A2-373D-4622-B2A0-C1C5690DC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7777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99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077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902F-CDB9-419C-BA51-048BD72B39C5}" type="slidenum">
              <a:rPr b="0" lang="en-US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7777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99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743200" y="57150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82nd IET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aipei, 13-18 Nov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04920" y="12952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IETF BMWG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Security Effectiveness Benchmark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66"/>
                </a:solidFill>
                <a:latin typeface="Tahoma"/>
              </a:rPr>
              <a:t>Kenneth Gre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Critical Functions of Content Aware Device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ent-aware security devices perform the following key functions: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tegorise traffic as either legal or illeg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g/notify about il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/out-of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ock il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ward 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devices must implement categorisation as it is fundamental to the other function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Distinguishing Performance and Effectivenes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urity Performance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how well a content-aware device forwards good traffic with security features enabled and in the presence of illegal traffic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has begun to be addressed by: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hamilton-bmwg-ca-bench_xxx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urity Effectivenes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how well the device categorises traffi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 false negatives = accurately identifies all evil traffi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 false positives = never flags good traffic as evi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is is not currently addresse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The Proposed Draft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Two drafts: 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Terminology and methodology for Security Effectiveness benchmark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Terminology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 draft will cover items specific to Security Effectiveness test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egal traffic, Illegal traffic (taking </a:t>
            </a:r>
            <a:r>
              <a:rPr b="0" lang="en-AU" sz="2000" spc="-1" strike="noStrike">
                <a:solidFill>
                  <a:srgbClr val="000066"/>
                </a:solidFill>
                <a:latin typeface="Tahoma"/>
              </a:rPr>
              <a:t>RFC2647 as a starting point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Vulnerability, Malware, Virus, Trojan, Rootkit 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lse positive, false negative 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Wildlis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hers TBD (as required by the Methodology draft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The Proposed Drafts (cont.)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Methodology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 draft will provide general information on test setups and test results, then describe the specific benchmark metrics and tes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aximum Attack Blocking Ra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seful Attack Blocking Ra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ttack Blocking Effectivenes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hers TB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Results to include details of all attacks and identify those blocked and those not blocke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Why Do We Need To Do This?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Tahoma"/>
              </a:rPr>
              <a:t>The nature of this testing is orthogonal to that of performance testing and is not covered by existing RFCs or ID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Tahoma"/>
              </a:rPr>
              <a:t>A security device with high forwarding performance is of little use if it misses malicious traffic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Tahoma"/>
              </a:rPr>
              <a:t>Currently there is no standard way to validate effectiveness of security solutions and hence no mechanism exists for realistic apples-to-apples comparisons of the breadth and currency of competing solution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Tahoma"/>
              </a:rPr>
              <a:t>The range of security challenges grows exponentiall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xisting exploits and malware remain a risk and effectiveness against them must be validated for both new and updated product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New exploits and malware appear all the time requiring re-validation of the effectiveness of existing devices and solution update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Next step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ontinue to solicit comments, feedback, and suppor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ubmit initial drafts based on comments and input receiv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99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itial methodology draft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green-bmwg-seceff-bench-meth-00.txt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3:44:04Z</dcterms:created>
  <dc:creator>Jerry Perser, Tom Alexander, Muninder Sambi</dc:creator>
  <dc:description/>
  <dc:language>en-US</dc:language>
  <cp:lastModifiedBy>Kenneth Green</cp:lastModifiedBy>
  <dcterms:modified xsi:type="dcterms:W3CDTF">2011-11-11T08:04:10Z</dcterms:modified>
  <cp:revision>257</cp:revision>
  <dc:subject/>
  <dc:title>WLAN benchmarking proposal</dc:title>
</cp:coreProperties>
</file>