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8764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02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  <a:defRPr b="0" lang="en-GB" sz="13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2B844839-7051-4845-A48C-0037FA78D098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7CA410D7-4968-4799-B536-A80433E02121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ADE63A5A-3CAA-4843-8A25-ECDD7B8E2FF6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757CC981-435D-4A61-853B-0BBB8B3B8B59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3D2BF922-D3D7-4FD8-9DCB-4D599E4490A9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0E714A12-01D8-4973-9D06-0143EF9E2440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0D29FB73-44C5-41D4-A5F7-A456634CFC9C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C7B862C7-36F0-482E-A6E5-DEE83BBA9838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BAB0D597-235B-4661-A3E5-A0D9BAEAE6FC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B912516E-2EEF-419A-A7D5-80D602C6B04C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93C3A416-2355-4ED7-A30D-5F3D93FDB56B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E8AD35B0-429C-4E5F-87CD-AA9D126675BF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98E-9FAE-4437-A69C-5BA4D3BB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C14-C4B5-43FF-B2B8-9D5D5EB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84C-F1B6-4E6E-A6C6-4E9FA297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C91-BF39-4237-B7C1-552EDD32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824-9CC6-4A0D-8CD4-5BBD908F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3F7-1ED3-4673-BA72-EE335182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1BF-6882-4C6B-A277-B98F86A3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1C0-D471-4851-8B0F-6B990DD0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404-66CE-4FC4-9EAC-E2E86372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8F1-5C4F-4FFC-8A44-15CDC63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857-B1D4-44F2-A870-E2883D4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D47-E204-42CD-A19A-6D9293EB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4120" indent="-212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16120" indent="-204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C66261FE-3D41-4F9C-9344-BE0D320FF3A6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hamilton@breakingpoin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627FCD77-38D0-46E2-8E73-52AE76C0C6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66024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-Aware Device Benchmarking Methodology/Terminolog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raft-ietf-bmwg-ca-bench-meth-00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15532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MWG Meeting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ETF-82 Taipei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vemb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Mike Hamilton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mhamilton@breakingpoint.com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BreakingPoint Systems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2E3C6C5C-EEAD-4B29-8843-6DDA301FF13A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ov-Pseudo Co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79640" y="147492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MAXGEN = 10000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NONWORD = "\n"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w1 = $w2 = $NONWORD;           # initial state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pen FILE, "&lt;", "corpus.txt"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while (&lt;FILE&gt;) {                    # read each line of input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(split) {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ush(@{$statetab{$w1}{$w2}}, $_)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$w1, $w2) = ($w2, $_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multiple assignment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ush(@{$statetab{$w1}{$w2}}, $NONWORD);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add tail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w1 = $w2 = $NONWORD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 ($i = 0; $i &lt; $MAXGEN; $i++) {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suf = $statetab{$w1}{$w2}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array reference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$r = int(rand @$suf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@$suf is number of elems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exit if (($t = $suf-&gt;[$r]) eq $NONWORD)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rint "$t ";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$w1, $w2) = ($w2, $t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# advance chain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arkov HTM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4808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B1027DA6-95C1-42B1-9E41-D6EFC63A783A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pic>
        <p:nvPicPr>
          <p:cNvPr id="124" name="Content Placeholder 9" descr=""/>
          <p:cNvPicPr/>
          <p:nvPr/>
        </p:nvPicPr>
        <p:blipFill>
          <a:blip r:embed="rId1"/>
          <a:srcRect l="-42933" t="-2570" r="-61379" b="-12312"/>
          <a:stretch/>
        </p:blipFill>
        <p:spPr>
          <a:xfrm>
            <a:off x="343080" y="1460520"/>
            <a:ext cx="90039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arkov Emai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44808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C22CAE4D-7BFD-4A94-A96F-2203ACB94E3C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pic>
        <p:nvPicPr>
          <p:cNvPr id="128" name="Content Placeholder 7" descr=""/>
          <p:cNvPicPr/>
          <p:nvPr/>
        </p:nvPicPr>
        <p:blipFill>
          <a:blip r:embed="rId1"/>
          <a:srcRect l="0" t="9081" r="0" b="9081"/>
          <a:stretch/>
        </p:blipFill>
        <p:spPr>
          <a:xfrm>
            <a:off x="503280" y="1768320"/>
            <a:ext cx="9059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FC7EEA1B-CDA8-4C5E-A5D5-0506F44B6F62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9760" y="1733400"/>
            <a:ext cx="9448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hile not perfect, certainly has made progres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ork left to do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urther define th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inalize Markov algorithm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Incorporate ISIC as 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71A6E4FE-AB41-4C59-AA66-05F252AB3A49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3280" y="1889280"/>
            <a:ext cx="903744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Draft Update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Resolved Question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Unresolved Question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Work To Do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Markov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ans"/>
              </a:rPr>
              <a:t>Next Steps</a:t>
            </a: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0642D2C4-803A-46D8-8F05-9B52DF1083D1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BC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9760" y="1733400"/>
            <a:ext cx="94489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. More Concise first sentence (Page 1, paragraph 1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Modified  to take sugges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2. Examples of what devices use to make forwarding decisions(Page 3, paragraph 1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Great idea. 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3. Confusing wording on last sentence (Page 3, last paragraph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Reworded the entire paragraph to hopefully clear the confus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4. Out of place sentence (Page 4, paragraph 2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Removed the sentence, but would like input on where it does belo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5. Confusing paragraph (Page 4, 2nd to last paragraph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Totally reworded to be more succinc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C9CBCD87-2918-44DA-8DCE-FEB9B9174401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BC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39760" y="1733400"/>
            <a:ext cx="9448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6. Section 3.3 relocation/deletion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Made the appropriate change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7. Page 7, 3rd paragraph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Outstanding point.  Next version will include this discussion on individual testi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8. Section 4.3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Interesting point, but would like to add this to topic for discussion in Taipei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I'm leaning toward removing it, but leaving in the malformed (since it can be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lgorithmically defined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BAC04B15-5872-46A2-A9EA-E2B7924AF57A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A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39760" y="1733400"/>
            <a:ext cx="94489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. Asked for examples on page 4 for specmanship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ecided to remove section.  Found several examples, but it probably isn't worth discussi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2. Asked for rewording on (page 4, paragraph 2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This sentence to be moved somewhere else, not sure where as of now though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Will also be reworded to match your suggestion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3. Asked for explicit list of metrics (page 5, sect 2, paragraph 3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 current list of metrics to be captur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4. Switching order of paragraph(page 5, last paragraph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5. Additional clarification requested (page 6, section 3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6. Section 3.2 conjunction of IPv4/IPv6 address range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CC01BA3B-704D-4977-9F8A-603DBA95655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A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39760" y="1733400"/>
            <a:ext cx="9448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7. Section 3.3 rewor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8. Section 3.4 wording chang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9. Section 3.4(second paragraph) rewording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0. Section 3.4 (3rd paragraph) insertion of word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1.Page 8, first paragraph wording/addition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2. Page 8, 3rd paragraph rewording of last sentanc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Do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6E9FFFD2-093A-4B1B-B1DD-33CEEEDC827D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-A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39760" y="1733400"/>
            <a:ext cx="9448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3. Section 3.7.1 - missing reference to RFC 5180 for IPv6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4. Section 3.7.3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ed more specific reference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5. General SHOULD/MUST/MAY disagreement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Should be adequately addressed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16.Example Traffic Pattern Table updates (Appendix A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--Addressed.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D1A43993-6C35-48A8-AD41-979F2746C921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lved Ques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39760" y="1733400"/>
            <a:ext cx="9448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Traffic Composi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a single protocol within the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lgorithmically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3" marL="852480" indent="-212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Open-source TCP/IP/UDP(sic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704C1A00-54F2-4ACA-ABE5-154AD318003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resolved Comment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39760" y="173340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Comments from Kenneth Green and Tom Alexander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First on TODO lis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01:51Z</dcterms:created>
  <dc:creator/>
  <dc:description/>
  <cp:keywords>IETF NETCONF</cp:keywords>
  <dc:language>en-US</dc:language>
  <cp:lastModifiedBy>Mike Hamilton</cp:lastModifiedBy>
  <dcterms:modified xsi:type="dcterms:W3CDTF">2011-11-13T18:28:51Z</dcterms:modified>
  <cp:revision>75</cp:revision>
  <dc:subject/>
  <dc:title>NETCONF @IETF70 - Agenda slides</dc:title>
</cp:coreProperties>
</file>