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0080625" cy="7559675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257120" y="728640"/>
            <a:ext cx="4787640" cy="35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731520" y="4559400"/>
            <a:ext cx="584028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16224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dt" idx="4"/>
          </p:nvPr>
        </p:nvSpPr>
        <p:spPr>
          <a:xfrm>
            <a:off x="4140360" y="-360"/>
            <a:ext cx="316224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0" y="9119880"/>
            <a:ext cx="3162240" cy="4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4140360" y="9119880"/>
            <a:ext cx="3162240" cy="4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33440"/>
                <a:tab algn="l" pos="866880"/>
                <a:tab algn="l" pos="1301760"/>
                <a:tab algn="l" pos="1735200"/>
                <a:tab algn="l" pos="2168640"/>
                <a:tab algn="l" pos="2602080"/>
                <a:tab algn="l" pos="3036960"/>
                <a:tab algn="l" pos="3470400"/>
                <a:tab algn="l" pos="3903840"/>
                <a:tab algn="l" pos="4336920"/>
                <a:tab algn="l" pos="4770360"/>
                <a:tab algn="l" pos="5205240"/>
                <a:tab algn="l" pos="5638680"/>
                <a:tab algn="l" pos="6072120"/>
                <a:tab algn="l" pos="6505560"/>
                <a:tab algn="l" pos="6940440"/>
                <a:tab algn="l" pos="7373880"/>
                <a:tab algn="l" pos="7807320"/>
                <a:tab algn="l" pos="8240760"/>
                <a:tab algn="l" pos="867564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  <a:defRPr b="0" lang="en-GB" sz="13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33440"/>
                <a:tab algn="l" pos="866880"/>
                <a:tab algn="l" pos="1301760"/>
                <a:tab algn="l" pos="1735200"/>
                <a:tab algn="l" pos="2168640"/>
                <a:tab algn="l" pos="2602080"/>
                <a:tab algn="l" pos="3036960"/>
                <a:tab algn="l" pos="3470400"/>
                <a:tab algn="l" pos="3903840"/>
                <a:tab algn="l" pos="4336920"/>
                <a:tab algn="l" pos="4770360"/>
                <a:tab algn="l" pos="5205240"/>
                <a:tab algn="l" pos="5638680"/>
                <a:tab algn="l" pos="6072120"/>
                <a:tab algn="l" pos="6505560"/>
                <a:tab algn="l" pos="6940440"/>
                <a:tab algn="l" pos="7373880"/>
                <a:tab algn="l" pos="7807320"/>
                <a:tab algn="l" pos="8240760"/>
                <a:tab algn="l" pos="867564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fld id="{900673BD-2F0E-4AE8-B81F-08E64FC3035A}" type="slidenum">
              <a:rPr b="0" lang="en-GB" sz="13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3"/>
          <p:cNvSpPr/>
          <p:nvPr/>
        </p:nvSpPr>
        <p:spPr>
          <a:xfrm>
            <a:off x="4140360" y="9120240"/>
            <a:ext cx="31622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33440"/>
                <a:tab algn="l" pos="866880"/>
                <a:tab algn="l" pos="1301760"/>
                <a:tab algn="l" pos="1735200"/>
                <a:tab algn="l" pos="2168640"/>
                <a:tab algn="l" pos="2602080"/>
                <a:tab algn="l" pos="3036960"/>
                <a:tab algn="l" pos="3470400"/>
                <a:tab algn="l" pos="3903840"/>
                <a:tab algn="l" pos="4336920"/>
                <a:tab algn="l" pos="4770360"/>
                <a:tab algn="l" pos="5205240"/>
                <a:tab algn="l" pos="5638680"/>
                <a:tab algn="l" pos="6072120"/>
                <a:tab algn="l" pos="6505560"/>
                <a:tab algn="l" pos="6940440"/>
                <a:tab algn="l" pos="7373880"/>
                <a:tab algn="l" pos="7807320"/>
                <a:tab algn="l" pos="8240760"/>
                <a:tab algn="l" pos="867564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fld id="{740FBCC0-5822-4A5F-A26E-6F4F43A8220D}" type="slidenum">
              <a:rPr b="0" lang="en-GB" sz="13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3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137" name="Text Box 1"/>
          <p:cNvSpPr/>
          <p:nvPr/>
        </p:nvSpPr>
        <p:spPr>
          <a:xfrm>
            <a:off x="1290600" y="728640"/>
            <a:ext cx="47340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4208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3"/>
          <p:cNvSpPr/>
          <p:nvPr/>
        </p:nvSpPr>
        <p:spPr>
          <a:xfrm>
            <a:off x="4140360" y="9120240"/>
            <a:ext cx="31622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33440"/>
                <a:tab algn="l" pos="866880"/>
                <a:tab algn="l" pos="1301760"/>
                <a:tab algn="l" pos="1735200"/>
                <a:tab algn="l" pos="2168640"/>
                <a:tab algn="l" pos="2602080"/>
                <a:tab algn="l" pos="3036960"/>
                <a:tab algn="l" pos="3470400"/>
                <a:tab algn="l" pos="3903840"/>
                <a:tab algn="l" pos="4336920"/>
                <a:tab algn="l" pos="4770360"/>
                <a:tab algn="l" pos="5205240"/>
                <a:tab algn="l" pos="5638680"/>
                <a:tab algn="l" pos="6072120"/>
                <a:tab algn="l" pos="6505560"/>
                <a:tab algn="l" pos="6940440"/>
                <a:tab algn="l" pos="7373880"/>
                <a:tab algn="l" pos="7807320"/>
                <a:tab algn="l" pos="8240760"/>
                <a:tab algn="l" pos="867564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fld id="{C3474D14-59CF-46B5-8612-954F67FB7BAE}" type="slidenum">
              <a:rPr b="0" lang="en-GB" sz="13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3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164" name="Text Box 1"/>
          <p:cNvSpPr/>
          <p:nvPr/>
        </p:nvSpPr>
        <p:spPr>
          <a:xfrm>
            <a:off x="1290600" y="728640"/>
            <a:ext cx="473220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4208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3"/>
          <p:cNvSpPr/>
          <p:nvPr/>
        </p:nvSpPr>
        <p:spPr>
          <a:xfrm>
            <a:off x="4140360" y="9120240"/>
            <a:ext cx="31622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33440"/>
                <a:tab algn="l" pos="866880"/>
                <a:tab algn="l" pos="1301760"/>
                <a:tab algn="l" pos="1735200"/>
                <a:tab algn="l" pos="2168640"/>
                <a:tab algn="l" pos="2602080"/>
                <a:tab algn="l" pos="3036960"/>
                <a:tab algn="l" pos="3470400"/>
                <a:tab algn="l" pos="3903840"/>
                <a:tab algn="l" pos="4336920"/>
                <a:tab algn="l" pos="4770360"/>
                <a:tab algn="l" pos="5205240"/>
                <a:tab algn="l" pos="5638680"/>
                <a:tab algn="l" pos="6072120"/>
                <a:tab algn="l" pos="6505560"/>
                <a:tab algn="l" pos="6940440"/>
                <a:tab algn="l" pos="7373880"/>
                <a:tab algn="l" pos="7807320"/>
                <a:tab algn="l" pos="8240760"/>
                <a:tab algn="l" pos="867564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fld id="{0540D15D-2EC5-4B7F-9D29-BB222F659ED7}" type="slidenum">
              <a:rPr b="0" lang="en-GB" sz="13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3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167" name="Text Box 1"/>
          <p:cNvSpPr/>
          <p:nvPr/>
        </p:nvSpPr>
        <p:spPr>
          <a:xfrm>
            <a:off x="1290600" y="728640"/>
            <a:ext cx="473220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4208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3"/>
          <p:cNvSpPr/>
          <p:nvPr/>
        </p:nvSpPr>
        <p:spPr>
          <a:xfrm>
            <a:off x="4140360" y="9120240"/>
            <a:ext cx="31622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33440"/>
                <a:tab algn="l" pos="866880"/>
                <a:tab algn="l" pos="1301760"/>
                <a:tab algn="l" pos="1735200"/>
                <a:tab algn="l" pos="2168640"/>
                <a:tab algn="l" pos="2602080"/>
                <a:tab algn="l" pos="3036960"/>
                <a:tab algn="l" pos="3470400"/>
                <a:tab algn="l" pos="3903840"/>
                <a:tab algn="l" pos="4336920"/>
                <a:tab algn="l" pos="4770360"/>
                <a:tab algn="l" pos="5205240"/>
                <a:tab algn="l" pos="5638680"/>
                <a:tab algn="l" pos="6072120"/>
                <a:tab algn="l" pos="6505560"/>
                <a:tab algn="l" pos="6940440"/>
                <a:tab algn="l" pos="7373880"/>
                <a:tab algn="l" pos="7807320"/>
                <a:tab algn="l" pos="8240760"/>
                <a:tab algn="l" pos="867564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fld id="{1524F28D-6AE8-4829-93CB-93AFF34BBC5B}" type="slidenum">
              <a:rPr b="0" lang="en-GB" sz="13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3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140" name="Text Box 1"/>
          <p:cNvSpPr/>
          <p:nvPr/>
        </p:nvSpPr>
        <p:spPr>
          <a:xfrm>
            <a:off x="1290600" y="728640"/>
            <a:ext cx="473220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4208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3"/>
          <p:cNvSpPr/>
          <p:nvPr/>
        </p:nvSpPr>
        <p:spPr>
          <a:xfrm>
            <a:off x="4140360" y="9120240"/>
            <a:ext cx="31622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33440"/>
                <a:tab algn="l" pos="866880"/>
                <a:tab algn="l" pos="1301760"/>
                <a:tab algn="l" pos="1735200"/>
                <a:tab algn="l" pos="2168640"/>
                <a:tab algn="l" pos="2602080"/>
                <a:tab algn="l" pos="3036960"/>
                <a:tab algn="l" pos="3470400"/>
                <a:tab algn="l" pos="3903840"/>
                <a:tab algn="l" pos="4336920"/>
                <a:tab algn="l" pos="4770360"/>
                <a:tab algn="l" pos="5205240"/>
                <a:tab algn="l" pos="5638680"/>
                <a:tab algn="l" pos="6072120"/>
                <a:tab algn="l" pos="6505560"/>
                <a:tab algn="l" pos="6940440"/>
                <a:tab algn="l" pos="7373880"/>
                <a:tab algn="l" pos="7807320"/>
                <a:tab algn="l" pos="8240760"/>
                <a:tab algn="l" pos="867564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fld id="{43F41A3A-DADF-43C1-836C-18AF96ADD737}" type="slidenum">
              <a:rPr b="0" lang="en-GB" sz="13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3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143" name="Text Box 1"/>
          <p:cNvSpPr/>
          <p:nvPr/>
        </p:nvSpPr>
        <p:spPr>
          <a:xfrm>
            <a:off x="1290600" y="728640"/>
            <a:ext cx="473220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4208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3"/>
          <p:cNvSpPr/>
          <p:nvPr/>
        </p:nvSpPr>
        <p:spPr>
          <a:xfrm>
            <a:off x="4140360" y="9120240"/>
            <a:ext cx="31622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33440"/>
                <a:tab algn="l" pos="866880"/>
                <a:tab algn="l" pos="1301760"/>
                <a:tab algn="l" pos="1735200"/>
                <a:tab algn="l" pos="2168640"/>
                <a:tab algn="l" pos="2602080"/>
                <a:tab algn="l" pos="3036960"/>
                <a:tab algn="l" pos="3470400"/>
                <a:tab algn="l" pos="3903840"/>
                <a:tab algn="l" pos="4336920"/>
                <a:tab algn="l" pos="4770360"/>
                <a:tab algn="l" pos="5205240"/>
                <a:tab algn="l" pos="5638680"/>
                <a:tab algn="l" pos="6072120"/>
                <a:tab algn="l" pos="6505560"/>
                <a:tab algn="l" pos="6940440"/>
                <a:tab algn="l" pos="7373880"/>
                <a:tab algn="l" pos="7807320"/>
                <a:tab algn="l" pos="8240760"/>
                <a:tab algn="l" pos="867564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fld id="{23B68042-B844-4210-9994-2BCE71683718}" type="slidenum">
              <a:rPr b="0" lang="en-GB" sz="13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3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146" name="Text Box 1"/>
          <p:cNvSpPr/>
          <p:nvPr/>
        </p:nvSpPr>
        <p:spPr>
          <a:xfrm>
            <a:off x="1290600" y="728640"/>
            <a:ext cx="473220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4208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3"/>
          <p:cNvSpPr/>
          <p:nvPr/>
        </p:nvSpPr>
        <p:spPr>
          <a:xfrm>
            <a:off x="4140360" y="9120240"/>
            <a:ext cx="31622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33440"/>
                <a:tab algn="l" pos="866880"/>
                <a:tab algn="l" pos="1301760"/>
                <a:tab algn="l" pos="1735200"/>
                <a:tab algn="l" pos="2168640"/>
                <a:tab algn="l" pos="2602080"/>
                <a:tab algn="l" pos="3036960"/>
                <a:tab algn="l" pos="3470400"/>
                <a:tab algn="l" pos="3903840"/>
                <a:tab algn="l" pos="4336920"/>
                <a:tab algn="l" pos="4770360"/>
                <a:tab algn="l" pos="5205240"/>
                <a:tab algn="l" pos="5638680"/>
                <a:tab algn="l" pos="6072120"/>
                <a:tab algn="l" pos="6505560"/>
                <a:tab algn="l" pos="6940440"/>
                <a:tab algn="l" pos="7373880"/>
                <a:tab algn="l" pos="7807320"/>
                <a:tab algn="l" pos="8240760"/>
                <a:tab algn="l" pos="867564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fld id="{23C91021-22E9-42AE-A8AB-125C5718D497}" type="slidenum">
              <a:rPr b="0" lang="en-GB" sz="13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3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149" name="Text Box 1"/>
          <p:cNvSpPr/>
          <p:nvPr/>
        </p:nvSpPr>
        <p:spPr>
          <a:xfrm>
            <a:off x="1290600" y="728640"/>
            <a:ext cx="473220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4208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3"/>
          <p:cNvSpPr/>
          <p:nvPr/>
        </p:nvSpPr>
        <p:spPr>
          <a:xfrm>
            <a:off x="4140360" y="9120240"/>
            <a:ext cx="31622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33440"/>
                <a:tab algn="l" pos="866880"/>
                <a:tab algn="l" pos="1301760"/>
                <a:tab algn="l" pos="1735200"/>
                <a:tab algn="l" pos="2168640"/>
                <a:tab algn="l" pos="2602080"/>
                <a:tab algn="l" pos="3036960"/>
                <a:tab algn="l" pos="3470400"/>
                <a:tab algn="l" pos="3903840"/>
                <a:tab algn="l" pos="4336920"/>
                <a:tab algn="l" pos="4770360"/>
                <a:tab algn="l" pos="5205240"/>
                <a:tab algn="l" pos="5638680"/>
                <a:tab algn="l" pos="6072120"/>
                <a:tab algn="l" pos="6505560"/>
                <a:tab algn="l" pos="6940440"/>
                <a:tab algn="l" pos="7373880"/>
                <a:tab algn="l" pos="7807320"/>
                <a:tab algn="l" pos="8240760"/>
                <a:tab algn="l" pos="867564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fld id="{FF53ECDA-8A3E-4218-87D2-982F8824D8B0}" type="slidenum">
              <a:rPr b="0" lang="en-GB" sz="13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3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152" name="Text Box 1"/>
          <p:cNvSpPr/>
          <p:nvPr/>
        </p:nvSpPr>
        <p:spPr>
          <a:xfrm>
            <a:off x="1290600" y="728640"/>
            <a:ext cx="473220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4208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3"/>
          <p:cNvSpPr/>
          <p:nvPr/>
        </p:nvSpPr>
        <p:spPr>
          <a:xfrm>
            <a:off x="4140360" y="9120240"/>
            <a:ext cx="31622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33440"/>
                <a:tab algn="l" pos="866880"/>
                <a:tab algn="l" pos="1301760"/>
                <a:tab algn="l" pos="1735200"/>
                <a:tab algn="l" pos="2168640"/>
                <a:tab algn="l" pos="2602080"/>
                <a:tab algn="l" pos="3036960"/>
                <a:tab algn="l" pos="3470400"/>
                <a:tab algn="l" pos="3903840"/>
                <a:tab algn="l" pos="4336920"/>
                <a:tab algn="l" pos="4770360"/>
                <a:tab algn="l" pos="5205240"/>
                <a:tab algn="l" pos="5638680"/>
                <a:tab algn="l" pos="6072120"/>
                <a:tab algn="l" pos="6505560"/>
                <a:tab algn="l" pos="6940440"/>
                <a:tab algn="l" pos="7373880"/>
                <a:tab algn="l" pos="7807320"/>
                <a:tab algn="l" pos="8240760"/>
                <a:tab algn="l" pos="867564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fld id="{191A065E-57E0-41EA-9E2C-9E4CF0369F99}" type="slidenum">
              <a:rPr b="0" lang="en-GB" sz="13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3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155" name="Text Box 1"/>
          <p:cNvSpPr/>
          <p:nvPr/>
        </p:nvSpPr>
        <p:spPr>
          <a:xfrm>
            <a:off x="1290600" y="728640"/>
            <a:ext cx="473220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4208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3"/>
          <p:cNvSpPr/>
          <p:nvPr/>
        </p:nvSpPr>
        <p:spPr>
          <a:xfrm>
            <a:off x="4140360" y="9120240"/>
            <a:ext cx="31622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33440"/>
                <a:tab algn="l" pos="866880"/>
                <a:tab algn="l" pos="1301760"/>
                <a:tab algn="l" pos="1735200"/>
                <a:tab algn="l" pos="2168640"/>
                <a:tab algn="l" pos="2602080"/>
                <a:tab algn="l" pos="3036960"/>
                <a:tab algn="l" pos="3470400"/>
                <a:tab algn="l" pos="3903840"/>
                <a:tab algn="l" pos="4336920"/>
                <a:tab algn="l" pos="4770360"/>
                <a:tab algn="l" pos="5205240"/>
                <a:tab algn="l" pos="5638680"/>
                <a:tab algn="l" pos="6072120"/>
                <a:tab algn="l" pos="6505560"/>
                <a:tab algn="l" pos="6940440"/>
                <a:tab algn="l" pos="7373880"/>
                <a:tab algn="l" pos="7807320"/>
                <a:tab algn="l" pos="8240760"/>
                <a:tab algn="l" pos="867564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fld id="{8DC28E68-C996-47D4-B600-BE925AF66508}" type="slidenum">
              <a:rPr b="0" lang="en-GB" sz="13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3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1290600" y="728640"/>
            <a:ext cx="473220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4208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3"/>
          <p:cNvSpPr/>
          <p:nvPr/>
        </p:nvSpPr>
        <p:spPr>
          <a:xfrm>
            <a:off x="4140360" y="9120240"/>
            <a:ext cx="31622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33440"/>
                <a:tab algn="l" pos="866880"/>
                <a:tab algn="l" pos="1301760"/>
                <a:tab algn="l" pos="1735200"/>
                <a:tab algn="l" pos="2168640"/>
                <a:tab algn="l" pos="2602080"/>
                <a:tab algn="l" pos="3036960"/>
                <a:tab algn="l" pos="3470400"/>
                <a:tab algn="l" pos="3903840"/>
                <a:tab algn="l" pos="4336920"/>
                <a:tab algn="l" pos="4770360"/>
                <a:tab algn="l" pos="5205240"/>
                <a:tab algn="l" pos="5638680"/>
                <a:tab algn="l" pos="6072120"/>
                <a:tab algn="l" pos="6505560"/>
                <a:tab algn="l" pos="6940440"/>
                <a:tab algn="l" pos="7373880"/>
                <a:tab algn="l" pos="7807320"/>
                <a:tab algn="l" pos="8240760"/>
                <a:tab algn="l" pos="867564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fld id="{C416A684-17D9-4666-9DE9-6A2DDCFC5116}" type="slidenum">
              <a:rPr b="0" lang="en-GB" sz="13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3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161" name="Text Box 1"/>
          <p:cNvSpPr/>
          <p:nvPr/>
        </p:nvSpPr>
        <p:spPr>
          <a:xfrm>
            <a:off x="1290600" y="728640"/>
            <a:ext cx="473220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4208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0993-377C-4169-BA96-E313F1FB7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97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976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68600"/>
            <a:ext cx="905976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3AAE-CADB-418E-8F20-00F64E348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97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54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6950-3CA6-4B54-A7FC-998A248F9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97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520" y="176796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9760" y="176796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6860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520" y="436860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9760" y="436860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8F34-5F61-4B18-B3A8-6A4D47A51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97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5976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7813-6490-4B50-9186-52468F509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97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976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7DA4-5619-4236-A0B1-A95F0B0AD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97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CF34-7AA8-4040-AD86-B72AC99D9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97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BB2E-DB0C-4D1E-ADCE-238A02F8F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59760" cy="57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0F0E-EE46-4C71-8FFF-C4B03E59E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97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797E-591B-4FCB-A675-5A573464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97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54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5BDA-E5E6-4EE3-B3A5-182A31D1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97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68600"/>
            <a:ext cx="905976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230D-3D27-4819-8395-494138B5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97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5976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2480" indent="-282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284120" indent="-2124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716120" indent="-204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147760" indent="-2062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2147760" indent="-2062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2147760" indent="-2062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353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827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Bitstream Vera Sans"/>
            </a:endParaRPr>
          </a:p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IETF #74 - NETCONF WG session</a:t>
            </a:r>
            <a:endParaRPr b="0" lang="en-US" sz="14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353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4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400"/>
            </a:br>
            <a:fld id="{F7CAABF6-6E88-4DF7-9F6D-29362C1FF8F8}" type="slidenum">
              <a:rPr b="0" lang="en-GB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mhamilton@breakingpoint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4"/>
          <p:cNvSpPr/>
          <p:nvPr/>
        </p:nvSpPr>
        <p:spPr>
          <a:xfrm>
            <a:off x="7226280" y="6886440"/>
            <a:ext cx="23353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1400"/>
            </a:br>
            <a:fld id="{3D13110D-8431-4970-8453-A60E44B799E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660240"/>
            <a:ext cx="907236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ntent-Aware Device Benchmarking Methodology/Terminology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draft-ietf-bmwg-ca-bench-meth-00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02920" y="215532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BMWG Meeting</a:t>
            </a:r>
            <a:endParaRPr b="0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IETF-82 Taipei</a:t>
            </a:r>
            <a:endParaRPr b="0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November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2011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Calibri"/>
              </a:rPr>
              <a:t>Mike Hamilton</a:t>
            </a:r>
            <a:endParaRPr b="0" lang="en-US" sz="25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500" spc="-1" strike="noStrike" u="sng">
                <a:solidFill>
                  <a:srgbClr val="0000cc"/>
                </a:solidFill>
                <a:uFillTx/>
                <a:latin typeface="Calibri"/>
                <a:hlinkClick r:id="rId1"/>
              </a:rPr>
              <a:t>mhamilton@breakingpoint.com</a:t>
            </a:r>
            <a:endParaRPr b="0" lang="en-US" sz="25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Calibri"/>
              </a:rPr>
              <a:t>BreakingPoint Systems</a:t>
            </a:r>
            <a:endParaRPr b="0" lang="en-US" sz="25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7226280" y="6886440"/>
            <a:ext cx="23353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1400"/>
            </a:br>
            <a:fld id="{A4E71648-3E8F-4899-A890-62CA2E0FE63D}" type="slidenum">
              <a:rPr b="0" lang="en-GB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rkov-Pseudo Code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117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118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119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1079640" y="1474920"/>
            <a:ext cx="7993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$MAXGEN = 10000;</a:t>
            </a:r>
            <a:endParaRPr b="0" lang="en-US" sz="18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$NONWORD = "\n";</a:t>
            </a:r>
            <a:endParaRPr b="0" lang="en-US" sz="18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$w1 = $w2 = $NONWORD;           # initial state</a:t>
            </a:r>
            <a:endParaRPr b="0" lang="en-US" sz="18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open FILE, "&lt;", "corpus.txt";</a:t>
            </a:r>
            <a:endParaRPr b="0" lang="en-US" sz="18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while (&lt;FILE&gt;) {                    # read each line of input</a:t>
            </a:r>
            <a:endParaRPr b="0" lang="en-US" sz="18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foreach (split) {</a:t>
            </a:r>
            <a:endParaRPr b="0" lang="en-US" sz="18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push(@{$statetab{$w1}{$w2}}, $_);</a:t>
            </a:r>
            <a:endParaRPr b="0" lang="en-US" sz="18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($w1, $w2) = ($w2, $_);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# multiple assignment</a:t>
            </a:r>
            <a:endParaRPr b="0" lang="en-US" sz="18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}</a:t>
            </a:r>
            <a:endParaRPr b="0" lang="en-US" sz="18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}</a:t>
            </a:r>
            <a:endParaRPr b="0" lang="en-US" sz="18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push(@{$statetab{$w1}{$w2}}, $NONWORD);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# add tail</a:t>
            </a:r>
            <a:endParaRPr b="0" lang="en-US" sz="18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$w1 = $w2 = $NONWORD;</a:t>
            </a:r>
            <a:endParaRPr b="0" lang="en-US" sz="18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for ($i = 0; $i &lt; $MAXGEN; $i++) {</a:t>
            </a:r>
            <a:endParaRPr b="0" lang="en-US" sz="18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$suf = $statetab{$w1}{$w2};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# array reference</a:t>
            </a:r>
            <a:endParaRPr b="0" lang="en-US" sz="18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$r = int(rand @$suf);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# @$suf is number of elems</a:t>
            </a:r>
            <a:endParaRPr b="0" lang="en-US" sz="18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exit if (($t = $suf-&gt;[$r]) eq $NONWORD);</a:t>
            </a:r>
            <a:endParaRPr b="0" lang="en-US" sz="18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print "$t ";</a:t>
            </a:r>
            <a:endParaRPr b="0" lang="en-US" sz="18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($w1, $w2) = ($w2, $t);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# advance chain</a:t>
            </a:r>
            <a:endParaRPr b="0" lang="en-US" sz="18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}</a:t>
            </a:r>
            <a:endParaRPr b="0" lang="en-US" sz="1800" spc="-1" strike="noStrike">
              <a:solidFill>
                <a:srgbClr val="ffffcc"/>
              </a:solidFill>
              <a:latin typeface="Bitstream Vera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97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ans"/>
              </a:rPr>
              <a:t>Markov HTML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2" name="Footer Placeholder 3"/>
          <p:cNvSpPr/>
          <p:nvPr/>
        </p:nvSpPr>
        <p:spPr>
          <a:xfrm>
            <a:off x="3448080" y="6886440"/>
            <a:ext cx="3182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cc"/>
              </a:solidFill>
              <a:latin typeface="Bitstream Vera Sans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IETF #74 - NETCONF WG session</a:t>
            </a:r>
            <a:endParaRPr b="0" lang="en-US" sz="14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7226280" y="6886440"/>
            <a:ext cx="23353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400"/>
            </a:br>
            <a:fld id="{9449495B-C197-45F7-B65A-D0F9AE0D35D2}" type="slidenum">
              <a:rPr b="0" lang="en-GB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Bitstream Vera Sans"/>
            </a:endParaRPr>
          </a:p>
        </p:txBody>
      </p:sp>
      <p:pic>
        <p:nvPicPr>
          <p:cNvPr id="124" name="Content Placeholder 9" descr=""/>
          <p:cNvPicPr/>
          <p:nvPr/>
        </p:nvPicPr>
        <p:blipFill>
          <a:blip r:embed="rId1"/>
          <a:srcRect l="-42933" t="-2570" r="-61379" b="-12312"/>
          <a:stretch/>
        </p:blipFill>
        <p:spPr>
          <a:xfrm>
            <a:off x="343080" y="1460520"/>
            <a:ext cx="9003960" cy="50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97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ans"/>
              </a:rPr>
              <a:t>Markov Email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6" name="Footer Placeholder 3"/>
          <p:cNvSpPr/>
          <p:nvPr/>
        </p:nvSpPr>
        <p:spPr>
          <a:xfrm>
            <a:off x="3448080" y="6886440"/>
            <a:ext cx="3182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cc"/>
              </a:solidFill>
              <a:latin typeface="Bitstream Vera Sans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IETF #74 - NETCONF WG session</a:t>
            </a:r>
            <a:endParaRPr b="0" lang="en-US" sz="14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7226280" y="6886440"/>
            <a:ext cx="23353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400"/>
            </a:br>
            <a:fld id="{F27D4CD7-25D2-4097-B752-20FF9F7E0FD0}" type="slidenum">
              <a:rPr b="0" lang="en-GB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Bitstream Vera Sans"/>
            </a:endParaRPr>
          </a:p>
        </p:txBody>
      </p:sp>
      <p:pic>
        <p:nvPicPr>
          <p:cNvPr id="128" name="Content Placeholder 7" descr=""/>
          <p:cNvPicPr/>
          <p:nvPr/>
        </p:nvPicPr>
        <p:blipFill>
          <a:blip r:embed="rId1"/>
          <a:srcRect l="0" t="9081" r="0" b="9081"/>
          <a:stretch/>
        </p:blipFill>
        <p:spPr>
          <a:xfrm>
            <a:off x="503280" y="1768320"/>
            <a:ext cx="905976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5"/>
          <p:cNvSpPr/>
          <p:nvPr/>
        </p:nvSpPr>
        <p:spPr>
          <a:xfrm>
            <a:off x="7226280" y="6886440"/>
            <a:ext cx="23353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1400"/>
            </a:br>
            <a:fld id="{262485C2-94D5-4DA3-BFDF-B31341BD0807}" type="slidenum">
              <a:rPr b="0" lang="en-GB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1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133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134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239760" y="1733400"/>
            <a:ext cx="944892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While not perfect, certainly has made progress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Work left to do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 lvl="1" marL="420840" indent="-2113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  <a:ea typeface="ＭＳ Ｐゴシック"/>
              </a:rPr>
              <a:t>Further define the traffic mix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 lvl="1" marL="420840" indent="-2113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  <a:ea typeface="ＭＳ Ｐゴシック"/>
              </a:rPr>
              <a:t>Finalize Markov algorithm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 lvl="1" marL="420840" indent="-2113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  <a:ea typeface="ＭＳ Ｐゴシック"/>
              </a:rPr>
              <a:t>Incorporate ISIC as malformed traffic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 lvl="1" marL="420840" indent="-2113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7226280" y="6886440"/>
            <a:ext cx="23353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1400"/>
            </a:br>
            <a:fld id="{4AA141E7-8C61-4156-906D-E97BAE1031C4}" type="slidenum">
              <a:rPr b="0" lang="en-GB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0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61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62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63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3280" y="1889280"/>
            <a:ext cx="903744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itstream Vera Sans"/>
              </a:rPr>
              <a:t>Draft Update</a:t>
            </a:r>
            <a:endParaRPr b="0" lang="en-US" sz="3000" spc="-1" strike="noStrike">
              <a:solidFill>
                <a:srgbClr val="000000"/>
              </a:solidFill>
              <a:latin typeface="Bitstream Vera Sans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itstream Vera Sans"/>
              </a:rPr>
              <a:t>Resolved Questions</a:t>
            </a:r>
            <a:endParaRPr b="0" lang="en-US" sz="3000" spc="-1" strike="noStrike">
              <a:solidFill>
                <a:srgbClr val="000000"/>
              </a:solidFill>
              <a:latin typeface="Bitstream Vera Sans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itstream Vera Sans"/>
              </a:rPr>
              <a:t>Unresolved Questions</a:t>
            </a:r>
            <a:endParaRPr b="0" lang="en-US" sz="3000" spc="-1" strike="noStrike">
              <a:solidFill>
                <a:srgbClr val="000000"/>
              </a:solidFill>
              <a:latin typeface="Bitstream Vera Sans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itstream Vera Sans"/>
              </a:rPr>
              <a:t>Work To Do</a:t>
            </a:r>
            <a:endParaRPr b="0" lang="en-US" sz="3000" spc="-1" strike="noStrike">
              <a:solidFill>
                <a:srgbClr val="000000"/>
              </a:solidFill>
              <a:latin typeface="Bitstream Vera Sans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itstream Vera Sans"/>
              </a:rPr>
              <a:t>Markov</a:t>
            </a:r>
            <a:endParaRPr b="0" lang="en-US" sz="3000" spc="-1" strike="noStrike">
              <a:solidFill>
                <a:srgbClr val="000000"/>
              </a:solidFill>
              <a:latin typeface="Bitstream Vera Sans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itstream Vera Sans"/>
              </a:rPr>
              <a:t>Next Steps</a:t>
            </a:r>
            <a:endParaRPr b="0" lang="en-US" sz="3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2480" indent="-282600">
              <a:lnSpc>
                <a:spcPct val="95000"/>
              </a:lnSpc>
              <a:spcAft>
                <a:spcPts val="1137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7226280" y="6886440"/>
            <a:ext cx="23353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1400"/>
            </a:br>
            <a:fld id="{8AF502D7-A59F-45EE-AC66-6257AE8115C8}" type="slidenum">
              <a:rPr b="0" lang="en-GB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pdate-BC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7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68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69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70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239760" y="1733400"/>
            <a:ext cx="944892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1. More Concise first sentence (Page 1, paragraph 1)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--Modified  to take suggestion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2. Examples of what devices use to make forwarding decisions(Page 3, paragraph 1)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--Great idea.  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3. Confusing wording on last sentence (Page 3, last paragraph)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--Reworded the entire paragraph to hopefully clear the confusion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4. Out of place sentence (Page 4, paragraph 2)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--Removed the sentence, but would like input on where it does belong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5. Confusing paragraph (Page 4, 2nd to last paragraph)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--Totally reworded to be more succinct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5"/>
          <p:cNvSpPr/>
          <p:nvPr/>
        </p:nvSpPr>
        <p:spPr>
          <a:xfrm>
            <a:off x="7226280" y="6886440"/>
            <a:ext cx="23353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1400"/>
            </a:br>
            <a:fld id="{BA398F5D-9C9A-462D-9BF9-1DF95A286918}" type="slidenum">
              <a:rPr b="0" lang="en-GB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pdate-BC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75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76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77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239760" y="1733400"/>
            <a:ext cx="9448920" cy="42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6. Section 3.3 relocation/deletions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--Made the appropriate changes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7. Page 7, 3rd paragraph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--Outstanding point.  Next version will include this discussion on individual testing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8. Section 4.3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--Interesting point, but would like to add this to topic for discussion in Taipei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--I'm leaning toward removing it, but leaving in the malformed (since it can be 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--algorithmically defined)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5"/>
          <p:cNvSpPr/>
          <p:nvPr/>
        </p:nvSpPr>
        <p:spPr>
          <a:xfrm>
            <a:off x="7226280" y="6886440"/>
            <a:ext cx="23353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1400"/>
            </a:br>
            <a:fld id="{3C7B786B-F344-4FD1-9688-A49F553BF7F8}" type="slidenum">
              <a:rPr b="0" lang="en-GB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pdate-AM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82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83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84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85" name="Rectangle 8"/>
          <p:cNvSpPr/>
          <p:nvPr/>
        </p:nvSpPr>
        <p:spPr>
          <a:xfrm>
            <a:off x="239760" y="1733400"/>
            <a:ext cx="944892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1. Asked for examples on page 4 for specmanship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--Decided to remove section.  Found several examples, but it probably isn't worth discussing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2. Asked for rewording on (page 4, paragraph 2)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--This sentence to be moved somewhere else, not sure where as of now though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--Will also be reworded to match your suggestion.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3. Asked for explicit list of metrics (page 5, sect 2, paragraph 3)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--Added current list of metrics to be captured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4. Switching order of paragraph(page 5, last paragraph)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--Done.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5. Additional clarification requested (page 6, section 3)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--Added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6. Section 3.2 conjunction of IPv4/IPv6 address ranges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--Done.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5"/>
          <p:cNvSpPr/>
          <p:nvPr/>
        </p:nvSpPr>
        <p:spPr>
          <a:xfrm>
            <a:off x="7226280" y="6886440"/>
            <a:ext cx="23353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1400"/>
            </a:br>
            <a:fld id="{A2EB0856-6D1F-4E5A-AC24-E4270C633F69}" type="slidenum">
              <a:rPr b="0" lang="en-GB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pdate-AM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89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90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91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239760" y="1733400"/>
            <a:ext cx="944892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7. Section 3.3 reword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--Done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8. Section 3.4 wording change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--Done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9. Section 3.4(second paragraph) rewording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--Done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10. Section 3.4 (3rd paragraph) insertion of words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--Done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11.Page 8, first paragraph wording/additions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--Done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12. Page 8, 3rd paragraph rewording of last sentance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--Done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7226280" y="6886440"/>
            <a:ext cx="23353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1400"/>
            </a:br>
            <a:fld id="{DA864456-3CA4-4B61-AABB-46F461FBDDF8}" type="slidenum">
              <a:rPr b="0" lang="en-GB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pdate-AM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5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97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98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239760" y="1733400"/>
            <a:ext cx="9448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13. Section 3.7.1 - missing reference to RFC 5180 for IPv6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--Added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14. Section 3.7.3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--Added more specific references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15. General SHOULD/MUST/MAY disagreements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--Should be adequately addressed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16.Example Traffic Pattern Table updates (Appendix A)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--Addressed.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7226280" y="6886440"/>
            <a:ext cx="23353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1400"/>
            </a:br>
            <a:fld id="{43946075-AE72-439B-82B5-43D46AE1D15A}" type="slidenum">
              <a:rPr b="0" lang="en-GB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olved Questions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2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103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104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105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239760" y="1733400"/>
            <a:ext cx="944892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Traffic Composition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 lvl="1" marL="420840" indent="-2113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  <a:ea typeface="ＭＳ Ｐゴシック"/>
              </a:rPr>
              <a:t>How to define a single protocol within the mix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 lvl="2" marL="636480" indent="-206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  <a:ea typeface="ＭＳ Ｐゴシック"/>
              </a:rPr>
              <a:t>Algorithmically 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 lvl="1" marL="420840" indent="-2113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  <a:ea typeface="ＭＳ Ｐゴシック"/>
              </a:rPr>
              <a:t>Malformed traffic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 lvl="2" marL="636480" indent="-206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  <a:ea typeface="ＭＳ Ｐゴシック"/>
              </a:rPr>
              <a:t>How to define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 lvl="3" marL="852480" indent="-212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  <a:ea typeface="ＭＳ Ｐゴシック"/>
              </a:rPr>
              <a:t>Open-source TCP/IP/UDP(sic)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7226280" y="6886440"/>
            <a:ext cx="23353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1400"/>
            </a:br>
            <a:fld id="{9C9D55CC-0B6A-4B04-9EC9-4854AE79F704}" type="slidenum">
              <a:rPr b="0" lang="en-GB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resolved Comments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9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110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111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112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239760" y="1733400"/>
            <a:ext cx="944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Comments from Kenneth Green and Tom Alexander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 lvl="1" marL="420840" indent="-2113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  <a:ea typeface="ＭＳ Ｐゴシック"/>
              </a:rPr>
              <a:t>First on TODO list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8T08:01:51Z</dcterms:created>
  <dc:creator/>
  <dc:description/>
  <cp:keywords>IETF NETCONF</cp:keywords>
  <dc:language>en-US</dc:language>
  <cp:lastModifiedBy>Mike Hamilton</cp:lastModifiedBy>
  <dcterms:modified xsi:type="dcterms:W3CDTF">2011-11-13T18:28:51Z</dcterms:modified>
  <cp:revision>75</cp:revision>
  <dc:subject/>
  <dc:title>NETCONF @IETF70 - Agenda slides</dc:title>
</cp:coreProperties>
</file>