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54B0-9B70-43ED-BB62-67ED0166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7149-E933-4A54-9B6A-6610835E9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itrary spectral resource can be allocated to a channel acceding to the signal bitrate leading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1928-B160-41F3-9868-48DF1077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A9C4-A075-4F2A-B99E-1020D8B0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ACA-D74C-4353-843A-25805BED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769-3BF7-4CDA-A3C9-AD89E421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68A-F542-4B07-A5FC-302E1FC0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CF9-BD1B-4EE8-95EA-6D0CB57D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735-5095-4F6A-B826-B1D1D07E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9D2-4272-4CC5-BA7C-D059048C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173-E2D3-4463-86F9-A8917C1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8BB-2064-4A27-8E23-BD71E390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FFD-4F9F-4A89-B662-63575BB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60C-0E2B-4792-8CB7-5480C3F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882-9FAD-4304-8B9C-6550D8F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84D-BE09-4023-9119-59AB17B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7483-3492-42E9-B576-5C4BCA5F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ccamp-mpls-tp-rsvpte-ext-tunnel-num-0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6371#section-5.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072800"/>
            <a:ext cx="7746840" cy="17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SVP-TE Extensions to Exchange MPLS-TP LSP Ident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32529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/MPLS WG, IETF 82th, Tai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draft-zhang-ccamp-mpls-tp-rsvpte-ext-tunnel-num-01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76440" y="52023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iao B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4"/>
          <p:cNvSpPr/>
          <p:nvPr/>
        </p:nvSpPr>
        <p:spPr>
          <a:xfrm>
            <a:off x="1351080" y="5943600"/>
            <a:ext cx="5411520" cy="520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244080"/>
            <a:ext cx="75772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203120"/>
            <a:ext cx="8772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-Connectivity Defect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RFC637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nk MEP identifies a mis-connectivity defect based on the comparison of  the expected MEP_ID (pre-stored) and received MEP_ID (inserted in the proactive CC-V OAM packet)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/Z9 needs to configure each other’s MEP_ID before sending the proactive CC-V OAM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 of the MEP_ID : Global_ID::Node_ID::Tunnel_Num::LSP_Num (RFC63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ally configured LSPs, A1/Z9 can configure each other’s MEP_ID by GAP messages (draft-fbb-mpls-gach-adv-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established L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needs to configure the tunnel number configured at Z9 node (co-routed bidirectional L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/Z9 needs to know each other’s Global_ID (co-routed/associated bidirectional L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information are not covered by the current signaling 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1791720" y="59770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ing on the control plan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0" y="507960"/>
            <a:ext cx="91440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P_ATTRIBUTE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P Attribute Flags,  one new bit defined: “LSP identifier indic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new TL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TLV (appear in Path/Resv message of co-routed bidirectional L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bit is set, The value carried in “Destination Tunnel Num”  must be configured at Z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bit not set, “Destination Tunnel Num” can be empty/filled by the recommende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2243160" y="2349360"/>
            <a:ext cx="6230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mSun"/>
              </a:rPr>
              <a:t>0                   1                   2                   3        0 1 2 3 4 5 6 7 8 9 0 1 2 3 4 5 6 7 8 9 0 1 2 3 4 5 6 7 8 9 0 1       +-+-+-+-+-+-+-+-+-+-+-+-+-+-+-+-+-+-+-+-+-+-+-+-+-+-+-+-+-+-+-+-+       |            Type (TBD)         |              Length           |       +-+-+-+-+-+-+-+-+-+-+-+-+-+-+-+-+-+-+-+-+-+-+-+-+-+-+-+-+-+-+-+-+       |L|         Reserved            |       Destination Tunnel Num  |       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882720" y="3935520"/>
            <a:ext cx="7410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_ID TL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-routed bidirectional LSP, it can appear in Path/Resv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ssociated bidirectional LSP, only appears in the Path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2211480" y="4792680"/>
            <a:ext cx="6060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mSun"/>
              </a:rPr>
              <a:t>0                   1                   2                   3        0 1 2 3 4 5 6 7 8 9 0 1 2 3 4 5 6 7 8 9 0 1 2 3 4 5 6 7 8 9 0 1       +-+-+-+-+-+-+-+-+-+-+-+-+-+-+-+-+-+-+-+-+-+-+-+-+-+-+-+-+-+-+-+-+       |            Type (TBD)         |              Length           |       +-+-+-+-+-+-+-+-+-+-+-+-+-+-+-+-+-+-+-+-+-+-+-+-+-+-+-+-+-+-+-+-+       |                           Global_ID                           |       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295200" y="6454800"/>
            <a:ext cx="83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George, Lou, Venkatesan, Jaihari, and Muliu for the discussion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682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based on th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dividu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 input to draft-ietf-ccamp-rsvp-te-mpls-tp-oam-ext-07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451320" y="5106960"/>
            <a:ext cx="96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>180962</cp:lastModifiedBy>
  <dcterms:modified xsi:type="dcterms:W3CDTF">2011-11-11T00:48:32Z</dcterms:modified>
  <cp:revision>5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00955573</vt:lpwstr>
  </property>
</Properties>
</file>