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A14D-E4AD-4F8D-AC63-7C7F7C041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9023-CD49-4E10-9D16-CBA3B2700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bitrary spectral resource can be allocated to a channel acceding to the signal bitrate leading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97FB-1900-4EB8-9BAD-79B5E6116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2AC8-FDF8-4BD3-99C6-9883B4528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26EB-FDCD-46B8-B47E-BA9BEF01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A5F9-F335-4325-BE62-424BEEEA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B44E-DC00-44B8-8EBB-DEC722F1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005E-271C-489F-A49C-B0EBCD1E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0345-064D-4528-9A20-3F773C36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B763-7B81-4751-B87B-1F0FDB21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85DA-5735-42A3-8672-51EEB461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5898-98F0-4A32-868D-1737CDA7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E32C-78F4-45B8-B357-D8305682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83C3-AD0F-4B18-830E-B1B3B9F4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354A-53D9-4963-8394-48553C35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F8A7-CEA5-4199-BAB4-F338ECAD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EF97-82A5-4C72-9DF1-4DB376ACC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zhang-ccamp-mpls-tp-rsvpte-ext-tunnel-num-0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6371#section-5.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1072800"/>
            <a:ext cx="7746840" cy="17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SVP-TE Extensions to Exchange MPLS-TP LSP Identif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325296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AMP/MPLS WG, IETF 82th, Taip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draft-zhang-ccamp-mpls-tp-rsvpte-ext-tunnel-num-01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3376440" y="5202360"/>
            <a:ext cx="17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ei Zh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iao B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4"/>
          <p:cNvSpPr/>
          <p:nvPr/>
        </p:nvSpPr>
        <p:spPr>
          <a:xfrm>
            <a:off x="1351080" y="5943600"/>
            <a:ext cx="5411520" cy="5205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244080"/>
            <a:ext cx="757728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203120"/>
            <a:ext cx="8772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-Connectivity Defect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RFC637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ink MEP identifies a mis-connectivity defect based on the comparison of  the expected MEP_ID (pre-stored) and received MEP_ID (inserted in the proactive CC-V OAM packet)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/Z9 needs to configure each other’s MEP_ID before sending the proactive CC-V OAM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rmat of the MEP_ID : Global_ID::Node_ID::Tunnel_Num::LSP_Num (RFC63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p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cally configured LSPs, A1/Z9 can configure each other’s MEP_ID by GAP messages (draft-fbb-mpls-gach-adv-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established L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 needs to configure the tunnel number configured at Z9 node (co-routed bidirectional LS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/Z9 needs to know each other’s Global_ID (co-routed/associated bidirectional LS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ove information are not covered by the current signaling 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3"/>
          <p:cNvSpPr/>
          <p:nvPr/>
        </p:nvSpPr>
        <p:spPr>
          <a:xfrm>
            <a:off x="1791720" y="5977080"/>
            <a:ext cx="48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ing on the control plane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5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col Ext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0" y="507960"/>
            <a:ext cx="914400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SP_ATTRIBUTES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SP Attribute Flags,  one new bit defined: “LSP identifier indicat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new TL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 TLV (appear in Path/Resv message of co-routed bidirectional L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bit is set, The value carried in “Destination Tunnel Num”  must be configured at Z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bit not set, “Destination Tunnel Num” can be empty/filled by the recommended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矩形 14"/>
          <p:cNvSpPr/>
          <p:nvPr/>
        </p:nvSpPr>
        <p:spPr>
          <a:xfrm>
            <a:off x="2243160" y="2349360"/>
            <a:ext cx="6230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imSun"/>
              </a:rPr>
              <a:t>0                   1                   2                   3        0 1 2 3 4 5 6 7 8 9 0 1 2 3 4 5 6 7 8 9 0 1 2 3 4 5 6 7 8 9 0 1       +-+-+-+-+-+-+-+-+-+-+-+-+-+-+-+-+-+-+-+-+-+-+-+-+-+-+-+-+-+-+-+-+       |            Type (TBD)         |              Length           |       +-+-+-+-+-+-+-+-+-+-+-+-+-+-+-+-+-+-+-+-+-+-+-+-+-+-+-+-+-+-+-+-+       |L|         Reserved            |       Destination Tunnel Num  |       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882720" y="3935520"/>
            <a:ext cx="74102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_ID TL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-routed bidirectional LSP, it can appear in Path/Resv 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ssociated bidirectional LSP, only appears in the Path 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矩形 17"/>
          <p:cNvSpPr/>
          <p:nvPr/>
        </p:nvSpPr>
        <p:spPr>
          <a:xfrm>
            <a:off x="2211480" y="4792680"/>
            <a:ext cx="6060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imSun"/>
              </a:rPr>
              <a:t>0                   1                   2                   3        0 1 2 3 4 5 6 7 8 9 0 1 2 3 4 5 6 7 8 9 0 1 2 3 4 5 6 7 8 9 0 1       +-+-+-+-+-+-+-+-+-+-+-+-+-+-+-+-+-+-+-+-+-+-+-+-+-+-+-+-+-+-+-+-+       |            Type (TBD)         |              Length           |       +-+-+-+-+-+-+-+-+-+-+-+-+-+-+-+-+-+-+-+-+-+-+-+-+-+-+-+-+-+-+-+-+       |                           Global_ID                           |       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矩形 18"/>
          <p:cNvSpPr/>
          <p:nvPr/>
        </p:nvSpPr>
        <p:spPr>
          <a:xfrm>
            <a:off x="295200" y="6454800"/>
            <a:ext cx="838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s George, Lou, Venkatesan, Jaihari, and Muliu for the discussion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553680"/>
            <a:ext cx="71118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6824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d based on the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dividu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n input to draft-ietf-ccamp-rsvp-te-mpls-tp-oam-ext-07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ents/Feedback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451320" y="5106960"/>
            <a:ext cx="96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rian</dc:creator>
  <dc:description/>
  <dc:language>en-US</dc:language>
  <cp:lastModifiedBy>180962</cp:lastModifiedBy>
  <dcterms:modified xsi:type="dcterms:W3CDTF">2011-11-11T00:48:32Z</dcterms:modified>
  <cp:revision>5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300955573</vt:lpwstr>
  </property>
</Properties>
</file>