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881F-B13E-4717-A953-974AA649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4F09-A9CE-464D-8AA1-D6B731BE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0597-5A25-4D39-B796-CECD690E9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E0A1-7E93-45D6-9BA7-2342A61B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F296-836C-4BC9-A059-BAF408D1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9D5-60D1-4014-9240-3D00FF7A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DD39-1924-4B3F-ADAA-E9185513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4D7-3D58-41BD-9A8F-FFB05149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853F-3C2D-4A0E-8E36-CCFC5E8B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7B85-33F2-41EF-924A-FB9E4EBD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3A19-8AF3-4A85-9D0E-9FE5E8B5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EDD8-A6E1-47C0-A8E2-12234B10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3A5B5D-8B65-40AA-B2DD-1D569DF1E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ft-sun-ccamp-gmpls-perf-mi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eiqiang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eiqiang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LSPs are provisioned dynamically through GMPLS/MPLS-TE networks, it is useful to know the performance of the provisioning process (setup/release perform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rovide information for applications like BoD (think about the delay performance measurement in IP network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understand how the control plane performs when a large number of LSP are provisio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ished and on-going eff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FC 581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formance metrics and measurement methodologies from a pure control plane’s perspe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raft-ietf-ccamp-dp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formance metrics and methodologies considering data path consistency/conform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oth defined for active measur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nchmarking or field tr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may not be suitable for operational networ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pose of this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monitor the run-time setup/release performance of the control pla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operational networ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this in a passive manner, i.e., store the information when real-life connections are established/relea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ch information may be retrieved and monitored through the N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vide a means to identify possible provisioning performance degradation, or mal-function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s of performance degradation (I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Screen shot 2011-11-10 at 10.03.44 AM.png"/>
          <p:cNvPicPr/>
          <p:nvPr/>
        </p:nvPicPr>
        <p:blipFill>
          <a:blip r:embed="rId1"/>
          <a:srcRect l="-2391" t="0" r="-918" b="0"/>
          <a:stretch/>
        </p:blipFill>
        <p:spPr>
          <a:xfrm>
            <a:off x="961920" y="1600200"/>
            <a:ext cx="5415120" cy="4525920"/>
          </a:xfrm>
          <a:prstGeom prst="rect">
            <a:avLst/>
          </a:prstGeom>
          <a:ln w="0">
            <a:noFill/>
          </a:ln>
        </p:spPr>
      </p:pic>
      <p:cxnSp>
        <p:nvCxnSpPr>
          <p:cNvPr id="51" name="Straight Arrow Connector 6"/>
          <p:cNvCxnSpPr/>
          <p:nvPr/>
        </p:nvCxnSpPr>
        <p:spPr>
          <a:xfrm flipH="1" flipV="1">
            <a:off x="5997240" y="5225760"/>
            <a:ext cx="1085040" cy="149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2" name="TextBox 7"/>
          <p:cNvSpPr/>
          <p:nvPr/>
        </p:nvSpPr>
        <p:spPr>
          <a:xfrm>
            <a:off x="6377040" y="5308560"/>
            <a:ext cx="267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visioning performance degrades gradual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s of performance degradation (II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graph10.jpg"/>
          <p:cNvPicPr/>
          <p:nvPr/>
        </p:nvPicPr>
        <p:blipFill>
          <a:blip r:embed="rId1"/>
          <a:stretch/>
        </p:blipFill>
        <p:spPr>
          <a:xfrm>
            <a:off x="1306440" y="1417680"/>
            <a:ext cx="667692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ys of doing th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cord the timestamps of initiation (Ti) and completion (Tc) during the connection provisioning proces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ong side a status flag: InProgress/Up/Delet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ctual setup/release delay for Up or Deleted connections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ot recording the value of T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handle failure cases, e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., when a setup attempt does not finish at a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2854440" y="3773520"/>
            <a:ext cx="1968480" cy="642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= Tc – 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B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wo top level obje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gmplsPerfTunnelConfigu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# of recorded performance ent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gmplsPerfMaxEnt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ximum # of ent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t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gmplsPerfT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ch entry in the table records the timestamps of one provisioning proc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be discuss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43000" y="1600200"/>
            <a:ext cx="871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ly it is mapped to/extending gmplsTeStdMIB (RFC 480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comfortable to be discussed in CCAMP, where previous performance related documents have been roo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pping it to RFC 3812 (MPLS-TE-STD-MIB) is also an 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have to be moved to MPLS W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30T00:58:28Z</dcterms:created>
  <dc:creator>Weiqiang Sun</dc:creator>
  <dc:description/>
  <dc:language>en-US</dc:language>
  <cp:lastModifiedBy>Weiqiang Sun</cp:lastModifiedBy>
  <dcterms:modified xsi:type="dcterms:W3CDTF">2011-11-11T23:57:09Z</dcterms:modified>
  <cp:revision>29</cp:revision>
  <dc:subject/>
  <dc:title>draft-sun-ccamp-gmpls-perf-mib</dc:title>
</cp:coreProperties>
</file>