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219-9B28-4351-BFD5-FF11D479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A24-047F-4B5F-BBF8-7F931067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A37-AE96-4614-ABF9-D914A33B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ED8-0FA5-47DE-A394-0CCB9BD4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50E-6B06-4704-8B83-A870179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4AF-9924-4F0D-86B0-A6DBD99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C3A-51BB-47CF-ABA7-60C42FE6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F9F-D257-4A35-8752-0060B52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28D-DC0D-4239-A6BB-913A6507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6F1-463B-440D-B63B-EC113E6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910-0B5E-4FF5-8D7A-38DEA91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EEA-18E9-4888-8DC1-7ADCF44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C5A1D-E872-47AC-B224-B7FA3822E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sun-ccamp-gmpls-perf-m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iqiang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iqiang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LSPs are provisioned dynamically through GMPLS/MPLS-TE networks, it is useful to know the performance of the provisioning process (setup/release perform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ide information for applications like BoD (think about the delay performance measurement in IP network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how the control plane performs when a large number of LSP are provisio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ed and on-going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FC 58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metrics and measurement methodologies from a pure control plane’s perspe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-ietf-ccamp-dp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metrics and methodologies considering data path consistency/conform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th defined for active measu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nchmarking or field t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may not be suitable for operation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monitor the run-time setup/release performance of the control pla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peration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this in a passive manner, i.e., store the information when real-life connections are established/relea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ch information may be retrieved and monitored through the N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a means to identify possible provisioning performance degradation, or mal-functio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s of performance degradation (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Screen shot 2011-11-10 at 10.03.44 AM.png"/>
          <p:cNvPicPr/>
          <p:nvPr/>
        </p:nvPicPr>
        <p:blipFill>
          <a:blip r:embed="rId1"/>
          <a:srcRect l="-2391" t="0" r="-918" b="0"/>
          <a:stretch/>
        </p:blipFill>
        <p:spPr>
          <a:xfrm>
            <a:off x="961920" y="1600200"/>
            <a:ext cx="5415120" cy="452592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6"/>
          <p:cNvCxnSpPr/>
          <p:nvPr/>
        </p:nvCxnSpPr>
        <p:spPr>
          <a:xfrm flipH="1" flipV="1">
            <a:off x="5997240" y="5225760"/>
            <a:ext cx="1085040" cy="149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" name="TextBox 7"/>
          <p:cNvSpPr/>
          <p:nvPr/>
        </p:nvSpPr>
        <p:spPr>
          <a:xfrm>
            <a:off x="6377040" y="5308560"/>
            <a:ext cx="26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sioning performance degrades grad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s of performance degradation (I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graph10.jpg"/>
          <p:cNvPicPr/>
          <p:nvPr/>
        </p:nvPicPr>
        <p:blipFill>
          <a:blip r:embed="rId1"/>
          <a:stretch/>
        </p:blipFill>
        <p:spPr>
          <a:xfrm>
            <a:off x="1306440" y="1417680"/>
            <a:ext cx="66769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s of doing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 the timestamps of initiation (Ti) and completion (Tc) during the connection provisioning pro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ong side a status flag: InProgress/Up/Dele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tual setup/release delay for Up or Deleted connection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t recording the value of T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dle failure cases, 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., when a setup attempt does not finish at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854440" y="3773520"/>
            <a:ext cx="196848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= Tc – 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B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top level obj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gmplsPerfTunnelConfigu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# of recorded performance en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gmplsPerfMaxE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ximum # of en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gmplsPerf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entry in the table records the timestamps of one provisioning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be discu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3000" y="1600200"/>
            <a:ext cx="871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it is mapped to/extending gmplsTeStdMIB (RFC 480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fortable to be discussed in CCAMP, where previous performance related documents have been roo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ping it to RFC 3812 (MPLS-TE-STD-MIB) is also an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ave to be moved to MPLS W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0:58:28Z</dcterms:created>
  <dc:creator>Weiqiang Sun</dc:creator>
  <dc:description/>
  <dc:language>en-US</dc:language>
  <cp:lastModifiedBy>Weiqiang Sun</cp:lastModifiedBy>
  <dcterms:modified xsi:type="dcterms:W3CDTF">2011-11-11T23:57:09Z</dcterms:modified>
  <cp:revision>29</cp:revision>
  <dc:subject/>
  <dc:title>draft-sun-ccamp-gmpls-perf-mib</dc:title>
</cp:coreProperties>
</file>