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4AE5F-921A-4277-A0DE-D2559FAD63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C1DB-C9A2-4BB6-89BD-5F9B8467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D8022-26A8-4422-B71E-937C3918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DC425-6B9E-48B2-A665-EB72A97C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6F6B6-F91B-46FF-8E53-E60973A0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0883-2DDD-47C6-91D1-CF6EABA4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4C9D-6A1A-485F-A07F-56D3D181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4D9D-E9D2-46C3-8845-310C4394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64B4-55E8-4E4E-B121-3AA3CD25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C960-6718-47E3-A451-8555973B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E4D3-B37C-4B56-A317-14468F1A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79A6-B05B-4107-A541-73271201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3AA22-B8DC-40C9-B54A-25026B5F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C908-2870-4F9C-81D6-7E0E759A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5760-8151-46A3-A889-E12FDAC5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4212-9109-4D45-953A-99858585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CF20-0C7C-49F0-91BE-FB6CCBF8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0668-BDE3-4C67-80E7-AB6F7275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6E7DD-40B5-44EE-B813-A6DB43AA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5A2F4-29B6-40B6-AE3B-27F44F34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EE49E-C475-46E7-9E7E-8662974D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3F08-3885-4595-BE9B-3EC1E863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C0BC7-2996-41AB-BA93-10CC4541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B3AB-6607-4D43-BE45-584D6031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ACB5-43C4-4255-A8B9-6148E822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CE75EE-9043-4417-908B-FBF0C4DA0B8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60DEB8-BCEC-468C-AACB-81BAA8CE7F3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577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SPF-TE extensions for GMPLS Control of Evolving G.709 O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4436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raft-ietf-ccamp-gmpls-ospf-g709v3-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CCAMP WG, IETF 82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 Taipe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uthors/Contribu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teve Ball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ve.Balls@metaswitch.com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ergio Belotti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sergio.belotti@alcatel-lucent.com)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Diego Caviglia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diego.caviglia@ericsson.com)</a:t>
            </a: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Daniele Ceccarelli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daniele.ceccarelli@ericsson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John Drak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drake@juniper.net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Xihua Fu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.xihua@zte.com.cn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ietro Grandi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pietro_vittorio.grandi@alcatel-lucent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Dan Li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danli@huawei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yril Margaria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yril.margaria@nsn.com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yndon Ong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Lyong@Ciena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Khuzema Pithewan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pithewan@infinera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Rajan Rao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rao@infinera.com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Jonathan Sadler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Jonathan.Sadler@tellabs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Yunbin Xu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uyunbin@mail.ritt.com.c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Fatai Zhang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(zhangfatai@huawei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iaobing Z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zixiaobing@huawei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98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anges since IETF 8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om version -06 to -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om version -07 to ccamp 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G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hanges from IETF 81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98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SCD TLV removed, 3 Sub-TLV in the SC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reserved Bandwidth for fixe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reserved Bandwidth for variable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X LSP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ndling allowed only among homogeneous hierarc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SG – Tributary slot granularity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amples ad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X LSP bandwidth fields filling in the IS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SG, T and S fields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ink Bu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98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ing different switching caps for each ODU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RFC2119] language alignment here and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ype 2 (unres bandwidth for variable containers) and Type 3 (MAX LSP bandwidth foe variable containers always used in tand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A advertisements procedure and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tend TSG fields values to “unstructured traffic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feedbacks from the meeting and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on the ID impacts deriving from TSG/PT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lignment with OTN Framework and G.709 Info Model/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29264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6:55:26Z</dcterms:created>
  <dc:creator>diego caviglia</dc:creator>
  <dc:description/>
  <dc:language>en-US</dc:language>
  <cp:lastModifiedBy>Daniele Ceccarelli</cp:lastModifiedBy>
  <dcterms:modified xsi:type="dcterms:W3CDTF">2011-11-11T14:27:14Z</dcterms:modified>
  <cp:revision>147</cp:revision>
  <dc:subject/>
  <dc:title>CCAMP WG IETF 69 </dc:title>
</cp:coreProperties>
</file>