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BDE21-3092-4CAF-B75B-C77E65C7D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6489-7272-4EAA-BF32-C5803F98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980C-3CC5-4FC6-8881-300A012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BAE7-EEED-4541-A3DB-AFF94E00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8B06-00E4-4C08-A678-643AAE92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993B-5602-4C91-B77F-942464B9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4008-09AA-4CA3-BD4D-1538C5A4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47A2-9934-4682-8865-C0097620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E27-E371-4535-B3F7-37BAA9E9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77A3-9F66-4C9E-84C3-3FABEE5A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BE7F-A259-45E4-9858-97FDEAA9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08FE-0491-4C39-BF22-D6A0761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424C-F8A6-4926-AC6F-E6408408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993A-22C8-4431-81DC-E39BE92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0F20-C6B3-4499-95CA-66513A9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99FE-3B71-41EE-9144-188ABD19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8136-9646-42ED-A1AA-2FD138B4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C11B-5D5F-48FF-97D4-3709FCDB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BB74-7DD6-41CF-8F5C-82B619C7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9C79-1A8C-459D-813D-D4A5BD41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F243-9C76-4EE1-9EE1-FE3984BF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D710-D223-4C34-9D4E-2407F365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D78E-EED7-4705-8F1A-F0C58055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9807-5847-4164-8264-C14B1FB5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6363-E846-40B5-8D16-5132630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443B98-E4AC-4B25-96B1-8A5288366CA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F99EDE-FD1C-4227-AD28-704B6088B34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SPF-TE extensions for GMPLS Control of Evolving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ietf-ccamp-gmpls-ospf-g709v3-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82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Taip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hors/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teve Ball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ve.Balls@metaswitch.com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rgio Belott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sergio.belotti@alcatel-lucent.com)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iego Caviglia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iego.caviglia@ericsson.com)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Daniele Ceccarell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aniele.ceccarelli@ericsson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ohn Drak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drake@juniper.net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Xihua Fu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.xihua@zte.com.c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ietro Grand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pietro_vittorio.grandi@alcatel-lucent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an L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anli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yril Margari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ril.margaria@nsn.com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yndon Ong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Lyong@Ciena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Khuzema Pithewan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pithewan@infinera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Rajan Rao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rao@infinera.com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Jonathan Sadler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Jonathan.Sadler@tellabs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Yunbin Xu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uyunbin@mail.ritt.com.c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atai Zhang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zhangfatai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iaobing 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zixiaobing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since IETF 8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6 to 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7 to ccamp 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G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hanges from IETF 81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CD TLV removed, 3 Sub-TLV in the SC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reserved Bandwidth for fixe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reserved Bandwidth for variable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X LSP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ndling allowed only among homogeneous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SG – Tributary slot granularity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s ad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X LSP bandwidth fields filling in the IS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SG, T and S fields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ink Bu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ing different switching caps for each ODU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RFC2119] language alignment here and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2 (unres bandwidth for variable containers) and Type 3 (MAX LSP bandwidth foe variable containers always used in tan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 advertisements procedure and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tend TSG fields values to “unstructured traffic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eedbacks from the meeting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the ID impacts deriving from TSG/PT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ignment with OTN Framework and G.709 Info Model/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1-11-11T14:27:14Z</dcterms:modified>
  <cp:revision>147</cp:revision>
  <dc:subject/>
  <dc:title>CCAMP WG IETF 69 </dc:title>
</cp:coreProperties>
</file>