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1703-E4D9-421C-8001-EA77DCBFB0F4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746F-922D-4AB5-A7AE-D8251824D11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199B-3A59-4CDD-98D9-D12371FB0D74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9E6B-20FC-4A31-813F-72A3707B55E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0127-AE46-4085-811C-1F2424EA9B9B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3E5F-E22C-44C5-9AED-C827DE060C4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DC2A-EF5A-4DA1-B82E-ABFBECEF9BB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456D-194D-47A1-B6D0-0B44945E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9E4E-BF2F-446C-9F33-B0D48AE0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0B58-940E-4759-9C23-AFE3CA14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9C4A-B435-499B-BA87-72A7FE73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799E-1939-460E-998A-E94E534E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472F-F71E-4E72-80F3-50371FBA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182A-5EF4-47CB-BC06-30FEB4E3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822E-C39D-41F3-AE92-32A3D8BA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9F57-D31B-414E-8C65-F052FF30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05FC-8B51-4827-93CC-DA69E39D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49FB-FEBE-474F-8C30-E3EA2322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555E-C487-4158-B506-FDCCF516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39E8-BA5C-421A-B033-93B3B52D0FE1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964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OSPF-TE Protocol Extension for Constraint-aware RSA in Flexi-Grid Networks</a:t>
            </a:r>
            <a:br>
              <a:rPr sz="2300"/>
            </a:b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宋体"/>
              </a:rPr>
              <a:t>draft-zhangj-ccamp-flexi-grid-ospf-te-ext-00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95440" y="4365360"/>
            <a:ext cx="640080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J. Zhang, YL. Zhao, ZY. Y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Beijing University of Posts and Telecommun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247920" y="635796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宋体"/>
              </a:rPr>
              <a:t>82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th IETF  Taip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In flexi-grid networks, when processing routing and spectrum assignment (RSA) , some constraints need to be considered , such as spectral continuity constraint and impairments constrai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In this draft, we consider  two special constraints of flexi-grid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Consecutive Spectrum Slots constra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Variable Guard Band constra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Consecutive Spectrum Slots  Weight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It represents the situation of the available consecutive spectrum slots information in a link of the flexi-grid network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For example the percentage of the total bandwidth of the number of five or ten consecutive spectrum slots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Variable Guard Band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It describes the guard band that between two adjacency client LSPs which is variable  based on different network enviro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It avoid crosstalk and bad impact that can affect the transmission performance of each client L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912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OSPF-TE ex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35120" y="1125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Consecutive spectrum slots weight sub-T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Variable guard band  sub-T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573200" y="4221000"/>
            <a:ext cx="6134040" cy="2200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1536840" y="1565280"/>
            <a:ext cx="617040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28320" y="620280"/>
            <a:ext cx="600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8822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ome other constraints to be consider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mprove the document according to the feedback from meeting or mailing 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mments are always appreci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332000" y="2276640"/>
            <a:ext cx="600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宋体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3:13:23Z</dcterms:created>
  <dc:creator>DK</dc:creator>
  <dc:description/>
  <dc:language>en-US</dc:language>
  <cp:lastModifiedBy>推荐书</cp:lastModifiedBy>
  <dcterms:modified xsi:type="dcterms:W3CDTF">2011-11-13T11:23:59Z</dcterms:modified>
  <cp:revision>415</cp:revision>
  <dc:subject/>
  <dc:title>Extensions to the Path Computation Element Communication Protocol (PCEP) for Point-to-Multipoint Traffic Engineering Label Switched Paths    draft-ietf-pce-pcep-p2mp-extensions-04.tx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48449132</vt:lpwstr>
  </property>
</Properties>
</file>