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E913-0BFE-4B99-AE00-B646055A88D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176D-28B3-4D8F-B613-66D148030D8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01F0-47B9-41CC-A48D-4B21F3117FD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14EB-64FB-4EE1-AE65-556FBD6FF50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1E39-5EB2-484C-B375-55EEE9DA532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5633-59F3-496D-B158-231C1A321D4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7F7B-6272-415B-8339-E3C4A245345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26B-CCE6-4E0F-A320-12FD3562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28B7-1273-4FED-BD8B-53EE17C1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076A-EB09-4141-A544-54C4D8F2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B5D-40D2-4099-B4BF-CA55DEDD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CFC-14E2-4B62-9EFF-1879B621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8E1-63B1-4C25-BCF9-A2BBD81D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420-B3D2-4B46-8E79-7B6D0D5B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87C-8227-4B26-A257-6D4ABE30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477-D020-4805-9F86-DE8915E9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B0E-98AE-44ED-8958-A26710EA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535-6A8A-434E-970E-9945D81F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B08-D394-4465-95EF-0876E87A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3AA6-B375-4517-877F-99343CCD75E0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9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OSPF-TE Protocol Extension for Constraint-aware RSA in Flexi-Grid Networks</a:t>
            </a:r>
            <a:br>
              <a:rPr sz="2300"/>
            </a:b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宋体"/>
              </a:rPr>
              <a:t>draft-zhangj-ccamp-flexi-grid-ospf-te-ext-00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95440" y="4365360"/>
            <a:ext cx="64008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J. Zhang, YL. Zhao, ZY. Y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Beijing University of Posts and Tele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247920" y="635796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宋体"/>
              </a:rPr>
              <a:t>82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th IETF  Taip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In flexi-grid networks, when processing routing and spectrum assignment (RSA) , some constraints need to be considered , such as spectral continuity constraint and impairments constrai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In this draft, we consider  two special constraints of flexi-grid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Consecutive Spectrum Slots constra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Variable Guard Band constra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Consecutive Spectrum Slots  Weight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It represents the situation of the available consecutive spectrum slots information in a link of the flexi-grid network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For example the percentage of the total bandwidth of the number of five or ten consecutive spectrum slots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Variable Guard Band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It describes the guard band that between two adjacency client LSPs which is variable  based on different network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It avoid crosstalk and bad impact that can affect the transmission performance of each client L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91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OSPF-TE 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5120" y="1125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Consecutive spectrum slots weight sub-T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Variable guard band  sub-T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573200" y="4221000"/>
            <a:ext cx="6134040" cy="220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1536840" y="1565280"/>
            <a:ext cx="61704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28320" y="620280"/>
            <a:ext cx="600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8822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ome other constraints to be consider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mprove the document according to the feedback from meeting or mailing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mments are always appreci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332000" y="2276640"/>
            <a:ext cx="600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宋体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3:13:23Z</dcterms:created>
  <dc:creator>DK</dc:creator>
  <dc:description/>
  <dc:language>en-US</dc:language>
  <cp:lastModifiedBy>推荐书</cp:lastModifiedBy>
  <dcterms:modified xsi:type="dcterms:W3CDTF">2011-11-13T11:23:59Z</dcterms:modified>
  <cp:revision>415</cp:revision>
  <dc:subject/>
  <dc:title>Extensions to the Path Computation Element Communication Protocol (PCEP) for Point-to-Multipoint Traffic Engineering Label Switched Paths    draft-ietf-pce-pcep-p2mp-extensions-04.tx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48449132</vt:lpwstr>
  </property>
</Properties>
</file>