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2800" y="1980720"/>
            <a:ext cx="773892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72800" y="4528080"/>
            <a:ext cx="773892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2800" y="1980720"/>
            <a:ext cx="377640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1980720"/>
            <a:ext cx="377640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2800" y="4528080"/>
            <a:ext cx="377640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38560" y="4528080"/>
            <a:ext cx="377640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72800" y="1980720"/>
            <a:ext cx="249156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89280" y="1980720"/>
            <a:ext cx="249156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05760" y="1980720"/>
            <a:ext cx="249156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72800" y="4528080"/>
            <a:ext cx="249156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89280" y="4528080"/>
            <a:ext cx="249156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05760" y="4528080"/>
            <a:ext cx="249156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72800" y="1980720"/>
            <a:ext cx="7738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72800" y="1980720"/>
            <a:ext cx="7738920" cy="48769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72800" y="1980720"/>
            <a:ext cx="3776400" cy="48769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38560" y="1980720"/>
            <a:ext cx="3776400" cy="48769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2800" y="1980720"/>
            <a:ext cx="377640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560" y="1980720"/>
            <a:ext cx="3776400" cy="48769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72800" y="4528080"/>
            <a:ext cx="377640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2800" y="1980720"/>
            <a:ext cx="3776400" cy="48769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8560" y="1980720"/>
            <a:ext cx="377640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8560" y="4528080"/>
            <a:ext cx="377640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2800" y="1980720"/>
            <a:ext cx="377640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8560" y="1980720"/>
            <a:ext cx="377640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72800" y="4528080"/>
            <a:ext cx="7738920" cy="232596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2800" y="1980720"/>
            <a:ext cx="7738920" cy="48769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1"/>
          <a:stretch/>
        </p:blipFill>
        <p:spPr>
          <a:xfrm>
            <a:off x="674640" y="5661000"/>
            <a:ext cx="1058760" cy="5875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1142640" y="3809520"/>
            <a:ext cx="7759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Roni Even - editor</a:t>
            </a:r>
            <a:endParaRPr b="0" lang="en-US" sz="20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1068480" y="1231920"/>
            <a:ext cx="77594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CLUE Us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draft-ietf-clue-telepresence-use-cases-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IETF-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No update since las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There were comments on the list from Christian and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téphane Cazeaux that require update to the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Most of them clarifications and editori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No  new use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A new revision beginning 20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The document will wait for the framework and requirements before sent to pub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ni Even</dc:creator>
  <dc:description/>
  <cp:keywords/>
  <dc:language>en-US</dc:language>
  <cp:lastModifiedBy>Paul Kyzivat</cp:lastModifiedBy>
  <dcterms:modified xsi:type="dcterms:W3CDTF">2011-11-10T15:42:42Z</dcterms:modified>
  <cp:revision>4</cp:revision>
  <dc:subject/>
  <dc:title>Clue use cases</dc:title>
</cp:coreProperties>
</file>