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85B5-C614-4781-8993-C5792DA9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2E65-F19B-48F5-89DF-CD74F7BD5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ED48-99B5-457C-8D84-CDF1D0FE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5F6F-D23B-4974-9790-EEB01F5AA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F536-EF91-492E-95B9-EFBCD62E81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37A4-D46C-40DB-B4C1-B3F1B1E5AE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CE34-6D12-4022-81CC-B92CBA5D7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E0E6-CD6E-4D46-9334-12900CA3B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3DE4-D5CE-4D7E-8146-6F92B97C2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FFD7-BA5C-4E51-8AA1-1342DB879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2D54-59B6-43FD-A98A-E8178F406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C298-89FC-41B9-B2F4-D599DDE3D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7FE2-AD97-4DED-BB76-70AA282F3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4641-4A1C-4202-8287-9FE169B8C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4830-D234-4DB0-8110-B8A40219F7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47B6-2FBE-40EC-B4BB-9ADEADD44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B7DC-120F-4C80-8AD0-5B0EC04A6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E0C4-86CA-4A83-981B-DFDA4398E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9D53-2EF5-4A12-BBDF-62C317838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E79C-B2C4-4080-979E-4A30C9E20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A5DB-800A-4004-98DF-9912CD896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B671-7DC9-46A4-8849-E51FA52EA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A231-E2D2-466C-92A7-BFF3CD33B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3BDF-078E-4836-934F-857D83263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E40-6782-4E01-95AC-F638668D7201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6E2-2EF8-40EB-8B86-9B64106EE6A0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1DE8-A566-4710-AA17-763785142A12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88600"/>
            <a:ext cx="7772400" cy="2111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tions to Transport CLUE Mess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raft-wenger-clue-transport-0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Stephan Wenger</a:t>
            </a:r>
            <a:br>
              <a:rPr sz="2900"/>
            </a:b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Roni Even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Gonzalo Caramillo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78787"/>
                </a:solidFill>
                <a:latin typeface="Lucida Grande"/>
              </a:rPr>
              <a:t>Marshall Eubanks</a:t>
            </a:r>
            <a:endParaRPr b="0" lang="en-US" sz="2900" spc="-1" strike="noStrike">
              <a:solidFill>
                <a:srgbClr val="878787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7E3-8C36-4A4A-BAA7-030396F63D8D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4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XML for CLUE message content represen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0C3-6923-445A-B09B-B0F7F82E379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Conclusions Summary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476280" indent="-476280"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ed two stag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goti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: first SIP, then CL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 probably overlap at least partiall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wo options for transpor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3366ff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CLUE messages piggy-backed on SIP using SIP-INF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WG to devise our own BFCP-like handshake to make CLUE media stream sufficiently 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ertainly for 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 stream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ption, but also for </a:t>
            </a: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SIP-INFO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pt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76280" indent="-476280">
              <a:spcBef>
                <a:spcPts val="601"/>
              </a:spcBef>
              <a:buClr>
                <a:srgbClr val="000000"/>
              </a:buClr>
              <a:buSzPct val="99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XML for CLUE message content represen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62C7-B72A-4DF4-9E34-529CDF820E9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P to be used as base protocol for call setu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harter, backward compatibility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ramewor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draft requires (for valid reasons) handshake different from what is commonly used in SI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offer/answer (OA) vs. three-trip handshak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nclear whether there is conceptual difference between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itia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CLUE information, and CLUE information exchanged during the lifetime of a session.  Suspicion: no significant differenc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977-49EF-4B9E-988E-D1E54F48514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 two stag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goti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: first SIP, then CL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probably overlap at least partial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7A6-8ACD-473F-8A94-C710051CB82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ptions for transporting CLUE exchan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283320" indent="-283320">
              <a:lnSpc>
                <a:spcPct val="9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Lucida Grande"/>
              </a:rPr>
              <a:t>Piggy-backing on SIP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(</a:t>
            </a:r>
            <a:r>
              <a:rPr b="1" lang="en-US" sz="2600" spc="-1" strike="noStrike">
                <a:solidFill>
                  <a:srgbClr val="3366ff"/>
                </a:solidFill>
                <a:latin typeface="Lucida Grande"/>
              </a:rPr>
              <a:t>SIP-INFO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, SIP-UPDATE, RE-INVITE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ference for SIP-INFO over other SIP methods expressed on mailing lis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ackage need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Session Relay Protocol (MSRP, RFC 4975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LUE-specific framing over some transport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ntent indirection, multi-MIME body, allows non-SDP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TP and config files (as TeleSuite did)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520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ismissed as impractica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02D-13B1-4F13-98E2-ED07F22EF495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2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wo option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CLUE stream as a SIP-negotiated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Lucida Grande"/>
              </a:rPr>
              <a:t>CLUE messages piggy-backed on SIP using SIP-INF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D75-0718-4076-925D-48535A94D781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LUE negotiation over SIP-established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media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95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tup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media stream through SIP w/ O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sumed OA result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ession goes throug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handshake over CLU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di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trea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ed on results of CLUE handshake, setup of full audiovisual functionality by SIP-UPDATE or SIP-REINVI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re-use existing functionality in codec box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LUE as a bolt-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E998-8E32-4020-A172-F3015E823457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ptions for CLU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ed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Grande"/>
              </a:rPr>
              <a:t>UDP recommended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cause of NATs, firewall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blem: UDP is un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cket size under MTU: no issue, redundant sending, but unlikely given complexity of CLU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 assuming XML-ish representation.  Perhaps can use compression, binary model, …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vise our own BFCP-like handshake using UDP-based transport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CP mentioned again as an option (K. Drage, 11/2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 we come to a conclusion that, for our industry, TCP is NOT an option (even with ICE TCP) 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63E-A89A-489F-AB6F-B48F7AE392FB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7290-F62E-4AFF-BD82-3425D1D7A91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 #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304920" indent="-304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E WG to devise our own BFCP-like handshake to make CLUE media stream sufficiently reli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7EB-6819-4C3D-B8D5-956CD8751D6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UE message Content Repres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 suggested, we are NOT constrained to use SDP; modern, flexible formats are OK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XML natural candidat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s CLUE presentation in XML exceeding UDP MTU?  Probably yes, especially for multipoint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is is independent from the transport ov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or ov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P-negotiated UDP chan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sue of fragmentation will arise for any format, especially if 10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 of endpoints can participate in a sess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ssue of congestion contro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elepresence is supposed high bandwidth media, signaling is drop in a bucke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 to support dozens/hundreds of clients, some of which may be behind slow link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clusion: YES, we need congestion contro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an Wenger</dc:creator>
  <dc:description/>
  <cp:keywords/>
  <dc:language>en-US</dc:language>
  <cp:lastModifiedBy>Mary Barnes</cp:lastModifiedBy>
  <dcterms:modified xsi:type="dcterms:W3CDTF">2011-11-13T01:14:29Z</dcterms:modified>
  <cp:revision>1</cp:revision>
  <dc:subject/>
  <dc:title>Options to Transport CLUE Messages</dc:title>
</cp:coreProperties>
</file>