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EF19-FCAD-4093-A21C-0258526EA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5469-7BFD-45CC-ACEB-EC39163DF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5568-C631-45C9-A424-54C3DBCF9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6EF7-40FF-41C9-A52F-691E66D2F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04E7-3B3C-41ED-9C71-9FCAD2DB56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717F-60EF-4470-8527-83F7AAC678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99C6-9B65-4918-8D46-2D11C5351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8040-B6CB-461C-BAB4-9E8CA1C1D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6B4C-0F06-4385-B90D-6989D7EB3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F93E-8D64-4FD0-BC4B-80D472E74A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8703-A742-48CB-B9A8-9BA9AABD6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28CE-C03A-4F50-810C-328CC4BF7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D034-2E24-4FD3-A9D9-708F9D16B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9820-230A-4502-822A-CD9E7CFA06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D58D-26A4-47E6-9089-FF2B7FB484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BF61-39AA-4414-8877-62CF1BC75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024F-5B71-4A3B-9A98-0F8A75A22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CCE2-1A58-4EBA-B957-06CE85FF5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77DC-144F-4D63-B459-00BA31BC8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C1EA-330F-4287-B324-5AF33F813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CCCB-D10A-4DCC-A86C-124C2029C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1540-40E2-419C-AF8E-2FE890427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C80E-3E2A-4A54-BE97-86D58E4DC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B80-F84B-4A7E-A9D9-00886A8F4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C83-852A-471C-BBB9-19F83810B66D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ED4-CAA6-4B1C-B132-98F48666D06D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4A4-A230-43DC-91A0-42F5941D052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88600"/>
            <a:ext cx="7772400" cy="2111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tions to Transport CLUE Mess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raft-wenger-clue-transport-0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Stephan Wenger</a:t>
            </a:r>
            <a:br>
              <a:rPr sz="2900"/>
            </a:b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Roni Even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Gonzalo Caramillo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Marshall Eubanks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7A1-97C4-4F7F-8814-29ECC304C5CC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4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XML for CLUE message content represen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6F54-A61A-485D-98B4-33951C7A429D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Conclusions Summary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476280" indent="-476280"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ed two stag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goti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: first SIP, then CL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 probably overlap at least partiall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wo options for transpor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3366ff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CLUE messages piggy-backed on SIP using SIP-INF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WG to devise our own BFCP-like handshake to make CLUE media stream sufficiently 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ertainly for 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 stream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ption, but also for </a:t>
            </a: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SIP-INFO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pt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XML for CLUE message content represen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E4D-21B3-4568-9311-B94E6113C84D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P to be used as base protocol for call setu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harter, backward compatibility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ramewor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draft requires (for valid reasons) handshake different from what is commonly used in SI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offer/answer (OA) vs. three-trip handshak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nclear whether there is conceptual difference between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itia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CLUE information, and CLUE information exchanged during the lifetime of a session.  Suspicion: no significant differenc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CAF9-1EF0-4261-B7E0-AA8109EBB09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 two stag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goti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: first SIP, then CL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probably overlap at least partial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460-15F3-4F99-9233-8C3FF979D72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ptions for transporting CLUE exchan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283320" indent="-283320">
              <a:lnSpc>
                <a:spcPct val="9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Lucida Grande"/>
              </a:rPr>
              <a:t>Piggy-backing on SIP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(</a:t>
            </a:r>
            <a:r>
              <a:rPr b="1" lang="en-US" sz="2600" spc="-1" strike="noStrike">
                <a:solidFill>
                  <a:srgbClr val="3366ff"/>
                </a:solidFill>
                <a:latin typeface="Lucida Grande"/>
              </a:rPr>
              <a:t>SIP-INFO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, SIP-UPDATE, RE-INVITE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ference for SIP-INFO over other SIP methods expressed on mailing lis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ackage need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Session Relay Protocol (MSRP, RFC 4975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LUE-specific framing over some transport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ntent indirection, multi-MIME body, allows non-SD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TP and config files (as TeleSuite did)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ismissed as impractica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E75-6FA7-4ECF-A504-44176F57FD47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2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wo option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CLUE messages piggy-backed on SIP using SIP-INF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83B-588F-4CFE-A44E-D00FC06A5E3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LUE negotiation over SIP-established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95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tup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media stream through SIP w/ O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sumed OA result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ession goes throug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handshake over CLU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di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trea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ed on results of CLUE handshake, setup of full audiovisual functionality by SIP-UPDATE or SIP-REINVI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re-use existing functionality in codec box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LUE as a bolt-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088-1B2A-474D-9F41-51FA75A3BE20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ptions for CLU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ed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Grande"/>
              </a:rPr>
              <a:t>UDP recommended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cause of NATs, firewall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blem: UDP is un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cket size under MTU: no issue, redundant sending, but unlikely given complexity of CLU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 assuming XML-ish representation.  Perhaps can use compression, binary model, …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vise our own BFCP-like handshake using UDP-based transport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CP mentioned again as an option (K. Drage, 11/2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 we come to a conclusion that, for our industry, TCP is NOT an option (even with ICE TCP) 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B9B1-67E4-4B99-AF92-8ACF56AB1CEC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707-5BC5-4E80-9855-66D235E8338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304920" indent="-304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WG to devise our own BFCP-like handshake to make CLUE media stream sufficiently 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C9D-4775-49C0-B94E-CBAD891A970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UE message Content Repres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 suggested, we are NOT constrained to use SDP; modern, flexible formats are OK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XML natural candidat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s CLUE presentation in XML exceeding UDP MTU?  Probably yes, especially for multipoint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is is independent from the transport ov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or ov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P-negotiated UDP chan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sue of fragmentation will arise for any format, especially if 10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 of endpoints can participate in a sess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ssue of congestion contro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elepresence is supposed high bandwidth media, signaling is drop in a bucke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 to support dozens/hundreds of clients, some of which may be behind slow link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clusion: YES, we need congestion contro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an Wenger</dc:creator>
  <dc:description/>
  <cp:keywords/>
  <dc:language>en-US</dc:language>
  <cp:lastModifiedBy>Mary Barnes</cp:lastModifiedBy>
  <dcterms:modified xsi:type="dcterms:W3CDTF">2011-11-13T01:14:29Z</dcterms:modified>
  <cp:revision>1</cp:revision>
  <dc:subject/>
  <dc:title>Options to Transport CLUE Messages</dc:title>
</cp:coreProperties>
</file>