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8B87EC-ED60-4927-A316-87D8E5C5009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C3732D-7DB0-4C52-9B3E-F71C255CFA71}" type="slidenum">
              <a:rPr b="0" lang="en-GB" sz="1300" spc="-1" strike="noStrike">
                <a:solidFill>
                  <a:srgbClr val="000033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C3A3D9-D311-4BB1-B97F-9942554E73DF}" type="slidenum">
              <a:rPr b="0" lang="en-GB" sz="1300" spc="-1" strike="noStrike">
                <a:solidFill>
                  <a:srgbClr val="000033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to cut S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-tenant data centre = ‘Clou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isting examples of speculative deployment: uTP (2010), TCP (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ot happen unless near-zero chance of middleboxes dropping/delaying packets with new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cenarios rely less on speculative source deployment – more co-ordinated (mobile; data cen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86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6560" indent="-2617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27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91760" indent="-2862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86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6560" indent="-2617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04120" indent="-27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91760" indent="-2862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91760" indent="-286200">
              <a:spcBef>
                <a:spcPts val="1500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2096640"/>
            <a:ext cx="7381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33"/>
                </a:solidFill>
                <a:latin typeface="Arial"/>
              </a:rPr>
              <a:t>Initial ConEx Deployment Examples</a:t>
            </a:r>
            <a:br>
              <a:rPr sz="32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draft-briscoe-conex-initial-deploy-00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95280" y="3789360"/>
            <a:ext cx="6156360" cy="23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ologies from Bob Briscoe, 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sented by Andrea Soppera, 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ETF-82 ConEx Nov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rbriscoe_lo"/>
          <p:cNvPicPr/>
          <p:nvPr/>
        </p:nvPicPr>
        <p:blipFill>
          <a:blip r:embed="rId1"/>
          <a:stretch/>
        </p:blipFill>
        <p:spPr>
          <a:xfrm>
            <a:off x="984240" y="3718080"/>
            <a:ext cx="870120" cy="1150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6" name="Picture 8" descr="logo white"/>
          <p:cNvPicPr/>
          <p:nvPr/>
        </p:nvPicPr>
        <p:blipFill>
          <a:blip r:embed="rId2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eployment incentive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ed less than Non-ConEx traffic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sending large volum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scaveng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satisfied customers – relaxed po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traff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tatus &amp; plan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eview from Phil Eardle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’ ASCII 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ts similar scenario but start solely with trusted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ts deployment incentives explain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plan – finish the docu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-organise to describe incentives up 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mmarise mobile scenario [kutscher-conex-mob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 multi-tenant data centre scenario (si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83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lete empty sections (e.g. tail pi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working group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re reviews ple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G feedback on scenari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G it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73454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33"/>
                </a:solidFill>
                <a:latin typeface="Arial"/>
              </a:rPr>
              <a:t>Initial ConEx Deployment Examples </a:t>
            </a:r>
            <a:br>
              <a:rPr sz="32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draft-briscoe-conex-initial-deploy-00.txt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95640" y="4976640"/>
            <a:ext cx="35287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logo white"/>
          <p:cNvPicPr/>
          <p:nvPr/>
        </p:nvPicPr>
        <p:blipFill>
          <a:blip r:embed="rId1"/>
          <a:stretch/>
        </p:blipFill>
        <p:spPr>
          <a:xfrm>
            <a:off x="7257960" y="5734080"/>
            <a:ext cx="1886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raft statu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individual dra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aft-briscoe-conex-initial-deploy-00.t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nded status: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mediate int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33"/>
                </a:solidFill>
                <a:latin typeface="Arial"/>
              </a:rPr>
              <a:t>WG feedback on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33"/>
                </a:solidFill>
                <a:latin typeface="Arial"/>
              </a:rPr>
              <a:t>finish the two ‘sketchy’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pt as WG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chartered?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449360"/>
            <a:ext cx="83134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the CONEX WG will initially focus on one use case, where the end hosts and the network that contains the destination end host are CONEX-enabled but other networks need not b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Goals and Milest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Mar 2011 Submit use case description to IESG as Informational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...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have now two docu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benefits does ConEx br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tf-conex-concepts-uses cover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arrangements of systems using Co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scoe-conex-initial-deploy target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"/>
          <p:cNvSpPr/>
          <p:nvPr/>
        </p:nvSpPr>
        <p:spPr>
          <a:xfrm rot="10800000">
            <a:off x="2771280" y="2528640"/>
            <a:ext cx="755640" cy="21564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pre-requisites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33"/>
                </a:solidFill>
                <a:latin typeface="Arial"/>
              </a:rPr>
              <a:t>reading o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ietf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cepts-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ietf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bstract-m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b2b2b2"/>
                </a:solidFill>
                <a:latin typeface="Arial"/>
              </a:rPr>
              <a:t>draft-briscoe-conex-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itial-depl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document structure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cap (1p) refers to abstract-mech for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mental deployment features of Con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Ex functio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rst movers: sen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arran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receiving 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network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draft-kutscher-conex-mobi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381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to a multi-tenant data cent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rite-up to be finis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ConEx deployment features recap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nder modification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ach transport protocol 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hange required to queues &amp; for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N not required in the network (but better if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CN not required at the receiver for con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270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er should always attempt to negotiate ECN with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ckets indicate whether they support Con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55640" y="652464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110-2119-4DEF-ABD6-C128FC4C15A5}" type="slidenum">
              <a:rPr b="0" lang="en-GB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AutoShape 61"/>
          <p:cNvSpPr/>
          <p:nvPr/>
        </p:nvSpPr>
        <p:spPr>
          <a:xfrm flipH="1">
            <a:off x="2986920" y="2060640"/>
            <a:ext cx="2590920" cy="1552680"/>
          </a:xfrm>
          <a:custGeom>
            <a:avLst/>
            <a:gdLst>
              <a:gd name="textAreaLeft" fmla="*/ 323640 w 2590920"/>
              <a:gd name="textAreaRight" fmla="*/ 2267280 w 259092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3276720" y="3933720"/>
            <a:ext cx="2590560" cy="2340000"/>
          </a:xfrm>
          <a:custGeom>
            <a:avLst/>
            <a:gdLst>
              <a:gd name="textAreaLeft" fmla="*/ 476280 w 2590560"/>
              <a:gd name="textAreaRight" fmla="*/ 2114280 w 2590560"/>
              <a:gd name="textAreaTop" fmla="*/ 324000 h 2340000"/>
              <a:gd name="textAreaBottom" fmla="*/ 2016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2992"/>
                </a:moveTo>
                <a:lnTo>
                  <a:pt x="16107" y="2992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8608"/>
                </a:lnTo>
                <a:lnTo>
                  <a:pt x="0" y="18608"/>
                </a:lnTo>
                <a:lnTo>
                  <a:pt x="3971" y="10800"/>
                </a:lnTo>
                <a:lnTo>
                  <a:pt x="0" y="2992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9480" y="29664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ConEx recap (I)</a:t>
            </a:r>
            <a:br>
              <a:rPr sz="32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asic signals and functional unit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68436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702000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176720" y="4005360"/>
            <a:ext cx="826920" cy="1044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33000" y="321624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congested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967280" y="4653000"/>
            <a:ext cx="8636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830920" y="465300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8" name="Arc 13"/>
          <p:cNvSpPr/>
          <p:nvPr/>
        </p:nvSpPr>
        <p:spPr>
          <a:xfrm flipV="1">
            <a:off x="7020000" y="4255200"/>
            <a:ext cx="360360" cy="39708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397080"/>
              <a:gd name="textAreaBottom" fmla="*/ 397080 h 397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7380360" y="3429000"/>
            <a:ext cx="0" cy="8287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0" name="Arc 15"/>
          <p:cNvSpPr/>
          <p:nvPr/>
        </p:nvSpPr>
        <p:spPr>
          <a:xfrm>
            <a:off x="7020000" y="3105000"/>
            <a:ext cx="360360" cy="324000"/>
          </a:xfrm>
          <a:custGeom>
            <a:avLst/>
            <a:gdLst>
              <a:gd name="textAreaLeft" fmla="*/ 0 w 360360"/>
              <a:gd name="textAreaRight" fmla="*/ 36072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824360" y="4976640"/>
            <a:ext cx="10065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5830920" y="497664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3" name="Arc 23"/>
          <p:cNvSpPr/>
          <p:nvPr/>
        </p:nvSpPr>
        <p:spPr>
          <a:xfrm flipV="1">
            <a:off x="7201080" y="44006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 flipH="1" flipV="1">
            <a:off x="7703640" y="3249360"/>
            <a:ext cx="1800" cy="11509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Arc 25"/>
          <p:cNvSpPr/>
          <p:nvPr/>
        </p:nvSpPr>
        <p:spPr>
          <a:xfrm>
            <a:off x="7201080" y="27082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7054920" y="4976640"/>
            <a:ext cx="181080" cy="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2087640" y="2708280"/>
            <a:ext cx="51134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Arc 36"/>
          <p:cNvSpPr/>
          <p:nvPr/>
        </p:nvSpPr>
        <p:spPr>
          <a:xfrm flipH="1" flipV="1">
            <a:off x="1728000" y="5013360"/>
            <a:ext cx="360360" cy="396720"/>
          </a:xfrm>
          <a:custGeom>
            <a:avLst/>
            <a:gdLst>
              <a:gd name="textAreaLeft" fmla="*/ -360 w 360360"/>
              <a:gd name="textAreaRight" fmla="*/ 360360 w 360360"/>
              <a:gd name="textAreaTop" fmla="*/ 360 h 396720"/>
              <a:gd name="textAreaBottom" fmla="*/ 397440 h 396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Line 37"/>
          <p:cNvSpPr/>
          <p:nvPr/>
        </p:nvSpPr>
        <p:spPr>
          <a:xfrm flipV="1">
            <a:off x="1727280" y="3428640"/>
            <a:ext cx="1440" cy="1584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Arc 38"/>
          <p:cNvSpPr/>
          <p:nvPr/>
        </p:nvSpPr>
        <p:spPr>
          <a:xfrm flipH="1">
            <a:off x="1728000" y="3105000"/>
            <a:ext cx="360360" cy="324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1" name="Arc 39"/>
          <p:cNvSpPr/>
          <p:nvPr/>
        </p:nvSpPr>
        <p:spPr>
          <a:xfrm flipH="1" flipV="1">
            <a:off x="1403280" y="515700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 flipV="1">
            <a:off x="1403280" y="3249720"/>
            <a:ext cx="1800" cy="190800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3" name="Arc 41"/>
          <p:cNvSpPr/>
          <p:nvPr/>
        </p:nvSpPr>
        <p:spPr>
          <a:xfrm flipH="1">
            <a:off x="1403280" y="270828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1908000" y="5734080"/>
            <a:ext cx="6480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Line 43"/>
          <p:cNvSpPr/>
          <p:nvPr/>
        </p:nvSpPr>
        <p:spPr>
          <a:xfrm flipH="1">
            <a:off x="2087280" y="3105000"/>
            <a:ext cx="49323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Line 46"/>
          <p:cNvSpPr/>
          <p:nvPr/>
        </p:nvSpPr>
        <p:spPr>
          <a:xfrm>
            <a:off x="2519280" y="5410080"/>
            <a:ext cx="331164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 flipV="1">
            <a:off x="5830920" y="5408640"/>
            <a:ext cx="1477800" cy="144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>
            <a:off x="2556000" y="5734080"/>
            <a:ext cx="327492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>
            <a:off x="5830920" y="5734080"/>
            <a:ext cx="14778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>
            <a:off x="7308720" y="5265720"/>
            <a:ext cx="0" cy="6112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>
            <a:off x="2087640" y="5408640"/>
            <a:ext cx="46836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Line 52"/>
          <p:cNvSpPr/>
          <p:nvPr/>
        </p:nvSpPr>
        <p:spPr>
          <a:xfrm>
            <a:off x="1908000" y="2708280"/>
            <a:ext cx="18108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5042520" y="4286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5005800" y="4665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2305440" y="2401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SACK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230544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30520" y="50594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3530520" y="54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421800" y="4214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0" name="Text Box 62"/>
          <p:cNvSpPr/>
          <p:nvPr/>
        </p:nvSpPr>
        <p:spPr>
          <a:xfrm>
            <a:off x="4571280" y="23842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ACK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55640" y="652464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6604-9314-44BA-9127-5D7F4836F602}" type="slidenum">
              <a:rPr b="0" lang="en-GB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2" name="AutoShape 61"/>
          <p:cNvSpPr/>
          <p:nvPr/>
        </p:nvSpPr>
        <p:spPr>
          <a:xfrm flipH="1">
            <a:off x="2986920" y="2060640"/>
            <a:ext cx="2590920" cy="1552680"/>
          </a:xfrm>
          <a:custGeom>
            <a:avLst/>
            <a:gdLst>
              <a:gd name="textAreaLeft" fmla="*/ 323640 w 2590920"/>
              <a:gd name="textAreaRight" fmla="*/ 2267280 w 259092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3" name="AutoShape 59"/>
          <p:cNvSpPr/>
          <p:nvPr/>
        </p:nvSpPr>
        <p:spPr>
          <a:xfrm>
            <a:off x="3276720" y="3933720"/>
            <a:ext cx="2590560" cy="2340000"/>
          </a:xfrm>
          <a:custGeom>
            <a:avLst/>
            <a:gdLst>
              <a:gd name="textAreaLeft" fmla="*/ 476280 w 2590560"/>
              <a:gd name="textAreaRight" fmla="*/ 2114280 w 2590560"/>
              <a:gd name="textAreaTop" fmla="*/ 324000 h 2340000"/>
              <a:gd name="textAreaBottom" fmla="*/ 2016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2992"/>
                </a:moveTo>
                <a:lnTo>
                  <a:pt x="16107" y="2992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8608"/>
                </a:lnTo>
                <a:lnTo>
                  <a:pt x="0" y="18608"/>
                </a:lnTo>
                <a:lnTo>
                  <a:pt x="3971" y="10800"/>
                </a:lnTo>
                <a:lnTo>
                  <a:pt x="0" y="2992"/>
                </a:lnTo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9480" y="29664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ConEx recap (II)</a:t>
            </a:r>
            <a:br>
              <a:rPr sz="3200"/>
            </a:b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asic signals and functional unit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8436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020000" y="1773360"/>
            <a:ext cx="1403280" cy="4284720"/>
          </a:xfrm>
          <a:custGeom>
            <a:avLst/>
            <a:gdLst>
              <a:gd name="textAreaLeft" fmla="*/ 68400 w 1403280"/>
              <a:gd name="textAreaRight" fmla="*/ 1334880 w 1403280"/>
              <a:gd name="textAreaTop" fmla="*/ 68400 h 4284720"/>
              <a:gd name="textAreaBottom" fmla="*/ 4216320 h 4284720"/>
            </a:gdLst>
            <a:ahLst/>
            <a:rect l="textAreaLeft" t="textAreaTop" r="textAreaRight" b="textAreaBottom"/>
            <a:pathLst>
              <a:path w="21600" h="65941">
                <a:moveTo>
                  <a:pt x="3600" y="0"/>
                </a:moveTo>
                <a:arcTo wR="3600" hR="3600" stAng="16200000" swAng="-5400000"/>
                <a:lnTo>
                  <a:pt x="0" y="62341"/>
                </a:lnTo>
                <a:arcTo wR="3600" hR="3600" stAng="10800000" swAng="-5400000"/>
                <a:lnTo>
                  <a:pt x="18000" y="65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transport</a:t>
            </a:r>
            <a:br>
              <a:rPr sz="2400"/>
            </a:b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176720" y="4005360"/>
            <a:ext cx="826920" cy="1044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9cc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33000" y="321624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congested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33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556000" y="3824280"/>
            <a:ext cx="900000" cy="2305080"/>
          </a:xfrm>
          <a:custGeom>
            <a:avLst/>
            <a:gdLst>
              <a:gd name="textAreaLeft" fmla="*/ 105840 w 900000"/>
              <a:gd name="textAreaRight" fmla="*/ 794160 w 900000"/>
              <a:gd name="textAreaTop" fmla="*/ 105840 h 2305080"/>
              <a:gd name="textAreaBottom" fmla="*/ 2199240 h 2305080"/>
            </a:gdLst>
            <a:ahLst/>
            <a:rect l="textAreaLeft" t="textAreaTop" r="textAreaRight" b="textAreaBottom"/>
            <a:pathLst>
              <a:path w="21600" h="55308">
                <a:moveTo>
                  <a:pt x="3600" y="0"/>
                </a:moveTo>
                <a:arcTo wR="3600" hR="3600" stAng="0" swAng="5400000"/>
                <a:lnTo>
                  <a:pt x="0" y="51708"/>
                </a:lnTo>
                <a:arcTo wR="3600" hR="3600" stAng="16200000" swAng="5400000"/>
                <a:lnTo>
                  <a:pt x="18000" y="5530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ccffcc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5796000" y="3824280"/>
            <a:ext cx="900000" cy="2305080"/>
          </a:xfrm>
          <a:custGeom>
            <a:avLst/>
            <a:gdLst>
              <a:gd name="textAreaLeft" fmla="*/ 105840 w 900000"/>
              <a:gd name="textAreaRight" fmla="*/ 794160 w 900000"/>
              <a:gd name="textAreaTop" fmla="*/ 105840 h 2305080"/>
              <a:gd name="textAreaBottom" fmla="*/ 2199240 h 2305080"/>
            </a:gdLst>
            <a:ahLst/>
            <a:rect l="textAreaLeft" t="textAreaTop" r="textAreaRight" b="textAreaBottom"/>
            <a:pathLst>
              <a:path w="21600" h="55308">
                <a:moveTo>
                  <a:pt x="3600" y="0"/>
                </a:moveTo>
                <a:arcTo wR="3600" hR="3600" stAng="0" swAng="5400000"/>
                <a:lnTo>
                  <a:pt x="0" y="51708"/>
                </a:lnTo>
                <a:arcTo wR="3600" hR="3600" stAng="16200000" swAng="5400000"/>
                <a:lnTo>
                  <a:pt x="18000" y="5530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ccffcc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3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967280" y="4653000"/>
            <a:ext cx="8636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5830920" y="465300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Arc 13"/>
          <p:cNvSpPr/>
          <p:nvPr/>
        </p:nvSpPr>
        <p:spPr>
          <a:xfrm flipV="1">
            <a:off x="7020000" y="4255200"/>
            <a:ext cx="360360" cy="39708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397080"/>
              <a:gd name="textAreaBottom" fmla="*/ 397080 h 3970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7380360" y="3429000"/>
            <a:ext cx="0" cy="8287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Arc 15"/>
          <p:cNvSpPr/>
          <p:nvPr/>
        </p:nvSpPr>
        <p:spPr>
          <a:xfrm>
            <a:off x="7020000" y="3105000"/>
            <a:ext cx="360360" cy="324000"/>
          </a:xfrm>
          <a:custGeom>
            <a:avLst/>
            <a:gdLst>
              <a:gd name="textAreaLeft" fmla="*/ 0 w 360360"/>
              <a:gd name="textAreaRight" fmla="*/ 36072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4824360" y="4976640"/>
            <a:ext cx="10065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5830920" y="4976640"/>
            <a:ext cx="118908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Arc 23"/>
          <p:cNvSpPr/>
          <p:nvPr/>
        </p:nvSpPr>
        <p:spPr>
          <a:xfrm flipV="1">
            <a:off x="7201080" y="44006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H="1" flipV="1">
            <a:off x="7703640" y="3249360"/>
            <a:ext cx="1800" cy="115092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0" name="Arc 25"/>
          <p:cNvSpPr/>
          <p:nvPr/>
        </p:nvSpPr>
        <p:spPr>
          <a:xfrm>
            <a:off x="7201080" y="27082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7054920" y="4976640"/>
            <a:ext cx="181080" cy="0"/>
          </a:xfrm>
          <a:prstGeom prst="line">
            <a:avLst/>
          </a:prstGeom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H="1">
            <a:off x="2087640" y="2708280"/>
            <a:ext cx="511344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3" name="Arc 36"/>
          <p:cNvSpPr/>
          <p:nvPr/>
        </p:nvSpPr>
        <p:spPr>
          <a:xfrm flipH="1" flipV="1">
            <a:off x="1728000" y="5013360"/>
            <a:ext cx="360360" cy="396720"/>
          </a:xfrm>
          <a:custGeom>
            <a:avLst/>
            <a:gdLst>
              <a:gd name="textAreaLeft" fmla="*/ -360 w 360360"/>
              <a:gd name="textAreaRight" fmla="*/ 360360 w 360360"/>
              <a:gd name="textAreaTop" fmla="*/ 360 h 396720"/>
              <a:gd name="textAreaBottom" fmla="*/ 397440 h 396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 flipV="1">
            <a:off x="1727280" y="3428640"/>
            <a:ext cx="1440" cy="158436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5" name="Arc 38"/>
          <p:cNvSpPr/>
          <p:nvPr/>
        </p:nvSpPr>
        <p:spPr>
          <a:xfrm flipH="1">
            <a:off x="1728000" y="3105000"/>
            <a:ext cx="360360" cy="324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Arc 39"/>
          <p:cNvSpPr/>
          <p:nvPr/>
        </p:nvSpPr>
        <p:spPr>
          <a:xfrm flipH="1" flipV="1">
            <a:off x="1403280" y="515700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 flipV="1">
            <a:off x="1403280" y="3249720"/>
            <a:ext cx="1800" cy="190800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8" name="Arc 41"/>
          <p:cNvSpPr/>
          <p:nvPr/>
        </p:nvSpPr>
        <p:spPr>
          <a:xfrm flipH="1">
            <a:off x="1403280" y="2708280"/>
            <a:ext cx="504720" cy="576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1908000" y="5734080"/>
            <a:ext cx="6480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 flipH="1">
            <a:off x="2087280" y="3105000"/>
            <a:ext cx="4932360" cy="0"/>
          </a:xfrm>
          <a:prstGeom prst="line">
            <a:avLst/>
          </a:prstGeom>
          <a:ln w="38160">
            <a:solidFill>
              <a:srgbClr val="00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2519280" y="5410080"/>
            <a:ext cx="331164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2" name="Line 47"/>
          <p:cNvSpPr/>
          <p:nvPr/>
        </p:nvSpPr>
        <p:spPr>
          <a:xfrm flipV="1">
            <a:off x="5830920" y="5408640"/>
            <a:ext cx="1477800" cy="144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3" name="Line 48"/>
          <p:cNvSpPr/>
          <p:nvPr/>
        </p:nvSpPr>
        <p:spPr>
          <a:xfrm>
            <a:off x="2556000" y="5734080"/>
            <a:ext cx="327492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4" name="Line 49"/>
          <p:cNvSpPr/>
          <p:nvPr/>
        </p:nvSpPr>
        <p:spPr>
          <a:xfrm>
            <a:off x="5830920" y="5734080"/>
            <a:ext cx="147780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5" name="Line 50"/>
          <p:cNvSpPr/>
          <p:nvPr/>
        </p:nvSpPr>
        <p:spPr>
          <a:xfrm>
            <a:off x="7308720" y="5265720"/>
            <a:ext cx="0" cy="6112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2087640" y="5408640"/>
            <a:ext cx="468360" cy="0"/>
          </a:xfrm>
          <a:prstGeom prst="line">
            <a:avLst/>
          </a:prstGeom>
          <a:ln w="38160">
            <a:solidFill>
              <a:srgbClr val="00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1908000" y="2708280"/>
            <a:ext cx="18108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5042520" y="4286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5005800" y="4665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0" name="Text Box 55"/>
          <p:cNvSpPr/>
          <p:nvPr/>
        </p:nvSpPr>
        <p:spPr>
          <a:xfrm>
            <a:off x="2305440" y="2401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SACK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1" name="Text Box 56"/>
          <p:cNvSpPr/>
          <p:nvPr/>
        </p:nvSpPr>
        <p:spPr>
          <a:xfrm>
            <a:off x="230544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Arial"/>
              </a:rPr>
              <a:t>E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2" name="Text Box 57"/>
          <p:cNvSpPr/>
          <p:nvPr/>
        </p:nvSpPr>
        <p:spPr>
          <a:xfrm>
            <a:off x="3530520" y="50594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ECN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3" name="Text Box 58"/>
          <p:cNvSpPr/>
          <p:nvPr/>
        </p:nvSpPr>
        <p:spPr>
          <a:xfrm>
            <a:off x="3530520" y="54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Re-Echo-Los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421800" y="4214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4571280" y="23842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ACK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9480" y="255600"/>
            <a:ext cx="77580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cc"/>
                </a:solidFill>
                <a:latin typeface="Arial"/>
              </a:rPr>
              <a:t>some sources deploy ConEx first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speculative strategy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at triggers ConEx de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cavenging senders benefit the network,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the network can’t measure the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scavenger tells the network the benefi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using Con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knows the network monitors anything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95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network operator is interested in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11:59Z</dcterms:created>
  <dc:creator>Bob Briscoe</dc:creator>
  <dc:description/>
  <dc:language>en-US</dc:language>
  <cp:lastModifiedBy>701509888</cp:lastModifiedBy>
  <dcterms:modified xsi:type="dcterms:W3CDTF">2011-11-16T19:04:01Z</dcterms:modified>
  <cp:revision>473</cp:revision>
  <dc:subject/>
  <dc:title>Byte and Packet Congestion Notification</dc:title>
</cp:coreProperties>
</file>