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C06-6048-4725-AD17-2A984297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555-40F9-4202-ADB7-171271ED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9DF-4150-4019-B23F-ABD6AD26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277-6425-4ACC-99D0-257AA544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ED2-947F-4EE1-AE62-B14E7BBF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F86-27BC-4CEB-A315-A8AA3FD5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002-435B-4C7C-AE71-3357C3B7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544-3CDE-4200-98F4-E341ADE5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468-AB1B-4F2D-AA4A-4FB816DF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7CF-660D-4223-8331-C3974063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654-DB9C-4847-BF70-775BC851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5CA-B107-4692-90C6-5ACD606D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73F81-1925-4514-8BB6-918C10280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5079960" cy="3810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02696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p Traversal Required for Applications to Work (STRAW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G Propo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8928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raw-man: Hadriel Ka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060800" y="0"/>
            <a:ext cx="50832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(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things aren’t working as well as they could across some B2BU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loop detection, GRU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existing things might have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TCP media, DTLS-SRTP, STUN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new things need B2BUAs to act a certain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loopback calls, feature-caps, BF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wyers vs.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ically the SIP protocol scope ends at a B2BUA, and a new one begins on the other side(s) of the B2BU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’s The Great Escape-clause of SIP: “I don’t have to follow that RFC – I’m a B2BUA!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in practice users expect some things to just work across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ke they expect “email” stuff to work, even if it goes POP3 -&gt; SMTP -&gt; IM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ing Small Sips not Gul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’s impossible to specify everything that all types of B2BUAs must do for S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, this WG only defines what very few things any B2BUA must do to make a specific mechanism 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: Max-Forwards rules for loop-det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us the name “STRAW”: what do we have to SIP through a small STRAW between the sides of a B2BUA to get &lt;insert mechanism&gt; to wor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eliver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9520" y="1063440"/>
            <a:ext cx="8724960" cy="54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2BUA role-types taxonomy do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kaplan-dispatch-b2bua-taxonomy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to identify specific features/capabilities supp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holmberg-sipcore-proxy-feature-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loop detection/preven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kaplan-dispatch-b2bua-loop-detection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end-to-end and hop-by-hop media-loopback test ca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kaplan-dispatch-sip-traceroute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DTLS-SRTP (RFC 5764) end-to-e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STUN connectivity checks end-to-e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1"/>
          <a:srcRect l="0" t="8729" r="0" b="8729"/>
          <a:stretch/>
        </p:blipFill>
        <p:spPr>
          <a:xfrm>
            <a:off x="598320" y="1417680"/>
            <a:ext cx="7947360" cy="437184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06280" y="5800680"/>
            <a:ext cx="880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the Latin-English translation se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www.ietf.org/mail-archive/web/dispatch/current/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msg03843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ATCHing STR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ing a new WG is a big de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 take many people’s time, IETF meeting space, new T-shirts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 the bar needs to be hi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is a good idea to do in the IET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e there people willing to contribute to i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e there people willing to review doc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15:55Z</dcterms:created>
  <dc:creator>Hadriel Kaplan</dc:creator>
  <dc:description/>
  <dc:language>en-US</dc:language>
  <cp:lastModifiedBy>Mary Barnes</cp:lastModifiedBy>
  <dcterms:modified xsi:type="dcterms:W3CDTF">2011-11-15T00:22:21Z</dcterms:modified>
  <cp:revision>11</cp:revision>
  <dc:subject/>
  <dc:title>STRAW WG Proposal</dc:title>
</cp:coreProperties>
</file>