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88D7-384D-4899-9528-8B28AD37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A9EF-D9E2-4736-812F-CCFB2802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A59-E946-4C4C-B6E4-1E62E889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39C-31C4-4586-B8E4-EBE5CF74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026E-2B6F-497E-BFB6-6804BF53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BBB8-CAF2-4DE4-B393-E0C4C89F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7280-FA06-49F3-8110-4BB7FC61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7391-1DF2-407F-B621-01A16E23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7E92-B2C1-4D68-A336-D18C73D6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4771-F435-407A-959C-78F6A65F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8306-B7BA-4F1D-8CB9-0143DA7C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B14B-B1C1-4D7F-8EEE-443FC4FC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175350-8862-4C72-BED2-3089F6D526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1440"/>
            <a:ext cx="5079960" cy="3810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026960"/>
            <a:ext cx="77724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p Traversal Required for Applications to Work (STRAW)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G Propos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89284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traw-man: Hadriel Ka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4060800" y="0"/>
            <a:ext cx="50832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blem(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things aren’t working as well as they could across some B2BU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: loop detection, GRU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existing things might have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: TCP media, DTLS-SRTP, STUN che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new things need B2BUAs to act a certain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: loopback calls, feature-caps, BFC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wyers vs. Hum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chnically the SIP protocol scope ends at a B2BUA, and a new one begins on the other side(s) of the B2BU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’s The Great Escape-clause of SIP: “I don’t have to follow that RFC – I’m a B2BUA!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 in practice users expect some things to just work across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ke they expect “email” stuff to work, even if it goes POP3 -&gt; SMTP -&gt; IMA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ing Small Sips not Gul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’s impossible to specify everything that all types of B2BUAs must do for S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, this WG only defines what very few things any B2BUA must do to make a specific mechanism wor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ample: Max-Forwards rules for loop-det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us the name “STRAW”: what do we have to SIP through a small STRAW between the sides of a B2BUA to get &lt;insert mechanism&gt; to wor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 Deliver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09520" y="1063440"/>
            <a:ext cx="8724960" cy="54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2BUA role-types taxonomy do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: draft-kaplan-dispatch-b2bua-taxonomy-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document to identify specific features/capabilities suppor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: draft-holmberg-sipcore-proxy-feature-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document for loop detection/preven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: draft-kaplan-dispatch-b2bua-loop-detection-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document for end-to-end and hop-by-hop media-loopback test ca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: draft-kaplan-dispatch-sip-traceroute-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document for DTLS-SRTP (RFC 5764) end-to-e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document for STUN connectivity checks end-to-e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h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"/>
          <p:cNvPicPr/>
          <p:nvPr/>
        </p:nvPicPr>
        <p:blipFill>
          <a:blip r:embed="rId1"/>
          <a:srcRect l="0" t="8729" r="0" b="8729"/>
          <a:stretch/>
        </p:blipFill>
        <p:spPr>
          <a:xfrm>
            <a:off x="598320" y="1417680"/>
            <a:ext cx="7947360" cy="437184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206280" y="5800680"/>
            <a:ext cx="880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the Latin-English translation see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ttp://www.ietf.org/mail-archive/web/dispatch/current/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msg03843.htm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PATCHing STR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eating a new WG is a big de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ll take many people’s time, IETF meeting space, new T-shirts, et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 the bar needs to be hig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is a good idea to do in the IETF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e there people willing to contribute to i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e there people willing to review doc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0:15:55Z</dcterms:created>
  <dc:creator>Hadriel Kaplan</dc:creator>
  <dc:description/>
  <dc:language>en-US</dc:language>
  <cp:lastModifiedBy>Mary Barnes</cp:lastModifiedBy>
  <dcterms:modified xsi:type="dcterms:W3CDTF">2011-11-15T00:22:21Z</dcterms:modified>
  <cp:revision>11</cp:revision>
  <dc:subject/>
  <dc:title>STRAW WG Proposal</dc:title>
</cp:coreProperties>
</file>