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1FB-B94D-42A6-9A55-A1EB6FE8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EEA-B78D-4786-A7DC-DDA9898A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924-D000-4B46-8A4C-60CCA129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79F-2F2D-4812-8DDE-F9F19229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7D3-5C9E-43D3-8E00-3D118934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00F-2D18-4F83-A55C-3D7A6EC4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4CD-682D-4A20-9ECD-63525C39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2F1-C1B1-4031-B742-F1BF5670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615-F2B5-49C8-B284-98035CA8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BF4-8EA0-40B2-86BA-5FCF19B6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4DE-E4C6-46CF-82E0-19D31AAE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AE2-386A-41AC-8F56-0451068D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78A36-B241-41D2-BC7F-EAFC71A5EE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850F5-DD53-4552-80C7-166122D6C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mail-archive/web/drinks/current/msg01028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9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alibri"/>
                <a:ea typeface="ＭＳ Ｐゴシック"/>
              </a:rPr>
              <a:t>#2: Updates from the Interim </a:t>
            </a:r>
            <a:br>
              <a:rPr sz="2800"/>
            </a:br>
            <a:r>
              <a:rPr b="0" lang="en-US" sz="2800" spc="-1" strike="noStrike">
                <a:solidFill>
                  <a:srgbClr val="10253f"/>
                </a:solidFill>
                <a:latin typeface="Calibri"/>
                <a:ea typeface="ＭＳ Ｐゴシック"/>
              </a:rPr>
              <a:t>(Chai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08BF2-E170-401D-8170-D29515536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DRINKS 81.5 (Interim Meeting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Held on Aug 31st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~ 10 attend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Primary Top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SPP De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C implem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ocol and Transport I-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Document Spl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Security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Data Vali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Interim no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etf.org/mail-archive/web/drinks/current/msg01028.html</a:t>
            </a:r>
            <a:r>
              <a:rPr b="0" lang="de-AT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C265A-49A8-4A40-ACD9-3B666FF3C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jor Takeaways from the Inter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SPP implementation demonstrated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nning code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 there was a recommendation to change the document split between the protocol and transport do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cally, make it even more generic to support additional mechanisms, such as RESTful Web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ocol document to contain object definitions; and the normative requirements around operations, response codes and object ident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rete representations of operations, responses and object identity to go into the transport 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rring the absence of objections from the WG, the design team has since proceeded to modify the spl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330560" y="6156360"/>
            <a:ext cx="60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MS PGothic"/>
              </a:rPr>
              <a:t>ANY CONCERNS WITH THIS CHANGE IN DIREC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3B254-475F-4B91-B94B-3598783A4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nt design team discussions and draft updates are a reflection of this spl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will be discussed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plit and the I-D updates (agenda items #3 &amp; #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next steps (agenda item #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ify document names to reflect the spl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ed mileston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im dat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D8B0A-2FD5-4FD2-A6D5-6EA6C32AA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1:13:18Z</dcterms:created>
  <dc:creator>Sumanth Channabasappa</dc:creator>
  <dc:description/>
  <dc:language>en-US</dc:language>
  <cp:lastModifiedBy>Sumanth Channabasappa</cp:lastModifiedBy>
  <cp:lastPrinted>2010-11-09T13:02:09Z</cp:lastPrinted>
  <dcterms:modified xsi:type="dcterms:W3CDTF">2011-11-17T14:47:39Z</dcterms:modified>
  <cp:revision>102</cp:revision>
  <dc:subject/>
  <dc:title>WG Chair Slide Deck</dc:title>
</cp:coreProperties>
</file>