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009-93A5-46C1-A81D-D776CD52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FC1-D665-4F42-8560-1A260F0D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8F2-E6E0-4A9E-845D-6E9B1393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3AC-A3F8-4091-AF1A-BB5C9F8D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94B-3985-491E-9416-95BC699F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772-9CA5-411E-99A5-2B24ED0D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DF5-D584-4FC2-9C18-E32C9AD4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F72-E923-44BF-BD53-2B301809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877-BF7A-4555-96DB-67244526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2CB-59F2-434D-97F7-5D2F465C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54B-2D06-49A9-BB37-E6B6E43B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4C5-535B-4DEF-A5D4-E44B7EDD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D6CE0-859F-45B8-B223-5ECDFAA448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8A9DC-8D01-4799-89C4-F72E62A66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tf.org/mail-archive/web/drinks/current/msg01028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9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Calibri"/>
                <a:ea typeface="ＭＳ Ｐゴシック"/>
              </a:rPr>
              <a:t>#2: Updates from the Interim </a:t>
            </a:r>
            <a:br>
              <a:rPr sz="2800"/>
            </a:br>
            <a:r>
              <a:rPr b="0" lang="en-US" sz="2800" spc="-1" strike="noStrike">
                <a:solidFill>
                  <a:srgbClr val="10253f"/>
                </a:solidFill>
                <a:latin typeface="Calibri"/>
                <a:ea typeface="ＭＳ Ｐゴシック"/>
              </a:rPr>
              <a:t>(Chai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513B2-43A8-45AD-B3DB-0E18AE0BB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DRINKS 81.5 (Interim Meeting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Held on Aug 31st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~ 10 attend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Primary Top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SPP De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C implem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ocol and Transport I-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Document Spl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Security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Data Vali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Interim no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etf.org/mail-archive/web/drinks/current/msg01028.html</a:t>
            </a:r>
            <a:r>
              <a:rPr b="0" lang="de-AT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1E486-07F9-4582-9841-74DD671D0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jor Takeaways from the Inter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SPP implementation demonstrated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nning code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 there was a recommendation to change the document split between the protocol and transport do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cally, make it even more generic to support additional mechanisms, such as RESTful Web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ocol document to contain object definitions; and the normative requirements around operations, response codes and object ident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rete representations of operations, responses and object identity to go into the transport doc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rring the absence of objections from the WG, the design team has since proceeded to modify the spl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330560" y="6156360"/>
            <a:ext cx="60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MS PGothic"/>
              </a:rPr>
              <a:t>ANY CONCERNS WITH THIS CHANGE IN DIREC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DBC24-7ED4-444B-AC79-B7C25D45D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nt design team discussions and draft updates are a reflection of this spl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will be discussed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plit and the I-D updates (agenda items #3 &amp; #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next steps (agenda item #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ify document names to reflect the spl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ed mileston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im dat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B733B-960B-44F3-99AC-D4819D39C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1:13:18Z</dcterms:created>
  <dc:creator>Sumanth Channabasappa</dc:creator>
  <dc:description/>
  <dc:language>en-US</dc:language>
  <cp:lastModifiedBy>Sumanth Channabasappa</cp:lastModifiedBy>
  <cp:lastPrinted>2010-11-09T13:02:09Z</cp:lastPrinted>
  <dcterms:modified xsi:type="dcterms:W3CDTF">2011-11-17T14:47:39Z</dcterms:modified>
  <cp:revision>102</cp:revision>
  <dc:subject/>
  <dc:title>WG Chair Slide Deck</dc:title>
</cp:coreProperties>
</file>