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0FC-EC5D-4077-8496-71A1F9FC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558-C8C7-4E21-8F17-55114885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51A-6F19-4D97-80B2-668BDE76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CED-1E00-4439-AB7D-3188943B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EB1-961B-4B71-8F84-7B4FB9D9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A0A-099F-492E-8E5A-B24DE2B6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8E6-3540-4375-9740-2EC14C56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AB6-8CF4-4305-9422-DA983C0B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275-A7E7-41F4-8EC6-F52DD76F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4EA-0C38-4AE2-AE5B-B0DF99B4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7E5-A291-4D82-A89D-2A66120B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266-1EA5-4AC9-8F6E-ABD535E9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41800-48AF-4FB5-B957-4098A1F61E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DBB2E-2AD6-45D9-A6F6-4A9D0FEAF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01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alibri"/>
                <a:ea typeface="ＭＳ Ｐゴシック"/>
              </a:rPr>
              <a:t>#5: Proposed Next Steps</a:t>
            </a:r>
            <a:br>
              <a:rPr sz="2800"/>
            </a:br>
            <a:r>
              <a:rPr b="0" lang="en-US" sz="2800" spc="-1" strike="noStrike">
                <a:solidFill>
                  <a:srgbClr val="10253f"/>
                </a:solidFill>
                <a:latin typeface="Calibri"/>
                <a:ea typeface="ＭＳ Ｐゴシック"/>
              </a:rPr>
              <a:t>(WG Chai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DA3B0-9CF5-41FF-8034-51F568160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cus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nomenclature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ne) Pro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P Framework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P Protoco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P Protocol over SOA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PP over SOAP over HTT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alternativ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0ABF0-DEA0-4DFF-AC74-4152D551C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Discuss: #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-D completion tim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ug 2011 - Request publication of Use Cases and Protocol Requirements docu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p 2011 - Request publication of protocol specif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p 2011 - Request publication of protocol specification and a protocol transport mapp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ug 2011 - Request publication of Use Cases and Protocol Requirements document [DONE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an 2012 - Request publication of framework docu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b 2012 - Request publication of SOAP transport docu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BDB11-DC38-436A-AA43-1516472F0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Discuss: #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im Meeting to finalize docu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gested dat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7ABA8-7824-42EB-BF13-3A4C39188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1:13:18Z</dcterms:created>
  <dc:creator>Sumanth Channabasappa</dc:creator>
  <dc:description/>
  <dc:language>en-US</dc:language>
  <cp:lastModifiedBy>Sumanth Channabasappa</cp:lastModifiedBy>
  <cp:lastPrinted>2010-11-09T13:02:09Z</cp:lastPrinted>
  <dcterms:modified xsi:type="dcterms:W3CDTF">2011-11-17T15:18:20Z</dcterms:modified>
  <cp:revision>98</cp:revision>
  <dc:subject/>
  <dc:title>WG Chair Slide Deck</dc:title>
</cp:coreProperties>
</file>