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D6B-3189-4C64-9CE1-7F9E19D4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411-49E1-4223-BD15-C5F068E9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AB3-1716-4EE6-8703-D02F50F6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962-29E9-4714-8106-3C9223A0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EF5-A624-4B6B-8119-0A9CAC25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414-EF02-4992-A692-1A73F0AB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7F8-0B11-4BE1-B55E-2FC85FA5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6671-9DA8-423D-8068-61908158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6C4-D345-4B8C-84C9-700DB02F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D14-5837-4F3E-A149-44EC2216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95C-9A99-4722-9B01-BB67B565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490-0F7C-4055-B84F-99641AF5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9559F-E214-421F-A2B0-87397639B5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1EB73-7450-4AF0-B006-31C094CED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01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Calibri"/>
                <a:ea typeface="ＭＳ Ｐゴシック"/>
              </a:rPr>
              <a:t>#5: Proposed Next Steps</a:t>
            </a:r>
            <a:br>
              <a:rPr sz="2800"/>
            </a:br>
            <a:r>
              <a:rPr b="0" lang="en-US" sz="2800" spc="-1" strike="noStrike">
                <a:solidFill>
                  <a:srgbClr val="10253f"/>
                </a:solidFill>
                <a:latin typeface="Calibri"/>
                <a:ea typeface="ＭＳ Ｐゴシック"/>
              </a:rPr>
              <a:t>(WG Chai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84BDF-2BA6-429A-BBCA-3863360A4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ngs to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cus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nomenclature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ne) Pro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P Framework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ead of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P Protoco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P Protocol over SOAP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ead of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PP over SOAP over HTTP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alternativ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46BE3-B93B-4D55-9F0F-141908729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ngs to Discuss: #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-D completion tim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ug 2011 - Request publication of Use Cases and Protocol Requirements docu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p 2011 - Request publication of protocol specifi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p 2011 - Request publication of protocol specification and a protocol transport mapp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ug 2011 - Request publication of Use Cases and Protocol Requirements document [DONE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an 2012 - Request publication of framework docu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eb 2012 - Request publication of SOAP transport docu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B8A6B-AD8F-484E-9AF3-CF6C176F7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ngs to Discuss: #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im Meeting to finalize docu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ggested dat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D273E-B923-4DC6-8E14-1EA2E728A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1:13:18Z</dcterms:created>
  <dc:creator>Sumanth Channabasappa</dc:creator>
  <dc:description/>
  <dc:language>en-US</dc:language>
  <cp:lastModifiedBy>Sumanth Channabasappa</cp:lastModifiedBy>
  <cp:lastPrinted>2010-11-09T13:02:09Z</cp:lastPrinted>
  <dcterms:modified xsi:type="dcterms:W3CDTF">2011-11-17T15:18:20Z</dcterms:modified>
  <cp:revision>98</cp:revision>
  <dc:subject/>
  <dc:title>WG Chair Slide Deck</dc:title>
</cp:coreProperties>
</file>