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B74-7370-454D-9ABC-1F1C1107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FC6-54BF-49D8-91DF-CA7E7E0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C87-0A5C-4B73-96DC-F49D76CF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43B-A997-408B-AA6A-94B47551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D96-2959-4C65-8759-6C3E2C6F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03B-7943-4580-9BDE-D1BF2256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0A6-7AC3-49C1-A17E-C1DBF5A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210A-6093-4E40-8F37-29B01663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277B-876C-494B-BE6F-3040FF1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B57C-75B6-4A49-AF90-1F15F44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907A-0650-4ECE-B6E6-E1A7B09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757-B4B1-4A9F-A008-B9413A4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5AF2-3C34-44E4-B571-80D880D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D39-8D84-403D-80C1-5848DB7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804D-B0A7-48A4-82F6-56322A55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6AF0-71BF-4ECB-864C-2CCAB57B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5F4-12A9-4331-9B15-0BDC3689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2590-4F38-4824-8720-CC7DE58B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B545-1FCD-45C5-808A-9ABA3A6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A225-9FE0-41C1-9AC6-75CD875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3ECF-6864-40C5-A33B-6FDC9E8B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F394-F9DC-4F23-B460-3103760B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D56-252F-40E2-B552-10ECD645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7A1C-EC5E-4F3E-87D4-BEB7AFD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E8E6-4378-4AAC-B065-E565700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58F7-4129-4141-BEC4-0E8F17E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A189-8610-474A-9EC7-4D8D6D1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D8E8-C223-4B75-B6DC-B5270D40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DE72-DA8A-4120-8BFD-4ACF26F5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643F-9D76-4671-A128-5DE8B145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6C4B-A2E1-423C-BDD5-650CED0C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D358-5380-4436-A2BF-9FCC467C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AD91-5C4E-40F2-88B1-51559DD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011-1799-48F2-9326-4BD17C2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73CC-41BE-4FB9-8CD5-1F55D62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BEAA-CA83-48D1-AD5B-2859F0E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7A6A-A37C-4870-8E76-9415FD1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D00B-882D-47A8-9594-C5BA795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ABA9-46FF-4236-8719-AFE9E8C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7FB8-85E3-44F0-AEB2-08E7AF1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F5A7-5744-47F3-908F-AFCF5DCE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8EE7-839C-49D3-A1A8-6F0EA7D9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5CA3-4C67-4727-9030-F08BCB2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51CE-69DF-4AAC-8DD4-590A446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311-0035-4E35-AF13-1969800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B3DE-10D5-43F8-ABFC-B46AF36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A4E7-FC6D-4945-95D8-4550D33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9ACC-9D00-4882-ADB8-7D237526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69C0-97ED-4695-989C-91C1300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295D-1304-4978-94BA-56312C17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FD49-D52F-4C4D-A263-372331A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8C0F-FCC4-449C-9C68-FED5A58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CF4E-C5A5-4CA1-93F2-6C73B61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D8C2-E02E-438A-B82D-7FAD531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96BD-9E76-46E5-A21E-FD97A211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772-02D7-4699-B3FB-3054CF5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E367-984C-4203-A0D3-75490501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6B29-C355-49BB-8FBC-0639F43A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8B97-1BB3-41AB-9340-EA80D97E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5ACD-CB54-4627-B112-FCD519F0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AF34-237F-4352-AE22-B35A102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DC35-2599-4D1A-912B-3CA355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02AD-2FC6-45BD-85ED-F7B9C1C7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3FB1-E2D7-48EE-BDC4-2DAB34D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5CB5-2254-47F7-817B-8FE15AB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A34B-5246-4929-8AA9-6CCE98E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897-C1F5-4D15-91E3-25BA804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A686-369D-4701-8D36-D0A9C8BF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D6B7-3A29-4B23-90FC-E2C6108D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BD29-B8F1-4CA7-ABD8-4E28551A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577A-7496-47CF-829E-A55F3D87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53F5-3391-4055-BDA4-3413B2F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CFB7C-4D27-4330-831F-12CB861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7D01-5191-48CA-ACE5-89474BD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869E-E604-4A3D-8D04-85262440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36C3-1BB1-45AE-A483-0060F82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8731-375A-45B8-A3A3-D16676D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A7F-AD12-4B7B-A753-4BFE449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7FF2-0997-41FE-81F9-B18116E2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F2792-4C5C-4330-964C-F4A84B9A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5BB4-C9D0-4891-AD06-59DFD63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4EA9-9581-4BD3-9AD1-C8BC3484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F1483-E013-4786-98AC-4CC70F0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F97-DAA3-4254-A83A-56ACE5A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C6E-C451-459A-BBAA-E92E8EFBB6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57C-3129-4E5E-BABF-031BA802653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E268-5D5B-4B74-B2B6-F60F7C443A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061-D2E2-493A-8255-3DCD02FD14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74D-CBBE-46AC-87DC-1D5B9B3351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BD4-DC7B-4EA4-9DF5-057D864232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013-A3C3-43F5-A5A5-00E426994D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Emergency Context Resolution with Internet Technologies (ecrit)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ETF 82 – Taipei, Taiwan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November 16, 2011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Marc Linsn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ichard Bar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oger Marsh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ote Wel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9480" y="121932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ny submission to the IETF intended by the Contributor for publication as all or part of an IETF Internet-Draf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RFC and any statement made within the context of an IETF activity is considered an "IETF Contribution”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uch statements include oral statements in IETF sessions, as well as written and electronic communication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t any time or place, which are addressed to: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TF plenary session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working group or portion thereof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SG or any member thereof on behalf of the IESG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AB or any member thereof on behalf of the IAB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mailing list, including the IETF list itself, any working group or design team list,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any other list functioning under IETF auspices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RFC Editor or the Internet-Drafts function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ll IETF Contributions are subject to the rules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(updated by RFC 4879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tements made outside of an IETF session, mailing list or other function, that are clearly not intended to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nput to an IETF activity, group or function, are not IETF Contributions in the context of this notice. Plea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ul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for detail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acknowledges that written, audio and video records of meetings may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nd may be available to the publi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tailed agenda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ietf.org/proceedings/82/agenda/ecrit.tx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genda Bashing, Draft Status Update (Chai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CAP based Emergency Alerts using SIP (Brian Rose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Trustworthy Location Information (Hannes Tschofenig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Unauthenticated and Unauthorized Devices (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0 min. * Additional Data (Brian Rosen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0 min. * PSAP Callback (Hannes Tschofenig + Christer Holmber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 min. * Questions &amp; Answ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Recent RFCs, IESG Processing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Editor Que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frame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/08/2011 - AUTH48 (ipr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cation-hiding-req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/21/2010 - AUTH48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sipcore-location-conveyance IN-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ecrit-framework IN-QUEU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honebc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/06/2011 - MISSREF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mmusic-media-loopback NOT-RECE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F: draft-ietf-sipcore-location-conveyance IN-QUEU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SG Proc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yn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0/31/2011 - AD Evaluation::AD Followup (ipr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Active WG Draf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additional-data-02  -  2011-10-3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data-only-ea-02  -  2011-07-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sap-callback-03  -  2011-10-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trustworthy-location-02  -  2011-05-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unauthenticated-access-03  -  2011-07-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ently Expired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rough-loc-04  -  2011-03-2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52:42Z</dcterms:created>
  <dc:creator>Tschofenig Hannes</dc:creator>
  <dc:description/>
  <dc:language>en-US</dc:language>
  <cp:lastModifiedBy>rmarshall</cp:lastModifiedBy>
  <dcterms:modified xsi:type="dcterms:W3CDTF">2011-11-15T23:14:17Z</dcterms:modified>
  <cp:revision>55</cp:revision>
  <dc:subject/>
  <dc:title>Trustworthy Location Information draft-tschofenig-ecrit-trustworthy-location </dc:title>
</cp:coreProperties>
</file>