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49A-D881-4274-B8D6-66EE3D21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EC2-D85E-443C-9F53-C1CA42AC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164-1700-4681-BE7B-E38C4FFC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A2A-1024-416B-99B4-4B21D5E6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5B9F-C01B-4AC4-9119-344A12D7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DCF-2A9C-42D9-BB61-AD2006CA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829-561D-4A69-BC6D-E9C4D88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88C-9648-4D77-B42E-14437A9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92D-96FD-47CC-93BB-1CE4D355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7D9-23F7-4937-BD07-859EA52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1027-FB59-4E02-AF79-32E02F8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B1E-062B-443D-B873-371BF39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AC0-40DC-4EC5-976A-6E4BD82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6FE-E8D3-4F35-8E92-F8D64A25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665-CFA3-4511-B264-FCEC1A3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9C4-744F-4D96-AB6D-EFFC4839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02CE-6734-424A-B032-EF46FDFF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037B-31FB-466C-81E3-4E0482DB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FCF3-126F-48B2-993A-460DC158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FF52-9249-40FF-8ED8-7691F134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33B6-1E65-4ED4-BCCC-E4503158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9E81-7593-45CE-9727-61DB9648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A15-831A-4630-9C91-7111C786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22A9-59DB-460C-9FFA-5065DD8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13DE-F7BA-4165-AD13-7B5E0F8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804E-61EB-44FB-A48F-29D36002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07B0-F9F7-4FCB-A075-67F4F0E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C301-B5AC-4A95-99B5-1C0B59E5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49E6-39B0-4D92-BCC2-38CABDEA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7A96-8977-4B7F-B4F7-81B98BA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004B-F6B7-417A-AB2D-ABDAB88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5426-8AB4-433E-9517-06377979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3C59-960E-4909-B3AE-F5A3A14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6F6-5161-4BDF-9F30-D935825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ACA2-E505-400F-A6C4-DDD1181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AD53-15E5-4074-9866-F29DA49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9866-F40B-4C0C-9D51-DE86756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7713-706F-4179-A469-9BC61BA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76F9-7F8F-4C6C-B943-2CCE5C2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6B2B-C9FA-4055-A8A1-342A682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770E-1E71-46F8-BD2A-1765EF3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E281-3628-42F8-ADAF-1D059E5E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854C-46D3-478B-BB00-2ADD0F75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4B70B-B07D-4547-828C-A65097FE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C27-CA5A-48F4-9720-42959878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3A3F-AA42-4DBF-9391-2574DCC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C229-46DD-434B-B7E8-907AF655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831F-F3FF-431F-98F0-DE7439D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24F6-D551-40A3-92CA-37508AA9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56069-23A6-40A1-82DF-8538F924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A0EE0-637B-4D95-8CF8-51E89E8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43E0-82C1-4003-97C5-04DE030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610D-8165-4963-B2BA-2B5352C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22F8-E657-4273-8232-19A85090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F153-7AB5-4360-B9C6-0A47CE4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B98-4E9B-407C-9958-891B0D31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0F463-BD8E-4385-B0D1-1119FCBB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C86EF-6008-4523-B966-9A309C85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F1D94-40A0-475E-BC57-DC019CE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2D32-FF5E-40DB-957B-35BAF52B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AAFF-D06E-48CC-9E74-76C2212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6028-F3FF-4B82-AF9E-E677C54E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2E28-4DB4-4535-A2C6-76F2B18B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DCEB-B2CA-44D4-A6BA-B51F6BB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184C-0F25-48DE-B07F-231BC48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4E85-8EDE-4EF2-8554-692C263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B48-E57A-4464-BDA9-E09AEF9D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E8E5-46E3-4AFE-8EB8-4530531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883B-392F-40F4-A947-1AD1C7F2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F19B-CB2C-400B-9876-907228BC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6350-AA95-49D1-978B-50736110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1F0E-8FF1-4BAA-BF36-D625BB10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6D0E-91BF-4CE2-B6DE-78D15B23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11FF-908F-44D8-89D5-85BE5915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E5E2-C2CF-45A2-8308-3A1E752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F14C-B520-4A86-AEFA-724C47E2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CD74-7BA3-4200-A821-320BE85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340-0A55-48D2-B04A-936D1EE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F825-A027-40B9-9506-F7C7308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C208-E874-4449-A63C-80B1A03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40DE-F064-4BB2-BF90-03D36356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46BF-18DA-4AB3-BCFD-3A708C14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6E90-469D-415C-85CA-07D464A0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49D-75A5-46CC-9978-8EF323E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3F95-076D-4470-B6F6-7F3BD767F2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D5D6-5D4A-4234-9E1D-E02A604E255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E74-C932-4156-925F-FD96B869DC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692-0994-41CD-BCE0-8C9C9B880C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16E7-2BA9-4CC3-AFB8-7B33112FE6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CB4-1864-4676-ADBC-521219EAA6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A8D-89BC-4C6B-B4EA-948379F363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Emergency Context Resolution with Internet Technologies (ecrit)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ETF 82 – Taipei, Taiwan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November 16, 2011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Marc Linsn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ichard Bar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oger Marsh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ote Wel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9480" y="121932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ny submission to the IETF intended by the Contributor for publication as all or part of an IETF Internet-Draf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RFC and any statement made within the context of an IETF activity is considered an "IETF Contribution”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uch statements include oral statements in IETF sessions, as well as written and electronic communication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t any time or place, which are addressed to: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TF plenary session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working group or portion thereof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SG or any member thereof on behalf of the IESG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AB or any member thereof on behalf of the IAB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mailing list, including the IETF list itself, any working group or design team list,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any other list functioning under IETF auspices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RFC Editor or the Internet-Drafts function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ll IETF Contributions are subject to the rules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(updated by RFC 4879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tements made outside of an IETF session, mailing list or other function, that are clearly not intended to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nput to an IETF activity, group or function, are not IETF Contributions in the context of this notice. Plea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ul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for detail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acknowledges that written, audio and video records of meetings may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nd may be available to the publi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tailed agenda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ietf.org/proceedings/82/agenda/ecrit.tx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genda Bashing, Draft Status Update (Chai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CAP based Emergency Alerts using SIP (Brian Rose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Trustworthy Location Information (Hannes Tschofenig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Unauthenticated and Unauthorized Devices (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0 min. * Additional Data (Brian Rosen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0 min. * PSAP Callback (Hannes Tschofenig + Christer Holmber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Questions &amp; Answ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Recent RFCs, IESG Processing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Editor Que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frame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/08/2011 - AUTH48 (ipr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cation-hiding-req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/21/2010 - AUTH48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sipcore-location-conveyance IN-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ecrit-framework IN-QUEU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honebc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/06/2011 - MISSREF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mmusic-media-loopback NOT-RECE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sipcore-location-conveyance IN-QUEU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SG Proc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yn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0/31/2011 - AD Evaluation::AD Followup (ipr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Active WG Draf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additional-data-02  -  2011-10-3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data-only-ea-02  -  2011-07-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sap-callback-03  -  2011-10-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trustworthy-location-02  -  2011-05-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unauthenticated-access-03  -  2011-07-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ently Expired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rough-loc-04  -  2011-03-2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52:42Z</dcterms:created>
  <dc:creator>Tschofenig Hannes</dc:creator>
  <dc:description/>
  <dc:language>en-US</dc:language>
  <cp:lastModifiedBy>rmarshall</cp:lastModifiedBy>
  <dcterms:modified xsi:type="dcterms:W3CDTF">2011-11-15T23:14:17Z</dcterms:modified>
  <cp:revision>55</cp:revision>
  <dc:subject/>
  <dc:title>Trustworthy Location Information draft-tschofenig-ecrit-trustworthy-location </dc:title>
</cp:coreProperties>
</file>