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012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9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14290-39C2-4C3C-ABE0-B4A6940CD7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1984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1984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1660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763560"/>
            <a:ext cx="501984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BDB-CF33-4F8C-85C0-51A800F0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A0B-E965-447D-80B0-2D3247C4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B77-BC22-4795-AFE6-68F2906C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B6C-004B-4ED9-A74D-FDD4CA8E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2AC-867C-45EF-82D7-18B14CDD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598-4997-4C6D-AAD8-463B3360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EB1-9BB5-4D11-A540-5C84F4CE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CB7B-613D-42E1-9C88-C2FD77F8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184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4FF-CF2D-4135-A715-497B7ABE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D60-9373-49DC-9EF8-6642E8D4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A36-5CDE-4B91-88E0-1E2A2CFB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571-55F1-4F2E-AB8B-6CFE7DA4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76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B0CC0-C744-4503-B3AE-22785E6BA9B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780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IP Diet Exchan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P 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bert Moskowi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novatio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vember 17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gm@labs.htt-consul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B692-F288-47FD-8654-C4BC6B84057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7C5-0BAF-4FE2-B386-3A552579DF5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1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this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738440"/>
            <a:ext cx="906156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6440" indent="-67644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HIP 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6440" indent="-67644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e on HIP DEX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6360" indent="-56196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us of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6360" indent="-56196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5B6-0D63-4F71-9784-E64C03FB026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1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HIP 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906156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69600" indent="-6696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Constrained Devices 'resist' Ke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t best rely on static secret as Asymmetric Cryptography too expen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69600" indent="-6696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DH 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'Only' need wide multi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ic ECD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61520" indent="-44964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Crypto function added to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166920" indent="-449640">
              <a:lnSpc>
                <a:spcPct val="71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ve AES-CCM in Layer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sig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61520" indent="-44964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Crypto H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Cing 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61520" indent="-44964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61520" indent="-44964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mat via CMAC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B55-15DC-47B3-B64E-B1540F861BE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45600"/>
            <a:ext cx="905832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lication of loss of SIG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3200" indent="-673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7320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ing SIGNing with MACing result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320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s of non-repu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3200" indent="-6732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320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jor impact to UPDATE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320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that UPDATE packets are now used to distribute pair-wise and group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451-AB42-41F2-9D98-414414FD7A7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1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tus of HIP DE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156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6440" indent="-67644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update in progress – 06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6440" indent="-67644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need to reconcile common text with 5201-b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6440" indent="-67644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from AES-CBC to CTR for Encrypted_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6440" indent="-67644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review of KDF function based on C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dditional info part of extract phase which is not included in draft SP800-56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6440" indent="-67644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solidify HIT der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6440" indent="-67644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review of Key wrapping of session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EB2-07E0-4D1E-B6D4-CE1CF0A6A1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597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976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7880" indent="-6778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AR, 802.15.9, will provide 'shim' for transport of KMP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KMP 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es using 802.15.4e Information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 and guidelines for using HIP (both BEX and DEX) for 802.15 K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starting in Jan '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7EE-BE0B-40D7-A45D-EA62FBA88B8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597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976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7880" indent="-6778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low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for Dispatch ID for 802.15.9 KMP s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re-4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Port access' control may be a little complex on 4e compliant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198960" indent="-454320">
              <a:lnSpc>
                <a:spcPct val="71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4e and pre-4e sensors in 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626-0875-4DFF-A2BF-4EA4A5020E3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597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976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7880" indent="-6778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 a subset of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has selected DTLS for their security protocol over ESP, as the app has direct knowledge of the presence or lack of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ertificates are supported in the sensor, then EAP-TTLS will be used for the K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ertificates then DTLS-PSK will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pecification of source of P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TLS-Raw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famili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247-4C01-46CD-9B9E-200D79E3BD5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597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976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7880" indent="-6778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ly develop ID for using HIP DEX as source of PSK for DTLS-P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/or develop ID for HIP DEX for use with DTLS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not too hard to do for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y be really hard to do for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FCB-8784-4384-B5DE-35A54E0E1A3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Moskowitz</dc:creator>
  <dc:description/>
  <dc:language>en-US</dc:language>
  <cp:lastModifiedBy>Robert Moskowitz</cp:lastModifiedBy>
  <dcterms:modified xsi:type="dcterms:W3CDTF">2010-03-24T20:58:02Z</dcterms:modified>
  <cp:revision>0</cp:revision>
  <dc:subject/>
  <dc:title/>
</cp:coreProperties>
</file>