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9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CEEE7-BF96-4A8C-A3F1-0D428ABDA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1660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4A9-1FB0-4261-86D1-938BAB45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21E-B26E-40D5-B4BC-6C28E2D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057-5AA0-433E-8842-43747D5E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8FE-FE21-4D85-ACD2-074462D1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90F-8809-43AA-997D-AE513DC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382-1B85-47D7-AC3C-C5D7F5EB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06E-8680-4076-B5FF-B4F6A3D7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FD6-9E37-48F3-8DA5-2A8D90FF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18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4A8-0B33-477B-973C-296E706A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BDA-2015-4400-9FC7-491E409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3C6-F706-4700-8965-AB76D64E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DF4-8A98-43F4-93E3-C52A8C2F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06567-B3BD-4331-9033-79E84A0437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780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IP Diet Exchan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P 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bert Moskowi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novat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vember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gm@labs.htt-consul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9C9-FB44-492C-87B2-C5558C571B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841-28C7-49CD-85FC-8673A60B85F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1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thi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738440"/>
            <a:ext cx="906156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HIP 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e on HIP DEX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6360" indent="-56196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 of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6360" indent="-56196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27D-38E1-433A-ACC2-FB08D6AA57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1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HIP 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6156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69600" indent="-6696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Constrained Devices 'resist' Ke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t best rely on static secret as Asymmetric Cryptography too exp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69600" indent="-6696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DH 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'Only' need wide 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ic ECD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1520" indent="-44964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Crypto function added t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166920" indent="-449640">
              <a:lnSpc>
                <a:spcPct val="7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ve AES-CCM in Layer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sig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1520" indent="-44964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Crypto 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ing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1520" indent="-44964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61520" indent="-44964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mat via CMAC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B60-7568-413F-8914-5AA01C4DFC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583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ication of loss of SIG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3200" indent="-673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320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ing SIGNing with MACing resul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320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non-repu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6732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320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jor impact to UPDAT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320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UPDATE packets are now used to distribute pair-wise and group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65C-C7E7-4F52-9BC6-33295EBFF3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1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 of HIP D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156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update in progress – 06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need to reconcile common text with 5201-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from AES-CBC to CTR for Encrypted_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review of KDF function based on C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dditional info part of extract phase which is not included in draft SP800-56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olidify HIT der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6440" indent="-67644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review of Key wrapping of session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DDC-78DB-4063-9F49-F5EDC8A086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-6778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AR, 802.15.9, will provide 'shim' for transport of KMP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KMP 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es using 802.15.4e Informatio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and guidelines for using HIP (both BEX and DEX) for 802.15 K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starting in Jan '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F33-12B3-420C-B19F-85E5669876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-6778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low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for Dispatch ID for 802.15.9 KMP s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re-4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Port access' control may be a little complex on 4e compliant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198960" indent="-454320">
              <a:lnSpc>
                <a:spcPct val="7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4e and pre-4e sensors in 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57F-33D6-4BD4-B253-06BB0F9C72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-6778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a subset of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has selected DTLS for their security protocol over ESP, as the app has direct knowledge of the presence or lack of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ertificates are supported in the sensor, then EAP-TTLS will be used for the K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ertificates then DTLS-PSK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pecification of source of P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TLS-Raw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fam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01E-EF5E-498F-85D7-8FC7E36A78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597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-6778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develop ID for using HIP DEX as source of PSK for DTLS-P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 develop ID for HIP DEX for use with DTLS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not too hard to do for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4560" indent="-45432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y be really hard to do fo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1FD-02AB-4B08-B4FA-93FA541B91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Moskowitz</dc:creator>
  <dc:description/>
  <dc:language>en-US</dc:language>
  <cp:lastModifiedBy>Robert Moskowitz</cp:lastModifiedBy>
  <dcterms:modified xsi:type="dcterms:W3CDTF">2010-03-24T20:58:02Z</dcterms:modified>
  <cp:revision>0</cp:revision>
  <dc:subject/>
  <dc:title/>
</cp:coreProperties>
</file>