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5ED-D832-490F-ABDE-913B0472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AA1-1F2C-4077-AF1D-9DB4E4F3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ED1-59CA-4EF6-B77C-F61A007B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224-D712-40F9-A2A3-FB8E0E74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190A-6C3F-4E64-8CCF-FC9869A3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6045-7F7B-447D-BE81-F3AC99F4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57D1-9500-4568-BF83-49AB8019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8335-36E2-482F-8C3B-236CC1E9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DBB9-47D9-4508-AF20-AB38549F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960A-B7BA-4562-BAB5-34EA9EE8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9A9E-B2DB-4457-8E8B-82663941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051-2FBE-4433-B779-3628F59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0AD6-A3D4-4AC3-BE83-FFAA49B1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CBAB-2D25-424D-AD93-E5E898C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F1A2-3F39-4B20-8B94-FAAB16FD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2A72-A1AC-4505-990E-EADE2511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B1F5-1D85-471C-9F04-F88FA37D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663-B56D-40D8-9C6F-BD1C4F0E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3E7-4F6F-4FCD-817C-3830EBEB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C23-4390-4BBC-9B10-41C52923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A52-8648-4576-9CCD-0E1EA23C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4FB-5C20-455C-8AAC-6EC7AFEA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C5A-041F-4609-BB81-3B4C750D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FB3-227E-46E2-8CEF-AE52644C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24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85D4-AF3A-4BC5-B35A-422ED07E1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6B83-BBA2-4852-86C4-2252BD88D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80" y="764640"/>
            <a:ext cx="88934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Auto Nam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IPv6 Address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draft-kitamura-ipv6-auto-name-00.tx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roshi KITAM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tamura@da.jp.nec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016-7230-41E4-8BAF-1CA01984B9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olv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-&gt; Name)   (2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1800" y="1015560"/>
            <a:ext cx="73072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'ndp -a' (on Node A) shows neighbor cache status as follow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eighbor                            Linklayer Addr.  Netif Expire  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e80::20d:5eff:feb8:807b%fxp0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d01:2345:6789::20d:5eff:feb8:807b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d01:2345:6789::1234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2001:DB8::20d:5eff:feb8:807b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2001:DB8::1234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e80::221:85ff:fea7:82ff%fxp0       0:21:85:a7:82:ff fxp0 23h50m51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e80::20c:76ff:fed9:14e3%fxp0       0:0c:76:d9:14:e3 fxp0 23h51m56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d01:2345:6789::20c:76ff:fed9:14e3  0:0c:76:d9:14:e3 fxp0 23h52m50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fd01:2345:6789::5678                0:0c:76:d9:14:e3 fxp0 23h53m51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2001:DB8::20c:76ff:fed9:14e3        0:0c:76:d9:14:e3 fxp0 23h54m53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2001:DB8::5678                      0:0c:76:d9:14:e3 fxp0 23h55m54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eighbor                            Linklayer Addr.  Netif Expire  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l1%fxp0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u1     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u2     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g1     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7bz-g2                             0:0d:5e:b8:80:7b fxp0 permanent 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ffz-l1%fxp0                        0:21:85:a7:82:ff fxp0 23h50m51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l1%fxp0                        0:0c:76:d9:14:e3 fxp0 23h51m56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l1                             0:0c:76:d9:14:e3 fxp0 23h52m50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l2                             0:0c:76:d9:14:e3 fxp0 23h53m51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g1                             0:0c:76:d9:14:e3 fxp0 23h54m53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ourier New"/>
              </a:rPr>
              <a:t>n3ez-g2                             0:0c:76:d9:14:e3 fxp0 23h55m54s 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3897360"/>
            <a:ext cx="936720" cy="360360"/>
          </a:xfrm>
          <a:prstGeom prst="downArrow">
            <a:avLst>
              <a:gd name="adj1" fmla="val 35593"/>
              <a:gd name="adj2" fmla="val 61356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C81-513E-4BFB-9656-83D4853436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olv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ddress -&gt; Name)   (3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1000"/>
            <a:ext cx="777240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examp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Auto Names can contribu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 u="sng">
                <a:solidFill>
                  <a:srgbClr val="33cc33"/>
                </a:solidFill>
                <a:uFillTx/>
                <a:latin typeface="Times New Roman"/>
              </a:rPr>
              <a:t>access log fi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server appl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ed clients are can be recoded as meaningful Auto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of (almost meaningless) literal IPv6 add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 u="sng">
                <a:solidFill>
                  <a:srgbClr val="33cc33"/>
                </a:solidFill>
                <a:uFillTx/>
                <a:latin typeface="Times New Roman"/>
              </a:rPr>
              <a:t>packet dum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lica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Address information can be shown as meaningful Auto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uto Name technique can significantly help for hum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nalyze and understand above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724280"/>
            <a:ext cx="8353440" cy="1618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 Name format is simple and easy enough for human to underst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using the Auto Names techniq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oublesome IPv6 literal Address info. can be converted into meaningful info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and we can achieve our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CFB-49B5-467B-B2C0-CA29BC120B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ed Notions and Func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255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ed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1814400"/>
          <a:ext cx="7486560" cy="1373040"/>
        </p:xfrm>
        <a:graphic>
          <a:graphicData uri="http://schemas.openxmlformats.org/drawingml/2006/table">
            <a:tbl>
              <a:tblPr/>
              <a:tblGrid>
                <a:gridCol w="1008000"/>
                <a:gridCol w="3168720"/>
                <a:gridCol w="3309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HCPv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sting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uto Na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971640" y="3938760"/>
          <a:ext cx="7486560" cy="1612800"/>
        </p:xfrm>
        <a:graphic>
          <a:graphicData uri="http://schemas.openxmlformats.org/drawingml/2006/table">
            <a:tbl>
              <a:tblPr/>
              <a:tblGrid>
                <a:gridCol w="1008000"/>
                <a:gridCol w="1728720"/>
                <a:gridCol w="2268720"/>
                <a:gridCol w="1582560"/>
                <a:gridCol w="8985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e-Local (UL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-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-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, 2001:db8::/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, fd01:2345:6789::/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:/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sting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 N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sting  Domain Names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/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uto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uto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uto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556640" y="5877000"/>
            <a:ext cx="565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e is dependent on h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is deal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hich “name services” ar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DF0-7DC7-4D08-B3D1-1EE28DB0FA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1920" y="260280"/>
            <a:ext cx="667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gul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Name -&gt; Addres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3200"/>
            </a:br>
            <a:r>
              <a:rPr b="1" lang="en-US" sz="3200" spc="-1" strike="noStrike" u="sng">
                <a:solidFill>
                  <a:srgbClr val="cc00cc"/>
                </a:solidFill>
                <a:uFillTx/>
                <a:latin typeface="Times New Roman"/>
              </a:rPr>
              <a:t>Reverse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 (Name &lt;- Addres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2529000"/>
            <a:ext cx="215640" cy="25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3141720"/>
            <a:ext cx="21564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3789360"/>
            <a:ext cx="21564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24360" y="4365720"/>
            <a:ext cx="216000" cy="252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24360" y="4976640"/>
            <a:ext cx="216000" cy="252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952640"/>
            <a:ext cx="4392720" cy="4319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8120" y="2457360"/>
            <a:ext cx="392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:5eff:feb8:807b%fx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:5eff:feb8:807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:5eff:feb8:807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989000"/>
            <a:ext cx="2124000" cy="4319640"/>
          </a:xfrm>
          <a:custGeom>
            <a:avLst/>
            <a:gdLst>
              <a:gd name="textAreaLeft" fmla="*/ 103680 w 2124000"/>
              <a:gd name="textAreaRight" fmla="*/ 2020320 w 2124000"/>
              <a:gd name="textAreaTop" fmla="*/ 103680 h 4319640"/>
              <a:gd name="textAreaBottom" fmla="*/ 4215960 h 4319640"/>
            </a:gdLst>
            <a:ahLst/>
            <a:rect l="textAreaLeft" t="textAreaTop" r="textAreaRight" b="textAreaBottom"/>
            <a:pathLst>
              <a:path w="21600" h="43925">
                <a:moveTo>
                  <a:pt x="3600" y="0"/>
                </a:moveTo>
                <a:arcTo wR="3600" hR="3600" stAng="16200000" swAng="-5400000"/>
                <a:lnTo>
                  <a:pt x="0" y="40325"/>
                </a:lnTo>
                <a:arcTo wR="3600" hR="3600" stAng="10800000" swAng="-5400000"/>
                <a:lnTo>
                  <a:pt x="18000" y="43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76760" y="2457360"/>
            <a:ext cx="1669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fx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27640" y="1484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20000" y="1521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79640" y="2600280"/>
            <a:ext cx="1836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2744640"/>
            <a:ext cx="183672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8920" y="3213000"/>
            <a:ext cx="255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8920" y="3357720"/>
            <a:ext cx="252108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8920" y="3824280"/>
            <a:ext cx="255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8920" y="3968640"/>
            <a:ext cx="252108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8920" y="4437000"/>
            <a:ext cx="255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8920" y="4581360"/>
            <a:ext cx="252108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93840" y="5048280"/>
            <a:ext cx="255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3840" y="5192640"/>
            <a:ext cx="2521080" cy="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08000" y="5265360"/>
            <a:ext cx="2843280" cy="46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2920" y="468936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eed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76800" y="569736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ll-manag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nual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7CE-4FCB-4C88-AD19-83353F3BF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rge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Pv6 Address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Auto Na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4640" y="1125000"/>
            <a:ext cx="833472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arget of Auto Names: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2400" spc="-1" strike="noStrike" u="sng">
                <a:solidFill>
                  <a:srgbClr val="3333cc"/>
                </a:solidFill>
                <a:uFillTx/>
                <a:latin typeface="Times New Roman"/>
              </a:rPr>
              <a:t>Al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unicast IPv6 addresses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include link-local scoped address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 ar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xception (non-target):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Well-managed”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IPv6 addresses are basically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non-targe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efinition of “</a:t>
            </a:r>
            <a:r>
              <a:rPr b="1" i="1" lang="ja-JP" sz="2000" spc="-1" strike="noStrike">
                <a:solidFill>
                  <a:srgbClr val="000000"/>
                </a:solidFill>
                <a:latin typeface="Times New Roman"/>
              </a:rPr>
              <a:t>Well-managed”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ddre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heir “Domain Names” are manually (or statefully) registered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into name services (such as the DNS) alrea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cc00cc"/>
                </a:solidFill>
                <a:uFillTx/>
                <a:latin typeface="Times New Roman"/>
              </a:rPr>
              <a:t>Reverse</a:t>
            </a:r>
            <a:r>
              <a:rPr b="1" lang="ja-JP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cc00cc"/>
                </a:solidFill>
                <a:latin typeface="Times New Roman"/>
              </a:rPr>
              <a:t>mapping entries are needed for </a:t>
            </a:r>
            <a:r>
              <a:rPr b="1" lang="ja-JP" sz="2400" spc="-1" strike="noStrike">
                <a:solidFill>
                  <a:srgbClr val="cc00cc"/>
                </a:solidFill>
                <a:latin typeface="Times New Roman"/>
              </a:rPr>
              <a:t>All </a:t>
            </a:r>
            <a:r>
              <a:rPr b="0" lang="ja-JP" sz="2400" spc="-1" strike="noStrike">
                <a:solidFill>
                  <a:srgbClr val="cc00cc"/>
                </a:solidFill>
                <a:latin typeface="Times New Roman"/>
              </a:rPr>
              <a:t>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mapping entrie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not be neede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for “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Well-manage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 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Even if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mapping entries exist, they will not cause problem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0DA-2666-4E88-BBC7-06DB97FBD9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of Auto N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ceptual Design on Naming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9360"/>
            <a:ext cx="7772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uto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xed 7 characters str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mposed of  "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-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"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 stand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 (Interfac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haracters (starting from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)    (e.g.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4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4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 stand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x of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haracter: (e.g., '</a:t>
            </a:r>
            <a:r>
              <a:rPr b="0" lang="en-US" sz="2400" spc="-1" strike="noStrike">
                <a:solidFill>
                  <a:srgbClr val="33cc33"/>
                </a:solidFill>
                <a:latin typeface="ＭＳ ゴシック"/>
                <a:ea typeface="ＭＳ ゴシック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 stand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erface ID of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haracter: (e.g.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, 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, , , '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Auto Name examples satisfy &lt;NGI&gt;-&lt;P&gt;&lt;I&gt; for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A: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cc33"/>
                </a:solidFill>
                <a:latin typeface="ＭＳ ゴシック"/>
                <a:ea typeface="ＭＳ 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B: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cc33"/>
                </a:solidFill>
                <a:latin typeface="ＭＳ ゴシック"/>
                <a:ea typeface="ＭＳ 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 n</a:t>
            </a:r>
            <a:r>
              <a:rPr b="0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3e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0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870-3DF6-4E5B-A7F2-8EC719FFC8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NGI&gt;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280" y="1089000"/>
            <a:ext cx="81709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GI&gt; value is also called Auto Name-Pref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GI&gt; value is shown as 'n</a:t>
            </a:r>
            <a:r>
              <a:rPr b="0" lang="ja-JP" sz="2400" spc="-1" strike="noStrike">
                <a:solidFill>
                  <a:srgbClr val="ff3399"/>
                </a:solidFill>
                <a:latin typeface="Times New Roman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Z' 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n' : (1st char) fixed leading char. and will not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ja-JP" sz="2400" spc="-1" strike="noStrike">
                <a:solidFill>
                  <a:srgbClr val="ff3399"/>
                </a:solidFill>
                <a:latin typeface="Times New Roman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: (2nd, 3rd chars) are </a:t>
            </a:r>
            <a:r>
              <a:rPr b="1" lang="ja-JP" sz="2400" spc="-1" strike="noStrike">
                <a:solidFill>
                  <a:srgbClr val="cc0066"/>
                </a:solidFill>
                <a:latin typeface="Times New Roman"/>
              </a:rPr>
              <a:t>inherite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ja-JP" sz="2400" spc="-1" strike="noStrike">
                <a:solidFill>
                  <a:srgbClr val="cc0066"/>
                </a:solidFill>
                <a:latin typeface="Times New Roman"/>
              </a:rPr>
              <a:t>last octe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(2 charters) of the node'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Z' : (4th char) suffix char to </a:t>
            </a:r>
            <a:r>
              <a:rPr b="1" lang="ja-JP" sz="2400" spc="-1" strike="noStrike">
                <a:solidFill>
                  <a:srgbClr val="d60093"/>
                </a:solidFill>
                <a:latin typeface="Times New Roman"/>
              </a:rPr>
              <a:t>avoid a collisi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of '</a:t>
            </a:r>
            <a:r>
              <a:rPr b="0" lang="ja-JP" sz="2400" spc="-1" strike="noStrike">
                <a:solidFill>
                  <a:srgbClr val="ff3399"/>
                </a:solidFill>
                <a:latin typeface="Times New Roman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arting from "z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 'XY' is collided, 'Z' is changed into "y", "x" ,,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y using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birthday paradox theore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llision probability of 256 states (1 octet) is calculated.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 there are 19 nodes (interfaces), collision is happened with 50%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llision check procedure of '</a:t>
            </a:r>
            <a:r>
              <a:rPr b="0" lang="ja-JP" sz="2400" spc="-1" strike="noStrike">
                <a:solidFill>
                  <a:srgbClr val="ff3399"/>
                </a:solidFill>
                <a:latin typeface="Times New Roman"/>
              </a:rPr>
              <a:t>X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' is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F04-DB97-47CB-A634-AB2D94D404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4100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P&gt;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 value stands for Prefix (Scope) of Address as 1 character  for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 Names of IPv6 addresses whose prefixes are same use the same   &lt;P&gt;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following characters are us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33cc33"/>
                </a:solidFill>
                <a:latin typeface="ＭＳ ゴシック"/>
                <a:ea typeface="ＭＳ 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:  used for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k-local scoped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:  used for 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:  used for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bal scope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ultiple prefixes for the same scope are used, other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ch as "h", "i",,,) can be used depending on the circumst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B86-91B1-4EF5-86BC-7935E8C9F1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I&gt;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&gt; value stands for Interface ID of Address as 1 character for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&gt; value is starting from "1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ultiple IPv6 addresses whose &lt;NGI&gt; and &lt;P&gt; values are same are found, other &lt;I&gt; value (such as '2', '3', , , '9', 'a', , , 'z')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(digit)+26(alphabet)=35 states can be t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DFC-8283-4304-AC75-91951C3397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-dependent  Mapping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llision avoid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6360" y="1249200"/>
            <a:ext cx="8028000" cy="53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ly 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se table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use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 Resol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they are done by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lookup operation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 – &lt;NGI&gt; value mapp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– &lt;P&gt; value mapp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55640" y="3141720"/>
          <a:ext cx="6802560" cy="1185840"/>
        </p:xfrm>
        <a:graphic>
          <a:graphicData uri="http://schemas.openxmlformats.org/drawingml/2006/table">
            <a:tbl>
              <a:tblPr/>
              <a:tblGrid>
                <a:gridCol w="4429080"/>
                <a:gridCol w="23734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NGI&gt;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:0d:5e:b8:80: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7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ＭＳ ゴシック"/>
                          <a:ea typeface="ＭＳ ゴシック"/>
                        </a:rPr>
                        <a:t>7b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z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:0c:76:d9:14: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ＭＳ ゴシック"/>
                          <a:ea typeface="ＭＳ ゴシック"/>
                        </a:rPr>
                        <a:t>e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z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655640" y="4797360"/>
          <a:ext cx="6802560" cy="1581120"/>
        </p:xfrm>
        <a:graphic>
          <a:graphicData uri="http://schemas.openxmlformats.org/drawingml/2006/table">
            <a:tbl>
              <a:tblPr/>
              <a:tblGrid>
                <a:gridCol w="2521080"/>
                <a:gridCol w="1908000"/>
                <a:gridCol w="237348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P&gt;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fe8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: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ＭＳ ゴシック"/>
                          <a:ea typeface="ＭＳ ゴシック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k-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ＭＳ ゴシック"/>
                          <a:ea typeface="ＭＳ ゴシック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d01:2345:6789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: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e-Local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ＭＳ ゴシック"/>
                          <a:ea typeface="ＭＳ ゴシック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ＭＳ ゴシック"/>
                          <a:ea typeface="ＭＳ ゴシック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01:db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: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ＭＳ ゴシック"/>
                          <a:ea typeface="ＭＳ ゴシック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ＭＳ ゴシック"/>
                          <a:ea typeface="ＭＳ ゴシック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4DC-4632-4DFC-9201-C988FEF7E9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736200"/>
            <a:ext cx="835344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als:   What can be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d typical IPv6 communica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Na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ed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u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olving (Name -&gt; Addre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r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ing (Address -&gt; Nam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ed Notions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ed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IPv6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of Aut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Design on Naming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Appearance Detection and Auto Nam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EB6-E0DD-48C0-A2D8-7472813DB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188640"/>
            <a:ext cx="7561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v6 Addr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earance Detection mech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449360"/>
            <a:ext cx="806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detect newly appeared IPv6 address, DAD message (NS for DAD) is effective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message has the following good cap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only when node would like to set new IPv6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for All types (link-local, global, temporary,,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broadcast and easy to capture (without using mirror 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able from other NS messages, because source address of the message is unspecified ("::") and different from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d DAD message includes all necessary information (such as, IPv6 address and MAC ad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captures DAD messages and detects newly appeared IPv6 addresses. Detected information is sent to Regist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53C-2622-4AEE-B2AD-A20FC407F8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71640" y="357336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981000"/>
            <a:ext cx="216036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Serv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Some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2276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72000" y="2276640"/>
            <a:ext cx="1440000" cy="1296360"/>
            <a:chOff x="4572000" y="2276640"/>
            <a:chExt cx="1440000" cy="1296360"/>
          </a:xfrm>
        </p:grpSpPr>
        <p:sp>
          <p:nvSpPr>
            <p:cNvPr id="218" name=""/>
            <p:cNvSpPr/>
            <p:nvPr/>
          </p:nvSpPr>
          <p:spPr>
            <a:xfrm>
              <a:off x="4572000" y="2276640"/>
              <a:ext cx="1440000" cy="720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91280" y="2997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411280" y="2276640"/>
            <a:ext cx="1440000" cy="1296360"/>
            <a:chOff x="2411280" y="2276640"/>
            <a:chExt cx="1440000" cy="1296360"/>
          </a:xfrm>
        </p:grpSpPr>
        <p:sp>
          <p:nvSpPr>
            <p:cNvPr id="221" name=""/>
            <p:cNvSpPr/>
            <p:nvPr/>
          </p:nvSpPr>
          <p:spPr>
            <a:xfrm>
              <a:off x="2411280" y="2276640"/>
              <a:ext cx="1440000" cy="72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2000" y="2997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492360" y="3573360"/>
            <a:ext cx="1440000" cy="1296720"/>
            <a:chOff x="3492360" y="3573360"/>
            <a:chExt cx="1440000" cy="1296720"/>
          </a:xfrm>
        </p:grpSpPr>
        <p:sp>
          <p:nvSpPr>
            <p:cNvPr id="224" name=""/>
            <p:cNvSpPr/>
            <p:nvPr/>
          </p:nvSpPr>
          <p:spPr>
            <a:xfrm>
              <a:off x="3492360" y="414936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3080" y="357336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le-Link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24800" y="1846440"/>
            <a:ext cx="1081080" cy="1725480"/>
          </a:xfrm>
          <a:custGeom>
            <a:avLst/>
            <a:gdLst/>
            <a:ahLst/>
            <a:rect l="l" t="t" r="r" b="b"/>
            <a:pathLst>
              <a:path w="681" h="1087">
                <a:moveTo>
                  <a:pt x="0" y="1087"/>
                </a:moveTo>
                <a:cubicBezTo>
                  <a:pt x="113" y="1019"/>
                  <a:pt x="677" y="797"/>
                  <a:pt x="679" y="678"/>
                </a:cubicBezTo>
                <a:cubicBezTo>
                  <a:pt x="681" y="559"/>
                  <a:pt x="12" y="484"/>
                  <a:pt x="10" y="371"/>
                </a:cubicBezTo>
                <a:cubicBezTo>
                  <a:pt x="8" y="258"/>
                  <a:pt x="532" y="77"/>
                  <a:pt x="6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9973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170172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3954600"/>
            <a:ext cx="1384560" cy="32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02120" y="41497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2852640"/>
            <a:ext cx="1009800" cy="289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32000" y="2852640"/>
            <a:ext cx="1798560" cy="505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ed addres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th Detector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27640" y="2798640"/>
            <a:ext cx="1676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rse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2798640"/>
            <a:ext cx="16761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5280" y="4149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plication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27320" y="4149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5280" y="4149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plication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396864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64320" y="39337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9306-A7B3-4DAF-AC99-6751FD5685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1946 C 0.01285 0.02988 -0.04306 0.07066 0.07431 0.08132 C 0.19167 0.09198 0.57344 0.08294 0.70486 0.08341 E">
                                      <p:cBhvr>
                                        <p:cTn id="33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0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2595 C 0.00851 -0.03476 -0.01528 -0.06951 0.05677 -0.07832 C 0.12882 -0.08712 0.35313 -0.07878 0.43108 -0.07878 E">
                                      <p:cBhvr>
                                        <p:cTn id="54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2595 C -0.00694 -0.0336 0.01389 -0.06279 -0.04462 -0.07252 C -0.10312 -0.08226 -0.28681 -0.08179 -0.35052 -0.08411 E">
                                      <p:cBhvr>
                                        <p:cTn id="57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784 C 0.00435 0.02711 -0.00625 0.06534 0.02848 0.07392 C 0.0632 0.08249 0.17362 0.08249 0.20816 0.06998 C 0.24271 0.05746 0.23004 0.01344 0.23577 -0.00162 E">
                                      <p:cBhvr>
                                        <p:cTn id="73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0208 C 0.0092 0.01436 0.01788 0.06186 0.04305 0.07368 C 0.06823 0.08549 0.11736 0.08758 0.15312 0.07368 C 0.18889 0.05977 0.25746 0.01297 0.25746 -0.0095 C 0.25746 -0.03198 0.17031 -0.04518 0.15278 -0.06164 C 0.13524 -0.07809 0.13594 -0.08921 0.15278 -0.10821 C 0.16962 -0.12721 0.23021 -0.1659 0.25434 -0.17586 C 0.27847 -0.18582 0.31007 -0.18328 0.29774 -0.16822 C 0.28541 -0.15316 0.18229 -0.11145 0.18038 -0.08504 C 0.17847 -0.05862 0.28993 -0.03847 0.28611 -0.0095 C 0.28229 0.01946 0.19757 0.07321 0.15712 0.0892 C 0.11666 0.10519 0.0691 0.09152 0.04305 0.08711 C 0.01701 0.08271 0.00885 0.07599 0.00087 0.06209 C -0.00712 0.04819 -0.00365 0.01598 -0.00486 0.00393 E">
                                      <p:cBhvr>
                                        <p:cTn id="90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8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234 C 0.00573 0.03151 0.00347 0.06418 0.02986 0.07182 C 0.05625 0.07947 0.12048 0.08294 0.15885 0.06974 C 0.19722 0.05653 0.26285 0.01714 0.26041 -0.00765 C 0.25798 -0.03244 0.14375 -0.05051 0.14444 -0.07924 C 0.14514 -0.10797 0.23976 -0.15895 0.26476 -0.1798 E">
                                      <p:cBhvr>
                                        <p:cTn id="11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732720" y="981000"/>
            <a:ext cx="216036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Some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2276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72000" y="2276640"/>
            <a:ext cx="1440000" cy="1296360"/>
            <a:chOff x="4572000" y="2276640"/>
            <a:chExt cx="1440000" cy="1296360"/>
          </a:xfrm>
        </p:grpSpPr>
        <p:sp>
          <p:nvSpPr>
            <p:cNvPr id="244" name=""/>
            <p:cNvSpPr/>
            <p:nvPr/>
          </p:nvSpPr>
          <p:spPr>
            <a:xfrm>
              <a:off x="4572000" y="2276640"/>
              <a:ext cx="1440000" cy="720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1280" y="2997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11280" y="2276640"/>
            <a:ext cx="1440000" cy="1296360"/>
            <a:chOff x="2411280" y="2276640"/>
            <a:chExt cx="1440000" cy="1296360"/>
          </a:xfrm>
        </p:grpSpPr>
        <p:sp>
          <p:nvSpPr>
            <p:cNvPr id="247" name=""/>
            <p:cNvSpPr/>
            <p:nvPr/>
          </p:nvSpPr>
          <p:spPr>
            <a:xfrm>
              <a:off x="2411280" y="2276640"/>
              <a:ext cx="1440000" cy="72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2000" y="2997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492360" y="3573360"/>
            <a:ext cx="1440000" cy="1296720"/>
            <a:chOff x="3492360" y="3573360"/>
            <a:chExt cx="1440000" cy="1296720"/>
          </a:xfrm>
        </p:grpSpPr>
        <p:sp>
          <p:nvSpPr>
            <p:cNvPr id="250" name=""/>
            <p:cNvSpPr/>
            <p:nvPr/>
          </p:nvSpPr>
          <p:spPr>
            <a:xfrm>
              <a:off x="3492360" y="414936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13080" y="3573360"/>
              <a:ext cx="0" cy="57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724800" y="1846440"/>
            <a:ext cx="1081080" cy="1725480"/>
          </a:xfrm>
          <a:custGeom>
            <a:avLst/>
            <a:gdLst/>
            <a:ahLst/>
            <a:rect l="l" t="t" r="r" b="b"/>
            <a:pathLst>
              <a:path w="681" h="1087">
                <a:moveTo>
                  <a:pt x="0" y="1087"/>
                </a:moveTo>
                <a:cubicBezTo>
                  <a:pt x="113" y="1019"/>
                  <a:pt x="677" y="797"/>
                  <a:pt x="679" y="678"/>
                </a:cubicBezTo>
                <a:cubicBezTo>
                  <a:pt x="681" y="559"/>
                  <a:pt x="12" y="484"/>
                  <a:pt x="10" y="371"/>
                </a:cubicBezTo>
                <a:cubicBezTo>
                  <a:pt x="8" y="258"/>
                  <a:pt x="532" y="77"/>
                  <a:pt x="6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29973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92360" y="170172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357336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419640" y="3573360"/>
            <a:ext cx="144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24280" y="3016080"/>
            <a:ext cx="1218960" cy="1117800"/>
          </a:xfrm>
          <a:custGeom>
            <a:avLst/>
            <a:gdLst/>
            <a:ahLst/>
            <a:rect l="l" t="t" r="r" b="b"/>
            <a:pathLst>
              <a:path w="768" h="704">
                <a:moveTo>
                  <a:pt x="42" y="0"/>
                </a:moveTo>
                <a:cubicBezTo>
                  <a:pt x="52" y="45"/>
                  <a:pt x="0" y="205"/>
                  <a:pt x="102" y="272"/>
                </a:cubicBezTo>
                <a:cubicBezTo>
                  <a:pt x="204" y="339"/>
                  <a:pt x="543" y="332"/>
                  <a:pt x="654" y="404"/>
                </a:cubicBezTo>
                <a:cubicBezTo>
                  <a:pt x="765" y="476"/>
                  <a:pt x="744" y="642"/>
                  <a:pt x="768" y="70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4160" y="3005280"/>
            <a:ext cx="1995480" cy="511200"/>
          </a:xfrm>
          <a:custGeom>
            <a:avLst/>
            <a:gdLst/>
            <a:ahLst/>
            <a:rect l="l" t="t" r="r" b="b"/>
            <a:pathLst>
              <a:path w="1257" h="322">
                <a:moveTo>
                  <a:pt x="33" y="3"/>
                </a:moveTo>
                <a:cubicBezTo>
                  <a:pt x="57" y="49"/>
                  <a:pt x="0" y="231"/>
                  <a:pt x="174" y="276"/>
                </a:cubicBezTo>
                <a:cubicBezTo>
                  <a:pt x="348" y="321"/>
                  <a:pt x="903" y="322"/>
                  <a:pt x="1080" y="276"/>
                </a:cubicBezTo>
                <a:cubicBezTo>
                  <a:pt x="1257" y="230"/>
                  <a:pt x="1204" y="57"/>
                  <a:pt x="1236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33960" y="1932120"/>
            <a:ext cx="309600" cy="344520"/>
          </a:xfrm>
          <a:custGeom>
            <a:avLst/>
            <a:gdLst/>
            <a:ahLst/>
            <a:rect l="l" t="t" r="r" b="b"/>
            <a:pathLst>
              <a:path w="195" h="217">
                <a:moveTo>
                  <a:pt x="9" y="217"/>
                </a:moveTo>
                <a:cubicBezTo>
                  <a:pt x="12" y="186"/>
                  <a:pt x="0" y="62"/>
                  <a:pt x="26" y="31"/>
                </a:cubicBezTo>
                <a:cubicBezTo>
                  <a:pt x="52" y="0"/>
                  <a:pt x="141" y="1"/>
                  <a:pt x="168" y="30"/>
                </a:cubicBezTo>
                <a:cubicBezTo>
                  <a:pt x="195" y="59"/>
                  <a:pt x="185" y="167"/>
                  <a:pt x="189" y="20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1833480"/>
            <a:ext cx="2290680" cy="1701720"/>
          </a:xfrm>
          <a:custGeom>
            <a:avLst/>
            <a:gdLst/>
            <a:ahLst/>
            <a:rect l="l" t="t" r="r" b="b"/>
            <a:pathLst>
              <a:path w="1443" h="1072">
                <a:moveTo>
                  <a:pt x="0" y="733"/>
                </a:moveTo>
                <a:cubicBezTo>
                  <a:pt x="20" y="778"/>
                  <a:pt x="31" y="947"/>
                  <a:pt x="119" y="1002"/>
                </a:cubicBezTo>
                <a:cubicBezTo>
                  <a:pt x="207" y="1057"/>
                  <a:pt x="384" y="1072"/>
                  <a:pt x="530" y="1065"/>
                </a:cubicBezTo>
                <a:cubicBezTo>
                  <a:pt x="676" y="1058"/>
                  <a:pt x="852" y="1023"/>
                  <a:pt x="998" y="960"/>
                </a:cubicBezTo>
                <a:cubicBezTo>
                  <a:pt x="1144" y="897"/>
                  <a:pt x="1443" y="772"/>
                  <a:pt x="1406" y="687"/>
                </a:cubicBezTo>
                <a:cubicBezTo>
                  <a:pt x="1369" y="602"/>
                  <a:pt x="854" y="528"/>
                  <a:pt x="773" y="450"/>
                </a:cubicBezTo>
                <a:cubicBezTo>
                  <a:pt x="692" y="372"/>
                  <a:pt x="818" y="291"/>
                  <a:pt x="920" y="216"/>
                </a:cubicBezTo>
                <a:cubicBezTo>
                  <a:pt x="1022" y="141"/>
                  <a:pt x="1290" y="45"/>
                  <a:pt x="138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26880" y="42210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Plug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65440" y="31417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95240" y="3068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4520" y="155736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Check &amp;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27240" y="299736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le-Link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85B5-E42B-48E6-BF2F-F5A367C7D0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71640" y="299736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32720" y="404640"/>
            <a:ext cx="216036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Some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32000" y="3570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92360" y="1700280"/>
            <a:ext cx="1440000" cy="1297080"/>
            <a:chOff x="3492360" y="1700280"/>
            <a:chExt cx="1440000" cy="1297080"/>
          </a:xfrm>
        </p:grpSpPr>
        <p:sp>
          <p:nvSpPr>
            <p:cNvPr id="271" name=""/>
            <p:cNvSpPr/>
            <p:nvPr/>
          </p:nvSpPr>
          <p:spPr>
            <a:xfrm>
              <a:off x="3492360" y="170028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1640" y="242100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71640" y="3571920"/>
            <a:ext cx="1440000" cy="1297080"/>
            <a:chOff x="2771640" y="3571920"/>
            <a:chExt cx="1440000" cy="1297080"/>
          </a:xfrm>
        </p:grpSpPr>
        <p:sp>
          <p:nvSpPr>
            <p:cNvPr id="274" name=""/>
            <p:cNvSpPr/>
            <p:nvPr/>
          </p:nvSpPr>
          <p:spPr>
            <a:xfrm>
              <a:off x="2771640" y="357192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92360" y="42926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052720" y="4869000"/>
            <a:ext cx="1439640" cy="1296720"/>
            <a:chOff x="2052720" y="4869000"/>
            <a:chExt cx="1439640" cy="1296720"/>
          </a:xfrm>
        </p:grpSpPr>
        <p:sp>
          <p:nvSpPr>
            <p:cNvPr id="277" name=""/>
            <p:cNvSpPr/>
            <p:nvPr/>
          </p:nvSpPr>
          <p:spPr>
            <a:xfrm>
              <a:off x="2052720" y="544500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73080" y="4869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e-Link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24800" y="1270080"/>
            <a:ext cx="1081080" cy="1725480"/>
          </a:xfrm>
          <a:custGeom>
            <a:avLst/>
            <a:gdLst/>
            <a:ahLst/>
            <a:rect l="l" t="t" r="r" b="b"/>
            <a:pathLst>
              <a:path w="681" h="1087">
                <a:moveTo>
                  <a:pt x="0" y="1087"/>
                </a:moveTo>
                <a:cubicBezTo>
                  <a:pt x="113" y="1019"/>
                  <a:pt x="677" y="797"/>
                  <a:pt x="679" y="678"/>
                </a:cubicBezTo>
                <a:cubicBezTo>
                  <a:pt x="681" y="559"/>
                  <a:pt x="12" y="484"/>
                  <a:pt x="10" y="371"/>
                </a:cubicBezTo>
                <a:cubicBezTo>
                  <a:pt x="8" y="258"/>
                  <a:pt x="532" y="77"/>
                  <a:pt x="6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92360" y="4290840"/>
            <a:ext cx="0" cy="57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2360" y="29955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4000" y="5264280"/>
            <a:ext cx="1295640" cy="32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1080" y="5445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1009800" cy="289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3800" y="4118040"/>
            <a:ext cx="1798920" cy="50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e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th Detector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48000" y="2222640"/>
            <a:ext cx="167652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rse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8000" y="2222640"/>
            <a:ext cx="167652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720" y="12272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plication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544500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720" y="12272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plication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30920" y="3570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91280" y="4290840"/>
            <a:ext cx="0" cy="57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1280" y="29955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58920" y="4869000"/>
            <a:ext cx="30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59280" y="4869000"/>
            <a:ext cx="30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651640" y="4869000"/>
            <a:ext cx="1439640" cy="1296720"/>
            <a:chOff x="5651640" y="4869000"/>
            <a:chExt cx="1439640" cy="1296720"/>
          </a:xfrm>
        </p:grpSpPr>
        <p:sp>
          <p:nvSpPr>
            <p:cNvPr id="298" name=""/>
            <p:cNvSpPr/>
            <p:nvPr/>
          </p:nvSpPr>
          <p:spPr>
            <a:xfrm>
              <a:off x="5651640" y="544500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72000" y="4869000"/>
              <a:ext cx="0" cy="5760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372360" y="3573360"/>
            <a:ext cx="1439640" cy="1297080"/>
            <a:chOff x="6372360" y="3573360"/>
            <a:chExt cx="1439640" cy="1297080"/>
          </a:xfrm>
        </p:grpSpPr>
        <p:sp>
          <p:nvSpPr>
            <p:cNvPr id="301" name=""/>
            <p:cNvSpPr/>
            <p:nvPr/>
          </p:nvSpPr>
          <p:spPr>
            <a:xfrm>
              <a:off x="6372360" y="357336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92720" y="42940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70080" y="524988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1840" y="981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F77F-6A07-4F64-AE87-4A13D662C5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2.27989E-006 C 0.00278 0.01344 -0.02049 0.06696 0.02656 0.08109 C 0.07361 0.09522 0.22743 0.0841 0.28021 0.08503 E">
                                      <p:cBhvr>
                                        <p:cTn id="158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02132E-006 C -0.00364 -0.01298 0.00556 -0.06465 -0.02205 -0.07832 C -0.04966 -0.09199 -0.1356 -0.08133 -0.16546 -0.08202 E">
                                      <p:cBhvr>
                                        <p:cTn id="179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02132E-006 C 0.00487 -0.01275 0.00174 -0.06326 0.02882 -0.07623 C 0.05591 -0.08921 0.13438 -0.07785 0.16216 -0.07832 E">
                                      <p:cBhvr>
                                        <p:cTn id="182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500"/>
                            </p:stCondLst>
                            <p:childTnLst>
                              <p:par>
                                <p:cTn id="1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784 C -0.00451 0.02734 0.00191 0.06557 -0.02395 0.07553 C -0.04982 0.08549 -0.12743 0.08248 -0.1559 0.07761 C -0.18437 0.07275 -0.18802 0.08225 -0.19496 0.04657 C -0.20191 0.01089 -0.20538 -0.09778 -0.19791 -0.13717 C -0.19045 -0.17656 -0.19097 -0.17957 -0.15 -0.1893 C -0.10902 -0.19903 0.01025 -0.18351 0.04844 -0.19509 C 0.08664 -0.20668 0.07257 -0.2456 0.079 -0.25904 E">
                                      <p:cBhvr>
                                        <p:cTn id="198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1 0.0044 C 0.00729 0.01413 0.00295 0.0519 0.01459 0.06441 C 0.02622 0.07692 0.03229 0.07993 0.07552 0.07993 C 0.11875 0.07993 0.22518 0.07877 0.27431 0.06394 C 0.32344 0.04912 0.36927 0.01135 0.36997 -0.0095 C 0.37066 -0.03036 0.29393 -0.04518 0.27865 -0.06163 C 0.26337 -0.07809 0.26181 -0.08921 0.27865 -0.10821 C 0.29549 -0.1272 0.35608 -0.1659 0.38021 -0.17586 C 0.40434 -0.18582 0.43594 -0.18328 0.42361 -0.16821 C 0.41129 -0.15315 0.30816 -0.11145 0.30625 -0.08504 C 0.30434 -0.05862 0.41667 -0.03731 0.41198 -0.0095 C 0.40729 0.0183 0.33507 0.06533 0.27847 0.08179 C 0.22188 0.09824 0.11702 0.09036 0.07257 0.08966 C 0.02813 0.08897 0.02431 0.09267 0.01181 0.07808 C -0.00069 0.06348 0.00018 0.0183 -0.00278 0.00255 E">
                                      <p:cBhvr>
                                        <p:cTn id="21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3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800"/>
                            </p:stCondLst>
                            <p:childTnLst>
                              <p:par>
                                <p:cTn id="2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2896 C 0.01233 0.03661 -0.00816 0.06858 0.03646 0.0753 C 0.08108 0.08202 0.21823 0.08364 0.27483 0.06974 C 0.33143 0.05584 0.37882 0.01715 0.37639 -0.00764 C 0.37396 -0.03244 0.25972 -0.05051 0.26042 -0.07924 C 0.26111 -0.10797 0.35573 -0.15894 0.38073 -0.17979 E">
                                      <p:cBhvr>
                                        <p:cTn id="24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299736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404640"/>
            <a:ext cx="216036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Some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0" y="3570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492360" y="1700280"/>
            <a:ext cx="1440000" cy="1297080"/>
            <a:chOff x="3492360" y="1700280"/>
            <a:chExt cx="1440000" cy="1297080"/>
          </a:xfrm>
        </p:grpSpPr>
        <p:sp>
          <p:nvSpPr>
            <p:cNvPr id="309" name=""/>
            <p:cNvSpPr/>
            <p:nvPr/>
          </p:nvSpPr>
          <p:spPr>
            <a:xfrm>
              <a:off x="3492360" y="170028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11640" y="242100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771640" y="3571920"/>
            <a:ext cx="1440000" cy="1297080"/>
            <a:chOff x="2771640" y="3571920"/>
            <a:chExt cx="1440000" cy="1297080"/>
          </a:xfrm>
        </p:grpSpPr>
        <p:sp>
          <p:nvSpPr>
            <p:cNvPr id="312" name=""/>
            <p:cNvSpPr/>
            <p:nvPr/>
          </p:nvSpPr>
          <p:spPr>
            <a:xfrm>
              <a:off x="2771640" y="3571920"/>
              <a:ext cx="1440000" cy="72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92360" y="42926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052720" y="4869000"/>
            <a:ext cx="1439640" cy="1296720"/>
            <a:chOff x="2052720" y="4869000"/>
            <a:chExt cx="1439640" cy="1296720"/>
          </a:xfrm>
        </p:grpSpPr>
        <p:sp>
          <p:nvSpPr>
            <p:cNvPr id="315" name=""/>
            <p:cNvSpPr/>
            <p:nvPr/>
          </p:nvSpPr>
          <p:spPr>
            <a:xfrm>
              <a:off x="2052720" y="544500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73080" y="4869000"/>
              <a:ext cx="0" cy="57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724800" y="1270080"/>
            <a:ext cx="1081080" cy="1725480"/>
          </a:xfrm>
          <a:custGeom>
            <a:avLst/>
            <a:gdLst/>
            <a:ahLst/>
            <a:rect l="l" t="t" r="r" b="b"/>
            <a:pathLst>
              <a:path w="681" h="1087">
                <a:moveTo>
                  <a:pt x="0" y="1087"/>
                </a:moveTo>
                <a:cubicBezTo>
                  <a:pt x="113" y="1019"/>
                  <a:pt x="677" y="797"/>
                  <a:pt x="679" y="678"/>
                </a:cubicBezTo>
                <a:cubicBezTo>
                  <a:pt x="681" y="559"/>
                  <a:pt x="12" y="484"/>
                  <a:pt x="10" y="371"/>
                </a:cubicBezTo>
                <a:cubicBezTo>
                  <a:pt x="8" y="258"/>
                  <a:pt x="532" y="77"/>
                  <a:pt x="6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4290840"/>
            <a:ext cx="0" cy="57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92360" y="29955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30920" y="3570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91280" y="4290840"/>
            <a:ext cx="0" cy="57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1280" y="2995560"/>
            <a:ext cx="0" cy="5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8920" y="4869000"/>
            <a:ext cx="30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4869000"/>
            <a:ext cx="30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651640" y="4869000"/>
            <a:ext cx="1439640" cy="1296720"/>
            <a:chOff x="5651640" y="4869000"/>
            <a:chExt cx="1439640" cy="1296720"/>
          </a:xfrm>
        </p:grpSpPr>
        <p:sp>
          <p:nvSpPr>
            <p:cNvPr id="326" name=""/>
            <p:cNvSpPr/>
            <p:nvPr/>
          </p:nvSpPr>
          <p:spPr>
            <a:xfrm>
              <a:off x="5651640" y="544500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gged-i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v6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000" y="4869000"/>
              <a:ext cx="0" cy="5760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372360" y="3573360"/>
            <a:ext cx="1439640" cy="1297080"/>
            <a:chOff x="6372360" y="3573360"/>
            <a:chExt cx="1439640" cy="1297080"/>
          </a:xfrm>
        </p:grpSpPr>
        <p:sp>
          <p:nvSpPr>
            <p:cNvPr id="329" name=""/>
            <p:cNvSpPr/>
            <p:nvPr/>
          </p:nvSpPr>
          <p:spPr>
            <a:xfrm>
              <a:off x="6372360" y="3573360"/>
              <a:ext cx="1439640" cy="720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o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92720" y="42940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 flipV="1">
            <a:off x="1908000" y="4868640"/>
            <a:ext cx="180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4560" y="4314960"/>
            <a:ext cx="792360" cy="1089000"/>
          </a:xfrm>
          <a:custGeom>
            <a:avLst/>
            <a:gdLst/>
            <a:ahLst/>
            <a:rect l="l" t="t" r="r" b="b"/>
            <a:pathLst>
              <a:path w="499" h="686">
                <a:moveTo>
                  <a:pt x="477" y="0"/>
                </a:moveTo>
                <a:cubicBezTo>
                  <a:pt x="470" y="56"/>
                  <a:pt x="499" y="267"/>
                  <a:pt x="432" y="338"/>
                </a:cubicBezTo>
                <a:cubicBezTo>
                  <a:pt x="365" y="409"/>
                  <a:pt x="148" y="368"/>
                  <a:pt x="76" y="426"/>
                </a:cubicBezTo>
                <a:cubicBezTo>
                  <a:pt x="4" y="484"/>
                  <a:pt x="16" y="632"/>
                  <a:pt x="0" y="68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71760" y="2432160"/>
            <a:ext cx="2604960" cy="2460600"/>
          </a:xfrm>
          <a:custGeom>
            <a:avLst/>
            <a:gdLst/>
            <a:ahLst/>
            <a:rect l="l" t="t" r="r" b="b"/>
            <a:pathLst>
              <a:path w="1641" h="1550">
                <a:moveTo>
                  <a:pt x="1125" y="1183"/>
                </a:moveTo>
                <a:cubicBezTo>
                  <a:pt x="1104" y="1234"/>
                  <a:pt x="1162" y="1452"/>
                  <a:pt x="999" y="1489"/>
                </a:cubicBezTo>
                <a:cubicBezTo>
                  <a:pt x="836" y="1526"/>
                  <a:pt x="300" y="1550"/>
                  <a:pt x="150" y="1408"/>
                </a:cubicBezTo>
                <a:cubicBezTo>
                  <a:pt x="0" y="1266"/>
                  <a:pt x="50" y="810"/>
                  <a:pt x="96" y="634"/>
                </a:cubicBezTo>
                <a:cubicBezTo>
                  <a:pt x="142" y="458"/>
                  <a:pt x="204" y="410"/>
                  <a:pt x="429" y="352"/>
                </a:cubicBezTo>
                <a:cubicBezTo>
                  <a:pt x="654" y="294"/>
                  <a:pt x="1251" y="342"/>
                  <a:pt x="1446" y="283"/>
                </a:cubicBezTo>
                <a:cubicBezTo>
                  <a:pt x="1641" y="224"/>
                  <a:pt x="1570" y="59"/>
                  <a:pt x="1602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1341360"/>
            <a:ext cx="309600" cy="344520"/>
          </a:xfrm>
          <a:custGeom>
            <a:avLst/>
            <a:gdLst/>
            <a:ahLst/>
            <a:rect l="l" t="t" r="r" b="b"/>
            <a:pathLst>
              <a:path w="195" h="217">
                <a:moveTo>
                  <a:pt x="9" y="217"/>
                </a:moveTo>
                <a:cubicBezTo>
                  <a:pt x="12" y="186"/>
                  <a:pt x="0" y="62"/>
                  <a:pt x="26" y="31"/>
                </a:cubicBezTo>
                <a:cubicBezTo>
                  <a:pt x="52" y="0"/>
                  <a:pt x="141" y="1"/>
                  <a:pt x="168" y="30"/>
                </a:cubicBezTo>
                <a:cubicBezTo>
                  <a:pt x="195" y="59"/>
                  <a:pt x="185" y="167"/>
                  <a:pt x="189" y="20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27560" y="1268280"/>
            <a:ext cx="3327480" cy="1727280"/>
          </a:xfrm>
          <a:custGeom>
            <a:avLst/>
            <a:gdLst/>
            <a:ahLst/>
            <a:rect l="l" t="t" r="r" b="b"/>
            <a:pathLst>
              <a:path w="2096" h="1088">
                <a:moveTo>
                  <a:pt x="25" y="743"/>
                </a:moveTo>
                <a:cubicBezTo>
                  <a:pt x="53" y="792"/>
                  <a:pt x="0" y="980"/>
                  <a:pt x="193" y="1034"/>
                </a:cubicBezTo>
                <a:cubicBezTo>
                  <a:pt x="386" y="1088"/>
                  <a:pt x="940" y="1077"/>
                  <a:pt x="1183" y="1065"/>
                </a:cubicBezTo>
                <a:cubicBezTo>
                  <a:pt x="1426" y="1053"/>
                  <a:pt x="1505" y="1023"/>
                  <a:pt x="1651" y="960"/>
                </a:cubicBezTo>
                <a:cubicBezTo>
                  <a:pt x="1797" y="897"/>
                  <a:pt x="2096" y="772"/>
                  <a:pt x="2059" y="687"/>
                </a:cubicBezTo>
                <a:cubicBezTo>
                  <a:pt x="2022" y="602"/>
                  <a:pt x="1507" y="528"/>
                  <a:pt x="1426" y="450"/>
                </a:cubicBezTo>
                <a:cubicBezTo>
                  <a:pt x="1345" y="372"/>
                  <a:pt x="1471" y="291"/>
                  <a:pt x="1573" y="216"/>
                </a:cubicBezTo>
                <a:cubicBezTo>
                  <a:pt x="1675" y="141"/>
                  <a:pt x="1943" y="45"/>
                  <a:pt x="2041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416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Plug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5440" y="50133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7800" y="24922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6160" y="9079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Check &amp;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50880" y="24922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e-Link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5EDC-7B76-4571-B43A-7C2DE11389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les/Characteristics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33280" y="1052640"/>
          <a:ext cx="8677440" cy="5167080"/>
        </p:xfrm>
        <a:graphic>
          <a:graphicData uri="http://schemas.openxmlformats.org/drawingml/2006/table">
            <a:tbl>
              <a:tblPr/>
              <a:tblGrid>
                <a:gridCol w="2197080"/>
                <a:gridCol w="2951280"/>
                <a:gridCol w="352908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 Ro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ct appea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d detected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received data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are “Auto Name”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er to name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lig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ten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most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limi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D4CC-2E7B-49FA-A308-E39147214B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828440" y="1484280"/>
            <a:ext cx="1802160" cy="276840"/>
            <a:chOff x="1828440" y="1484280"/>
            <a:chExt cx="1802160" cy="276840"/>
          </a:xfrm>
        </p:grpSpPr>
        <p:sp>
          <p:nvSpPr>
            <p:cNvPr id="345" name=""/>
            <p:cNvSpPr/>
            <p:nvPr/>
          </p:nvSpPr>
          <p:spPr>
            <a:xfrm flipH="1">
              <a:off x="1828440" y="15732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09840" y="1484280"/>
              <a:ext cx="3207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640" y="9018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1) Plug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66360" y="4029120"/>
            <a:ext cx="12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18520" y="443088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98880" y="537372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4) Check &amp;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851120" y="1114560"/>
            <a:ext cx="5759280" cy="5409720"/>
            <a:chOff x="1851120" y="1114560"/>
            <a:chExt cx="5759280" cy="5409720"/>
          </a:xfrm>
        </p:grpSpPr>
        <p:sp>
          <p:nvSpPr>
            <p:cNvPr id="353" name=""/>
            <p:cNvSpPr/>
            <p:nvPr/>
          </p:nvSpPr>
          <p:spPr>
            <a:xfrm>
              <a:off x="185112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076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3040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7040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10400" y="1114560"/>
              <a:ext cx="0" cy="54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236960" y="65556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v6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80000" y="6508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32160" y="650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43360" y="6508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01480" y="47628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Serv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or Some 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51120" y="13921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84400" y="1206360"/>
            <a:ext cx="5936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0760" y="1665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51120" y="3978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90760" y="14032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51120" y="44323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90760" y="44323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30760" y="49388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850760" y="42069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0760" y="5175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170400" y="53118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0760" y="58435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170400" y="59961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0760" y="62247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170400" y="6381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4280" y="1270080"/>
            <a:ext cx="11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-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3640" y="364500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78400" y="13809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o N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40280" y="1628640"/>
            <a:ext cx="94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detected</a:t>
            </a:r>
            <a:br>
              <a:rPr sz="1800"/>
            </a:b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51120" y="11080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43280" y="4145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78400" y="44179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o N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79480" y="3586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43120" y="3906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91040" y="4897440"/>
            <a:ext cx="94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detected</a:t>
            </a:r>
            <a:br>
              <a:rPr sz="1800"/>
            </a:b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80120" y="54529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180120" y="55897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828440" y="4522680"/>
            <a:ext cx="1802160" cy="276840"/>
            <a:chOff x="1828440" y="4522680"/>
            <a:chExt cx="1802160" cy="276840"/>
          </a:xfrm>
        </p:grpSpPr>
        <p:sp>
          <p:nvSpPr>
            <p:cNvPr id="391" name=""/>
            <p:cNvSpPr/>
            <p:nvPr/>
          </p:nvSpPr>
          <p:spPr>
            <a:xfrm flipH="1">
              <a:off x="1828440" y="46116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09840" y="4522680"/>
              <a:ext cx="3207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50520" y="1052640"/>
            <a:ext cx="12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18520" y="134136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70520" y="1989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4) Check &amp;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0760" y="206064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170400" y="219708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0760" y="27115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170400" y="28638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0760" y="306864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70400" y="32130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35600" y="2708280"/>
            <a:ext cx="15037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gister both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gular and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verse Entries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6600" y="1916280"/>
            <a:ext cx="1520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 b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ers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r Resol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80120" y="2349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180120" y="24861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3860640"/>
            <a:ext cx="59400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38840" y="5913360"/>
            <a:ext cx="15037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gister both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gular and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verse Entries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9840" y="5121360"/>
            <a:ext cx="1520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 b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ers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r Resol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9EF5-AEB4-457A-9305-63D5E30C583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echnologies in sh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9280" y="18082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IPv6 Address i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xed 7 characters 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ind of inform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ression techniq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Pv6 Address inform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almost meaning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ing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can remember, underst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‘type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5640" y="3249720"/>
            <a:ext cx="611280" cy="468360"/>
          </a:xfrm>
          <a:prstGeom prst="rightArrow">
            <a:avLst>
              <a:gd name="adj1" fmla="val 50000"/>
              <a:gd name="adj2" fmla="val 32629"/>
            </a:avLst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287A-6449-4A74-9204-7CD8B91070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5920" y="1528920"/>
            <a:ext cx="8370720" cy="32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clarified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actual 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is used for Auto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strong candi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S have DNS resolver implem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using the DNS user authenticate implement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achieve the ‘Scoped Name’ featur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EB73-FFBC-4650-85FF-DC898D2475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cu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let us know you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598-007E-4C3F-8ACB-8C14397686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6000" y="1015920"/>
            <a:ext cx="86407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addres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ong and compli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remember for hu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ve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is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 im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‘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ype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eral IPv6 addres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nu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eral IPv6 address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call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aning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t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ery diffic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hum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t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Pv6 address is set to which actual IPv6 no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g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des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tle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instead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eral IPv6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formation fro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 meaningl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aningf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de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Corresponding Auto Name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trodu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above problems and to satisfy the above des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BAA-9922-4652-A65A-EA0C21AFA9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d Typ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v6 Communicatio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20" y="4292640"/>
            <a:ext cx="446400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C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:0d:5e:b8:80: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teral Address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%fxp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34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34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38560" y="1700280"/>
            <a:ext cx="100800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573360"/>
            <a:ext cx="792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364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242100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1449360"/>
            <a:ext cx="0" cy="2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1440" y="299736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lob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2001:db8: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2997360"/>
            <a:ext cx="7921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4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429000"/>
            <a:ext cx="792180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6200" y="2421000"/>
            <a:ext cx="0" cy="100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43240" y="2492280"/>
            <a:ext cx="42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9840" y="5013360"/>
            <a:ext cx="216000" cy="1224000"/>
            <a:chOff x="69840" y="5013360"/>
            <a:chExt cx="216000" cy="1224000"/>
          </a:xfrm>
        </p:grpSpPr>
        <p:sp>
          <p:nvSpPr>
            <p:cNvPr id="102" name=""/>
            <p:cNvSpPr/>
            <p:nvPr/>
          </p:nvSpPr>
          <p:spPr>
            <a:xfrm>
              <a:off x="69840" y="5013360"/>
              <a:ext cx="21600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840" y="5265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840" y="5518440"/>
              <a:ext cx="2160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840" y="5769000"/>
              <a:ext cx="216000" cy="216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840" y="6021720"/>
              <a:ext cx="216000" cy="215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3280" y="4292640"/>
            <a:ext cx="446436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B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C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:0c:76:d9:14: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teral Address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%em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678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678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78200" y="5013360"/>
            <a:ext cx="216000" cy="1224000"/>
            <a:chOff x="4678200" y="5013360"/>
            <a:chExt cx="216000" cy="1224000"/>
          </a:xfrm>
        </p:grpSpPr>
        <p:sp>
          <p:nvSpPr>
            <p:cNvPr id="109" name=""/>
            <p:cNvSpPr/>
            <p:nvPr/>
          </p:nvSpPr>
          <p:spPr>
            <a:xfrm>
              <a:off x="4678200" y="5013360"/>
              <a:ext cx="21600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78200" y="5265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78200" y="5518440"/>
              <a:ext cx="2160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78200" y="5769000"/>
              <a:ext cx="216000" cy="216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78200" y="6021720"/>
              <a:ext cx="216000" cy="215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73272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7B2-4960-4FFE-B4D4-7244C91E0C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956720" y="4292640"/>
            <a:ext cx="1152360" cy="201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1640" y="4294080"/>
            <a:ext cx="1152360" cy="201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o Na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xamp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0" y="4292640"/>
            <a:ext cx="446400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C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:0d:5e:b8:80: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teral Address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uto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%fxp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fx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34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d:5eff:feb8:807b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34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8560" y="1700280"/>
            <a:ext cx="100800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573360"/>
            <a:ext cx="792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364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42100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1449360"/>
            <a:ext cx="0" cy="2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41440" y="299736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lob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2001:db8: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997360"/>
            <a:ext cx="7921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24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429000"/>
            <a:ext cx="792180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2421000"/>
            <a:ext cx="0" cy="100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3240" y="2492280"/>
            <a:ext cx="42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9840" y="5013360"/>
            <a:ext cx="216000" cy="1224000"/>
            <a:chOff x="69840" y="5013360"/>
            <a:chExt cx="216000" cy="1224000"/>
          </a:xfrm>
        </p:grpSpPr>
        <p:sp>
          <p:nvSpPr>
            <p:cNvPr id="131" name=""/>
            <p:cNvSpPr/>
            <p:nvPr/>
          </p:nvSpPr>
          <p:spPr>
            <a:xfrm>
              <a:off x="69840" y="5013360"/>
              <a:ext cx="21600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840" y="5265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40" y="5518440"/>
              <a:ext cx="2160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40" y="5769000"/>
              <a:ext cx="216000" cy="216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840" y="6021720"/>
              <a:ext cx="216000" cy="215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643280" y="4292640"/>
            <a:ext cx="446436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B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C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:0c:76:d9:14: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teral Address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uto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e80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%em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em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d01:2345:6789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678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c:76ff:fed9:14e3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001:db8: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678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78200" y="5013360"/>
            <a:ext cx="216000" cy="1224000"/>
            <a:chOff x="4678200" y="5013360"/>
            <a:chExt cx="216000" cy="1224000"/>
          </a:xfrm>
        </p:grpSpPr>
        <p:sp>
          <p:nvSpPr>
            <p:cNvPr id="138" name=""/>
            <p:cNvSpPr/>
            <p:nvPr/>
          </p:nvSpPr>
          <p:spPr>
            <a:xfrm>
              <a:off x="4678200" y="5013360"/>
              <a:ext cx="21600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8200" y="5265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78200" y="5518440"/>
              <a:ext cx="2160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78200" y="5769000"/>
              <a:ext cx="216000" cy="216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78200" y="6021720"/>
              <a:ext cx="216000" cy="215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73272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578-CC49-4E6C-8591-5B8D21CF7C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280" y="367920"/>
            <a:ext cx="86774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Grouped Addr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072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make Auto Nam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ingf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addresses are grouped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show grouped 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Pv6 addr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re set to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me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de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ut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Name Pref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for their Auto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hown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7b</a:t>
            </a:r>
            <a:r>
              <a:rPr b="1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for Au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Node A (00:0d:5e:b8:80: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7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</a:t>
            </a:r>
            <a:r>
              <a:rPr b="1" lang="en-US" sz="2000" spc="-1" strike="noStrike">
                <a:solidFill>
                  <a:srgbClr val="cc00cc"/>
                </a:solidFill>
                <a:latin typeface="ＭＳ ゴシック"/>
                <a:ea typeface="ＭＳ ゴシック"/>
              </a:rPr>
              <a:t>e3</a:t>
            </a:r>
            <a:r>
              <a:rPr b="1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z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for Au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Pref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Node B (00:0c:76:d9:14: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e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 rule of Au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Prefi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ased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ing 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the last oct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node's MAC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D1B-7DCC-41E6-87AF-544366C47F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ol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ame -&gt; Address)  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g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 or 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ln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 to the specific IPv6 address of Node B from Node A,  the following commands are ty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ping6  fe80::20c:76ff:fed9:14e3%fx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telnet fd01:2345:6789::20c:76ff:fed9:14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ping6  n3ez-l1%fx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telnet n3ez-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113360"/>
            <a:ext cx="936720" cy="684000"/>
          </a:xfrm>
          <a:prstGeom prst="downArrow">
            <a:avLst>
              <a:gd name="adj1" fmla="val 33556"/>
              <a:gd name="adj2" fmla="val 4315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59040" y="3753000"/>
            <a:ext cx="56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mo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impossibl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to ‘type’ commands for 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95760" y="5769000"/>
            <a:ext cx="54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ecome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ossibl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to ‘type’ commands for 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107-C725-4C23-B6F0-2F65A3305C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ol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ame -&gt; Address)  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nfigure access filter (e.g., /etc/hosts.allow)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shd : [fe80::20c:76ff:fed9:14e3%fxp0]      : 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shd : [fd01:2345:6789::20c:76ff:fed9:14e3] : 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shd : n3ez-l1%fxp0 : 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shd : n3ez-u1      : 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58920" y="5445000"/>
            <a:ext cx="508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ecome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ossibl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to ‘type’ entries for human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Easy to understand the meanings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at a g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87640" y="3652920"/>
            <a:ext cx="936720" cy="684000"/>
          </a:xfrm>
          <a:prstGeom prst="downArrow">
            <a:avLst>
              <a:gd name="adj1" fmla="val 33556"/>
              <a:gd name="adj2" fmla="val 4315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87360" y="3436920"/>
            <a:ext cx="526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mo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impossibl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to ‘type’ entries for human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‘copy and paste’ is required to make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ssible to understand meaning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t a g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D46-A5C4-4539-B7A7-B7169D98A9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ol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ddress -&gt; Name)   (1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netstat -a' (on Node A) shows connection status as follow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cal Address                 Foreign Address               (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80::20d:5eff:feb8:807b.8722 fe80:3::20c:76ff:fed9:14e3.23 ESTABL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01:2345:6789::1234.16258    fd01:2345:6789::5678.23       TIME_W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cal Address                 Foreign Address               (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7bz-l1.8722                  ne3z-l1.23                    ESTABL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7bz-u1.16258                 ne3z-u1.23                    TIME_W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652920"/>
            <a:ext cx="936360" cy="684000"/>
          </a:xfrm>
          <a:prstGeom prst="downArrow">
            <a:avLst>
              <a:gd name="adj1" fmla="val 33556"/>
              <a:gd name="adj2" fmla="val 4315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1200" y="32479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mo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meaningles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information for 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67000" y="5337000"/>
            <a:ext cx="49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ecome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Meaningful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information for 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2240" y="5864400"/>
            <a:ext cx="74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autified dis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xed length charac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uto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78A-FBB6-4C73-866F-9A7B263158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0:22:29Z</dcterms:created>
  <dc:creator>kitamura</dc:creator>
  <dc:description/>
  <dc:language>en-US</dc:language>
  <cp:lastModifiedBy>kitamura</cp:lastModifiedBy>
  <dcterms:modified xsi:type="dcterms:W3CDTF">2011-11-13T12:57:08Z</dcterms:modified>
  <cp:revision>295</cp:revision>
  <dc:subject/>
  <dc:title>76 6man NC update</dc:title>
</cp:coreProperties>
</file>