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43E-D50E-44C7-A3CD-E66E6D62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21D-06A9-4FCD-9B00-FB0380C1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401-E147-4375-93E7-63348949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57E-3261-40E3-B84E-ED67D007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29F6-FB72-4182-B383-022F30A4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84A4-60F1-4DC4-A2EF-33674B1C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7734-5F5C-4AF2-A26F-29491E7C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D9C5-E434-4708-A26A-00147425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CEA3-1176-4EEC-9C81-22105034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C8F6-BF84-44F3-9CBF-6F03B058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0A06-0757-42D1-B8A8-9FAEB9C0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3AE-394B-46C5-ADED-D8C32ADA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20BF-7C9B-4AC2-A71C-84EC0733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7160-92BD-4574-8B37-03BF4BD1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9DF1-E16D-4A69-8E12-664AA0A6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D99D-B195-478E-8872-E0D9BEE3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65BC-19B2-44E6-9766-AFA59A9E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0E5-24E7-4ED5-9DA9-37494D0C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306-77C2-4CE3-8FF5-6C6040C6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228-128A-4055-8737-1B0CE726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382-292D-415E-9980-074DECF3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DDA-17AB-4450-9FE4-2FFFA83E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B8D-41EE-4D85-856F-4B46D649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E88-BCD9-4848-BF8A-399E144F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24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A286-22F2-4026-A9CC-852CDED4A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C399-89D4-4D5D-9FF1-B8A8E1CCA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280" y="764640"/>
            <a:ext cx="88934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sponding Auto Nam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IPv6 Addresse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draft-kitamura-ipv6-auto-name-00.tx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roshi KITAM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tamura@da.jp.nec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DB8-B3AB-4BC2-980A-28A2A3415D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on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olv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ddress -&gt; Name)   (2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1800" y="1015560"/>
            <a:ext cx="73072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'ndp -a' (on Node A) shows neighbor cache status as follow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eighbor                            Linklayer Addr.  Netif Expire  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fe80::20d:5eff:feb8:807b%fxp0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fd01:2345:6789::20d:5eff:feb8:807b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fd01:2345:6789::1234         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2001:DB8::20d:5eff:feb8:807b 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2001:DB8::1234               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fe80::221:85ff:fea7:82ff%fxp0       0:21:85:a7:82:ff fxp0 23h50m51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fe80::20c:76ff:fed9:14e3%fxp0       0:0c:76:d9:14:e3 fxp0 23h51m56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fd01:2345:6789::20c:76ff:fed9:14e3  0:0c:76:d9:14:e3 fxp0 23h52m50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fd01:2345:6789::5678                0:0c:76:d9:14:e3 fxp0 23h53m51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2001:DB8::20c:76ff:fed9:14e3        0:0c:76:d9:14:e3 fxp0 23h54m53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2001:DB8::5678                      0:0c:76:d9:14:e3 fxp0 23h55m54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eighbor                            Linklayer Addr.  Netif Expire  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7bz-l1%fxp0                 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7bz-u1                      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7bz-u2                      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7bz-g1                      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7bz-g2                      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ffz-l1%fxp0                        0:21:85:a7:82:ff fxp0 23h50m51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3ez-l1%fxp0                        0:0c:76:d9:14:e3 fxp0 23h51m56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3ez-l1                             0:0c:76:d9:14:e3 fxp0 23h52m50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3ez-l2                             0:0c:76:d9:14:e3 fxp0 23h53m51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3ez-g1                             0:0c:76:d9:14:e3 fxp0 23h54m53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3ez-g2                             0:0c:76:d9:14:e3 fxp0 23h55m54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3640" y="3897360"/>
            <a:ext cx="936720" cy="360360"/>
          </a:xfrm>
          <a:prstGeom prst="downArrow">
            <a:avLst>
              <a:gd name="adj1" fmla="val 35593"/>
              <a:gd name="adj2" fmla="val 61356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B44-BB0B-45F4-92F3-4DFD1124C3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solv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ddress -&gt; Name)   (3/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1000"/>
            <a:ext cx="777240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exampl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Auto Names can contribu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 u="sng">
                <a:solidFill>
                  <a:srgbClr val="33cc33"/>
                </a:solidFill>
                <a:uFillTx/>
                <a:latin typeface="Times New Roman"/>
              </a:rPr>
              <a:t>access log fi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server appli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ed clients are can be recoded as meaningful Auto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 of (almost meaningless) literal IPv6 add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 u="sng">
                <a:solidFill>
                  <a:srgbClr val="33cc33"/>
                </a:solidFill>
                <a:uFillTx/>
                <a:latin typeface="Times New Roman"/>
              </a:rPr>
              <a:t>packet dump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plica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Address information can be shown as meaningful Auto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uto Name technique can significantly help for huma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nalyze and understand above in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4724280"/>
            <a:ext cx="8353440" cy="1618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 Name format is simple and easy enough for human to underst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using the Auto Names techniqu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oublesome IPv6 literal Address info. can be converted into meaningful info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and we can achieve our go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A78-D619-4C78-AECB-9E03FBAC75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ed Notions and Func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o N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255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le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ped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71640" y="1814400"/>
          <a:ext cx="7486560" cy="1373040"/>
        </p:xfrm>
        <a:graphic>
          <a:graphicData uri="http://schemas.openxmlformats.org/drawingml/2006/table">
            <a:tbl>
              <a:tblPr/>
              <a:tblGrid>
                <a:gridCol w="1008000"/>
                <a:gridCol w="3168720"/>
                <a:gridCol w="3309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HCPv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isting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uto Na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971640" y="3938760"/>
          <a:ext cx="7486560" cy="1612800"/>
        </p:xfrm>
        <a:graphic>
          <a:graphicData uri="http://schemas.openxmlformats.org/drawingml/2006/table">
            <a:tbl>
              <a:tblPr/>
              <a:tblGrid>
                <a:gridCol w="1008000"/>
                <a:gridCol w="1728720"/>
                <a:gridCol w="2268720"/>
                <a:gridCol w="1582560"/>
                <a:gridCol w="8985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e-Local (UL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-Lo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-Lo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, 2001:db8::/6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, fd01:2345:6789::/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:/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isting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 N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isting  Domain Names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/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uto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uto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uto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1556640" y="5877000"/>
            <a:ext cx="565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pe is dependent on how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o Na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is deal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which “name services” are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4A5-49B3-4B32-839D-C9800CA279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1920" y="260280"/>
            <a:ext cx="6678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gul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Name -&gt; Addres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3200"/>
            </a:br>
            <a:r>
              <a:rPr b="1" lang="en-US" sz="3200" spc="-1" strike="noStrike" u="sng">
                <a:solidFill>
                  <a:srgbClr val="cc00cc"/>
                </a:solidFill>
                <a:uFillTx/>
                <a:latin typeface="Times New Roman"/>
              </a:rPr>
              <a:t>Reverse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 (Name &lt;- Address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2529000"/>
            <a:ext cx="215640" cy="2523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3141720"/>
            <a:ext cx="21564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3789360"/>
            <a:ext cx="21564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24360" y="4365720"/>
            <a:ext cx="216000" cy="252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24360" y="4976640"/>
            <a:ext cx="216000" cy="252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952640"/>
            <a:ext cx="4392720" cy="4319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28120" y="2457360"/>
            <a:ext cx="3926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e80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d:5eff:feb8:807b%fxp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d:5eff:feb8:807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d:5eff:feb8:807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1989000"/>
            <a:ext cx="2124000" cy="4319640"/>
          </a:xfrm>
          <a:custGeom>
            <a:avLst/>
            <a:gdLst>
              <a:gd name="textAreaLeft" fmla="*/ 103680 w 2124000"/>
              <a:gd name="textAreaRight" fmla="*/ 2020320 w 2124000"/>
              <a:gd name="textAreaTop" fmla="*/ 103680 h 4319640"/>
              <a:gd name="textAreaBottom" fmla="*/ 4215960 h 4319640"/>
            </a:gdLst>
            <a:ahLst/>
            <a:rect l="textAreaLeft" t="textAreaTop" r="textAreaRight" b="textAreaBottom"/>
            <a:pathLst>
              <a:path w="21600" h="43925">
                <a:moveTo>
                  <a:pt x="3600" y="0"/>
                </a:moveTo>
                <a:arcTo wR="3600" hR="3600" stAng="16200000" swAng="-5400000"/>
                <a:lnTo>
                  <a:pt x="0" y="40325"/>
                </a:lnTo>
                <a:arcTo wR="3600" hR="3600" stAng="10800000" swAng="-5400000"/>
                <a:lnTo>
                  <a:pt x="18000" y="43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76760" y="2457360"/>
            <a:ext cx="1669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fxp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27640" y="1484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20000" y="15210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79640" y="2600280"/>
            <a:ext cx="1836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2744640"/>
            <a:ext cx="1836720" cy="0"/>
          </a:xfrm>
          <a:prstGeom prst="line">
            <a:avLst/>
          </a:prstGeom>
          <a:ln w="507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8920" y="3213000"/>
            <a:ext cx="2557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8920" y="3357720"/>
            <a:ext cx="2521080" cy="0"/>
          </a:xfrm>
          <a:prstGeom prst="line">
            <a:avLst/>
          </a:prstGeom>
          <a:ln w="507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8920" y="3824280"/>
            <a:ext cx="2557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8920" y="3968640"/>
            <a:ext cx="2521080" cy="0"/>
          </a:xfrm>
          <a:prstGeom prst="line">
            <a:avLst/>
          </a:prstGeom>
          <a:ln w="507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58920" y="4437000"/>
            <a:ext cx="2557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8920" y="4581360"/>
            <a:ext cx="2521080" cy="0"/>
          </a:xfrm>
          <a:prstGeom prst="line">
            <a:avLst/>
          </a:prstGeom>
          <a:ln w="507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93840" y="5048280"/>
            <a:ext cx="2557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93840" y="5192640"/>
            <a:ext cx="2521080" cy="0"/>
          </a:xfrm>
          <a:prstGeom prst="line">
            <a:avLst/>
          </a:prstGeom>
          <a:ln w="507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08000" y="5265360"/>
            <a:ext cx="2843280" cy="46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2920" y="468936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eed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76800" y="5697360"/>
            <a:ext cx="35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ll-manag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nual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A07-BE41-4F24-914C-F9D32EC8CD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rget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Pv6 Address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Auto Na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4640" y="1125000"/>
            <a:ext cx="833472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arget of Auto Names: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ja-JP" sz="2400" spc="-1" strike="noStrike" u="sng">
                <a:solidFill>
                  <a:srgbClr val="3333cc"/>
                </a:solidFill>
                <a:uFillTx/>
                <a:latin typeface="Times New Roman"/>
              </a:rPr>
              <a:t>Al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unicast IPv6 addresses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include link-local scoped addresse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 ar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xception (non-target):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Well-managed”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IPv6 addresses are basically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non-targe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efinition of “</a:t>
            </a:r>
            <a:r>
              <a:rPr b="1" i="1" lang="ja-JP" sz="2000" spc="-1" strike="noStrike">
                <a:solidFill>
                  <a:srgbClr val="000000"/>
                </a:solidFill>
                <a:latin typeface="Times New Roman"/>
              </a:rPr>
              <a:t>Well-managed”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addres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Their “Domain Names” are manually (or statefully) registered 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into name services (such as the DNS) alrea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cc00cc"/>
                </a:solidFill>
                <a:uFillTx/>
                <a:latin typeface="Times New Roman"/>
              </a:rPr>
              <a:t>Reverse</a:t>
            </a:r>
            <a:r>
              <a:rPr b="1" lang="ja-JP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cc00cc"/>
                </a:solidFill>
                <a:latin typeface="Times New Roman"/>
              </a:rPr>
              <a:t>mapping entries are needed for </a:t>
            </a:r>
            <a:r>
              <a:rPr b="1" lang="ja-JP" sz="2400" spc="-1" strike="noStrike">
                <a:solidFill>
                  <a:srgbClr val="cc00cc"/>
                </a:solidFill>
                <a:latin typeface="Times New Roman"/>
              </a:rPr>
              <a:t>All </a:t>
            </a:r>
            <a:r>
              <a:rPr b="0" lang="ja-JP" sz="2400" spc="-1" strike="noStrike">
                <a:solidFill>
                  <a:srgbClr val="cc00cc"/>
                </a:solidFill>
                <a:latin typeface="Times New Roman"/>
              </a:rPr>
              <a:t>addr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mapping entrie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will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not be neede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for “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Well-manage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 addr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Even if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mapping entries exist, they will not cause problem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4C1-4C46-49FE-9F29-469CDBDC07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of Auto Na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nceptual Design on Naming R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9360"/>
            <a:ext cx="7772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uto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xed 7 characters str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omposed of  "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-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"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: stand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e (Interfac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characters (starting from '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)    (e.g., '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</a:t>
            </a:r>
            <a:r>
              <a:rPr b="0" lang="en-US" sz="24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7b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</a:t>
            </a:r>
            <a:r>
              <a:rPr b="0" lang="en-US" sz="24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3e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: stand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x of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character: (e.g., '</a:t>
            </a:r>
            <a:r>
              <a:rPr b="0" lang="en-US" sz="2400" spc="-1" strike="noStrike">
                <a:solidFill>
                  <a:srgbClr val="33cc33"/>
                </a:solidFill>
                <a:latin typeface="ＭＳ ゴシック"/>
                <a:ea typeface="ＭＳ ゴシック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0" lang="en-US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0" lang="en-US" sz="24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: stand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erface ID of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character: (e.g., '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, , , '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, , , '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ve Auto Name examples satisfy &lt;NGI&gt;-&lt;P&gt;&lt;I&gt; form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A: 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7b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33cc33"/>
                </a:solidFill>
                <a:latin typeface="ＭＳ ゴシック"/>
                <a:ea typeface="ＭＳ 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 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7b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 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7b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, 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7b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 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7b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B: 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3e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33cc33"/>
                </a:solidFill>
                <a:latin typeface="ＭＳ ゴシック"/>
                <a:ea typeface="ＭＳ 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 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3e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 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3e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, 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3e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 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3e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D4F-7EBC-411F-BA19-3E6EB2F2FB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5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NGI&gt;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5280" y="1089000"/>
            <a:ext cx="81709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GI&gt; value is also called Auto Name-Pref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GI&gt; value is shown as 'n</a:t>
            </a:r>
            <a:r>
              <a:rPr b="0" lang="ja-JP" sz="2400" spc="-1" strike="noStrike">
                <a:solidFill>
                  <a:srgbClr val="ff3399"/>
                </a:solidFill>
                <a:latin typeface="Times New Roman"/>
              </a:rPr>
              <a:t>X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Z' form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'n' : (1st char) fixed leading char. and will not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ja-JP" sz="2400" spc="-1" strike="noStrike">
                <a:solidFill>
                  <a:srgbClr val="ff3399"/>
                </a:solidFill>
                <a:latin typeface="Times New Roman"/>
              </a:rPr>
              <a:t>X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': (2nd, 3rd chars) are </a:t>
            </a:r>
            <a:r>
              <a:rPr b="1" lang="ja-JP" sz="2400" spc="-1" strike="noStrike">
                <a:solidFill>
                  <a:srgbClr val="cc0066"/>
                </a:solidFill>
                <a:latin typeface="Times New Roman"/>
              </a:rPr>
              <a:t>inherite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ja-JP" sz="2400" spc="-1" strike="noStrike">
                <a:solidFill>
                  <a:srgbClr val="cc0066"/>
                </a:solidFill>
                <a:latin typeface="Times New Roman"/>
              </a:rPr>
              <a:t>last octe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(2 charters) of the node's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'Z' : (4th char) suffix char to </a:t>
            </a:r>
            <a:r>
              <a:rPr b="1" lang="ja-JP" sz="2400" spc="-1" strike="noStrike">
                <a:solidFill>
                  <a:srgbClr val="d60093"/>
                </a:solidFill>
                <a:latin typeface="Times New Roman"/>
              </a:rPr>
              <a:t>avoid a collisio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of '</a:t>
            </a:r>
            <a:r>
              <a:rPr b="0" lang="ja-JP" sz="2400" spc="-1" strike="noStrike">
                <a:solidFill>
                  <a:srgbClr val="ff3399"/>
                </a:solidFill>
                <a:latin typeface="Times New Roman"/>
              </a:rPr>
              <a:t>X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tarting from "z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f 'XY' is collided, 'Z' is changed into "y", "x" ,,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y using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birthday paradox theore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llision probability of 256 states (1 octet) is calculated.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f there are 19 nodes (interfaces), collision is happened with 50% 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llision check procedure of '</a:t>
            </a:r>
            <a:r>
              <a:rPr b="0" lang="ja-JP" sz="2400" spc="-1" strike="noStrike">
                <a:solidFill>
                  <a:srgbClr val="ff3399"/>
                </a:solidFill>
                <a:latin typeface="Times New Roman"/>
              </a:rPr>
              <a:t>X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' is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45B-2C26-40D4-AAAE-E7A31A6EA6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4100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P&gt;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&gt; value stands for Prefix (Scope) of Address as 1 character  form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 Names of IPv6 addresses whose prefixes are same use the same   &lt;P&gt;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, following characters are us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2000" spc="-1" strike="noStrike">
                <a:solidFill>
                  <a:srgbClr val="33cc33"/>
                </a:solidFill>
                <a:latin typeface="ＭＳ ゴシック"/>
                <a:ea typeface="ＭＳ 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:  used for 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k-local scoped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20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:  used for </a:t>
            </a: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20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:  used for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bal scoped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ultiple prefixes for the same scope are used, other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ch as "h", "i",,,) can be used depending on the circumst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B9E-A271-4429-86AD-CC10DA2074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I&gt;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&gt; value stands for Interface ID of Address as 1 character form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&gt; value is starting from "1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ultiple IPv6 addresses whose &lt;NGI&gt; and &lt;P&gt; values are same are found, other &lt;I&gt; value (such as '2', '3', , , '9', 'a', , , 'z') is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9(digit)+26(alphabet)=35 states can be ta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999-5D14-46F7-9D0D-2E3EB1CC08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-dependent  Mapping tab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llision avoid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6360" y="1249200"/>
            <a:ext cx="8028000" cy="53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ly 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 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se tables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use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 Resol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they are done by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lookup operation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address – &lt;NGI&gt; value mapp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ix – &lt;P&gt; value mapp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655640" y="3141720"/>
          <a:ext cx="6802560" cy="1185840"/>
        </p:xfrm>
        <a:graphic>
          <a:graphicData uri="http://schemas.openxmlformats.org/drawingml/2006/table">
            <a:tbl>
              <a:tblPr/>
              <a:tblGrid>
                <a:gridCol w="4429080"/>
                <a:gridCol w="23734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NGI&gt;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:0d:5e:b8:80: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7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ＭＳ ゴシック"/>
                          <a:ea typeface="ＭＳ ゴシック"/>
                        </a:rPr>
                        <a:t>7b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z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:0c:76:d9:14: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e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ＭＳ ゴシック"/>
                          <a:ea typeface="ＭＳ ゴシック"/>
                        </a:rPr>
                        <a:t>e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z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655640" y="4797360"/>
          <a:ext cx="6802560" cy="1581120"/>
        </p:xfrm>
        <a:graphic>
          <a:graphicData uri="http://schemas.openxmlformats.org/drawingml/2006/table">
            <a:tbl>
              <a:tblPr/>
              <a:tblGrid>
                <a:gridCol w="2521080"/>
                <a:gridCol w="1908000"/>
                <a:gridCol w="237348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P&gt;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fe8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: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ＭＳ ゴシック"/>
                          <a:ea typeface="ＭＳ ゴシック"/>
                        </a:rPr>
                        <a:t>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k-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ＭＳ ゴシック"/>
                          <a:ea typeface="ＭＳ ゴシック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d01:2345:6789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: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e-Local 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ＭＳ ゴシック"/>
                          <a:ea typeface="ＭＳ ゴシック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ＭＳ ゴシック"/>
                          <a:ea typeface="ＭＳ ゴシック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01:db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: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ＭＳ ゴシック"/>
                          <a:ea typeface="ＭＳ ゴシック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ＭＳ ゴシック"/>
                          <a:ea typeface="ＭＳ ゴシック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C4F-AC34-482A-B3D8-780F508AB4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736200"/>
            <a:ext cx="835344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als:   What can be achie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d typical IPv6 communica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 Nam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Pref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ed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ion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gu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olving (Name -&gt; Addre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ion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r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ing (Address -&gt; Nam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ed Notions a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le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ped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IPv6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of Auto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Design on Naming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Appearance Detection and Auto Name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0B8-BDFA-44B7-8B3C-82FBE482F7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0560" y="188640"/>
            <a:ext cx="7561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v6 Addre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earance Detection mech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449360"/>
            <a:ext cx="806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detect newly appeared IPv6 address, DAD message (NS for DAD) is effective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 message has the following good capabi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d only when node would like to set new IPv6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d for All types (link-local, global, temporary,,,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 broadcast and easy to capture (without using mirror 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guishable from other NS messages, because source address of the message is unspecified ("::") and different from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d DAD message includes all necessary information (such as, IPv6 address and MAC add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 captures DAD messages and detects newly appeared IPv6 addresses. Detected information is sent to Regist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33F-6128-4801-9D17-3B66BC34D1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71640" y="3573360"/>
            <a:ext cx="72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981000"/>
            <a:ext cx="2160360" cy="863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Serv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Some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22766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572000" y="2276640"/>
            <a:ext cx="1440000" cy="1296360"/>
            <a:chOff x="4572000" y="2276640"/>
            <a:chExt cx="1440000" cy="1296360"/>
          </a:xfrm>
        </p:grpSpPr>
        <p:sp>
          <p:nvSpPr>
            <p:cNvPr id="218" name=""/>
            <p:cNvSpPr/>
            <p:nvPr/>
          </p:nvSpPr>
          <p:spPr>
            <a:xfrm>
              <a:off x="4572000" y="2276640"/>
              <a:ext cx="1440000" cy="720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gistr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91280" y="299700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411280" y="2276640"/>
            <a:ext cx="1440000" cy="1296360"/>
            <a:chOff x="2411280" y="2276640"/>
            <a:chExt cx="1440000" cy="1296360"/>
          </a:xfrm>
        </p:grpSpPr>
        <p:sp>
          <p:nvSpPr>
            <p:cNvPr id="221" name=""/>
            <p:cNvSpPr/>
            <p:nvPr/>
          </p:nvSpPr>
          <p:spPr>
            <a:xfrm>
              <a:off x="2411280" y="2276640"/>
              <a:ext cx="1440000" cy="720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32000" y="299700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492360" y="3573360"/>
            <a:ext cx="1440000" cy="1296720"/>
            <a:chOff x="3492360" y="3573360"/>
            <a:chExt cx="1440000" cy="1296720"/>
          </a:xfrm>
        </p:grpSpPr>
        <p:sp>
          <p:nvSpPr>
            <p:cNvPr id="224" name=""/>
            <p:cNvSpPr/>
            <p:nvPr/>
          </p:nvSpPr>
          <p:spPr>
            <a:xfrm>
              <a:off x="3492360" y="4149360"/>
              <a:ext cx="1440000" cy="720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ugged-i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v6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13080" y="357336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ngle-Link C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24800" y="1846440"/>
            <a:ext cx="1081080" cy="1725480"/>
          </a:xfrm>
          <a:custGeom>
            <a:avLst/>
            <a:gdLst/>
            <a:ahLst/>
            <a:rect l="l" t="t" r="r" b="b"/>
            <a:pathLst>
              <a:path w="681" h="1087">
                <a:moveTo>
                  <a:pt x="0" y="1087"/>
                </a:moveTo>
                <a:cubicBezTo>
                  <a:pt x="113" y="1019"/>
                  <a:pt x="677" y="797"/>
                  <a:pt x="679" y="678"/>
                </a:cubicBezTo>
                <a:cubicBezTo>
                  <a:pt x="681" y="559"/>
                  <a:pt x="12" y="484"/>
                  <a:pt x="10" y="371"/>
                </a:cubicBezTo>
                <a:cubicBezTo>
                  <a:pt x="8" y="258"/>
                  <a:pt x="532" y="77"/>
                  <a:pt x="6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997360"/>
            <a:ext cx="0" cy="5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92360" y="1701720"/>
            <a:ext cx="0" cy="5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3954600"/>
            <a:ext cx="1384560" cy="325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02120" y="41497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2852640"/>
            <a:ext cx="1009800" cy="289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32000" y="2852640"/>
            <a:ext cx="1798560" cy="505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cted addres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th Detector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27640" y="2798640"/>
            <a:ext cx="16761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rse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2798640"/>
            <a:ext cx="167616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mai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5280" y="414972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plication ch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27320" y="4149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5280" y="414972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plication ch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64000" y="396864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64320" y="39337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4A1D-704C-4619-A41E-D5D7E3F58F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1946 C 0.01285 0.02988 -0.04306 0.07066 0.07431 0.08132 C 0.19167 0.09198 0.57344 0.08294 0.70486 0.08341 E">
                                      <p:cBhvr>
                                        <p:cTn id="33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evt="end">
                                        <p:tn val="32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40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2595 C 0.00851 -0.03476 -0.01528 -0.06951 0.05677 -0.07832 C 0.12882 -0.08712 0.35313 -0.07878 0.43108 -0.07878 E">
                                      <p:cBhvr>
                                        <p:cTn id="54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2595 C -0.00694 -0.0336 0.01389 -0.06279 -0.04462 -0.07252 C -0.10312 -0.08226 -0.28681 -0.08179 -0.35052 -0.08411 E">
                                      <p:cBhvr>
                                        <p:cTn id="57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500"/>
                            </p:stCondLst>
                            <p:childTnLst>
                              <p:par>
                                <p:cTn id="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5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784 C 0.00435 0.02711 -0.00625 0.06534 0.02848 0.07392 C 0.0632 0.08249 0.17362 0.08249 0.20816 0.06998 C 0.24271 0.05746 0.23004 0.01344 0.23577 -0.00162 E">
                                      <p:cBhvr>
                                        <p:cTn id="73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0208 C 0.0092 0.01436 0.01788 0.06186 0.04305 0.07368 C 0.06823 0.08549 0.11736 0.08758 0.15312 0.07368 C 0.18889 0.05977 0.25746 0.01297 0.25746 -0.0095 C 0.25746 -0.03198 0.17031 -0.04518 0.15278 -0.06164 C 0.13524 -0.07809 0.13594 -0.08921 0.15278 -0.10821 C 0.16962 -0.12721 0.23021 -0.1659 0.25434 -0.17586 C 0.27847 -0.18582 0.31007 -0.18328 0.29774 -0.16822 C 0.28541 -0.15316 0.18229 -0.11145 0.18038 -0.08504 C 0.17847 -0.05862 0.28993 -0.03847 0.28611 -0.0095 C 0.28229 0.01946 0.19757 0.07321 0.15712 0.0892 C 0.11666 0.10519 0.0691 0.09152 0.04305 0.08711 C 0.01701 0.08271 0.00885 0.07599 0.00087 0.06209 C -0.00712 0.04819 -0.00365 0.01598 -0.00486 0.00393 E">
                                      <p:cBhvr>
                                        <p:cTn id="90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3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8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234 C 0.00573 0.03151 0.00347 0.06418 0.02986 0.07182 C 0.05625 0.07947 0.12048 0.08294 0.15885 0.06974 C 0.19722 0.05653 0.26285 0.01714 0.26041 -0.00765 C 0.25798 -0.03244 0.14375 -0.05051 0.14444 -0.07924 C 0.14514 -0.10797 0.23976 -0.15895 0.26476 -0.1798 E">
                                      <p:cBhvr>
                                        <p:cTn id="11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732720" y="981000"/>
            <a:ext cx="2160360" cy="863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Some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22766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572000" y="2276640"/>
            <a:ext cx="1440000" cy="1296360"/>
            <a:chOff x="4572000" y="2276640"/>
            <a:chExt cx="1440000" cy="1296360"/>
          </a:xfrm>
        </p:grpSpPr>
        <p:sp>
          <p:nvSpPr>
            <p:cNvPr id="244" name=""/>
            <p:cNvSpPr/>
            <p:nvPr/>
          </p:nvSpPr>
          <p:spPr>
            <a:xfrm>
              <a:off x="4572000" y="2276640"/>
              <a:ext cx="1440000" cy="720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gistr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91280" y="299700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411280" y="2276640"/>
            <a:ext cx="1440000" cy="1296360"/>
            <a:chOff x="2411280" y="2276640"/>
            <a:chExt cx="1440000" cy="1296360"/>
          </a:xfrm>
        </p:grpSpPr>
        <p:sp>
          <p:nvSpPr>
            <p:cNvPr id="247" name=""/>
            <p:cNvSpPr/>
            <p:nvPr/>
          </p:nvSpPr>
          <p:spPr>
            <a:xfrm>
              <a:off x="2411280" y="2276640"/>
              <a:ext cx="1440000" cy="720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32000" y="299700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492360" y="3573360"/>
            <a:ext cx="1440000" cy="1296720"/>
            <a:chOff x="3492360" y="3573360"/>
            <a:chExt cx="1440000" cy="1296720"/>
          </a:xfrm>
        </p:grpSpPr>
        <p:sp>
          <p:nvSpPr>
            <p:cNvPr id="250" name=""/>
            <p:cNvSpPr/>
            <p:nvPr/>
          </p:nvSpPr>
          <p:spPr>
            <a:xfrm>
              <a:off x="3492360" y="4149360"/>
              <a:ext cx="1440000" cy="720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ugged-i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v6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13080" y="3573360"/>
              <a:ext cx="0" cy="57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724800" y="1846440"/>
            <a:ext cx="1081080" cy="1725480"/>
          </a:xfrm>
          <a:custGeom>
            <a:avLst/>
            <a:gdLst/>
            <a:ahLst/>
            <a:rect l="l" t="t" r="r" b="b"/>
            <a:pathLst>
              <a:path w="681" h="1087">
                <a:moveTo>
                  <a:pt x="0" y="1087"/>
                </a:moveTo>
                <a:cubicBezTo>
                  <a:pt x="113" y="1019"/>
                  <a:pt x="677" y="797"/>
                  <a:pt x="679" y="678"/>
                </a:cubicBezTo>
                <a:cubicBezTo>
                  <a:pt x="681" y="559"/>
                  <a:pt x="12" y="484"/>
                  <a:pt x="10" y="371"/>
                </a:cubicBezTo>
                <a:cubicBezTo>
                  <a:pt x="8" y="258"/>
                  <a:pt x="532" y="77"/>
                  <a:pt x="6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2997360"/>
            <a:ext cx="0" cy="5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92360" y="1701720"/>
            <a:ext cx="0" cy="5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71640" y="3573360"/>
            <a:ext cx="72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419640" y="3573360"/>
            <a:ext cx="144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24280" y="3016080"/>
            <a:ext cx="1218960" cy="1117800"/>
          </a:xfrm>
          <a:custGeom>
            <a:avLst/>
            <a:gdLst/>
            <a:ahLst/>
            <a:rect l="l" t="t" r="r" b="b"/>
            <a:pathLst>
              <a:path w="768" h="704">
                <a:moveTo>
                  <a:pt x="42" y="0"/>
                </a:moveTo>
                <a:cubicBezTo>
                  <a:pt x="52" y="45"/>
                  <a:pt x="0" y="205"/>
                  <a:pt x="102" y="272"/>
                </a:cubicBezTo>
                <a:cubicBezTo>
                  <a:pt x="204" y="339"/>
                  <a:pt x="543" y="332"/>
                  <a:pt x="654" y="404"/>
                </a:cubicBezTo>
                <a:cubicBezTo>
                  <a:pt x="765" y="476"/>
                  <a:pt x="744" y="642"/>
                  <a:pt x="768" y="70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24160" y="3005280"/>
            <a:ext cx="1995480" cy="511200"/>
          </a:xfrm>
          <a:custGeom>
            <a:avLst/>
            <a:gdLst/>
            <a:ahLst/>
            <a:rect l="l" t="t" r="r" b="b"/>
            <a:pathLst>
              <a:path w="1257" h="322">
                <a:moveTo>
                  <a:pt x="33" y="3"/>
                </a:moveTo>
                <a:cubicBezTo>
                  <a:pt x="57" y="49"/>
                  <a:pt x="0" y="231"/>
                  <a:pt x="174" y="276"/>
                </a:cubicBezTo>
                <a:cubicBezTo>
                  <a:pt x="348" y="321"/>
                  <a:pt x="903" y="322"/>
                  <a:pt x="1080" y="276"/>
                </a:cubicBezTo>
                <a:cubicBezTo>
                  <a:pt x="1257" y="230"/>
                  <a:pt x="1204" y="57"/>
                  <a:pt x="1236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33960" y="1932120"/>
            <a:ext cx="309600" cy="344520"/>
          </a:xfrm>
          <a:custGeom>
            <a:avLst/>
            <a:gdLst/>
            <a:ahLst/>
            <a:rect l="l" t="t" r="r" b="b"/>
            <a:pathLst>
              <a:path w="195" h="217">
                <a:moveTo>
                  <a:pt x="9" y="217"/>
                </a:moveTo>
                <a:cubicBezTo>
                  <a:pt x="12" y="186"/>
                  <a:pt x="0" y="62"/>
                  <a:pt x="26" y="31"/>
                </a:cubicBezTo>
                <a:cubicBezTo>
                  <a:pt x="52" y="0"/>
                  <a:pt x="141" y="1"/>
                  <a:pt x="168" y="30"/>
                </a:cubicBezTo>
                <a:cubicBezTo>
                  <a:pt x="195" y="59"/>
                  <a:pt x="185" y="167"/>
                  <a:pt x="189" y="20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35640" y="1833480"/>
            <a:ext cx="2290680" cy="1701720"/>
          </a:xfrm>
          <a:custGeom>
            <a:avLst/>
            <a:gdLst/>
            <a:ahLst/>
            <a:rect l="l" t="t" r="r" b="b"/>
            <a:pathLst>
              <a:path w="1443" h="1072">
                <a:moveTo>
                  <a:pt x="0" y="733"/>
                </a:moveTo>
                <a:cubicBezTo>
                  <a:pt x="20" y="778"/>
                  <a:pt x="31" y="947"/>
                  <a:pt x="119" y="1002"/>
                </a:cubicBezTo>
                <a:cubicBezTo>
                  <a:pt x="207" y="1057"/>
                  <a:pt x="384" y="1072"/>
                  <a:pt x="530" y="1065"/>
                </a:cubicBezTo>
                <a:cubicBezTo>
                  <a:pt x="676" y="1058"/>
                  <a:pt x="852" y="1023"/>
                  <a:pt x="998" y="960"/>
                </a:cubicBezTo>
                <a:cubicBezTo>
                  <a:pt x="1144" y="897"/>
                  <a:pt x="1443" y="772"/>
                  <a:pt x="1406" y="687"/>
                </a:cubicBezTo>
                <a:cubicBezTo>
                  <a:pt x="1369" y="602"/>
                  <a:pt x="854" y="528"/>
                  <a:pt x="773" y="450"/>
                </a:cubicBezTo>
                <a:cubicBezTo>
                  <a:pt x="692" y="372"/>
                  <a:pt x="818" y="291"/>
                  <a:pt x="920" y="216"/>
                </a:cubicBezTo>
                <a:cubicBezTo>
                  <a:pt x="1022" y="141"/>
                  <a:pt x="1290" y="45"/>
                  <a:pt x="1388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26880" y="42210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Plug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65440" y="314172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De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95240" y="306864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14520" y="155736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Check &amp;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27240" y="299736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ngle-Link C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7880-D56F-4B67-A56E-A8F4809F17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71640" y="2997360"/>
            <a:ext cx="72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32720" y="404640"/>
            <a:ext cx="2160360" cy="863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Some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32000" y="35701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492360" y="1700280"/>
            <a:ext cx="1440000" cy="1297080"/>
            <a:chOff x="3492360" y="1700280"/>
            <a:chExt cx="1440000" cy="1297080"/>
          </a:xfrm>
        </p:grpSpPr>
        <p:sp>
          <p:nvSpPr>
            <p:cNvPr id="271" name=""/>
            <p:cNvSpPr/>
            <p:nvPr/>
          </p:nvSpPr>
          <p:spPr>
            <a:xfrm>
              <a:off x="3492360" y="1700280"/>
              <a:ext cx="1440000" cy="7207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gistr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11640" y="242100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71640" y="3571920"/>
            <a:ext cx="1440000" cy="1297080"/>
            <a:chOff x="2771640" y="3571920"/>
            <a:chExt cx="1440000" cy="1297080"/>
          </a:xfrm>
        </p:grpSpPr>
        <p:sp>
          <p:nvSpPr>
            <p:cNvPr id="274" name=""/>
            <p:cNvSpPr/>
            <p:nvPr/>
          </p:nvSpPr>
          <p:spPr>
            <a:xfrm>
              <a:off x="2771640" y="3571920"/>
              <a:ext cx="1440000" cy="720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o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92360" y="42926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052720" y="4869000"/>
            <a:ext cx="1439640" cy="1296720"/>
            <a:chOff x="2052720" y="4869000"/>
            <a:chExt cx="1439640" cy="1296720"/>
          </a:xfrm>
        </p:grpSpPr>
        <p:sp>
          <p:nvSpPr>
            <p:cNvPr id="277" name=""/>
            <p:cNvSpPr/>
            <p:nvPr/>
          </p:nvSpPr>
          <p:spPr>
            <a:xfrm>
              <a:off x="2052720" y="5445000"/>
              <a:ext cx="1439640" cy="720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ugged-i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v6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73080" y="486900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e-Link C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24800" y="1270080"/>
            <a:ext cx="1081080" cy="1725480"/>
          </a:xfrm>
          <a:custGeom>
            <a:avLst/>
            <a:gdLst/>
            <a:ahLst/>
            <a:rect l="l" t="t" r="r" b="b"/>
            <a:pathLst>
              <a:path w="681" h="1087">
                <a:moveTo>
                  <a:pt x="0" y="1087"/>
                </a:moveTo>
                <a:cubicBezTo>
                  <a:pt x="113" y="1019"/>
                  <a:pt x="677" y="797"/>
                  <a:pt x="679" y="678"/>
                </a:cubicBezTo>
                <a:cubicBezTo>
                  <a:pt x="681" y="559"/>
                  <a:pt x="12" y="484"/>
                  <a:pt x="10" y="371"/>
                </a:cubicBezTo>
                <a:cubicBezTo>
                  <a:pt x="8" y="258"/>
                  <a:pt x="532" y="77"/>
                  <a:pt x="6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92360" y="4290840"/>
            <a:ext cx="0" cy="57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92360" y="2995560"/>
            <a:ext cx="0" cy="5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4000" y="5264280"/>
            <a:ext cx="1295640" cy="325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1080" y="544500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1009800" cy="289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3800" y="4118040"/>
            <a:ext cx="1798920" cy="503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cted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th Detector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48000" y="2222640"/>
            <a:ext cx="167652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rse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48000" y="2222640"/>
            <a:ext cx="167652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mai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720" y="122724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plication ch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9280" y="5445000"/>
            <a:ext cx="14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720" y="122724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plication ch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30920" y="35701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91280" y="4290840"/>
            <a:ext cx="0" cy="57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91280" y="2995560"/>
            <a:ext cx="0" cy="5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58920" y="4869000"/>
            <a:ext cx="302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59280" y="4869000"/>
            <a:ext cx="302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651640" y="4869000"/>
            <a:ext cx="1439640" cy="1296720"/>
            <a:chOff x="5651640" y="4869000"/>
            <a:chExt cx="1439640" cy="1296720"/>
          </a:xfrm>
        </p:grpSpPr>
        <p:sp>
          <p:nvSpPr>
            <p:cNvPr id="298" name=""/>
            <p:cNvSpPr/>
            <p:nvPr/>
          </p:nvSpPr>
          <p:spPr>
            <a:xfrm>
              <a:off x="5651640" y="5445000"/>
              <a:ext cx="1439640" cy="7207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ugged-i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v6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72000" y="4869000"/>
              <a:ext cx="0" cy="5760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372360" y="3573360"/>
            <a:ext cx="1439640" cy="1297080"/>
            <a:chOff x="6372360" y="3573360"/>
            <a:chExt cx="1439640" cy="1297080"/>
          </a:xfrm>
        </p:grpSpPr>
        <p:sp>
          <p:nvSpPr>
            <p:cNvPr id="301" name=""/>
            <p:cNvSpPr/>
            <p:nvPr/>
          </p:nvSpPr>
          <p:spPr>
            <a:xfrm>
              <a:off x="6372360" y="3573360"/>
              <a:ext cx="1439640" cy="720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o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92720" y="42940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70080" y="524988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1840" y="981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55F2-A94B-4FD5-93DC-C1185E693D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2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2.27989E-006 C 0.00278 0.01344 -0.02049 0.06696 0.02656 0.08109 C 0.07361 0.09522 0.22743 0.0841 0.28021 0.08503 E">
                                      <p:cBhvr>
                                        <p:cTn id="158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7"/>
                                      </p:cond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02132E-006 C -0.00364 -0.01298 0.00556 -0.06465 -0.02205 -0.07832 C -0.04966 -0.09199 -0.1356 -0.08133 -0.16546 -0.08202 E">
                                      <p:cBhvr>
                                        <p:cTn id="179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02132E-006 C 0.00487 -0.01275 0.00174 -0.06326 0.02882 -0.07623 C 0.05591 -0.08921 0.13438 -0.07785 0.16216 -0.07832 E">
                                      <p:cBhvr>
                                        <p:cTn id="182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500"/>
                            </p:stCondLst>
                            <p:childTnLst>
                              <p:par>
                                <p:cTn id="1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evt="end">
                                        <p:tn val="185"/>
                                      </p:cond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784 C -0.00451 0.02734 0.00191 0.06557 -0.02395 0.07553 C -0.04982 0.08549 -0.12743 0.08248 -0.1559 0.07761 C -0.18437 0.07275 -0.18802 0.08225 -0.19496 0.04657 C -0.20191 0.01089 -0.20538 -0.09778 -0.19791 -0.13717 C -0.19045 -0.17656 -0.19097 -0.17957 -0.15 -0.1893 C -0.10902 -0.19903 0.01025 -0.18351 0.04844 -0.19509 C 0.08664 -0.20668 0.07257 -0.2456 0.079 -0.25904 E">
                                      <p:cBhvr>
                                        <p:cTn id="198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1"/>
                                      </p:cond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1 0.0044 C 0.00729 0.01413 0.00295 0.0519 0.01459 0.06441 C 0.02622 0.07692 0.03229 0.07993 0.07552 0.07993 C 0.11875 0.07993 0.22518 0.07877 0.27431 0.06394 C 0.32344 0.04912 0.36927 0.01135 0.36997 -0.0095 C 0.37066 -0.03036 0.29393 -0.04518 0.27865 -0.06163 C 0.26337 -0.07809 0.26181 -0.08921 0.27865 -0.10821 C 0.29549 -0.1272 0.35608 -0.1659 0.38021 -0.17586 C 0.40434 -0.18582 0.43594 -0.18328 0.42361 -0.16821 C 0.41129 -0.15315 0.30816 -0.11145 0.30625 -0.08504 C 0.30434 -0.05862 0.41667 -0.03731 0.41198 -0.0095 C 0.40729 0.0183 0.33507 0.06533 0.27847 0.08179 C 0.22188 0.09824 0.11702 0.09036 0.07257 0.08966 C 0.02813 0.08897 0.02431 0.09267 0.01181 0.07808 C -0.00069 0.06348 0.00018 0.0183 -0.00278 0.00255 E">
                                      <p:cBhvr>
                                        <p:cTn id="215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evt="end">
                                        <p:tn val="217"/>
                                      </p:cond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3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800"/>
                            </p:stCondLst>
                            <p:childTnLst>
                              <p:par>
                                <p:cTn id="2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02896 C 0.01233 0.03661 -0.00816 0.06858 0.03646 0.0753 C 0.08108 0.08202 0.21823 0.08364 0.27483 0.06974 C 0.33143 0.05584 0.37882 0.01715 0.37639 -0.00764 C 0.37396 -0.03244 0.25972 -0.05051 0.26042 -0.07924 C 0.26111 -0.10797 0.35573 -0.15894 0.38073 -0.17979 E">
                                      <p:cBhvr>
                                        <p:cTn id="240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1640" y="2997360"/>
            <a:ext cx="72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32720" y="404640"/>
            <a:ext cx="2160360" cy="863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Some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32000" y="35701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492360" y="1700280"/>
            <a:ext cx="1440000" cy="1297080"/>
            <a:chOff x="3492360" y="1700280"/>
            <a:chExt cx="1440000" cy="1297080"/>
          </a:xfrm>
        </p:grpSpPr>
        <p:sp>
          <p:nvSpPr>
            <p:cNvPr id="309" name=""/>
            <p:cNvSpPr/>
            <p:nvPr/>
          </p:nvSpPr>
          <p:spPr>
            <a:xfrm>
              <a:off x="3492360" y="1700280"/>
              <a:ext cx="1440000" cy="7207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gistr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11640" y="242100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771640" y="3571920"/>
            <a:ext cx="1440000" cy="1297080"/>
            <a:chOff x="2771640" y="3571920"/>
            <a:chExt cx="1440000" cy="1297080"/>
          </a:xfrm>
        </p:grpSpPr>
        <p:sp>
          <p:nvSpPr>
            <p:cNvPr id="312" name=""/>
            <p:cNvSpPr/>
            <p:nvPr/>
          </p:nvSpPr>
          <p:spPr>
            <a:xfrm>
              <a:off x="2771640" y="3571920"/>
              <a:ext cx="1440000" cy="720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o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92360" y="42926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052720" y="4869000"/>
            <a:ext cx="1439640" cy="1296720"/>
            <a:chOff x="2052720" y="4869000"/>
            <a:chExt cx="1439640" cy="1296720"/>
          </a:xfrm>
        </p:grpSpPr>
        <p:sp>
          <p:nvSpPr>
            <p:cNvPr id="315" name=""/>
            <p:cNvSpPr/>
            <p:nvPr/>
          </p:nvSpPr>
          <p:spPr>
            <a:xfrm>
              <a:off x="2052720" y="5445000"/>
              <a:ext cx="1439640" cy="720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ugged-i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v6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73080" y="4869000"/>
              <a:ext cx="0" cy="57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6724800" y="1270080"/>
            <a:ext cx="1081080" cy="1725480"/>
          </a:xfrm>
          <a:custGeom>
            <a:avLst/>
            <a:gdLst/>
            <a:ahLst/>
            <a:rect l="l" t="t" r="r" b="b"/>
            <a:pathLst>
              <a:path w="681" h="1087">
                <a:moveTo>
                  <a:pt x="0" y="1087"/>
                </a:moveTo>
                <a:cubicBezTo>
                  <a:pt x="113" y="1019"/>
                  <a:pt x="677" y="797"/>
                  <a:pt x="679" y="678"/>
                </a:cubicBezTo>
                <a:cubicBezTo>
                  <a:pt x="681" y="559"/>
                  <a:pt x="12" y="484"/>
                  <a:pt x="10" y="371"/>
                </a:cubicBezTo>
                <a:cubicBezTo>
                  <a:pt x="8" y="258"/>
                  <a:pt x="532" y="77"/>
                  <a:pt x="6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92360" y="4290840"/>
            <a:ext cx="0" cy="57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92360" y="2995560"/>
            <a:ext cx="0" cy="5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30920" y="35701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91280" y="4290840"/>
            <a:ext cx="0" cy="57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91280" y="2995560"/>
            <a:ext cx="0" cy="5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58920" y="4869000"/>
            <a:ext cx="302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4869000"/>
            <a:ext cx="302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651640" y="4869000"/>
            <a:ext cx="1439640" cy="1296720"/>
            <a:chOff x="5651640" y="4869000"/>
            <a:chExt cx="1439640" cy="1296720"/>
          </a:xfrm>
        </p:grpSpPr>
        <p:sp>
          <p:nvSpPr>
            <p:cNvPr id="326" name=""/>
            <p:cNvSpPr/>
            <p:nvPr/>
          </p:nvSpPr>
          <p:spPr>
            <a:xfrm>
              <a:off x="5651640" y="5445000"/>
              <a:ext cx="1439640" cy="7207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ugged-i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v6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72000" y="4869000"/>
              <a:ext cx="0" cy="5760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372360" y="3573360"/>
            <a:ext cx="1439640" cy="1297080"/>
            <a:chOff x="6372360" y="3573360"/>
            <a:chExt cx="1439640" cy="1297080"/>
          </a:xfrm>
        </p:grpSpPr>
        <p:sp>
          <p:nvSpPr>
            <p:cNvPr id="329" name=""/>
            <p:cNvSpPr/>
            <p:nvPr/>
          </p:nvSpPr>
          <p:spPr>
            <a:xfrm>
              <a:off x="6372360" y="3573360"/>
              <a:ext cx="1439640" cy="720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o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92720" y="42940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 flipV="1">
            <a:off x="1908000" y="4868640"/>
            <a:ext cx="180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14560" y="4314960"/>
            <a:ext cx="792360" cy="1089000"/>
          </a:xfrm>
          <a:custGeom>
            <a:avLst/>
            <a:gdLst/>
            <a:ahLst/>
            <a:rect l="l" t="t" r="r" b="b"/>
            <a:pathLst>
              <a:path w="499" h="686">
                <a:moveTo>
                  <a:pt x="477" y="0"/>
                </a:moveTo>
                <a:cubicBezTo>
                  <a:pt x="470" y="56"/>
                  <a:pt x="499" y="267"/>
                  <a:pt x="432" y="338"/>
                </a:cubicBezTo>
                <a:cubicBezTo>
                  <a:pt x="365" y="409"/>
                  <a:pt x="148" y="368"/>
                  <a:pt x="76" y="426"/>
                </a:cubicBezTo>
                <a:cubicBezTo>
                  <a:pt x="4" y="484"/>
                  <a:pt x="16" y="632"/>
                  <a:pt x="0" y="68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71760" y="2432160"/>
            <a:ext cx="2604960" cy="2460600"/>
          </a:xfrm>
          <a:custGeom>
            <a:avLst/>
            <a:gdLst/>
            <a:ahLst/>
            <a:rect l="l" t="t" r="r" b="b"/>
            <a:pathLst>
              <a:path w="1641" h="1550">
                <a:moveTo>
                  <a:pt x="1125" y="1183"/>
                </a:moveTo>
                <a:cubicBezTo>
                  <a:pt x="1104" y="1234"/>
                  <a:pt x="1162" y="1452"/>
                  <a:pt x="999" y="1489"/>
                </a:cubicBezTo>
                <a:cubicBezTo>
                  <a:pt x="836" y="1526"/>
                  <a:pt x="300" y="1550"/>
                  <a:pt x="150" y="1408"/>
                </a:cubicBezTo>
                <a:cubicBezTo>
                  <a:pt x="0" y="1266"/>
                  <a:pt x="50" y="810"/>
                  <a:pt x="96" y="634"/>
                </a:cubicBezTo>
                <a:cubicBezTo>
                  <a:pt x="142" y="458"/>
                  <a:pt x="204" y="410"/>
                  <a:pt x="429" y="352"/>
                </a:cubicBezTo>
                <a:cubicBezTo>
                  <a:pt x="654" y="294"/>
                  <a:pt x="1251" y="342"/>
                  <a:pt x="1446" y="283"/>
                </a:cubicBezTo>
                <a:cubicBezTo>
                  <a:pt x="1641" y="224"/>
                  <a:pt x="1570" y="59"/>
                  <a:pt x="1602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1341360"/>
            <a:ext cx="309600" cy="344520"/>
          </a:xfrm>
          <a:custGeom>
            <a:avLst/>
            <a:gdLst/>
            <a:ahLst/>
            <a:rect l="l" t="t" r="r" b="b"/>
            <a:pathLst>
              <a:path w="195" h="217">
                <a:moveTo>
                  <a:pt x="9" y="217"/>
                </a:moveTo>
                <a:cubicBezTo>
                  <a:pt x="12" y="186"/>
                  <a:pt x="0" y="62"/>
                  <a:pt x="26" y="31"/>
                </a:cubicBezTo>
                <a:cubicBezTo>
                  <a:pt x="52" y="0"/>
                  <a:pt x="141" y="1"/>
                  <a:pt x="168" y="30"/>
                </a:cubicBezTo>
                <a:cubicBezTo>
                  <a:pt x="195" y="59"/>
                  <a:pt x="185" y="167"/>
                  <a:pt x="189" y="20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27560" y="1268280"/>
            <a:ext cx="3327480" cy="1727280"/>
          </a:xfrm>
          <a:custGeom>
            <a:avLst/>
            <a:gdLst/>
            <a:ahLst/>
            <a:rect l="l" t="t" r="r" b="b"/>
            <a:pathLst>
              <a:path w="2096" h="1088">
                <a:moveTo>
                  <a:pt x="25" y="743"/>
                </a:moveTo>
                <a:cubicBezTo>
                  <a:pt x="53" y="792"/>
                  <a:pt x="0" y="980"/>
                  <a:pt x="193" y="1034"/>
                </a:cubicBezTo>
                <a:cubicBezTo>
                  <a:pt x="386" y="1088"/>
                  <a:pt x="940" y="1077"/>
                  <a:pt x="1183" y="1065"/>
                </a:cubicBezTo>
                <a:cubicBezTo>
                  <a:pt x="1426" y="1053"/>
                  <a:pt x="1505" y="1023"/>
                  <a:pt x="1651" y="960"/>
                </a:cubicBezTo>
                <a:cubicBezTo>
                  <a:pt x="1797" y="897"/>
                  <a:pt x="2096" y="772"/>
                  <a:pt x="2059" y="687"/>
                </a:cubicBezTo>
                <a:cubicBezTo>
                  <a:pt x="2022" y="602"/>
                  <a:pt x="1507" y="528"/>
                  <a:pt x="1426" y="450"/>
                </a:cubicBezTo>
                <a:cubicBezTo>
                  <a:pt x="1345" y="372"/>
                  <a:pt x="1471" y="291"/>
                  <a:pt x="1573" y="216"/>
                </a:cubicBezTo>
                <a:cubicBezTo>
                  <a:pt x="1675" y="141"/>
                  <a:pt x="1943" y="45"/>
                  <a:pt x="2041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4160" y="530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Plug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05440" y="501336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De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7800" y="24922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06160" y="90792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Check &amp;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50880" y="24922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e-Link C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60F6-E40A-4082-B553-8F893C4696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les/Characteristics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33280" y="1052640"/>
          <a:ext cx="8677440" cy="5167080"/>
        </p:xfrm>
        <a:graphic>
          <a:graphicData uri="http://schemas.openxmlformats.org/drawingml/2006/table">
            <a:tbl>
              <a:tblPr/>
              <a:tblGrid>
                <a:gridCol w="2197080"/>
                <a:gridCol w="2951280"/>
                <a:gridCol w="352908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n Ro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ct appea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d detected 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received data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pare “Auto Name”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er to name 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llig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requ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nten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most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 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limi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l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ea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B291-9502-4726-A7F8-400B9DEC10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828440" y="1484280"/>
            <a:ext cx="1802160" cy="276840"/>
            <a:chOff x="1828440" y="1484280"/>
            <a:chExt cx="1802160" cy="276840"/>
          </a:xfrm>
        </p:grpSpPr>
        <p:sp>
          <p:nvSpPr>
            <p:cNvPr id="345" name=""/>
            <p:cNvSpPr/>
            <p:nvPr/>
          </p:nvSpPr>
          <p:spPr>
            <a:xfrm flipH="1">
              <a:off x="1828440" y="157320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09840" y="1484280"/>
              <a:ext cx="3207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640" y="9018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1) Plug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66360" y="4029120"/>
            <a:ext cx="12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18520" y="443088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98880" y="537372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4) Check &amp;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 Proced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851120" y="1114560"/>
            <a:ext cx="5759280" cy="5409720"/>
            <a:chOff x="1851120" y="1114560"/>
            <a:chExt cx="5759280" cy="5409720"/>
          </a:xfrm>
        </p:grpSpPr>
        <p:sp>
          <p:nvSpPr>
            <p:cNvPr id="353" name=""/>
            <p:cNvSpPr/>
            <p:nvPr/>
          </p:nvSpPr>
          <p:spPr>
            <a:xfrm>
              <a:off x="1851120" y="1114560"/>
              <a:ext cx="0" cy="54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90760" y="1114560"/>
              <a:ext cx="0" cy="54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30400" y="1114560"/>
              <a:ext cx="0" cy="54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70400" y="1114560"/>
              <a:ext cx="0" cy="54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10400" y="1114560"/>
              <a:ext cx="0" cy="54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236960" y="65556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v6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80000" y="6508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32160" y="6508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43360" y="6508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01480" y="47628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Serv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or Some D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51120" y="13921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84400" y="1206360"/>
            <a:ext cx="59364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30760" y="1665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51120" y="3978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90760" y="140328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51120" y="44323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90760" y="443232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30760" y="49388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850760" y="42069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0760" y="5175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170400" y="531180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70760" y="58435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170400" y="59961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70760" y="62247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170400" y="63817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4280" y="1270080"/>
            <a:ext cx="11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-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3640" y="364500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78400" y="13809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o N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40280" y="1628640"/>
            <a:ext cx="94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detected</a:t>
            </a:r>
            <a:br>
              <a:rPr sz="1800"/>
            </a:b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51120" y="11080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43280" y="41450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78400" y="44179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o N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79480" y="35863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43120" y="39067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91040" y="4897440"/>
            <a:ext cx="94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detected</a:t>
            </a:r>
            <a:br>
              <a:rPr sz="1800"/>
            </a:b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80120" y="545292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180120" y="558972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828440" y="4522680"/>
            <a:ext cx="1802160" cy="276840"/>
            <a:chOff x="1828440" y="4522680"/>
            <a:chExt cx="1802160" cy="276840"/>
          </a:xfrm>
        </p:grpSpPr>
        <p:sp>
          <p:nvSpPr>
            <p:cNvPr id="391" name=""/>
            <p:cNvSpPr/>
            <p:nvPr/>
          </p:nvSpPr>
          <p:spPr>
            <a:xfrm flipH="1">
              <a:off x="1828440" y="461160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09840" y="4522680"/>
              <a:ext cx="3207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350520" y="1052640"/>
            <a:ext cx="12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18520" y="134136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70520" y="198900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4) Check &amp;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0760" y="206064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170400" y="219708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70760" y="27115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170400" y="286380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70760" y="306864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170400" y="321300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35600" y="2708280"/>
            <a:ext cx="15037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egister both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egular and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everse Entries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6600" y="1916280"/>
            <a:ext cx="1520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ck b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ers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r Resol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80120" y="2349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180120" y="24861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87280" y="3860640"/>
            <a:ext cx="594000" cy="28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38840" y="5913360"/>
            <a:ext cx="15037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egister both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egular and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everse Entries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29840" y="5121360"/>
            <a:ext cx="1520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ck b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ers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r Resol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4BCE-C996-4975-86DC-48D90AD0195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uto Nam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echnologies in sh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49280" y="180828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IPv6 Address i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xed 7 characters 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kind of inform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ression techniq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Pv6 Address inform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almost meaning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ing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can remember, underst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‘type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5640" y="3249720"/>
            <a:ext cx="611280" cy="468360"/>
          </a:xfrm>
          <a:prstGeom prst="rightArrow">
            <a:avLst>
              <a:gd name="adj1" fmla="val 50000"/>
              <a:gd name="adj2" fmla="val 32629"/>
            </a:avLst>
          </a:prstGeom>
          <a:solidFill>
            <a:srgbClr val="33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CEE7-B3AA-4BBB-ABE1-D19F2336E8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5920" y="1528920"/>
            <a:ext cx="8370720" cy="32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not clarified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actual 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is used for Auto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S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strong candi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S have DNS resolver implemen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using the DNS user authenticate implement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achieve the ‘Scoped Name’ feature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9C9F-907B-40B1-8E1C-C9764C2608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cu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let us know you com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084-EBF5-4E4C-AA09-72A9561218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6000" y="1015920"/>
            <a:ext cx="86407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 addres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ong and complic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 remember for hu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ve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is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most im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‘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ype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eral IPv6 addres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anu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eral IPv6 address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calle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aningl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it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ery diffic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hum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 t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Pv6 address is set to which actual IPv6 no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a g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desi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tle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instead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eral IPv6 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information from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most meaningles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aningf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de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Corresponding Auto Names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troduc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above problems and to satisfy the above des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63E-DB1C-481A-B649-993D429733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d Typ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v6 Communication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920" y="4292640"/>
            <a:ext cx="4464000" cy="201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AC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:0d:5e:b8:80: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iteral Address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fe80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d:5eff:feb8:807b%fxp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d:5eff:feb8:807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34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d:5eff:feb8:807b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34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38560" y="1700280"/>
            <a:ext cx="1008000" cy="72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573360"/>
            <a:ext cx="792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03640" y="357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242100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1449360"/>
            <a:ext cx="0" cy="2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41440" y="2997360"/>
            <a:ext cx="34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lob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2001:db8: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2997360"/>
            <a:ext cx="79214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42100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429000"/>
            <a:ext cx="792180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86200" y="2421000"/>
            <a:ext cx="0" cy="1008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43240" y="2492280"/>
            <a:ext cx="42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9840" y="5013360"/>
            <a:ext cx="216000" cy="1224000"/>
            <a:chOff x="69840" y="5013360"/>
            <a:chExt cx="216000" cy="1224000"/>
          </a:xfrm>
        </p:grpSpPr>
        <p:sp>
          <p:nvSpPr>
            <p:cNvPr id="102" name=""/>
            <p:cNvSpPr/>
            <p:nvPr/>
          </p:nvSpPr>
          <p:spPr>
            <a:xfrm>
              <a:off x="69840" y="5013360"/>
              <a:ext cx="21600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840" y="52657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840" y="5518440"/>
              <a:ext cx="216000" cy="215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840" y="5769000"/>
              <a:ext cx="216000" cy="2160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840" y="6021720"/>
              <a:ext cx="216000" cy="215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3280" y="4292640"/>
            <a:ext cx="4464360" cy="201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B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AC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:0c:76:d9:14: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e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iteral Address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fe80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c:76ff:fed9:14e3%em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c:76ff:fed9:14e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678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c:76ff:fed9:14e3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678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78200" y="5013360"/>
            <a:ext cx="216000" cy="1224000"/>
            <a:chOff x="4678200" y="5013360"/>
            <a:chExt cx="216000" cy="1224000"/>
          </a:xfrm>
        </p:grpSpPr>
        <p:sp>
          <p:nvSpPr>
            <p:cNvPr id="109" name=""/>
            <p:cNvSpPr/>
            <p:nvPr/>
          </p:nvSpPr>
          <p:spPr>
            <a:xfrm>
              <a:off x="4678200" y="5013360"/>
              <a:ext cx="21600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78200" y="52657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78200" y="5518440"/>
              <a:ext cx="216000" cy="215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78200" y="5769000"/>
              <a:ext cx="216000" cy="2160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78200" y="6021720"/>
              <a:ext cx="216000" cy="215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732720" y="357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A38-2763-40AB-8051-BB4D0F5B16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956720" y="4292640"/>
            <a:ext cx="1152360" cy="201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1640" y="4294080"/>
            <a:ext cx="1152360" cy="201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o Nam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xampl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20" y="4292640"/>
            <a:ext cx="4464000" cy="201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AC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:0d:5e:b8:80: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iteral Address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uto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fe80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d:5eff:feb8:807b%fxp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33cc33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fx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d:5eff:feb8:807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34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d:5eff:feb8:807b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34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8560" y="1700280"/>
            <a:ext cx="1008000" cy="72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573360"/>
            <a:ext cx="792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03640" y="357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242100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1449360"/>
            <a:ext cx="0" cy="2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41440" y="2997360"/>
            <a:ext cx="34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lob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2001:db8: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2997360"/>
            <a:ext cx="79214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242100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429000"/>
            <a:ext cx="792180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86200" y="2421000"/>
            <a:ext cx="0" cy="1008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43240" y="2492280"/>
            <a:ext cx="42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9840" y="5013360"/>
            <a:ext cx="216000" cy="1224000"/>
            <a:chOff x="69840" y="5013360"/>
            <a:chExt cx="216000" cy="1224000"/>
          </a:xfrm>
        </p:grpSpPr>
        <p:sp>
          <p:nvSpPr>
            <p:cNvPr id="131" name=""/>
            <p:cNvSpPr/>
            <p:nvPr/>
          </p:nvSpPr>
          <p:spPr>
            <a:xfrm>
              <a:off x="69840" y="5013360"/>
              <a:ext cx="21600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840" y="52657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40" y="5518440"/>
              <a:ext cx="216000" cy="215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840" y="5769000"/>
              <a:ext cx="216000" cy="2160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840" y="6021720"/>
              <a:ext cx="216000" cy="215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643280" y="4292640"/>
            <a:ext cx="4464360" cy="201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B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AC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:0c:76:d9:14: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e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iteral Address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uto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fe80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c:76ff:fed9:14e3%em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e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33cc33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em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c:76ff:fed9:14e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e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678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e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c:76ff:fed9:14e3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e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678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e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78200" y="5013360"/>
            <a:ext cx="216000" cy="1224000"/>
            <a:chOff x="4678200" y="5013360"/>
            <a:chExt cx="216000" cy="1224000"/>
          </a:xfrm>
        </p:grpSpPr>
        <p:sp>
          <p:nvSpPr>
            <p:cNvPr id="138" name=""/>
            <p:cNvSpPr/>
            <p:nvPr/>
          </p:nvSpPr>
          <p:spPr>
            <a:xfrm>
              <a:off x="4678200" y="5013360"/>
              <a:ext cx="21600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8200" y="52657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78200" y="5518440"/>
              <a:ext cx="216000" cy="215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78200" y="5769000"/>
              <a:ext cx="216000" cy="2160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78200" y="6021720"/>
              <a:ext cx="216000" cy="215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732720" y="357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A9F-01BC-4A81-B3D3-4F4FB485E9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3280" y="367920"/>
            <a:ext cx="86774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Prefi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Grouped Addr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072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make Auto Nam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ningf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 addresses are grouped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Pref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show grouped addr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Pv6 addr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re set to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ame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de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am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ut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Name Pref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for their Auto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hown abov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</a:t>
            </a:r>
            <a:r>
              <a:rPr b="1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7b</a:t>
            </a:r>
            <a:r>
              <a:rPr b="1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sed for Au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Prefi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Node A (00:0d:5e:b8:80: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</a:t>
            </a:r>
            <a:r>
              <a:rPr b="1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e3</a:t>
            </a:r>
            <a:r>
              <a:rPr b="1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sed for Au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Prefi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Node B (00:0c:76:d9:14: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e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ng rule of Au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Prefix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based 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ing 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the last oct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node's MAC ad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3CE-9C77-45F4-A9C6-A7CC8799ED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solv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ame -&gt; Address)   (1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3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ng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 or 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ln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 to the specific IPv6 address of Node B from Node A,  the following commands are typ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ping6  fe80::20c:76ff:fed9:14e3%fx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telnet fd01:2345:6789::20c:76ff:fed9:14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ping6  n3ez-l1%fx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telnet n3ez-u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4113360"/>
            <a:ext cx="936720" cy="684000"/>
          </a:xfrm>
          <a:prstGeom prst="downArrow">
            <a:avLst>
              <a:gd name="adj1" fmla="val 33556"/>
              <a:gd name="adj2" fmla="val 4315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59040" y="3753000"/>
            <a:ext cx="56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lmo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impossible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to ‘type’ commands for 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95760" y="5769000"/>
            <a:ext cx="54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ecome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ossible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to ‘type’ commands for 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DCE-DB4D-4E6C-BB69-C7B88C3AF3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solv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ame -&gt; Address)   (2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nfigure access filter (e.g., /etc/hosts.allow)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sshd : [fe80::20c:76ff:fed9:14e3%fxp0]      : 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sshd : [fd01:2345:6789::20c:76ff:fed9:14e3] : 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sshd : n3ez-l1%fxp0 : 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sshd : n3ez-u1      : 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58920" y="5445000"/>
            <a:ext cx="508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ecome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ossible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to ‘type’ entries for human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Easy to understand the meanings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at a g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87640" y="3652920"/>
            <a:ext cx="936720" cy="684000"/>
          </a:xfrm>
          <a:prstGeom prst="downArrow">
            <a:avLst>
              <a:gd name="adj1" fmla="val 33556"/>
              <a:gd name="adj2" fmla="val 4315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87360" y="3436920"/>
            <a:ext cx="526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lmo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impossible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to ‘type’ entries for human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‘copy and paste’ is required to make e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ssible to understand meaning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t a g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C7F-20B6-44EA-A9AB-773F53751F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solv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ddress -&gt; Name)   (1/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netstat -a' (on Node A) shows connection status as follow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cal Address                 Foreign Address               (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e80::20d:5eff:feb8:807b.8722 fe80:3::20c:76ff:fed9:14e3.23 ESTABL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d01:2345:6789::1234.16258    fd01:2345:6789::5678.23       TIME_WA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cal Address                 Foreign Address               (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7bz-l1.8722                  ne3z-l1.23                    ESTABL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7bz-u1.16258                 ne3z-u1.23                    TIME_WA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3652920"/>
            <a:ext cx="936360" cy="684000"/>
          </a:xfrm>
          <a:prstGeom prst="downArrow">
            <a:avLst>
              <a:gd name="adj1" fmla="val 33556"/>
              <a:gd name="adj2" fmla="val 4315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01200" y="3247920"/>
            <a:ext cx="49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lmo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meaningles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information for 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67000" y="5337000"/>
            <a:ext cx="49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ecome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Meaningful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information for 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2240" y="5864400"/>
            <a:ext cx="74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Beautified dis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ixed length charac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uto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E11-2A21-49C2-B984-4DDD3D714E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0:22:29Z</dcterms:created>
  <dc:creator>kitamura</dc:creator>
  <dc:description/>
  <dc:language>en-US</dc:language>
  <cp:lastModifiedBy>kitamura</cp:lastModifiedBy>
  <dcterms:modified xsi:type="dcterms:W3CDTF">2011-11-13T12:57:08Z</dcterms:modified>
  <cp:revision>295</cp:revision>
  <dc:subject/>
  <dc:title>76 6man NC update</dc:title>
</cp:coreProperties>
</file>