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C6E0-5F80-4585-B728-B1377585E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3126-F158-4CC4-A98F-48125E8AA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55600" y="693720"/>
            <a:ext cx="4552920" cy="3414600"/>
          </a:xfrm>
          <a:prstGeom prst="rect">
            <a:avLst/>
          </a:prstGeom>
          <a:ln w="0">
            <a:noFill/>
          </a:ln>
        </p:spPr>
      </p:sp>
      <p:sp>
        <p:nvSpPr>
          <p:cNvPr id="10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ECD0A-D494-4C4B-BD57-EB89B0ABC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0340-1986-494F-A2D8-0B34F52B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0A8B4-37FD-4AAC-84E3-C4441519A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8D8EE-B386-4E94-9FCF-D2A0D2B8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7619D-4E10-46C4-9B24-DE61214AF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137D2-6033-467C-BF39-48403E163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13548-974F-49EE-BC5F-D9652F409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122BE-856E-4558-ADC9-AFC8AE205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F2884-A69E-4281-91A6-6578F105F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D0047-C6D5-45D4-985D-170E11BEA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742F7-A8E3-4572-BCF6-F10307643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62FC0-3A12-4288-B2A1-4D702167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3FBA8-13E0-4540-9608-5728AF0D1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6EF6D-5AFA-4D73-B8A7-40EF2D6C0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70044-F51C-48F9-AC08-C65831975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D7FB1-B172-4E72-B06B-B766DC8DB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DF823-F8F5-4E73-8BED-C338F0824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1720C-D58C-4B06-8D38-6E75C1B6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DA151-51F9-4F3C-B25D-AC4307B9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00D0-D586-4E0F-A4F9-6441BDE26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4857-5BC6-4361-BE6F-9F38BE025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880A-339F-43FF-8965-ED29AC46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2488C-16D6-42B5-88DD-6F9BFCB6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33E1-8C87-4065-91DF-B06C3026E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0B18-D017-42E5-B2A6-963404EC57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8" descr=""/>
          <p:cNvPicPr/>
          <p:nvPr/>
        </p:nvPicPr>
        <p:blipFill>
          <a:blip r:embed="rId2"/>
          <a:stretch/>
        </p:blipFill>
        <p:spPr>
          <a:xfrm>
            <a:off x="7399440" y="138240"/>
            <a:ext cx="1347840" cy="101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11" descr=""/>
          <p:cNvPicPr/>
          <p:nvPr/>
        </p:nvPicPr>
        <p:blipFill>
          <a:blip r:embed="rId2"/>
          <a:stretch/>
        </p:blipFill>
        <p:spPr>
          <a:xfrm>
            <a:off x="7315200" y="2890800"/>
            <a:ext cx="1347840" cy="10191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1B70-4C66-4184-BB51-B87F22D785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330066"/>
                </a:solidFill>
                <a:latin typeface="Arial"/>
              </a:rPr>
              <a:t>Technical Plenary</a:t>
            </a:r>
            <a:endParaRPr b="1" lang="en-US" sz="4800" spc="-1" strike="noStrike">
              <a:solidFill>
                <a:srgbClr val="330066"/>
              </a:solidFill>
              <a:latin typeface="Arial"/>
            </a:endParaRPr>
          </a:p>
        </p:txBody>
      </p:sp>
      <p:sp>
        <p:nvSpPr>
          <p:cNvPr id="95"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TF 82</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pei</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vember 14, 2011 </a:t>
            </a:r>
            <a:endParaRPr b="0" lang="en-US" sz="3600" spc="-1" strike="noStrike">
              <a:solidFill>
                <a:srgbClr val="000000"/>
              </a:solidFill>
              <a:latin typeface="Arial"/>
            </a:endParaRPr>
          </a:p>
        </p:txBody>
      </p:sp>
      <p:sp>
        <p:nvSpPr>
          <p:cNvPr id="96" name="Rectangle 1"/>
          <p:cNvSpPr/>
          <p:nvPr/>
        </p:nvSpPr>
        <p:spPr>
          <a:xfrm>
            <a:off x="475920" y="5869080"/>
            <a:ext cx="774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https://datatracker.ietf.org/meeting/82/materials.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 room: plenary@jabber.ietf.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E02D-AB93-4833-95F4-669B429436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983880" y="457200"/>
            <a:ext cx="7162920" cy="5335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Times New Roman"/>
              </a:rPr>
              <a:t>Note Well</a:t>
            </a:r>
            <a:endParaRPr b="1" lang="en-US" sz="3600" spc="-1" strike="noStrike">
              <a:solidFill>
                <a:srgbClr val="330066"/>
              </a:solidFill>
              <a:latin typeface="Arial"/>
            </a:endParaRPr>
          </a:p>
        </p:txBody>
      </p:sp>
      <p:sp>
        <p:nvSpPr>
          <p:cNvPr id="99" name="PlaceHolder 2"/>
          <p:cNvSpPr>
            <a:spLocks noGrp="1"/>
          </p:cNvSpPr>
          <p:nvPr>
            <p:ph/>
          </p:nvPr>
        </p:nvSpPr>
        <p:spPr>
          <a:xfrm>
            <a:off x="228600" y="1371600"/>
            <a:ext cx="8423280" cy="5486400"/>
          </a:xfrm>
          <a:prstGeom prst="rect">
            <a:avLst/>
          </a:prstGeom>
          <a:noFill/>
          <a:ln w="0">
            <a:noFill/>
          </a:ln>
        </p:spPr>
        <p:txBody>
          <a:bodyPr lIns="90360" rIns="90360" tIns="44280" bIns="44280" anchor="t">
            <a:normAutofit/>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br>
              <a:rPr sz="1400"/>
            </a:br>
            <a:r>
              <a:rPr b="1" lang="en-US" sz="1400" spc="-1" strike="noStrike">
                <a:solidFill>
                  <a:srgbClr val="000000"/>
                </a:solidFill>
                <a:latin typeface="Arial"/>
              </a:rPr>
              <a:t>  - any IETF working group or portion thereof,</a:t>
            </a:r>
            <a:br>
              <a:rPr sz="1400"/>
            </a:br>
            <a:r>
              <a:rPr b="1" lang="en-US" sz="1400" spc="-1" strike="noStrike">
                <a:solidFill>
                  <a:srgbClr val="000000"/>
                </a:solidFill>
                <a:latin typeface="Arial"/>
              </a:rPr>
              <a:t>  - the IESG or any member thereof on behalf of the IESG,</a:t>
            </a:r>
            <a:br>
              <a:rPr sz="1400"/>
            </a:br>
            <a:r>
              <a:rPr b="1" lang="en-US" sz="1400" spc="-1" strike="noStrike">
                <a:solidFill>
                  <a:srgbClr val="000000"/>
                </a:solidFill>
                <a:latin typeface="Arial"/>
              </a:rPr>
              <a:t>  - the IAB or any member thereof on behalf of the IAB,</a:t>
            </a:r>
            <a:br>
              <a:rPr sz="1400"/>
            </a:br>
            <a:r>
              <a:rPr b="1"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st functioning under IETF auspices,</a:t>
            </a:r>
            <a:br>
              <a:rPr sz="1400"/>
            </a:br>
            <a:r>
              <a:rPr b="1"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0"/>
            <a:ext cx="6858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genda</a:t>
            </a:r>
            <a:endParaRPr b="1" lang="en-US" sz="3500" spc="-1" strike="noStrike">
              <a:solidFill>
                <a:srgbClr val="330066"/>
              </a:solidFill>
              <a:latin typeface="Arial"/>
            </a:endParaRPr>
          </a:p>
        </p:txBody>
      </p:sp>
      <p:sp>
        <p:nvSpPr>
          <p:cNvPr id="101" name="PlaceHolder 2"/>
          <p:cNvSpPr>
            <a:spLocks noGrp="1"/>
          </p:cNvSpPr>
          <p:nvPr>
            <p:ph/>
          </p:nvPr>
        </p:nvSpPr>
        <p:spPr>
          <a:xfrm>
            <a:off x="228600" y="914040"/>
            <a:ext cx="8610480" cy="518148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0 – 1700: Welcome!</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om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TF Chair’s Report (Lars Egger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B Chair’s Report (Bernard Aboba)</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OC Chair’s Report (Fred Baker)</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 1915: Interconnecting Smart Objects with the Intern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5 min) - Hannes Tschofenig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B Workshop Report (15 min) - Jari Arkko</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discussion moderated by Hannes Tschofenig:</a:t>
            </a:r>
            <a:endParaRPr b="0" lang="en-US" sz="20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red Baker, Robert Assimiti, Zach Shelby, Carsten Bormann </a:t>
            </a:r>
            <a:endParaRPr b="0" lang="en-US" sz="17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5 – 1930: IAB Open Microphone S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back?</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Bernard Aboba</cp:lastModifiedBy>
  <dcterms:modified xsi:type="dcterms:W3CDTF">2011-10-19T22:27:48Z</dcterms:modified>
  <cp:revision>342</cp:revision>
  <dc:subject/>
  <dc:title>EAP WG</dc:title>
</cp:coreProperties>
</file>