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55A6C-14D5-46AF-8D8C-7AF0CA9790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4613F-5609-45C0-8EA6-192ECBD5D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947C-FCBA-4784-8CF6-BFC04C24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735C-E9F4-495E-9E46-8C9F1EAD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BBAE-1748-4419-BCB0-C1DE890AE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2C67-AB69-4B81-B3AF-F3AA30262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4E28-4D26-48A8-81AA-EE3D38DA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3DB0-CB80-40E4-A937-538DC4EC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3BE1-5645-4CE3-90E9-B8B2EDF0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8729-7B4F-419D-992F-5CEB1B54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0D6B-EBEE-40EC-A401-3E6E7A01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5D27-9301-4E36-9B4E-48102D38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3423-924F-4AD9-979D-C480AB22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75C5-3435-424B-A24C-05D1CF7A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463F-CACE-489C-85E1-20B03B32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2B5C-2B3E-4D18-B496-203AB073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981C-9DC8-45AB-B334-C3F30540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4D69-E908-4B82-9DC6-0240B7E44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EE98-1482-44FF-8AE0-F639E0013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9CCC-EC84-4B23-ABF7-1DE5AE71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4508-9A0E-4783-B448-725F4847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5E13-6335-445D-A2C0-D4201F7B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8A3F-BDD3-4A6C-8D02-FCA74505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91EA-121E-4583-B563-9650053F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DDBA-5B81-4EE2-9671-7327D93B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6BF0-08B3-445E-80F6-B1E057EA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1B7A-A92C-4B7E-BEBF-FAA2D043B8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Object 9"/>
          <p:cNvGraphicFramePr/>
          <p:nvPr/>
        </p:nvGraphicFramePr>
        <p:xfrm>
          <a:off x="7481880" y="333360"/>
          <a:ext cx="136836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81880" y="333360"/>
                    <a:ext cx="13683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10"/>
          <p:cNvGraphicFramePr/>
          <p:nvPr/>
        </p:nvGraphicFramePr>
        <p:xfrm>
          <a:off x="7451640" y="2924280"/>
          <a:ext cx="136836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1640" y="2924280"/>
                    <a:ext cx="13683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A9B0-C91E-4631-8E2D-E693F936A9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F28F-A1E9-4FAF-970C-EC6303DBA1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6080" y="574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Plenary Agenda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68000" y="2852640"/>
            <a:ext cx="504036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ost Present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stel Awar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tojun Service Awar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AOC Open Mic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ESG Open Mic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5:41:50Z</dcterms:created>
  <dc:creator>Harald Tveit Alvestrand</dc:creator>
  <dc:description/>
  <dc:language>en-US</dc:language>
  <cp:lastModifiedBy>Russell Housley</cp:lastModifiedBy>
  <dcterms:modified xsi:type="dcterms:W3CDTF">2011-11-12T04:05:33Z</dcterms:modified>
  <cp:revision>332</cp:revision>
  <dc:subject/>
  <dc:title>Welcome to the Plenary</dc:title>
</cp:coreProperties>
</file>