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E327B-A7A0-4E44-AAD6-5B4202524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F5015-4031-44CA-ABC2-2A6767827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F79-09F9-429E-9F2C-ACF6F432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091-C0B3-4F93-9DC3-58106372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149-6A60-4741-B1A3-46CA394A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F46-4457-47BC-90C1-597E2BF0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7C7E-C084-46CE-A586-3D00C03C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0A54-A040-4074-8875-9477B82E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0A8E-97D8-45E7-8963-6E8FF963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4424-A0E9-4A0D-871E-3A9A8937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A80C-2002-46F2-9A6B-84F05A23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037E-5429-4521-982C-911D2047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B151-97E8-4239-A601-B2B4903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D44-7783-4AEF-80FC-63CB60AC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E862-0B9F-4C47-9932-D01EAC1A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BE05-AFDC-4798-B089-F3A3837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07C5-BB8F-426F-9F5B-E0D47404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C787-CC3E-475A-AF93-9BD7B36C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BAC-965B-4441-9876-B702C53F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B0F-41AF-42EC-92E8-303157D8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4B9-D840-4981-BB88-CA3CDCCA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072-5D20-42B9-B658-2BE65A32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B87-4D47-4FB0-9975-33B912C2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01B-7560-4FF0-9001-7FBF5B0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8B7-1B99-429B-8212-12C25B11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100-7A6A-4054-A3FB-FD31256C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45D6-21BB-4BA8-A526-820EFDC53A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E6E5-982A-4E41-B3D2-519B4D4546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1501-35BB-4C33-BC4E-6DA3728359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lenary Agend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68000" y="2852640"/>
            <a:ext cx="504036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st Present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tel Aw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ojun Service Aw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AOC Open M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ESG Open M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11-12T04:05:33Z</dcterms:modified>
  <cp:revision>332</cp:revision>
  <dc:subject/>
  <dc:title>Welcome to the Plenary</dc:title>
</cp:coreProperties>
</file>