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41BB-03F1-48D6-B7CD-F0E5D0081557}" type="datetime">
              <a:rPr b="0" lang="ja-JP" sz="1200" spc="-1" strike="noStrike">
                <a:solidFill>
                  <a:srgbClr val="000000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453A-D1A9-4AFE-BC42-368CCD46106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15A0-4540-4ED4-BEF0-1787F988FA1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B54A-F9CF-40F3-BF5C-E7E63BEA6C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7402-1E0C-4F1D-9F9C-6FE65B8E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1B6-97B1-4B14-B86B-B44862E9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F86-4C32-4229-888C-1290485D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246-CD37-44FC-8AFE-09BED5CC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B8F-6F9C-40F2-B91D-D863DB9C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3DC9-77D8-43C3-AE3C-52741DDB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411E-19A2-4E88-AD6D-918F2CBD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245-1088-41CB-9BC6-AD135D84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55C-5730-45E4-A935-574FCBCB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7D7-2544-4327-A66D-EBC15251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FA59-65E6-43BC-8434-3614BC1C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456-C2D1-4872-B363-5E126429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A2EB-3041-4C4E-BA7B-EF2E70A5AD23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658D-F0BF-4F84-A085-C8BFDB5214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tojun Service Award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図 4" descr="wide_big.gif"/>
          <p:cNvPicPr/>
          <p:nvPr/>
        </p:nvPicPr>
        <p:blipFill>
          <a:blip r:embed="rId1"/>
          <a:stretch/>
        </p:blipFill>
        <p:spPr>
          <a:xfrm>
            <a:off x="7391520" y="5867280"/>
            <a:ext cx="1347840" cy="762120"/>
          </a:xfrm>
          <a:prstGeom prst="rect">
            <a:avLst/>
          </a:prstGeom>
          <a:ln w="0">
            <a:noFill/>
          </a:ln>
        </p:spPr>
      </p:pic>
      <p:pic>
        <p:nvPicPr>
          <p:cNvPr id="50" name="図 5" descr="Itojun-bright.jpg"/>
          <p:cNvPicPr/>
          <p:nvPr/>
        </p:nvPicPr>
        <p:blipFill>
          <a:blip r:embed="rId2"/>
          <a:stretch/>
        </p:blipFill>
        <p:spPr>
          <a:xfrm>
            <a:off x="304920" y="3962520"/>
            <a:ext cx="3962160" cy="2641320"/>
          </a:xfrm>
          <a:prstGeom prst="rect">
            <a:avLst/>
          </a:prstGeom>
          <a:ln w="0">
            <a:noFill/>
          </a:ln>
        </p:spPr>
      </p:pic>
      <p:pic>
        <p:nvPicPr>
          <p:cNvPr id="51" name="図 5" descr="itojun-award_logo.jpg"/>
          <p:cNvPicPr/>
          <p:nvPr/>
        </p:nvPicPr>
        <p:blipFill>
          <a:blip r:embed="rId3"/>
          <a:stretch/>
        </p:blipFill>
        <p:spPr>
          <a:xfrm>
            <a:off x="4660920" y="3886200"/>
            <a:ext cx="234936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図 8" descr=""/>
          <p:cNvPicPr/>
          <p:nvPr/>
        </p:nvPicPr>
        <p:blipFill>
          <a:blip r:embed="rId4"/>
          <a:stretch/>
        </p:blipFill>
        <p:spPr>
          <a:xfrm>
            <a:off x="7162920" y="5029200"/>
            <a:ext cx="169380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図 9" descr=""/>
          <p:cNvPicPr/>
          <p:nvPr/>
        </p:nvPicPr>
        <p:blipFill>
          <a:blip r:embed="rId5"/>
          <a:stretch/>
        </p:blipFill>
        <p:spPr>
          <a:xfrm>
            <a:off x="7162920" y="3962520"/>
            <a:ext cx="175248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tojun Service A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. Jun-ichiro Hagino, known as “itojun” or “The IPv6 Samurai”, passed away in 2007, aged just 37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rue hacker (KAME IPv6/IPsec, etc) who loved computers, programming, music and fo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established by itojun’s family and friends, and is </a:t>
            </a: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dminister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y ISO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gnizes and commemorates itojun’s extraordinary dedication to IPv6 develop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 to encourage pragmatic contributions to IPv6 development and deployment in the spirit of serving the Intern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2011 Itojun Service A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e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2011 Itojun Service A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e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Alexandre Cass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Rémi Despré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ir design and implementation of 6rd, providing a real IPv6 experience for hundreds of thousands of us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nabling the world's largest public IPv6 deploy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e Telecom made IPv6 Internet Access available to any subscriber that wanted it by simply clicking on a box in their account set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new users receive IPv6 by defa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ssage from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Alexandre Cass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コンテンツ プレースホルダー 3" descr=""/>
          <p:cNvPicPr/>
          <p:nvPr/>
        </p:nvPicPr>
        <p:blipFill>
          <a:blip r:embed="rId1"/>
          <a:stretch/>
        </p:blipFill>
        <p:spPr>
          <a:xfrm>
            <a:off x="982800" y="1484280"/>
            <a:ext cx="754992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4:55:34Z</dcterms:created>
  <dc:creator>suna</dc:creator>
  <dc:description/>
  <dc:language>en-US</dc:language>
  <cp:lastModifiedBy>jun</cp:lastModifiedBy>
  <dcterms:modified xsi:type="dcterms:W3CDTF">2011-11-16T00:35:51Z</dcterms:modified>
  <cp:revision>40</cp:revision>
  <dc:subject/>
  <dc:title>The 76th IETF</dc:title>
</cp:coreProperties>
</file>