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8E3B-6BFA-4C28-B73D-7C101B49AD3D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83C-1182-46B1-AC34-77AE2AFCF5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FE5B-387A-4687-B48F-3DF97E923A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DE5-3DB0-4495-9FA7-B91571DBED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D39-53ED-4A06-A7AC-C973B1E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724-0669-4B8E-BFCC-2E64761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897-60DE-4A52-866C-94E149B3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032-E22A-4362-91CB-5161A88C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F14-E674-441E-B519-F137F3C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51C-4D30-47C1-AB81-8692EDB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884-21E5-4378-AE76-5E8CA15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E56-D538-4E21-952F-4816ACDC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95F-C294-4233-B6D6-FD6165FC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50C-21E8-4740-925D-D2A6017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BD8-E5A0-4E68-9172-8C9ADEE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AF0-71F2-435E-BC4E-E727ED0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1538-C7C7-4932-BAAC-39C88A8B8AB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5C7-4A06-49A2-9931-6DB933996E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tojun Service Award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図 4" descr="wide_big.gif"/>
          <p:cNvPicPr/>
          <p:nvPr/>
        </p:nvPicPr>
        <p:blipFill>
          <a:blip r:embed="rId1"/>
          <a:stretch/>
        </p:blipFill>
        <p:spPr>
          <a:xfrm>
            <a:off x="7391520" y="5867280"/>
            <a:ext cx="134784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図 5" descr="Itojun-bright.jpg"/>
          <p:cNvPicPr/>
          <p:nvPr/>
        </p:nvPicPr>
        <p:blipFill>
          <a:blip r:embed="rId2"/>
          <a:stretch/>
        </p:blipFill>
        <p:spPr>
          <a:xfrm>
            <a:off x="304920" y="3962520"/>
            <a:ext cx="3962160" cy="2641320"/>
          </a:xfrm>
          <a:prstGeom prst="rect">
            <a:avLst/>
          </a:prstGeom>
          <a:ln w="0">
            <a:noFill/>
          </a:ln>
        </p:spPr>
      </p:pic>
      <p:pic>
        <p:nvPicPr>
          <p:cNvPr id="51" name="図 5" descr="itojun-award_logo.jpg"/>
          <p:cNvPicPr/>
          <p:nvPr/>
        </p:nvPicPr>
        <p:blipFill>
          <a:blip r:embed="rId3"/>
          <a:stretch/>
        </p:blipFill>
        <p:spPr>
          <a:xfrm>
            <a:off x="4660920" y="3886200"/>
            <a:ext cx="23493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図 8" descr=""/>
          <p:cNvPicPr/>
          <p:nvPr/>
        </p:nvPicPr>
        <p:blipFill>
          <a:blip r:embed="rId4"/>
          <a:stretch/>
        </p:blipFill>
        <p:spPr>
          <a:xfrm>
            <a:off x="7162920" y="5029200"/>
            <a:ext cx="1693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図 9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7524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Jun-ichiro Hagino, known as “itojun” or “The IPv6 Samurai”, passed away in 2007, aged just 3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rue hacker (KAME IPv6/IPsec, etc) who loved computers, programming, music and f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established by itojun’s family and friends, and is </a:t>
            </a: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dminist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ISO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s and commemorates itojun’s extraordinary dedication to IPv6 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 to encourage pragmatic contributions to IPv6 development and deployment in the spirit of serving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011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011 Itojun Service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Alexandre Cass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émi Despr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ir design and implementation of 6rd, providing a real IPv6 experience for hundreds of thousands of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nabling the world's largest public IPv6 de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Telecom made IPv6 Internet Access available to any subscriber that wanted it by simply clicking on a box in their account set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new users receive IPv6 by defa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e from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Alexandre Cas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コンテンツ プレースホルダー 3" descr=""/>
          <p:cNvPicPr/>
          <p:nvPr/>
        </p:nvPicPr>
        <p:blipFill>
          <a:blip r:embed="rId1"/>
          <a:stretch/>
        </p:blipFill>
        <p:spPr>
          <a:xfrm>
            <a:off x="982800" y="1484280"/>
            <a:ext cx="7549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4:55:34Z</dcterms:created>
  <dc:creator>suna</dc:creator>
  <dc:description/>
  <dc:language>en-US</dc:language>
  <cp:lastModifiedBy>jun</cp:lastModifiedBy>
  <dcterms:modified xsi:type="dcterms:W3CDTF">2011-11-16T00:35:51Z</dcterms:modified>
  <cp:revision>40</cp:revision>
  <dc:subject/>
  <dc:title>The 76th IETF</dc:title>
</cp:coreProperties>
</file>