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3551C-F080-4CA2-99C4-B999C8943C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9FA99-AE42-4679-9C76-E6200C75E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D412-360A-43EA-A615-55ADAE49B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7A04-7161-4CBE-A62C-90513212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3F63-ECA3-4A6D-8C66-46BC7E0CA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201F-0288-4E6E-99E9-6D5842C29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F06A-57C5-49FA-899A-17C0E67E6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ED88-360A-4A56-8B62-C0CE499A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DBC0-9A87-445D-B589-48ADE2EB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45B9-3ED2-4E84-AA1E-BF8BB4EE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1799-A9C6-44AD-AAE3-B913BD7A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107F-B30B-4EC7-97F0-32DB43B8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0B74-3C88-496F-B9C5-9787C947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5B6E-AF23-4A3A-89FA-B631C18D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647D-C1A2-44EE-A90A-7A04955E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1C9E-314D-47E6-8EE7-924E8BB3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83B4-3B36-40AC-B0EF-F9E3CD19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94D5-6BD9-49F5-872A-C6F02D0A1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ECFC-1B89-4339-A308-209E114C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A621-7900-4297-8D5D-16ADB3B7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D93B-DCCA-4668-85CF-12565185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6FC7-20E3-4491-82ED-B63F7A3E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4BA8-EEFD-4451-B339-348163B9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54AD-5CC3-40A9-838A-6C5338FB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59E5-BCE9-4AE3-96CA-BA1007EE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BCF3-63EE-402F-BF92-9EFCB45F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E7C9-0332-4CAB-BB81-4BE6F5BA95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ietflogo"/>
          <p:cNvPicPr/>
          <p:nvPr/>
        </p:nvPicPr>
        <p:blipFill>
          <a:blip r:embed="rId2"/>
          <a:stretch/>
        </p:blipFill>
        <p:spPr>
          <a:xfrm>
            <a:off x="7391520" y="29718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0408-98E5-4D25-9346-D1BFAF0302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DE24-EFF9-49F8-8F94-9E6B14A35A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0" y="122400"/>
            <a:ext cx="5256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inar (Stef) Stefferu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84360" y="1652760"/>
            <a:ext cx="640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30-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ail pio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f got involved with the Internet in 1975, and soon became a player in the developing email infrastructure.  He had a credible claim to have started the very first email mailing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a brilliant, insightful, and warm human being whose virtues were sometimes hidden behind a somewhat argumentative exterior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stef.tiff"/>
          <p:cNvPicPr/>
          <p:nvPr/>
        </p:nvPicPr>
        <p:blipFill>
          <a:blip r:embed="rId1"/>
          <a:stretch/>
        </p:blipFill>
        <p:spPr>
          <a:xfrm>
            <a:off x="324000" y="216000"/>
            <a:ext cx="1955520" cy="65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5:41:50Z</dcterms:created>
  <dc:creator>Harald Tveit Alvestrand</dc:creator>
  <dc:description/>
  <dc:language>en-US</dc:language>
  <cp:lastModifiedBy>Russell Housley</cp:lastModifiedBy>
  <dcterms:modified xsi:type="dcterms:W3CDTF">2011-11-12T07:33:42Z</dcterms:modified>
  <cp:revision>183</cp:revision>
  <dc:subject/>
  <dc:title>Welcome to the Plenary</dc:title>
</cp:coreProperties>
</file>