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1EB9C-2A09-48B2-85AF-B5D93F897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426D0-F072-436B-B338-D475F042D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B16-76B4-4979-A060-3C344571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190-E4C6-4AE7-A75E-5493BB68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D8E-D057-4674-BDAD-6C83212B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012-9AA1-4C9F-907F-2D5387F0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F6DA-CD2F-487E-A5BB-49001A87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A66-4588-4729-8F22-5AC51B45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4C5-3D60-4C6E-B367-DE94DA94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6EB4-8FE2-498B-8CEE-0FF83D3D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9E2-3888-4921-B3E5-D7EBBBB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EF04-4488-4D2B-B743-5C96FAA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F5D-BFCD-4041-BACB-DBAC9F5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01D-907B-4030-8147-DE30066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F1ED-05F9-4214-A6DB-35066D8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1187-17C5-4ED8-B056-3E29CD1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7259-77A1-41CF-B695-DB117255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4AB5-8667-4AE9-A85E-7DCC6CE4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7790-C2F4-49E5-BEC9-20E97BB9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098-763A-4B10-AC6C-08CD9203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1FA-CE3E-4F17-8A1E-B2BCE55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EB0-B27B-41E5-9959-2466E05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AC7-A3BD-4EC3-8C28-A8EADC54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035-CE60-4764-A5E0-CBD386C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F32-D521-45F2-B6A1-2E1D4B8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D39-A010-4A90-B806-2856D3C2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196-89E6-4AC2-9559-8FD715D3AD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55D-AA35-436E-ADD0-72D147886F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026-C822-4A2E-9873-C0DA35901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122400"/>
            <a:ext cx="525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inar (Stef) Stefferu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84360" y="1652760"/>
            <a:ext cx="64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pio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f got involved with the Internet in 1975, and soon became a player in the developing email infrastructure.  He had a credible claim to have started the very first email 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brilliant, insightful, and warm human being whose virtues were sometimes hidden behind a somewhat argumentative exterio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stef.tiff"/>
          <p:cNvPicPr/>
          <p:nvPr/>
        </p:nvPicPr>
        <p:blipFill>
          <a:blip r:embed="rId1"/>
          <a:stretch/>
        </p:blipFill>
        <p:spPr>
          <a:xfrm>
            <a:off x="324000" y="216000"/>
            <a:ext cx="195552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11-12T07:33:42Z</dcterms:modified>
  <cp:revision>183</cp:revision>
  <dc:subject/>
  <dc:title>Welcome to the Plenary</dc:title>
</cp:coreProperties>
</file>