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Year Published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22"/>
                <c:pt idx="0">
                  <c:v>2011</c:v>
                </c:pt>
                <c:pt idx="1">
                  <c:v>2010</c:v>
                </c:pt>
                <c:pt idx="2">
                  <c:v>2007</c:v>
                </c:pt>
                <c:pt idx="3">
                  <c:v>2006</c:v>
                </c:pt>
                <c:pt idx="4">
                  <c:v>2006</c:v>
                </c:pt>
                <c:pt idx="5">
                  <c:v>2005</c:v>
                </c:pt>
                <c:pt idx="6">
                  <c:v>2000</c:v>
                </c:pt>
                <c:pt idx="7">
                  <c:v>2000</c:v>
                </c:pt>
                <c:pt idx="8">
                  <c:v>1999</c:v>
                </c:pt>
                <c:pt idx="9">
                  <c:v>1998</c:v>
                </c:pt>
                <c:pt idx="10">
                  <c:v>1998</c:v>
                </c:pt>
                <c:pt idx="11">
                  <c:v>1998</c:v>
                </c:pt>
                <c:pt idx="12">
                  <c:v>1998</c:v>
                </c:pt>
                <c:pt idx="13">
                  <c:v>1998</c:v>
                </c:pt>
                <c:pt idx="14">
                  <c:v>1997</c:v>
                </c:pt>
                <c:pt idx="15">
                  <c:v>1994</c:v>
                </c:pt>
                <c:pt idx="16">
                  <c:v>1994</c:v>
                </c:pt>
                <c:pt idx="17">
                  <c:v>1994</c:v>
                </c:pt>
                <c:pt idx="18">
                  <c:v>1992</c:v>
                </c:pt>
                <c:pt idx="19">
                  <c:v>1989</c:v>
                </c:pt>
                <c:pt idx="20">
                  <c:v>1979</c:v>
                </c:pt>
                <c:pt idx="21">
                  <c:v>1977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22"/>
                <c:pt idx="0">
                  <c:v>22</c:v>
                </c:pt>
                <c:pt idx="1">
                  <c:v>21</c:v>
                </c:pt>
                <c:pt idx="2">
                  <c:v>20</c:v>
                </c:pt>
                <c:pt idx="3">
                  <c:v>19</c:v>
                </c:pt>
                <c:pt idx="4">
                  <c:v>18</c:v>
                </c:pt>
                <c:pt idx="5">
                  <c:v>17</c:v>
                </c:pt>
                <c:pt idx="6">
                  <c:v>16</c:v>
                </c:pt>
                <c:pt idx="7">
                  <c:v>15</c:v>
                </c:pt>
                <c:pt idx="8">
                  <c:v>14</c:v>
                </c:pt>
                <c:pt idx="9">
                  <c:v>13</c:v>
                </c:pt>
                <c:pt idx="10">
                  <c:v>12</c:v>
                </c:pt>
                <c:pt idx="11">
                  <c:v>11</c:v>
                </c:pt>
                <c:pt idx="12">
                  <c:v>10</c:v>
                </c:pt>
                <c:pt idx="13">
                  <c:v>9</c:v>
                </c:pt>
                <c:pt idx="14">
                  <c:v>8</c:v>
                </c:pt>
                <c:pt idx="15">
                  <c:v>7</c:v>
                </c:pt>
                <c:pt idx="16">
                  <c:v>6</c:v>
                </c:pt>
                <c:pt idx="17">
                  <c:v>5</c:v>
                </c:pt>
                <c:pt idx="18">
                  <c:v>4</c:v>
                </c:pt>
                <c:pt idx="19">
                  <c:v>3</c:v>
                </c:pt>
                <c:pt idx="20">
                  <c:v>2</c:v>
                </c:pt>
                <c:pt idx="21">
                  <c:v>1</c:v>
                </c:pt>
              </c:numCache>
            </c:numRef>
          </c:yVal>
          <c:smooth val="1"/>
        </c:ser>
        <c:axId val="52006095"/>
        <c:axId val="81758081"/>
      </c:scatterChart>
      <c:valAx>
        <c:axId val="520060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8081"/>
        <c:crosses val="autoZero"/>
        <c:crossBetween val="midCat"/>
      </c:valAx>
      <c:valAx>
        <c:axId val="81758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6095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plotVisOnly val="1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821C8-4723-4EC7-B10A-AB90234AD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608BB-DDAA-4769-911A-006908D89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3307-9B59-4E06-917E-8E8AFE873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50DD-81F7-4BE5-80E2-A9EBEAA6C226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3008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6ED04-5A09-413B-9CB9-B13F021A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D77E1-0770-4117-9A99-B9553ACBB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38DE4-1829-4784-8DAE-0B36DC563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DB857-4613-4068-AC84-AC7698B71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F748-AC90-43A3-B2DE-C1BF96B38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625-7BF6-4323-BEB6-34FBC339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0EA-3E0F-4DAA-9478-3416FF6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097-95EF-41E7-BF9C-613E4AFB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F24-7DB1-4A38-BE9D-6371CFE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537-B2AE-4CA5-82BE-2F63F3F1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D90C-7596-468C-9349-0441AA2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CADD-7852-4AAF-89A0-1A835F7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1DC-083F-4236-A4C3-AB6AC43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E6BE-47AD-4061-91E7-DC7506B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0E0-C020-4061-AC53-908150D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9B3-4F7F-4D8F-B4C2-434DEFB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903-605B-4A0C-83D3-02A4B31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A00-3996-499F-BF85-59B3241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14AF-426F-4259-95C5-86D3C86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E6B9-8621-4A60-A828-E1DE2EE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D37E-0368-409A-B4EC-CC6D9A7B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15C-B0BE-416B-962A-57358DCE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83A-A9C3-4F38-8E58-946040A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18C-E962-4BAC-B00C-05CB183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619-C114-497B-B186-2519F33C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6B2-AC29-4134-B1A6-F9636C8C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C0-EE3E-4DE1-AD86-08A8C8A9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332-4716-45B5-95F1-F77FE7B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982-265E-4BA7-B184-7A350DF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24AF-9240-4D8D-A97C-CE9A544EDD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E2F6-6EF7-4137-87CA-47A5F4287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76A-CD24-4A2A-ABA0-B5B1DE4A8A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taipei.jpg"/>
          <p:cNvPicPr/>
          <p:nvPr/>
        </p:nvPicPr>
        <p:blipFill>
          <a:blip r:embed="rId1"/>
          <a:stretch/>
        </p:blipFill>
        <p:spPr>
          <a:xfrm>
            <a:off x="108000" y="3549600"/>
            <a:ext cx="44146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F9E-0ABC-4694-AD0E-021E45DA5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*** Thanks for the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0" name="Picture 3" descr="MCj04240460000[1]"/>
          <p:cNvPicPr/>
          <p:nvPr/>
        </p:nvPicPr>
        <p:blipFill>
          <a:blip r:embed="rId1"/>
          <a:stretch/>
        </p:blipFill>
        <p:spPr>
          <a:xfrm>
            <a:off x="6445080" y="4118040"/>
            <a:ext cx="2664000" cy="2624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3376440"/>
            <a:ext cx="3609720" cy="34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ert Sparks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s Eggert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rik Levkowe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wyn Dav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esh Krishn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Farr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Cr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780000" y="3376440"/>
            <a:ext cx="360036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o Kiv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 Str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m Roa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y Han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 Resn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Ed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87280" y="148608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 sprint was very successful on Saturda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improvements to datatracker de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a version of new xml2rfc tool now available on xml.resource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EDU Te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9360"/>
            <a:ext cx="4619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ed in 2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Sunday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comer’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/Tool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Training Sessions for WG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ednesday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u.ietf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19640" y="1719360"/>
            <a:ext cx="3673440" cy="4411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t Brad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Carp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ri D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H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jam Kue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N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 Perl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 Wass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lp needed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903-BB08-4337-8C07-3B975AD00C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IE" sz="3900" spc="-1" strike="noStrike">
                <a:solidFill>
                  <a:srgbClr val="330066"/>
                </a:solidFill>
                <a:latin typeface="Arial"/>
              </a:rPr>
              <a:t>Too many crypto options </a:t>
            </a:r>
            <a:br>
              <a:rPr sz="3900"/>
            </a:br>
            <a:r>
              <a:rPr b="1" lang="en-IE" sz="3900" spc="-1" strike="noStrike">
                <a:solidFill>
                  <a:srgbClr val="330066"/>
                </a:solidFill>
                <a:latin typeface="Arial"/>
              </a:rPr>
              <a:t>considered harmfu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New algorithms are being developed, written up as I-Ds, with TLS ciphersuites, etc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Each new crypto algorithm increases cost and probability of non-intero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How to handle thi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ctr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umber of symmetric cipher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572000" y="2382840"/>
          <a:ext cx="4572000" cy="424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2" name="Oval 5"/>
          <p:cNvSpPr/>
          <p:nvPr/>
        </p:nvSpPr>
        <p:spPr>
          <a:xfrm>
            <a:off x="7346880" y="2612880"/>
            <a:ext cx="1795680" cy="1632240"/>
          </a:xfrm>
          <a:prstGeom prst="ellipse">
            <a:avLst/>
          </a:prstGeom>
          <a:solidFill>
            <a:srgbClr val="99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74120" y="2940120"/>
            <a:ext cx="113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8000" y="6453360"/>
            <a:ext cx="8877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uce data: David McGrew http://www.mindspring.com/~dmcgrew/ic/internet-crypto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1E8-FBEA-41F5-BC5C-A0864989F4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 mee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30 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B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 July - 3 August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 Goog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lanta, Georgia, 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-9 November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North American Cable Indu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920" y="4868640"/>
            <a:ext cx="396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ease remember the IETF scheduling experiment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ing will run until Friday at 1330.  Also, late schedule changes are quite comm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eiffel-tower-yeahthatskosher1.jpg"/>
          <p:cNvPicPr/>
          <p:nvPr/>
        </p:nvPicPr>
        <p:blipFill>
          <a:blip r:embed="rId1"/>
          <a:stretch/>
        </p:blipFill>
        <p:spPr>
          <a:xfrm>
            <a:off x="5435640" y="1246320"/>
            <a:ext cx="2736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AC3-9113-4226-BE6F-6E03C3367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2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26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1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8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79 was 1207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coun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79 was 53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ETF 79 was held in Beij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800600" y="1752480"/>
          <a:ext cx="3997440" cy="42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52480"/>
                    <a:ext cx="399744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7E65-8830-41F0-8507-2B773A1560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Activity since </a:t>
            </a:r>
            <a:br>
              <a:rPr sz="3900"/>
            </a:b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1 (Quebec City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WG, 8 Closed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17 WGs currently char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 New I-Ds (167 were updated, 32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% (211 New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2 I-Ds were updated (again, some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% (552 Updated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IETF Las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7 I-Ds approved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 RFC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 Standards Track and 7 B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Informational and 2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100" spc="-1" strike="noStrike">
                <a:solidFill>
                  <a:srgbClr val="330066"/>
                </a:solidFill>
                <a:latin typeface="Arial"/>
              </a:rPr>
              <a:t>hese are measures of quantity; they say nothing about qualit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9EA-5280-451D-BFDE-93EE79CBB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1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3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1320 IETF-related reques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6 Private Enterprise Numbe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 port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TRIP ITAD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media typ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18 I-Ds in Last Call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23 I-Ds in IESG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05 I-Ds prior to becoming RFC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of them contained actions for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5E0-CA32-4F10-8230-6718C965B7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1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31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A continues to deliver! Processing goal averaging at 95% for IETF-relat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stics and activity reports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bout/performance/ietf-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lenary report for IETF 82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aoc.ietf.org/plenary_repor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convert protocol registries t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 Database is now published by ICANN, please se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time-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1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124080" y="5470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064-5AD2-4115-9C43-4B19EE4F3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91200" y="2389320"/>
            <a:ext cx="1828800" cy="364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: 3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: 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: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: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: 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3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: 3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hart 5" descr=""/>
          <p:cNvPicPr/>
          <p:nvPr/>
        </p:nvPicPr>
        <p:blipFill>
          <a:blip r:embed="rId1"/>
          <a:stretch/>
        </p:blipFill>
        <p:spPr>
          <a:xfrm>
            <a:off x="176040" y="2273400"/>
            <a:ext cx="6681960" cy="4413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826920" y="184464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RFC Public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1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fc-Interest@rfc-editor.or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used for all cross-stream RFC matters, like tools, policy, and style; recent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 Editor and Independent Editor model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ab-rfc-editor-model-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ab-rfc-in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, Editors, and Contributors proposed policy posted on 20 Sep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list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discussion of content of individual RF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5B1-34BF-48AD-B5D3-A7007F277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Zone Database (1 of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hur David Olson started the TZ Database in mid-1980s as a public service with no expectation of payment or other re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Z Database has become globally v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ing retirement, Arthur David Olson sought a new home for the TZ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Z community selected ian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SG approved policy for TZ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is in RFC Editor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lear-iana-timezone-database-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9457-F489-4ED0-8A76-211A187CA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Zone Database (2 of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trolabe, Inc. filed suit against Arthur David Olson and Paul Eggert, another member of the TZ community, for copyright infrin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Z Database taken offline on 7-Oct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 community helped arrange pro bono legal assistance for Arthur David O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ANN brought the TZ Database online at iana.org on 14-Oct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bert Elz selected as TZ Coordinator 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Nov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620-E2FD-4446-B33E-BA776A8638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6T04:52:05Z</dcterms:modified>
  <cp:revision>397</cp:revision>
  <dc:subject/>
  <dc:title>Welcome to the Plenary</dc:title>
</cp:coreProperties>
</file>