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Year Published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22"/>
                <c:pt idx="0">
                  <c:v>2011</c:v>
                </c:pt>
                <c:pt idx="1">
                  <c:v>2010</c:v>
                </c:pt>
                <c:pt idx="2">
                  <c:v>2007</c:v>
                </c:pt>
                <c:pt idx="3">
                  <c:v>2006</c:v>
                </c:pt>
                <c:pt idx="4">
                  <c:v>2006</c:v>
                </c:pt>
                <c:pt idx="5">
                  <c:v>2005</c:v>
                </c:pt>
                <c:pt idx="6">
                  <c:v>2000</c:v>
                </c:pt>
                <c:pt idx="7">
                  <c:v>2000</c:v>
                </c:pt>
                <c:pt idx="8">
                  <c:v>1999</c:v>
                </c:pt>
                <c:pt idx="9">
                  <c:v>1998</c:v>
                </c:pt>
                <c:pt idx="10">
                  <c:v>1998</c:v>
                </c:pt>
                <c:pt idx="11">
                  <c:v>1998</c:v>
                </c:pt>
                <c:pt idx="12">
                  <c:v>1998</c:v>
                </c:pt>
                <c:pt idx="13">
                  <c:v>1998</c:v>
                </c:pt>
                <c:pt idx="14">
                  <c:v>1997</c:v>
                </c:pt>
                <c:pt idx="15">
                  <c:v>1994</c:v>
                </c:pt>
                <c:pt idx="16">
                  <c:v>1994</c:v>
                </c:pt>
                <c:pt idx="17">
                  <c:v>1994</c:v>
                </c:pt>
                <c:pt idx="18">
                  <c:v>1992</c:v>
                </c:pt>
                <c:pt idx="19">
                  <c:v>1989</c:v>
                </c:pt>
                <c:pt idx="20">
                  <c:v>1979</c:v>
                </c:pt>
                <c:pt idx="21">
                  <c:v>1977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22"/>
                <c:pt idx="0">
                  <c:v>22</c:v>
                </c:pt>
                <c:pt idx="1">
                  <c:v>21</c:v>
                </c:pt>
                <c:pt idx="2">
                  <c:v>20</c:v>
                </c:pt>
                <c:pt idx="3">
                  <c:v>19</c:v>
                </c:pt>
                <c:pt idx="4">
                  <c:v>18</c:v>
                </c:pt>
                <c:pt idx="5">
                  <c:v>17</c:v>
                </c:pt>
                <c:pt idx="6">
                  <c:v>16</c:v>
                </c:pt>
                <c:pt idx="7">
                  <c:v>15</c:v>
                </c:pt>
                <c:pt idx="8">
                  <c:v>14</c:v>
                </c:pt>
                <c:pt idx="9">
                  <c:v>13</c:v>
                </c:pt>
                <c:pt idx="10">
                  <c:v>12</c:v>
                </c:pt>
                <c:pt idx="11">
                  <c:v>11</c:v>
                </c:pt>
                <c:pt idx="12">
                  <c:v>10</c:v>
                </c:pt>
                <c:pt idx="13">
                  <c:v>9</c:v>
                </c:pt>
                <c:pt idx="14">
                  <c:v>8</c:v>
                </c:pt>
                <c:pt idx="15">
                  <c:v>7</c:v>
                </c:pt>
                <c:pt idx="16">
                  <c:v>6</c:v>
                </c:pt>
                <c:pt idx="17">
                  <c:v>5</c:v>
                </c:pt>
                <c:pt idx="18">
                  <c:v>4</c:v>
                </c:pt>
                <c:pt idx="19">
                  <c:v>3</c:v>
                </c:pt>
                <c:pt idx="20">
                  <c:v>2</c:v>
                </c:pt>
                <c:pt idx="21">
                  <c:v>1</c:v>
                </c:pt>
              </c:numCache>
            </c:numRef>
          </c:yVal>
          <c:smooth val="1"/>
        </c:ser>
        <c:axId val="47302697"/>
        <c:axId val="51715015"/>
      </c:scatterChart>
      <c:valAx>
        <c:axId val="4730269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15015"/>
        <c:crosses val="autoZero"/>
        <c:crossBetween val="midCat"/>
      </c:valAx>
      <c:valAx>
        <c:axId val="51715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02697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plotVisOnly val="1"/>
    <c:dispBlanksAs val="span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6E95B-40FE-4558-8F1A-26E9ECCB1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6A481-4C73-42F6-823B-7D3BE0445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EC051-9378-40E3-9F45-71D2DDF88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CA0F9-313C-4449-AE8D-70CB9F9762FB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3008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5EE7D-E044-4502-B804-F01A7300E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AE8C6-4155-40A1-A127-9FB9D0775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6ABF3-24C3-48EA-BD04-0AD09FE49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2353E-73C3-4AF0-946D-23DE16FDE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88364-9F6F-4A7F-BFD3-2CFA49F13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577-B6EC-481C-B7AE-F08BD1BA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9E8-CE91-4214-8369-EBD8C75E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A27-F892-429F-B900-3A387F55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71A-C0A8-43B9-86A8-AA708489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B5E5-43A6-405F-B201-B39BA69C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82B-D35B-45F6-A4BE-BA4CDBC2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28C-969F-41D4-A90A-D1481F2C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3FFB-E9A0-4854-BE4B-541711F6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CEF6-4D58-42DC-AADC-596C4528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5348-EBC2-471C-BF9A-3247C026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0394-88B6-4106-99BC-6A00BF6E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9C1-AB7C-47EA-B2FF-F1353FCE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81FA-B41A-48A8-A3F4-12E8F481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B19E-B1B8-48D2-8A07-27F0A113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F089-ECCE-4197-BC0A-4712A567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39A5-1B71-45A9-965C-802AFB73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266B-5084-4E33-9704-46FA32F1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B81-2518-4540-A1FD-FF739987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272-2FE6-4E93-A215-274864CB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FCE-9868-4178-9C0A-C3AF7A08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60F-D58A-4633-8E7B-85214680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FF0-67FF-495C-92EA-06DE3125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3A9-0438-45D7-9DA8-E633EE89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CF0-3B18-446A-A57C-14E0155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B05-8973-483B-81C9-D8ABE351C3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F41A-EE91-4856-9CE3-45D4260066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F059-B200-4815-84ED-FEFC0F7C21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800" spc="-1" strike="noStrike">
                <a:solidFill>
                  <a:srgbClr val="330066"/>
                </a:solidFill>
                <a:latin typeface="Arial"/>
              </a:rPr>
              <a:t>IETF Status at IETF 82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24000" y="3012840"/>
            <a:ext cx="3389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Russ Hou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IETF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taipei.jpg"/>
          <p:cNvPicPr/>
          <p:nvPr/>
        </p:nvPicPr>
        <p:blipFill>
          <a:blip r:embed="rId1"/>
          <a:stretch/>
        </p:blipFill>
        <p:spPr>
          <a:xfrm>
            <a:off x="108000" y="3549600"/>
            <a:ext cx="44146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F5EA-E45C-48B4-B8AA-724741B146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*** Thanks for the Co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0" name="Picture 3" descr="MCj04240460000[1]"/>
          <p:cNvPicPr/>
          <p:nvPr/>
        </p:nvPicPr>
        <p:blipFill>
          <a:blip r:embed="rId1"/>
          <a:stretch/>
        </p:blipFill>
        <p:spPr>
          <a:xfrm>
            <a:off x="6445080" y="4118040"/>
            <a:ext cx="2664000" cy="2624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3376440"/>
            <a:ext cx="3609720" cy="34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ert Sparks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s Eggert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rik Levkowe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wyn Dav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esh Krishn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Farr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Cr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780000" y="3376440"/>
            <a:ext cx="360036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o Kiv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w Str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m Roa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ny Han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te Resn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Ed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87280" y="1486080"/>
            <a:ext cx="85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de sprint was very successful on Saturda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al improvements to datatracker deploy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a version of new xml2rfc tool now available on xml.resource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EDU Te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19360"/>
            <a:ext cx="4619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ered in 200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Sunday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comer’s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/Tools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Training Sessions for WG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Wednesday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du.ietf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219640" y="1719360"/>
            <a:ext cx="3673440" cy="4411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tt Brad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Carp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ri D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H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 Hou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jam Kue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N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 Perl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 Wass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lp needed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6643-EE1A-4520-9852-C484452AD16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n-IE" sz="3900" spc="-1" strike="noStrike">
                <a:solidFill>
                  <a:srgbClr val="330066"/>
                </a:solidFill>
                <a:latin typeface="Arial"/>
              </a:rPr>
              <a:t>Too many crypto options </a:t>
            </a:r>
            <a:br>
              <a:rPr sz="3900"/>
            </a:br>
            <a:r>
              <a:rPr b="1" lang="en-IE" sz="3900" spc="-1" strike="noStrike">
                <a:solidFill>
                  <a:srgbClr val="330066"/>
                </a:solidFill>
                <a:latin typeface="Arial"/>
              </a:rPr>
              <a:t>considered harmful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74760" indent="-281880">
              <a:spcBef>
                <a:spcPts val="726"/>
              </a:spcBef>
              <a:buClr>
                <a:srgbClr val="330066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0000"/>
                </a:solidFill>
                <a:latin typeface="Arial"/>
              </a:rPr>
              <a:t>New algorithms are being developed, written up as I-Ds, with TLS ciphersuites, etc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4760" indent="-281880">
              <a:spcBef>
                <a:spcPts val="726"/>
              </a:spcBef>
              <a:buClr>
                <a:srgbClr val="330066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0000"/>
                </a:solidFill>
                <a:latin typeface="Arial"/>
              </a:rPr>
              <a:t>Each new crypto algorithm increases cost and probability of non-intero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4760" indent="-281880">
              <a:spcBef>
                <a:spcPts val="726"/>
              </a:spcBef>
              <a:buClr>
                <a:srgbClr val="330066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0000"/>
                </a:solidFill>
                <a:latin typeface="Arial"/>
              </a:rPr>
              <a:t>How to handle thi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080" y="1604880"/>
            <a:ext cx="40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 algn="ctr">
              <a:spcBef>
                <a:spcPts val="6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umber of symmetric cipher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4572000" y="2382840"/>
          <a:ext cx="4572000" cy="4246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2" name="Oval 5"/>
          <p:cNvSpPr/>
          <p:nvPr/>
        </p:nvSpPr>
        <p:spPr>
          <a:xfrm>
            <a:off x="7346880" y="2612880"/>
            <a:ext cx="1795680" cy="1632240"/>
          </a:xfrm>
          <a:prstGeom prst="ellipse">
            <a:avLst/>
          </a:prstGeom>
          <a:solidFill>
            <a:srgbClr val="99cc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7674120" y="2940120"/>
            <a:ext cx="1130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068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w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8000" y="6453360"/>
            <a:ext cx="8877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068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ouce data: David McGrew http://www.mindspring.com/~dmcgrew/ic/internet-crypto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0DC2-7F9A-4A79-A29F-CC2DBA4889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e mee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TF 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-30 March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host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B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ETF 8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ncouver, Can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9 July - 3 August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in host:  Goog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ETF 8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tlanta, Georgia, US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-9 November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in host: North American Cable Indus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4920" y="4868640"/>
            <a:ext cx="3960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ease remember the IETF scheduling experiment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eting will run until Friday at 1330.  Also, late schedule changes are quite comm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" descr="eiffel-tower-yeahthatskosher1.jpg"/>
          <p:cNvPicPr/>
          <p:nvPr/>
        </p:nvPicPr>
        <p:blipFill>
          <a:blip r:embed="rId1"/>
          <a:stretch/>
        </p:blipFill>
        <p:spPr>
          <a:xfrm>
            <a:off x="5435640" y="1246320"/>
            <a:ext cx="27367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3ADF-D056-45AF-9FEB-E20C78A816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82 Particip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26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1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8 newc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79 was 1207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count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79 was 53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ETF 79 was held in Beij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4800600" y="1752480"/>
          <a:ext cx="3997440" cy="427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752480"/>
                    <a:ext cx="3997440" cy="42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1F54-ECFD-4A37-A561-05D7FCDD0C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Activity since </a:t>
            </a:r>
            <a:br>
              <a:rPr sz="3900"/>
            </a:b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IETF 81 (Quebec City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ew WG, 8 Closed W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117 WGs currently char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 New I-Ds (167 were updated, 32 more than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% (211 New I-Ds) received in the 4 weeks befor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2 I-Ds were updated (again, some more than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% (552 Updated I-Ds) received in the 4 weeks befor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 IETF Last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7 I-Ds approved for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 RFCs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 Standards Track and 7 B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 Informational and 2 Experi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100" spc="-1" strike="noStrike">
                <a:solidFill>
                  <a:srgbClr val="330066"/>
                </a:solidFill>
                <a:latin typeface="Arial"/>
              </a:rPr>
              <a:t>hese are measures of quantity; they say nothing about qualit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CFA3-7A6B-43B5-B51E-92F61A4119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ANA Activity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ince IETF 81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actually Jul 2011-Oct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831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d 1320 IETF-related request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6 Private Enterprise Number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 port numb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 TRIP ITAD Numb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media typ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18 I-Ds in Last Call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23 I-Ds in IESG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105 I-Ds prior to becoming RFCs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 of them contained actions for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BC91-3C45-4759-9297-DF2DD84B80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ANA Activity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ince IETF 81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31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NA continues to deliver! Processing goal averaging at 95% for IETF-related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tistics and activity reports, please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na.org/about/performance/ietf-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lenary report for IETF 82, please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aoc.ietf.org/plenary_repor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to convert protocol registries to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Zone Database is now published by ICANN, please se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na.org/time-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22400"/>
            <a:ext cx="720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FC Editor Activity since IETF 81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(actually Jul 2011-Oct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3124080" y="5470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C3C-A15B-4E4B-89A0-BDABA8B4DA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91200" y="2389320"/>
            <a:ext cx="1828800" cy="364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: 2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: 3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: 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: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: 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: 2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3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TD: 3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hart 5" descr=""/>
          <p:cNvPicPr/>
          <p:nvPr/>
        </p:nvPicPr>
        <p:blipFill>
          <a:blip r:embed="rId1"/>
          <a:stretch/>
        </p:blipFill>
        <p:spPr>
          <a:xfrm>
            <a:off x="176040" y="2273400"/>
            <a:ext cx="6681960" cy="4413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826920" y="184464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RFC Publica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22400"/>
            <a:ext cx="720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FC Editor Activity since IETF 81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(actually Jul 2011-Oct 2011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84358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fc-Interest@rfc-editor.or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used for all cross-stream RFC matters, like tools, policy, and style; recent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C Editor and Independent Editor model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ab-rfc-editor-model-v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ab-rfc-in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s, Editors, and Contributors proposed policy posted on 20 Sep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list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discussion of content of individual RF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DAAD-3C13-4EB1-A620-7F1A011AEA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 Zone Database (1 of 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hur David Olson started the TZ Database in mid-1980s as a public service with no expectation of payment or other re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Z Database has become globally vi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aring retirement, Arthur David Olson sought a new home for the TZ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Z community selected ian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SG approved policy for TZ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 is in RFC Editor Que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ft-lear-iana-timezone-database-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AFFF-DF0F-43DA-954A-D14E08FBDF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 Zone Database (2 of 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trolabe, Inc. filed suit against Arthur David Olson and Paul Eggert, another member of the TZ community, for copyright infrin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Z Database taken offline on 7-Oct-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et community helped arrange pro bono legal assistance for Arthur David Ol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CANN brought the TZ Database online at iana.org on 14-Oct-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bert Elz selected as TZ Coordinator o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-Nov-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0E7F-E1BD-4ED0-A8A4-C7897B953D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1-11-16T04:52:05Z</dcterms:modified>
  <cp:revision>397</cp:revision>
  <dc:subject/>
  <dc:title>Welcome to the Plenary</dc:title>
</cp:coreProperties>
</file>