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0884B-8634-4FD7-A001-67C46B90C3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BBB60-5AF9-43EA-8945-F67D0CFB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7C6A8-828D-4619-8FC9-0BC213D24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4118-7E31-49B1-9C5B-D8C7DA9D8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38E96-F90A-43CC-8DFE-118F926BD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2CC217-BF0A-4E9A-BB51-91EF22039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956E1-37BF-4C7A-A034-E7849F675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2B43A4-4F09-41B9-971C-8C133D313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169EA-9077-4052-B720-F109A128B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B7C6-5C0B-4FC6-B08F-136784968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1FBD5-B557-40BE-83D4-2796E26E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1F67A-F838-4E0B-86F0-35271F355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C1C09-3053-46E3-9064-A2764F6D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F8C65-DBD6-4BC0-9BED-F5587A0A8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449-1B11-4071-B907-81003702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8A-B8E7-4577-B4ED-717E757E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F15-D318-4F01-8D5A-DAE50EDF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521-5AF6-407D-A598-EC5F1231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7DAF-C51D-4D10-B7CA-EB293BEE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B5DA-0B24-4BD9-93CB-097BBCD8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D02-358F-46BD-9564-6EBD3DB7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AABB-C888-4F0F-9180-A63D3DF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9600-CBC1-4F4A-BE53-4500027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1E5-C7CC-4CB0-9795-C7E73913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3023-33E6-4068-91CB-FE18617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F0A-EEF0-4E1A-A5BE-9F876989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19D-E45A-4916-BFD5-D5313C8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0291-23F1-480D-94D9-9D76B36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8B14-D5BF-416C-BA7B-6680CF31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1C01-E727-4D9A-97E6-1249BE53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A83E-E935-48A3-B56E-1030A2C9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52B-DCF6-42B4-ACF5-C578201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485-E38E-4A17-A42A-69D085ED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AA1-FF1D-4072-A852-269DD17F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4B0-03F3-4759-BB50-1ABA7E30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BA0-6751-4AD5-A2EA-23EC1EC4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EC1-4C36-4DB1-94B3-6320D92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22F-A037-46E5-B2D9-05BEF1D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508A2-9908-4627-A21B-76148D7C1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7054920" y="304920"/>
            <a:ext cx="1631880" cy="11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9"/>
          <p:cNvGraphicFramePr/>
          <p:nvPr/>
        </p:nvGraphicFramePr>
        <p:xfrm>
          <a:off x="7481880" y="31752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752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39BAA-8158-4289-8FD6-FC128DD62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6120"/>
            <a:ext cx="7772400" cy="26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AOC Report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b Hin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OC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y Pelleti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Nov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P N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retaria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contract awarded to AMS on 8 Sep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FC Series Editor (R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OC announced search on 13 July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Submission Editor (I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Year extension in Feb 2012, or new search (IAB deci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F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Participation Services specification awarded to Paul Hoffman 7 Nov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TF Meeting Agenda Scheduling Tool SOW in community revi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52F2E-4FD0-43B4-B94A-E8D142029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of 3-year adv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plan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ly 8 of 9 venues are under contract or being negotiated through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venues in Asia is challen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countries require local support to meet IETF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venues are very expensive ( &gt; $300 / nigh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TF88 will be in Vancouver instead of 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C6447-40FA-47E4-91D7-EE4743327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tel Room Pric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65 – IETF8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1A19B-5238-4825-9C9D-B15EA037E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2760840" y="5867280"/>
            <a:ext cx="36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in US dollars without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hart 9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m Pricing by 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2341D-19B9-4845-9483-B118F53C8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607120" y="586728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in US dollars withou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9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 8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F7012-0BAD-476A-AA13-590F412F8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berlin_cnt_18nov09_iStock_b_1.jpg"/>
          <p:cNvPicPr/>
          <p:nvPr/>
        </p:nvPicPr>
        <p:blipFill>
          <a:blip r:embed="rId1"/>
          <a:stretch/>
        </p:blipFill>
        <p:spPr>
          <a:xfrm>
            <a:off x="1155600" y="1717560"/>
            <a:ext cx="6921720" cy="4606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3912120" y="1066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5114A-AC2E-4366-B9F2-FC928E4E6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875040" y="1066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1219320" y="1787400"/>
            <a:ext cx="6705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83 - Pa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no host or major sponsor for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fall of about $400K for Meeting and NOC exp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budget assumed 75%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OC will make decision before opening registration in mid-December to eith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registration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ISOC for additional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ombination of the tw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7B5F3-A7B7-4A8C-9539-FBDE8A587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s, 25-30 March 2012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ncouver, 29 July - 3 August 2012, Goo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lanta, 4-9 November 2012, North American Cable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lando, 10-15 March 2013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rlin, 28 July – 2 August 2013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ncouver, 3-8 November 2013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, 2-7 March 2014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th America, 20-25 July 2014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a Pacific , 9-14 November 2014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1EF95-407E-422B-B4D8-27F109E51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Meetings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866520"/>
            <a:ext cx="868680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ericas, 22-27 March 2015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, 19-14 July 2015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a, 1-6 November 2015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27 March – 1 April, 2016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7-11 July 2016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3-18 November 2016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26-31 March 2017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6-21 July 2017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TBD, 12-17 November 2017, Host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86220-DC7C-4A1F-85DE-FF599CECA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 Tools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9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ST Develop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PR Management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 &amp; Alt Streams Dev (Front En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erials Management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ternate Streams Specs Requir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 Charter Tool Spe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 Tracking Community Spe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ck End Specifications Requir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B Conversion WO #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Session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ue Sheet Generation Too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XML2RFC Command Line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352680" y="1447920"/>
            <a:ext cx="289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unde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B Conversion WO #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FC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lechat Interf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2RFC GUI Too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 Tracking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G Charter T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ter Milestone Specs De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End Develop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G &amp; Alt Stre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genda Scheduling Spe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09629-5B8C-44EE-80FF-B2B5A3342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3"/>
          <p:cNvSpPr/>
          <p:nvPr/>
        </p:nvSpPr>
        <p:spPr>
          <a:xfrm>
            <a:off x="6248520" y="14479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/ R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B Conversion WO #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ter Milestone Managem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ols Update for DB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retariat Tools update for DB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G ID Ver 00 Approval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genda Scheduling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7720" y="1798200"/>
            <a:ext cx="6782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FP N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 Planning Up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evelopment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E6C67-5172-41B9-8FDD-C237FDA12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AOC Repor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ETF8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Bob Hin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AOC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y Pelleti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Nov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31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retari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y, Cindy, Stephanie, Wanda, Marcia, Lisa, Ale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Series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ng 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4317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FC Productio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y, A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helle, El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066F0-7581-4BC6-BB31-52D7CF37E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: N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TF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ll Fenner, Bill Jensen, Bjoern Zeeb, Chris Elliott, Jim Martin, Lucy Lynch, Warren Kumari, Morgan Pirate Sackett, Joel Jaeggli, Karen O'Donogh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 Kao, Haway Li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ghwa Telecom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ung-Yung Kang, River Wu, Huang-Cheng Huang, Wei-Chung Tseng, Js Wu, Sk Chan, Jack Wang, Andy Lu, Liche Chen, At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68073-6007-49AE-865F-A9FD0E35A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Dev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rik – 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Development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Sp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IQ Contr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ntric S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ation Develo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6B987-11C0-4B88-AA84-2523576B5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t &amp; Welcome Reception Spo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4A7E1-A3D7-42D4-B343-E78BA2206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854920" y="765000"/>
            <a:ext cx="2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844560" y="2057400"/>
            <a:ext cx="4184640" cy="2070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4656240" y="4762440"/>
            <a:ext cx="3794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nsor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62D8A-C4E1-4CB9-BE46-01B91C253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476280" y="1417680"/>
            <a:ext cx="3754440" cy="1554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5823000" y="1461960"/>
            <a:ext cx="2222280" cy="1971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3"/>
          <a:stretch/>
        </p:blipFill>
        <p:spPr>
          <a:xfrm>
            <a:off x="2857680" y="3895560"/>
            <a:ext cx="1104840" cy="8636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1038240" y="297648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vity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5791320" y="3433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inum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13372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nsor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E9D49-6F72-4849-9C91-21266BD7C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368280" y="1417680"/>
            <a:ext cx="4444920" cy="1149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1828800" y="2567160"/>
            <a:ext cx="3645000" cy="1091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"/>
          <p:cNvPicPr/>
          <p:nvPr/>
        </p:nvPicPr>
        <p:blipFill>
          <a:blip r:embed="rId3"/>
          <a:stretch/>
        </p:blipFill>
        <p:spPr>
          <a:xfrm>
            <a:off x="6019920" y="17668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4"/>
          <a:stretch/>
        </p:blipFill>
        <p:spPr>
          <a:xfrm>
            <a:off x="457200" y="3879720"/>
            <a:ext cx="3276720" cy="90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5"/>
          <a:stretch/>
        </p:blipFill>
        <p:spPr>
          <a:xfrm>
            <a:off x="6362640" y="3429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6"/>
          <a:stretch/>
        </p:blipFill>
        <p:spPr>
          <a:xfrm>
            <a:off x="2863800" y="4781520"/>
            <a:ext cx="38988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nsor 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5AF72-57AA-4A5E-933A-9A0A05E3F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538200" y="1981080"/>
            <a:ext cx="3886200" cy="584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4813200" y="2273400"/>
            <a:ext cx="3479760" cy="58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3"/>
          <a:stretch/>
        </p:blipFill>
        <p:spPr>
          <a:xfrm>
            <a:off x="603360" y="3657600"/>
            <a:ext cx="3975120" cy="1041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4"/>
          <a:stretch/>
        </p:blipFill>
        <p:spPr>
          <a:xfrm>
            <a:off x="5321160" y="3429000"/>
            <a:ext cx="2463840" cy="1308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5"/>
          <a:stretch/>
        </p:blipFill>
        <p:spPr>
          <a:xfrm>
            <a:off x="2743200" y="4888080"/>
            <a:ext cx="38098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ACKUP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477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AOC Min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83808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: 16 of 21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ere not able to produce minutes in a timely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minutes will be taken by ISOC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thanks to volunt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en O'Donoghue, Suresh Krishnan, Andrew Sullivan, Marshall Eu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C302F-5755-4A51-A420-AC31EBB57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81 Financial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24A4F-7E80-4905-88F2-9C11AA9A1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Quebec-Financial-Statement2.pdf"/>
          <p:cNvPicPr/>
          <p:nvPr/>
        </p:nvPicPr>
        <p:blipFill>
          <a:blip r:embed="rId1"/>
          <a:srcRect l="6363" t="10588" r="18185" b="11764"/>
          <a:stretch/>
        </p:blipFill>
        <p:spPr>
          <a:xfrm>
            <a:off x="1228680" y="914400"/>
            <a:ext cx="66960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1-2014 Detailed Bu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2012-IETF-BUDGET-2011-2014.pdf"/>
          <p:cNvPicPr/>
          <p:nvPr/>
        </p:nvPicPr>
        <p:blipFill>
          <a:blip r:embed="rId1"/>
          <a:srcRect l="6363" t="10588" r="10909" b="11764"/>
          <a:stretch/>
        </p:blipFill>
        <p:spPr>
          <a:xfrm>
            <a:off x="914400" y="1030320"/>
            <a:ext cx="7342200" cy="532620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5B000-319F-4596-A6A6-28051AC8A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2-2014 Expe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2012-IETF-BUDGET-Expenses.pdf"/>
          <p:cNvPicPr/>
          <p:nvPr/>
        </p:nvPicPr>
        <p:blipFill>
          <a:blip r:embed="rId1"/>
          <a:srcRect l="8235" t="8182" r="9411" b="54547"/>
          <a:stretch/>
        </p:blipFill>
        <p:spPr>
          <a:xfrm>
            <a:off x="1255680" y="1854360"/>
            <a:ext cx="6593040" cy="386064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91781-9CB0-400E-B1DB-23EBCB448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2-2014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2012-IETF-BUDGET-Revenues.pdf"/>
          <p:cNvPicPr/>
          <p:nvPr/>
        </p:nvPicPr>
        <p:blipFill>
          <a:blip r:embed="rId1"/>
          <a:srcRect l="8235" t="8182" r="8235" b="76368"/>
          <a:stretch/>
        </p:blipFill>
        <p:spPr>
          <a:xfrm>
            <a:off x="1219320" y="2589120"/>
            <a:ext cx="6686280" cy="160200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E7F3E-E00A-446B-8F44-5FEADACC7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ASA Expens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6246720" y="594216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B0341-252B-4220-A6D2-F0A422A3C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Chart 12" descr=""/>
          <p:cNvPicPr/>
          <p:nvPr/>
        </p:nvPicPr>
        <p:blipFill>
          <a:blip r:embed="rId1"/>
          <a:stretch/>
        </p:blipFill>
        <p:spPr>
          <a:xfrm>
            <a:off x="974880" y="1596960"/>
            <a:ext cx="71942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bec Cit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 less than exp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 and spon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M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cast and CIRA spo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l Canada and Telus  provided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of $372K for continuing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62K more than planned (a good t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115A0-F7CD-4BF3-AB7D-E98BA1C65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6477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bec Cit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017720"/>
          <a:ext cx="7619760" cy="5306760"/>
        </p:xfrm>
        <a:graphic>
          <a:graphicData uri="http://schemas.openxmlformats.org/drawingml/2006/table">
            <a:tbl>
              <a:tblPr/>
              <a:tblGrid>
                <a:gridCol w="1693800"/>
                <a:gridCol w="2327040"/>
                <a:gridCol w="1200240"/>
                <a:gridCol w="1339920"/>
                <a:gridCol w="1058760"/>
              </a:tblGrid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Pass Experi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960"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F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nso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i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960"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Expe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092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&amp; Conne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960"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15240"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33120" bIns="331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8"/>
          <p:cNvSpPr/>
          <p:nvPr/>
        </p:nvSpPr>
        <p:spPr>
          <a:xfrm>
            <a:off x="6026040" y="6413400"/>
            <a:ext cx="24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B06DC-F310-4108-835A-4593568EB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pei Meeting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6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vember 201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FFC9F-5DC6-4FE5-BF81-9E0E2316C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844640"/>
          <a:ext cx="8229600" cy="368784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1295280"/>
                <a:gridCol w="1447920"/>
                <a:gridCol w="114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Pass Experi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F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14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nso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$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8"/>
          <p:cNvSpPr/>
          <p:nvPr/>
        </p:nvSpPr>
        <p:spPr>
          <a:xfrm>
            <a:off x="476280" y="579132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2 IASA Bu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nue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registration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current level of atten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nd sponsors for all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75% sponsorship for Pa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nse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in RFC and Secretariat service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IT Maintenance exp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7720A-8F00-4395-AE81-D13B36931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1-2014 Financ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676520"/>
          <a:ext cx="7467480" cy="4243320"/>
        </p:xfrm>
        <a:graphic>
          <a:graphicData uri="http://schemas.openxmlformats.org/drawingml/2006/table">
            <a:tbl>
              <a:tblPr/>
              <a:tblGrid>
                <a:gridCol w="1817640"/>
                <a:gridCol w="1170000"/>
                <a:gridCol w="1103400"/>
                <a:gridCol w="1103400"/>
                <a:gridCol w="1104840"/>
                <a:gridCol w="1168200"/>
              </a:tblGrid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12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 Ad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1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9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26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22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58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ns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TF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0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81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28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7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ls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2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C Con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1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8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36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1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9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486400" y="5983200"/>
            <a:ext cx="30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Dollars are in $1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F33DC-47DD-4F07-BFC4-218443338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ASA Financial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82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OC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38927-9D9E-4FA9-8EB2-B504B394B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6781680" y="4910040"/>
            <a:ext cx="2362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llars are in $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 dev not inclu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is Y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 is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3+ is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hart 15" descr=""/>
          <p:cNvPicPr/>
          <p:nvPr/>
        </p:nvPicPr>
        <p:blipFill>
          <a:blip r:embed="rId1"/>
          <a:stretch/>
        </p:blipFill>
        <p:spPr>
          <a:xfrm>
            <a:off x="981000" y="1517760"/>
            <a:ext cx="718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3:39:26Z</dcterms:created>
  <dc:creator>Ray Pelletier &amp; Bob Hinden</dc:creator>
  <dc:description/>
  <cp:keywords/>
  <dc:language>en-US</dc:language>
  <cp:lastModifiedBy>Robert M. Hinden</cp:lastModifiedBy>
  <cp:lastPrinted>2011-11-15T07:16:50Z</cp:lastPrinted>
  <dcterms:modified xsi:type="dcterms:W3CDTF">2011-11-16T03:57:08Z</dcterms:modified>
  <cp:revision>404</cp:revision>
  <dc:subject>IAOC Update - July 25, 2009</dc:subject>
  <dc:title>IAOC Update - July 25, 2009</dc:title>
</cp:coreProperties>
</file>