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88509-F3C4-44A0-A130-96BD08E02A8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E99D0-8DBE-47EB-BC23-B6C6C5D07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79865-7C45-4DCE-801B-23F38D52B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04D7-6D20-423E-AF3C-40F9CE5AF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40035-4364-4912-BB0E-FFD9B5618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C56F57-3C64-4BB1-B792-51E42BFE7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BE0279-5198-4E12-86B4-3A219FBAB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9C38D2-4298-4F24-94CC-FDD67AC82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8A28C-737F-40F6-9C5B-D1102CABA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D47F-881A-41BC-B925-FA213CD99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7F385D-2614-432C-AA77-8BB2CABCF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58DD76-07F7-4B1E-9AB0-D836E78F4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4554F-5147-47D4-BF4E-EC8989C8B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8CF73-9D2D-45BF-BC0B-0A45004C7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9B32-9471-4124-9A46-14F5E49A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8E27-321A-43FE-9744-AD436E15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AA8A-12A2-4EB7-8FDD-4395EF4B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FA63-6BAE-418D-A43F-4E6F76EB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9FCA-79EC-4505-AACD-1E5B40D9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D729-C852-45B3-B096-CD1C0F17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0453-91BD-404C-947A-D70330F9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23AD-6E20-439F-84CA-5756D29C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1AAA-B9F4-44D9-8251-2463F396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BAEF-979F-45EB-A891-C314641A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E6B1-7A83-4122-A671-86403D3D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86D0-0A93-4247-A426-A283F6B3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12E2-E55A-4D01-A915-D4A50437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1DA4-5A1C-49DF-AD7E-AF6FA6CE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094C-6EED-4BE4-BF52-1D604685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569D-39CC-40F8-8B00-BED1A87A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4A10-A29B-40B6-B019-44260361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B8AF-2891-4D8F-A12E-11480C19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B69-0CFF-4894-97E8-FC2270B9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9F3-7FA6-4506-AB9A-56EF6CB1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EB16-C14B-456C-AE65-C58B5990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9E9-11AB-44DE-BCE1-1BE626FC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3D0-5AA2-4A8F-A68B-FE67665F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DF37-2BC2-43FF-B049-34F0FF80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22B3C-4EC3-46E9-B505-7C0BBB065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7054920" y="304920"/>
            <a:ext cx="1631880" cy="110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Object 9"/>
          <p:cNvGraphicFramePr/>
          <p:nvPr/>
        </p:nvGraphicFramePr>
        <p:xfrm>
          <a:off x="7481880" y="31752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81880" y="31752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E3AC1-89E9-4907-B586-9E41310C7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816120"/>
            <a:ext cx="7772400" cy="26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IAOC Report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ob Hin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AOC C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ay Pelleti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6 Novem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FP N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retariat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contract awarded to AMS on 8 Sept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FC Series Editor (R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SOC announced search on 13 July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Submission Editor (I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Year extension in Feb 2012, or new search (IAB deci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RF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te Participation Services specification awarded to Paul Hoffman 7 Nov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ETF Meeting Agenda Scheduling Tool SOW in community revie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B3BB9-C2B9-42E9-9A33-5B39B91DD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us of 3-year adv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eting plann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work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ly 8 of 9 venues are under contract or being negotiated through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ing venues in Asia is challen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 countries require local support to meet IETF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w venues are very expensive ( &gt; $300 / nigh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ETF88 will be in Vancouver instead of A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2BEDB-BA8E-4FC1-8035-47C4C96EB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tel Room Pric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TF65 – IETF8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07DE2-5B0D-45CE-B2BB-8A0436217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2760840" y="5867280"/>
            <a:ext cx="368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s in US dollars without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Chart 9" descr=""/>
          <p:cNvPicPr/>
          <p:nvPr/>
        </p:nvPicPr>
        <p:blipFill>
          <a:blip r:embed="rId1"/>
          <a:stretch/>
        </p:blipFill>
        <p:spPr>
          <a:xfrm>
            <a:off x="0" y="0"/>
            <a:ext cx="869328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om Pricing by Re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1FBD4-4BE2-4844-8316-BD97EBB7E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2607120" y="5867280"/>
            <a:ext cx="39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s in US dollars without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9" descr=""/>
          <p:cNvPicPr/>
          <p:nvPr/>
        </p:nvPicPr>
        <p:blipFill>
          <a:blip r:embed="rId1"/>
          <a:stretch/>
        </p:blipFill>
        <p:spPr>
          <a:xfrm>
            <a:off x="0" y="0"/>
            <a:ext cx="869328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TF 8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9F749-E7AA-44C4-90DF-0AFE84AAD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berlin_cnt_18nov09_iStock_b_1.jpg"/>
          <p:cNvPicPr/>
          <p:nvPr/>
        </p:nvPicPr>
        <p:blipFill>
          <a:blip r:embed="rId1"/>
          <a:stretch/>
        </p:blipFill>
        <p:spPr>
          <a:xfrm>
            <a:off x="1155600" y="1717560"/>
            <a:ext cx="6921720" cy="46069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6"/>
          <p:cNvSpPr/>
          <p:nvPr/>
        </p:nvSpPr>
        <p:spPr>
          <a:xfrm>
            <a:off x="3912120" y="10666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TF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91232-67BF-4964-A185-2145ABA10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3875040" y="10666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"/>
          <p:cNvPicPr/>
          <p:nvPr/>
        </p:nvPicPr>
        <p:blipFill>
          <a:blip r:embed="rId1"/>
          <a:stretch/>
        </p:blipFill>
        <p:spPr>
          <a:xfrm>
            <a:off x="1219320" y="1787400"/>
            <a:ext cx="670536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TF83 - Par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ly no host or major sponsor for Par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fall of about $400K for Meeting and NOC expen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2 budget assumed 75% cove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AOC will make decision before opening registration in mid-December to eith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ise registration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 ISOC for additional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combination of the tw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B1B3B-C637-4D94-9B1F-5418A87611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Meet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is, 25-30 March 2012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ncouver, 29 July - 3 August 2012, Goog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lanta, 4-9 November 2012, North American Cable 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lando, 10-15 March 2013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rlin, 28 July – 2 August 2013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ncouver, 3-8 November 2013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urope, 2-7 March 2014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rth America, 20-25 July 2014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ia Pacific , 9-14 November 2014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A7FD7-4CC3-49D0-9FAC-562FB9A28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Meetings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866520"/>
            <a:ext cx="8686800" cy="62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ericas, 22-27 March 2015, 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urope, 19-14 July 2015, 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ia, 1-6 November 2015, 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 TBD, 27 March – 1 April, 2016, 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 TBD, 17-11 July 2016, 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 TBD, 13-18 November 2016, 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 TBD, 26-31 March 2017, 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 TBD, 16-21 July 2017, 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 TBD, 12-17 November 2017, 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9AFDCF-E459-4D2C-921B-5300154C7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TF Tools Pro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44792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B Conversion WO #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B Conversion WO #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B Conversion WO #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ST Develop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PR Management To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G &amp; Alt Streams Dev (Front En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terials Management To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ternate Streams Specs Require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G Charter Tool Spe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aft Tracking Community Spe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ck End Specifications Require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B Conversion WO #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eting Session Manag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lue Sheet Generation Too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XML2RFC Command Line To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352680" y="1447920"/>
            <a:ext cx="2895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under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B Conversion WO #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FC Manag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lechat Interf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2RFC GUI Too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 Tracking To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G Charter To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rter Milestone Specs De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ck End Develop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G &amp; Alt Strea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genda Scheduling Spe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7FAD9-6527-430C-B803-3FB66C3EC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ontent Placeholder 3"/>
          <p:cNvSpPr/>
          <p:nvPr/>
        </p:nvSpPr>
        <p:spPr>
          <a:xfrm>
            <a:off x="6248520" y="1447920"/>
            <a:ext cx="2666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ned / R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B Conversion WO #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rter Milestone Managem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ools Update for DB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retariat Tools update for DB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G ID Ver 00 Approval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genda Scheduling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7720" y="1798200"/>
            <a:ext cx="67820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al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12 Bud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FP N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eting Planning Up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Development Prog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84031B-1869-4429-9D11-D7F9C3EFB2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IAOC Repor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IETF81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Bob Hin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IAOC C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ay Pelleti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6 Novem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317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retari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y, Cindy, Stephanie, Wanda, Marcia, Lisa, Alex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Series Ed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ng 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a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431720"/>
            <a:ext cx="40384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FC Production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ndy, Al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helle, El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3BDFF-54EF-434D-9848-10327D8D2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knowledgements: NO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ETF Volunt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ll Fenner, Bill Jensen, Bjoern Zeeb, Chris Elliott, Jim Martin, Lucy Lynch, Warren Kumari, Morgan Pirate Sackett, Joel Jaeggli, Karen O'Donogh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N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rk Kao, Haway Lia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unghwa Telecom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ung-Yung Kang, River Wu, Huang-Cheng Huang, Wei-Chung Tseng, Js Wu, Sk Chan, Jack Wang, Andy Lu, Liche Chen, At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477C0-3DA2-4C59-B74E-C3B16FEB1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ls Dev Acknowledg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nrik – 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ols Development Volunt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de Spr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IQ Contr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OL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a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entric S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ation Develop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389FF-CBFF-4524-97B8-8B1125B33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st &amp; Welcome Reception Spons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Date Placeholder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8C692-96F7-4107-9F1A-099FAD3E5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854920" y="765000"/>
            <a:ext cx="2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1"/>
          <a:stretch/>
        </p:blipFill>
        <p:spPr>
          <a:xfrm>
            <a:off x="844560" y="2057400"/>
            <a:ext cx="4184640" cy="2070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2"/>
          <a:stretch/>
        </p:blipFill>
        <p:spPr>
          <a:xfrm>
            <a:off x="4656240" y="4762440"/>
            <a:ext cx="37940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onsor Acknowledg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1A4B5-859C-47BC-A001-A5EF1D231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1"/>
          <a:stretch/>
        </p:blipFill>
        <p:spPr>
          <a:xfrm>
            <a:off x="476280" y="1417680"/>
            <a:ext cx="3754440" cy="1554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"/>
          <p:cNvPicPr/>
          <p:nvPr/>
        </p:nvPicPr>
        <p:blipFill>
          <a:blip r:embed="rId2"/>
          <a:stretch/>
        </p:blipFill>
        <p:spPr>
          <a:xfrm>
            <a:off x="5823000" y="1461960"/>
            <a:ext cx="2222280" cy="1971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"/>
          <p:cNvPicPr/>
          <p:nvPr/>
        </p:nvPicPr>
        <p:blipFill>
          <a:blip r:embed="rId3"/>
          <a:stretch/>
        </p:blipFill>
        <p:spPr>
          <a:xfrm>
            <a:off x="2857680" y="3895560"/>
            <a:ext cx="1104840" cy="863640"/>
          </a:xfrm>
          <a:prstGeom prst="rect">
            <a:avLst/>
          </a:prstGeom>
          <a:ln w="0">
            <a:noFill/>
          </a:ln>
        </p:spPr>
      </p:pic>
      <p:sp>
        <p:nvSpPr>
          <p:cNvPr id="227" name="TextBox 9"/>
          <p:cNvSpPr/>
          <p:nvPr/>
        </p:nvSpPr>
        <p:spPr>
          <a:xfrm>
            <a:off x="1038240" y="2976480"/>
            <a:ext cx="33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vity Spo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0"/>
          <p:cNvSpPr/>
          <p:nvPr/>
        </p:nvSpPr>
        <p:spPr>
          <a:xfrm>
            <a:off x="5791320" y="3433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inum Spo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2133720" y="5029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ld Spo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onsor Acknowledg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9E627-8C28-49AB-84F4-871F7BD50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1"/>
          <a:stretch/>
        </p:blipFill>
        <p:spPr>
          <a:xfrm>
            <a:off x="368280" y="1417680"/>
            <a:ext cx="4444920" cy="1149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"/>
          <p:cNvPicPr/>
          <p:nvPr/>
        </p:nvPicPr>
        <p:blipFill>
          <a:blip r:embed="rId2"/>
          <a:stretch/>
        </p:blipFill>
        <p:spPr>
          <a:xfrm>
            <a:off x="1828800" y="2567160"/>
            <a:ext cx="3645000" cy="1091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"/>
          <p:cNvPicPr/>
          <p:nvPr/>
        </p:nvPicPr>
        <p:blipFill>
          <a:blip r:embed="rId3"/>
          <a:stretch/>
        </p:blipFill>
        <p:spPr>
          <a:xfrm>
            <a:off x="6019920" y="1766880"/>
            <a:ext cx="1295280" cy="16002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4"/>
          <a:stretch/>
        </p:blipFill>
        <p:spPr>
          <a:xfrm>
            <a:off x="457200" y="3879720"/>
            <a:ext cx="3276720" cy="901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"/>
          <p:cNvPicPr/>
          <p:nvPr/>
        </p:nvPicPr>
        <p:blipFill>
          <a:blip r:embed="rId5"/>
          <a:stretch/>
        </p:blipFill>
        <p:spPr>
          <a:xfrm>
            <a:off x="6362640" y="34290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"/>
          <p:cNvPicPr/>
          <p:nvPr/>
        </p:nvPicPr>
        <p:blipFill>
          <a:blip r:embed="rId6"/>
          <a:stretch/>
        </p:blipFill>
        <p:spPr>
          <a:xfrm>
            <a:off x="2863800" y="4781520"/>
            <a:ext cx="389880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onsor Acknowledg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3FE62-8999-4C83-9F76-6E939B0D6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"/>
          <p:cNvPicPr/>
          <p:nvPr/>
        </p:nvPicPr>
        <p:blipFill>
          <a:blip r:embed="rId1"/>
          <a:stretch/>
        </p:blipFill>
        <p:spPr>
          <a:xfrm>
            <a:off x="538200" y="1981080"/>
            <a:ext cx="3886200" cy="584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"/>
          <p:cNvPicPr/>
          <p:nvPr/>
        </p:nvPicPr>
        <p:blipFill>
          <a:blip r:embed="rId2"/>
          <a:stretch/>
        </p:blipFill>
        <p:spPr>
          <a:xfrm>
            <a:off x="4813200" y="2273400"/>
            <a:ext cx="3479760" cy="58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"/>
          <p:cNvPicPr/>
          <p:nvPr/>
        </p:nvPicPr>
        <p:blipFill>
          <a:blip r:embed="rId3"/>
          <a:stretch/>
        </p:blipFill>
        <p:spPr>
          <a:xfrm>
            <a:off x="603360" y="3657600"/>
            <a:ext cx="3975120" cy="1041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"/>
          <p:cNvPicPr/>
          <p:nvPr/>
        </p:nvPicPr>
        <p:blipFill>
          <a:blip r:embed="rId4"/>
          <a:stretch/>
        </p:blipFill>
        <p:spPr>
          <a:xfrm>
            <a:off x="5321160" y="3429000"/>
            <a:ext cx="2463840" cy="1308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"/>
          <p:cNvPicPr/>
          <p:nvPr/>
        </p:nvPicPr>
        <p:blipFill>
          <a:blip r:embed="rId5"/>
          <a:stretch/>
        </p:blipFill>
        <p:spPr>
          <a:xfrm>
            <a:off x="2743200" y="4888080"/>
            <a:ext cx="380988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56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BACKUP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477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AOC Minu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838080"/>
            <a:ext cx="822960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1: 16 of 21 publis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 were not able to produce minutes in a timely fash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ture minutes will be taken by ISOC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thanks to volunte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ren O'Donoghue, Suresh Krishnan, Andrew Sullivan, Marshall Eu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66A95E-3064-4D07-A6D6-C8C1E090E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TF81 Financial 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42D5F-FFC9-4309-9CDE-743D14379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8" descr="Quebec-Financial-Statement2.pdf"/>
          <p:cNvPicPr/>
          <p:nvPr/>
        </p:nvPicPr>
        <p:blipFill>
          <a:blip r:embed="rId1"/>
          <a:srcRect l="6363" t="10588" r="18185" b="11764"/>
          <a:stretch/>
        </p:blipFill>
        <p:spPr>
          <a:xfrm>
            <a:off x="1228680" y="914400"/>
            <a:ext cx="669600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11-2014 Detailed Bu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2012-IETF-BUDGET-2011-2014.pdf"/>
          <p:cNvPicPr/>
          <p:nvPr/>
        </p:nvPicPr>
        <p:blipFill>
          <a:blip r:embed="rId1"/>
          <a:srcRect l="6363" t="10588" r="10909" b="11764"/>
          <a:stretch/>
        </p:blipFill>
        <p:spPr>
          <a:xfrm>
            <a:off x="914400" y="1030320"/>
            <a:ext cx="7342200" cy="5326200"/>
          </a:xfrm>
          <a:prstGeom prst="rect">
            <a:avLst/>
          </a:prstGeom>
          <a:ln w="0">
            <a:noFill/>
          </a:ln>
        </p:spPr>
      </p:pic>
      <p:sp>
        <p:nvSpPr>
          <p:cNvPr id="260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F21850-F09D-49AF-A567-35674790E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12-2014 Expen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2012-IETF-BUDGET-Expenses.pdf"/>
          <p:cNvPicPr/>
          <p:nvPr/>
        </p:nvPicPr>
        <p:blipFill>
          <a:blip r:embed="rId1"/>
          <a:srcRect l="8235" t="8182" r="9411" b="54547"/>
          <a:stretch/>
        </p:blipFill>
        <p:spPr>
          <a:xfrm>
            <a:off x="1255680" y="1854360"/>
            <a:ext cx="6593040" cy="3860640"/>
          </a:xfrm>
          <a:prstGeom prst="rect">
            <a:avLst/>
          </a:prstGeom>
          <a:ln w="0">
            <a:noFill/>
          </a:ln>
        </p:spPr>
      </p:pic>
      <p:sp>
        <p:nvSpPr>
          <p:cNvPr id="26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D7966-BE83-4E53-A93A-613EFD9A8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12-2014 Reven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2012-IETF-BUDGET-Revenues.pdf"/>
          <p:cNvPicPr/>
          <p:nvPr/>
        </p:nvPicPr>
        <p:blipFill>
          <a:blip r:embed="rId1"/>
          <a:srcRect l="8235" t="8182" r="8235" b="76368"/>
          <a:stretch/>
        </p:blipFill>
        <p:spPr>
          <a:xfrm>
            <a:off x="1219320" y="2589120"/>
            <a:ext cx="6686280" cy="1602000"/>
          </a:xfrm>
          <a:prstGeom prst="rect">
            <a:avLst/>
          </a:prstGeom>
          <a:ln w="0">
            <a:noFill/>
          </a:ln>
        </p:spPr>
      </p:pic>
      <p:sp>
        <p:nvSpPr>
          <p:cNvPr id="27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6A0231-1EC5-4797-9C2A-30AFC7C4BB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477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ASA Expense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6246720" y="5942160"/>
            <a:ext cx="24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te: Dollars are in $1,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DD2C94-F11F-4013-8D3C-16ACB4ECA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Chart 12" descr=""/>
          <p:cNvPicPr/>
          <p:nvPr/>
        </p:nvPicPr>
        <p:blipFill>
          <a:blip r:embed="rId1"/>
          <a:stretch/>
        </p:blipFill>
        <p:spPr>
          <a:xfrm>
            <a:off x="974880" y="1596960"/>
            <a:ext cx="719424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bec City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attend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 less than exp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st and spons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IM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cast and CIRA spons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ll Canada and Telus  provided conne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 of $372K for continuing op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$62K more than planned (a good th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27224-6467-49A2-938F-BFEE719EA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6477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bec Cit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1017720"/>
          <a:ext cx="7619760" cy="5306760"/>
        </p:xfrm>
        <a:graphic>
          <a:graphicData uri="http://schemas.openxmlformats.org/drawingml/2006/table">
            <a:tbl>
              <a:tblPr/>
              <a:tblGrid>
                <a:gridCol w="1693800"/>
                <a:gridCol w="2327040"/>
                <a:gridCol w="1200240"/>
                <a:gridCol w="1339920"/>
                <a:gridCol w="1058760"/>
              </a:tblGrid>
              <a:tr h="340920"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40920"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40920"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Pass Experi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960"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40920"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920"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40920"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tion Fe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$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920"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nsorshi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40920"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i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8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960"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40920"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920"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eting Expen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40920"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work &amp; Conne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$1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960"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$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15240"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4" name="Rectangle 8"/>
          <p:cNvSpPr/>
          <p:nvPr/>
        </p:nvSpPr>
        <p:spPr>
          <a:xfrm>
            <a:off x="6026040" y="6413400"/>
            <a:ext cx="24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te: Dollars are in $1,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1A370-8E49-492A-BC1A-5787C56AE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ipei Meeting Resul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16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vember 201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CD789-B2C1-4683-92C4-46798202B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520" y="1844640"/>
          <a:ext cx="8229600" cy="3687840"/>
        </p:xfrm>
        <a:graphic>
          <a:graphicData uri="http://schemas.openxmlformats.org/drawingml/2006/table">
            <a:tbl>
              <a:tblPr/>
              <a:tblGrid>
                <a:gridCol w="1828800"/>
                <a:gridCol w="2514600"/>
                <a:gridCol w="1295280"/>
                <a:gridCol w="1447920"/>
                <a:gridCol w="1143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Pass Experi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21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en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tion F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$14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nsors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$3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$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8"/>
          <p:cNvSpPr/>
          <p:nvPr/>
        </p:nvSpPr>
        <p:spPr>
          <a:xfrm>
            <a:off x="476280" y="579132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e: Dollars are in $1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12 IASA Bu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enue assum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hange in registration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 current level of attend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st and sponsors for all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d 75% sponsorship for Par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nse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s in RFC and Secretariat service contr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ed IT Maintenance exp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8CE02A-5635-45F1-B1FA-AF35B72DC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11-2014 Financ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676520"/>
          <a:ext cx="7467480" cy="4243320"/>
        </p:xfrm>
        <a:graphic>
          <a:graphicData uri="http://schemas.openxmlformats.org/drawingml/2006/table">
            <a:tbl>
              <a:tblPr/>
              <a:tblGrid>
                <a:gridCol w="1817640"/>
                <a:gridCol w="1170000"/>
                <a:gridCol w="1103400"/>
                <a:gridCol w="1103400"/>
                <a:gridCol w="1104840"/>
                <a:gridCol w="1168200"/>
              </a:tblGrid>
              <a:tr h="84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 Bud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2012 Bud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3 Ad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1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31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39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26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22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58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ns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TF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,00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,81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,4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,28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,71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ols Develo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2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6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1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OC Con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,11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78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,36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,11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,19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5486400" y="5983200"/>
            <a:ext cx="30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e: Dollars are in $1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D10873-2CC4-4E45-BDC0-77B22DAE2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ASA Financial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C37B2-74B7-4F2C-BC92-23DD58B92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6781680" y="4910040"/>
            <a:ext cx="23623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llars are in $1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s dev not inclu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 is Y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2 is 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3+ is Ad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Chart 15" descr=""/>
          <p:cNvPicPr/>
          <p:nvPr/>
        </p:nvPicPr>
        <p:blipFill>
          <a:blip r:embed="rId1"/>
          <a:stretch/>
        </p:blipFill>
        <p:spPr>
          <a:xfrm>
            <a:off x="981000" y="1517760"/>
            <a:ext cx="7182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3:39:26Z</dcterms:created>
  <dc:creator>Ray Pelletier &amp; Bob Hinden</dc:creator>
  <dc:description/>
  <cp:keywords/>
  <dc:language>en-US</dc:language>
  <cp:lastModifiedBy>Robert M. Hinden</cp:lastModifiedBy>
  <cp:lastPrinted>2011-11-15T07:16:50Z</cp:lastPrinted>
  <dcterms:modified xsi:type="dcterms:W3CDTF">2011-11-16T03:57:08Z</dcterms:modified>
  <cp:revision>404</cp:revision>
  <dc:subject>IAOC Update - July 25, 2009</dc:subject>
  <dc:title>IAOC Update - July 25, 2009</dc:title>
</cp:coreProperties>
</file>